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D6D-206E-4699-952A-F1F266A84D7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66A4-2A6C-4DA4-B52D-EC81106D4AB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Золотая осень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900C-40BD-4266-8C85-12B744B00B6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 - это переход от лета к зи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чале осени еще тепл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 время в садах и на огородах созревает много овощей и фру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олях собирают пшеницу и рожь, из которых потом пекут хле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 Поэтому осень называют порой урож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тоже созревают разные плоды и ягоды: желуди (на дубе), орешки (на лещине), каштаны и ряб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цы и звери с удовольствием едят их и запасают на зи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иться все холоднее и холодн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ые и дети одевают кофты, куртки, длинные штаны или колго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 птицы собираются в стаи и улетают в теплые кр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тоже готовятся к зиме - они сбрасывают листву. Только елочки и сосны не расстаются со своими иголоч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листья меняют цвет - из зеленых они превращаются в желтые, красные и светло-коричне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ередина осени. Ее часто называют золотой, потому что в это время очень краси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одеваются в яркие наряды, а на земле лежит разноцветный ковер из листь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от наступает конец осени. Деревья уже сбросили свои листья и стоят обнаж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идет дождь. Дует ве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 конце осени падает сне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а ждет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58F7-C8C6-4618-AF8C-E6983046A4D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98E-9B79-4518-9A47-4D7F1116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D2B-C5D1-4565-9C43-B0A33BC6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43B-D2EC-4335-82E5-DDBCA085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F95-2F5F-441C-B6E1-0151821B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9BF-4CEB-4451-8F67-D8C4AF56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8D3-6CE3-4CD3-82BF-F5BFC474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998-FC4F-4BDF-A725-9FF19170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631-CEE2-45AE-B79F-75CDDEB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85E-BD1D-4751-A3E0-1E8F2C41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B83-DEFE-4F6D-A0EE-53390AC3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1E7-86E2-4AE3-AA2F-FD3A3B50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09E-230F-40FD-B0D9-AFC6197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BFD-6610-4939-9213-D30A666A01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2360" y="187200"/>
            <a:ext cx="8640720" cy="64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листья меняют цвет - из зеленых они превращаются в желтые, красные и светло-коричневы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36011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36041"/>
          <p:cNvPicPr/>
          <p:nvPr/>
        </p:nvPicPr>
        <p:blipFill>
          <a:blip r:embed="rId1"/>
          <a:stretch/>
        </p:blipFill>
        <p:spPr>
          <a:xfrm>
            <a:off x="914400" y="152280"/>
            <a:ext cx="731520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ередина осен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е часто называют золотой, потому что в это время очень красиво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одеваются в яркие наряды, а на земле лежит разноцветный ковер из листье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Vasiliy Polenov"/>
          <p:cNvPicPr/>
          <p:nvPr/>
        </p:nvPicPr>
        <p:blipFill>
          <a:blip r:embed="rId1"/>
          <a:stretch/>
        </p:blipFill>
        <p:spPr>
          <a:xfrm>
            <a:off x="257040" y="228600"/>
            <a:ext cx="858204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от наступает конец осени. Деревья сбросили свои листья и стоят обнаженные. Часто идет дождь. Дует ветер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36071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6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 конце осени падает сне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а ждет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36157"/>
          <p:cNvPicPr/>
          <p:nvPr/>
        </p:nvPicPr>
        <p:blipFill>
          <a:blip r:embed="rId1"/>
          <a:stretch/>
        </p:blipFill>
        <p:spPr>
          <a:xfrm>
            <a:off x="838080" y="127080"/>
            <a:ext cx="746784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00600" y="533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ffcc00"/>
                </a:solidFill>
                <a:latin typeface="Arial"/>
              </a:rPr>
              <a:t>СЕ</a:t>
            </a: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Н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Дерево Осенью"/>
          <p:cNvPicPr/>
          <p:nvPr/>
        </p:nvPicPr>
        <p:blipFill>
          <a:blip r:embed="rId1"/>
          <a:stretch/>
        </p:blipFill>
        <p:spPr>
          <a:xfrm>
            <a:off x="47520" y="609480"/>
            <a:ext cx="4600800" cy="5943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осень2"/>
          <p:cNvPicPr/>
          <p:nvPr/>
        </p:nvPicPr>
        <p:blipFill>
          <a:blip r:embed="rId2"/>
          <a:stretch/>
        </p:blipFill>
        <p:spPr>
          <a:xfrm>
            <a:off x="5334120" y="2133720"/>
            <a:ext cx="3319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5943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 - это переход от лета к зим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Дерево Летом"/>
          <p:cNvPicPr/>
          <p:nvPr/>
        </p:nvPicPr>
        <p:blipFill>
          <a:blip r:embed="rId1"/>
          <a:stretch/>
        </p:blipFill>
        <p:spPr>
          <a:xfrm>
            <a:off x="76320" y="1752480"/>
            <a:ext cx="3047760" cy="402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Дерево Осенью"/>
          <p:cNvPicPr/>
          <p:nvPr/>
        </p:nvPicPr>
        <p:blipFill>
          <a:blip r:embed="rId2"/>
          <a:stretch/>
        </p:blipFill>
        <p:spPr>
          <a:xfrm>
            <a:off x="3124080" y="1828800"/>
            <a:ext cx="3067200" cy="396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Дерево Зимой"/>
          <p:cNvPicPr/>
          <p:nvPr/>
        </p:nvPicPr>
        <p:blipFill>
          <a:blip r:embed="rId3"/>
          <a:stretch/>
        </p:blipFill>
        <p:spPr>
          <a:xfrm>
            <a:off x="6248520" y="1771560"/>
            <a:ext cx="2895480" cy="40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ОВОЩИ ОСЕНЬЮ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85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осени еще тепл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 время в садах и на огородах созревает много овощей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744960" y="51814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ЩИ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ФРУКТЫ ОСЕНЬЮ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692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фруктов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962240" y="563868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Ф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ТЫ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ЛЕСНЫЕ ПЛОДЫ ОСЕНЬЮ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5621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тоже созревают разные плоды и ягоды: желуди (на дубе), орешки (на лещине), каштаны и ряби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и звери с удовольствием едят их и запасают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6019920" y="5029200"/>
            <a:ext cx="2590560" cy="609480"/>
            <a:chOff x="6019920" y="5029200"/>
            <a:chExt cx="2590560" cy="609480"/>
          </a:xfrm>
        </p:grpSpPr>
        <p:grpSp>
          <p:nvGrpSpPr>
            <p:cNvPr id="67" name="Group 5"/>
            <p:cNvGrpSpPr/>
            <p:nvPr/>
          </p:nvGrpSpPr>
          <p:grpSpPr>
            <a:xfrm>
              <a:off x="6021360" y="5032440"/>
              <a:ext cx="2586960" cy="602280"/>
              <a:chOff x="6021360" y="5032440"/>
              <a:chExt cx="2586960" cy="602280"/>
            </a:xfrm>
          </p:grpSpPr>
          <p:grpSp>
            <p:nvGrpSpPr>
              <p:cNvPr id="68" name="Group 6"/>
              <p:cNvGrpSpPr/>
              <p:nvPr/>
            </p:nvGrpSpPr>
            <p:grpSpPr>
              <a:xfrm>
                <a:off x="6021360" y="5032440"/>
                <a:ext cx="2586960" cy="360"/>
                <a:chOff x="6021360" y="5032440"/>
                <a:chExt cx="2586960" cy="360"/>
              </a:xfrm>
            </p:grpSpPr>
            <p:sp>
              <p:nvSpPr>
                <p:cNvPr id="69" name="Rectangle 7"/>
                <p:cNvSpPr/>
                <p:nvPr/>
              </p:nvSpPr>
              <p:spPr>
                <a:xfrm>
                  <a:off x="6047280" y="5032440"/>
                  <a:ext cx="2535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70" name="Rectangle 8"/>
                <p:cNvSpPr/>
                <p:nvPr/>
              </p:nvSpPr>
              <p:spPr>
                <a:xfrm>
                  <a:off x="6021360" y="5032440"/>
                  <a:ext cx="258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71" name="Group 9"/>
              <p:cNvGrpSpPr/>
              <p:nvPr/>
            </p:nvGrpSpPr>
            <p:grpSpPr>
              <a:xfrm>
                <a:off x="6021360" y="5032440"/>
                <a:ext cx="2586960" cy="602280"/>
                <a:chOff x="6021360" y="5032440"/>
                <a:chExt cx="2586960" cy="602280"/>
              </a:xfrm>
            </p:grpSpPr>
            <p:sp>
              <p:nvSpPr>
                <p:cNvPr id="72" name="Rectangle 10"/>
                <p:cNvSpPr/>
                <p:nvPr/>
              </p:nvSpPr>
              <p:spPr>
                <a:xfrm>
                  <a:off x="6047280" y="5032440"/>
                  <a:ext cx="25351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РЯ</a:t>
                  </a:r>
                  <a:r>
                    <a:rPr b="1" lang="ru-RU" sz="3600" spc="-1" strike="noStrike">
                      <a:solidFill>
                        <a:srgbClr val="000000"/>
                      </a:solidFill>
                      <a:latin typeface="Chicago"/>
                    </a:rPr>
                    <a:t>БИ</a:t>
                  </a: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Н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73" name="Rectangle 11"/>
                <p:cNvSpPr/>
                <p:nvPr/>
              </p:nvSpPr>
              <p:spPr>
                <a:xfrm>
                  <a:off x="6021360" y="5032440"/>
                  <a:ext cx="2586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74" name="Rectangle 12"/>
            <p:cNvSpPr/>
            <p:nvPr/>
          </p:nvSpPr>
          <p:spPr>
            <a:xfrm>
              <a:off x="6019920" y="5029200"/>
              <a:ext cx="2590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3030480" y="48099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А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ТА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Н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90800" y="5335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ЖЁ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ЛУ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ДИ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4900680" y="6858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Е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И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овиться все холоднее и холодне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одеваться теплее: кофты, куртки, длинные штаны, колгот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осень"/>
          <p:cNvPicPr/>
          <p:nvPr/>
        </p:nvPicPr>
        <p:blipFill>
          <a:blip r:embed="rId1"/>
          <a:stretch/>
        </p:blipFill>
        <p:spPr>
          <a:xfrm>
            <a:off x="2371680" y="604800"/>
            <a:ext cx="4410000" cy="48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птицы собираются в стаи и улетают в теплые кр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Birds0111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тоже готовятся к зиме - они сбрасывают листв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очк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36034"/>
          <p:cNvPicPr/>
          <p:nvPr/>
        </p:nvPicPr>
        <p:blipFill>
          <a:blip r:embed="rId1"/>
          <a:stretch/>
        </p:blipFill>
        <p:spPr>
          <a:xfrm>
            <a:off x="838080" y="152280"/>
            <a:ext cx="7348680" cy="57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/>
  <dc:description/>
  <dc:language>en-US</dc:language>
  <cp:lastModifiedBy/>
  <dcterms:modified xsi:type="dcterms:W3CDTF">2012-02-15T12:11:24Z</dcterms:modified>
  <cp:revision>41</cp:revision>
  <dc:subject/>
  <dc:title/>
</cp:coreProperties>
</file>