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6EC5-BBA0-4A0D-97C6-7CA74665011D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BF29-3488-4164-A296-9A37FCFD7B7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ВАСИЛИЙ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ДМИТРИЕВИЧ</a:t>
            </a:r>
            <a:br>
              <a:rPr sz="1000"/>
            </a:b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ПОЛЕНОВ</a:t>
            </a: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 Золотая осень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C441-C040-4F6C-B8A8-99FE2419800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ень - это переход от лета к зи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чале осени еще тепл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 время в садах и на огородах созревает много овощей и фру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олях собирают пшеницу и рожь, из которых потом пекут хле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 Поэтому осень называют порой урож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лесу тоже созревают разные плоды и ягоды: желуди (на дубе), орешки (на лещине), каштаны и ряби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тицы и звери с удовольствием едят их и запасают на зим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овиться все холоднее и холодне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рослые и дети одевают кофты, куртки, длинные штаны или колго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ие птицы собираются в стаи и улетают в теплые кр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 тоже готовятся к зиме - они сбрасывают листву. Только елочки и сосны не расстаются со своими иголоч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ачале листья меняют цвет - из зеленых они превращаются в желтые, красные и светло-коричнев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ные листики уже не так хорошо держатся за дерево как летом, и ветер легко сдувает их их с вет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ередина осени. Ее часто называют золотой, потому что в это время очень красиво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 одеваются в яркие наряды, а на земле лежит разноцветный ковер из листье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вот наступает конец осени. Деревья уже сбросили свои листья и стоят обнаженны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о идет дождь. Дует вете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в конце осени падает сне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да ждет зи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7919-4FC5-4F52-96EF-48BF38A3708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84E-BF0D-4E44-ADC2-9A4B4A72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0488-1F04-4FE6-B089-59F33767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EAE-ED31-467E-BD72-BA3938E1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809-7610-4D3B-AE98-30844C6E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840-E150-43FA-ABBC-45F7C5F7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C3C-6E2C-4CF1-BC68-15A2DEEB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023-7DE7-4D29-AA3C-8F5071B6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150-AA16-447E-BFDA-68E94ABA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764-7FA0-4472-BF8F-7DB7CF72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4DB7-2769-4F5E-8696-5869D865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05AD-9417-4A62-93F3-B95B68B1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A09-017C-4669-9F86-FD202B6C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F09B-B8BC-4530-A88F-A342015998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52360" y="187200"/>
            <a:ext cx="8640720" cy="648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ачале листья меняют цвет - из зеленых они превращаются в желтые, красные и светло-коричневы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36011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7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ветные листики уже не так хорошо держатся за дерево как летом, и ветер легко сдувает их их с веток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36041"/>
          <p:cNvPicPr/>
          <p:nvPr/>
        </p:nvPicPr>
        <p:blipFill>
          <a:blip r:embed="rId1"/>
          <a:stretch/>
        </p:blipFill>
        <p:spPr>
          <a:xfrm>
            <a:off x="914400" y="152280"/>
            <a:ext cx="7315200" cy="57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5866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середина осен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е часто называют золотой, потому что в это время очень красиво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одеваются в яркие наряды, а на земле лежит разноцветный ковер из листьев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Vasiliy Polenov"/>
          <p:cNvPicPr/>
          <p:nvPr/>
        </p:nvPicPr>
        <p:blipFill>
          <a:blip r:embed="rId1"/>
          <a:stretch/>
        </p:blipFill>
        <p:spPr>
          <a:xfrm>
            <a:off x="257040" y="228600"/>
            <a:ext cx="858204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6019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вот наступает конец осени. Деревья сбросили свои листья и стоят обнаженные. Часто идет дождь. Дует ветер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36071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56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гда в конце осени падает снег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рода ждет зим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36157"/>
          <p:cNvPicPr/>
          <p:nvPr/>
        </p:nvPicPr>
        <p:blipFill>
          <a:blip r:embed="rId1"/>
          <a:stretch/>
        </p:blipFill>
        <p:spPr>
          <a:xfrm>
            <a:off x="838080" y="127080"/>
            <a:ext cx="7467840" cy="58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00600" y="5331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8000" spc="-1" strike="noStrike">
                <a:solidFill>
                  <a:srgbClr val="ffcc00"/>
                </a:solidFill>
                <a:latin typeface="Arial"/>
              </a:rPr>
              <a:t>СЕ</a:t>
            </a:r>
            <a:r>
              <a:rPr b="1" lang="ru-RU" sz="8000" spc="-1" strike="noStrike">
                <a:solidFill>
                  <a:srgbClr val="ff9900"/>
                </a:solidFill>
                <a:latin typeface="Arial"/>
              </a:rPr>
              <a:t>Н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Дерево Осенью"/>
          <p:cNvPicPr/>
          <p:nvPr/>
        </p:nvPicPr>
        <p:blipFill>
          <a:blip r:embed="rId1"/>
          <a:stretch/>
        </p:blipFill>
        <p:spPr>
          <a:xfrm>
            <a:off x="47520" y="609480"/>
            <a:ext cx="4600800" cy="5943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осень2"/>
          <p:cNvPicPr/>
          <p:nvPr/>
        </p:nvPicPr>
        <p:blipFill>
          <a:blip r:embed="rId2"/>
          <a:stretch/>
        </p:blipFill>
        <p:spPr>
          <a:xfrm>
            <a:off x="5334120" y="2133720"/>
            <a:ext cx="33192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5943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ень - это переход от лета к зим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Дерево Летом"/>
          <p:cNvPicPr/>
          <p:nvPr/>
        </p:nvPicPr>
        <p:blipFill>
          <a:blip r:embed="rId1"/>
          <a:stretch/>
        </p:blipFill>
        <p:spPr>
          <a:xfrm>
            <a:off x="76320" y="1752480"/>
            <a:ext cx="3047760" cy="4029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Дерево Осенью"/>
          <p:cNvPicPr/>
          <p:nvPr/>
        </p:nvPicPr>
        <p:blipFill>
          <a:blip r:embed="rId2"/>
          <a:stretch/>
        </p:blipFill>
        <p:spPr>
          <a:xfrm>
            <a:off x="3124080" y="1828800"/>
            <a:ext cx="3067200" cy="3962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Дерево Зимой"/>
          <p:cNvPicPr/>
          <p:nvPr/>
        </p:nvPicPr>
        <p:blipFill>
          <a:blip r:embed="rId3"/>
          <a:stretch/>
        </p:blipFill>
        <p:spPr>
          <a:xfrm>
            <a:off x="6248520" y="1771560"/>
            <a:ext cx="2895480" cy="401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ОВОЩИ ОСЕНЬЮ"/>
          <p:cNvPicPr/>
          <p:nvPr/>
        </p:nvPicPr>
        <p:blipFill>
          <a:blip r:embed="rId1"/>
          <a:stretch/>
        </p:blipFill>
        <p:spPr>
          <a:xfrm>
            <a:off x="380880" y="152280"/>
            <a:ext cx="8534520" cy="5859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начале осени еще тепло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это время в садах и на огородах созревает много овощей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744960" y="5181480"/>
            <a:ext cx="20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ВО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ЩИ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ФРУКТЫ ОСЕНЬЮ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692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фруктов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962240" y="5638680"/>
            <a:ext cx="21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Ф</a:t>
            </a: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РУ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К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ТЫ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ЛЕСНЫЕ ПЛОДЫ ОСЕНЬЮ"/>
          <p:cNvPicPr/>
          <p:nvPr/>
        </p:nvPicPr>
        <p:blipFill>
          <a:blip r:embed="rId1"/>
          <a:stretch/>
        </p:blipFill>
        <p:spPr>
          <a:xfrm>
            <a:off x="457200" y="228600"/>
            <a:ext cx="8458200" cy="5621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лесу тоже созревают разные плоды и ягоды: желуди (на дубе), орешки (на лещине), каштаны и рябин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тицы и звери с удовольствием едят их и запасают на зим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6019920" y="5029200"/>
            <a:ext cx="2590560" cy="609480"/>
            <a:chOff x="6019920" y="5029200"/>
            <a:chExt cx="2590560" cy="609480"/>
          </a:xfrm>
        </p:grpSpPr>
        <p:grpSp>
          <p:nvGrpSpPr>
            <p:cNvPr id="67" name="Group 5"/>
            <p:cNvGrpSpPr/>
            <p:nvPr/>
          </p:nvGrpSpPr>
          <p:grpSpPr>
            <a:xfrm>
              <a:off x="6021360" y="5032440"/>
              <a:ext cx="2586960" cy="602280"/>
              <a:chOff x="6021360" y="5032440"/>
              <a:chExt cx="2586960" cy="602280"/>
            </a:xfrm>
          </p:grpSpPr>
          <p:grpSp>
            <p:nvGrpSpPr>
              <p:cNvPr id="68" name="Group 6"/>
              <p:cNvGrpSpPr/>
              <p:nvPr/>
            </p:nvGrpSpPr>
            <p:grpSpPr>
              <a:xfrm>
                <a:off x="6021360" y="5032440"/>
                <a:ext cx="2586960" cy="360"/>
                <a:chOff x="6021360" y="5032440"/>
                <a:chExt cx="2586960" cy="360"/>
              </a:xfrm>
            </p:grpSpPr>
            <p:sp>
              <p:nvSpPr>
                <p:cNvPr id="69" name="Rectangle 7"/>
                <p:cNvSpPr/>
                <p:nvPr/>
              </p:nvSpPr>
              <p:spPr>
                <a:xfrm>
                  <a:off x="6047280" y="5032440"/>
                  <a:ext cx="2535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70" name="Rectangle 8"/>
                <p:cNvSpPr/>
                <p:nvPr/>
              </p:nvSpPr>
              <p:spPr>
                <a:xfrm>
                  <a:off x="6021360" y="5032440"/>
                  <a:ext cx="258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  <p:grpSp>
            <p:nvGrpSpPr>
              <p:cNvPr id="71" name="Group 9"/>
              <p:cNvGrpSpPr/>
              <p:nvPr/>
            </p:nvGrpSpPr>
            <p:grpSpPr>
              <a:xfrm>
                <a:off x="6021360" y="5032440"/>
                <a:ext cx="2586960" cy="602280"/>
                <a:chOff x="6021360" y="5032440"/>
                <a:chExt cx="2586960" cy="602280"/>
              </a:xfrm>
            </p:grpSpPr>
            <p:sp>
              <p:nvSpPr>
                <p:cNvPr id="72" name="Rectangle 10"/>
                <p:cNvSpPr/>
                <p:nvPr/>
              </p:nvSpPr>
              <p:spPr>
                <a:xfrm>
                  <a:off x="6047280" y="5032440"/>
                  <a:ext cx="253512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6699ff"/>
                      </a:solidFill>
                      <a:latin typeface="Chicago"/>
                    </a:rPr>
                    <a:t>РЯ</a:t>
                  </a:r>
                  <a:r>
                    <a:rPr b="1" lang="ru-RU" sz="3600" spc="-1" strike="noStrike">
                      <a:solidFill>
                        <a:srgbClr val="000000"/>
                      </a:solidFill>
                      <a:latin typeface="Chicago"/>
                    </a:rPr>
                    <a:t>БИ</a:t>
                  </a:r>
                  <a:r>
                    <a:rPr b="1" lang="ru-RU" sz="3600" spc="-1" strike="noStrike">
                      <a:solidFill>
                        <a:srgbClr val="6699ff"/>
                      </a:solidFill>
                      <a:latin typeface="Chicago"/>
                    </a:rPr>
                    <a:t>НА</a:t>
                  </a:r>
                  <a:endParaRPr b="1" lang="en-US" sz="36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73" name="Rectangle 11"/>
                <p:cNvSpPr/>
                <p:nvPr/>
              </p:nvSpPr>
              <p:spPr>
                <a:xfrm>
                  <a:off x="6021360" y="5032440"/>
                  <a:ext cx="25869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</p:grpSp>
        <p:sp>
          <p:nvSpPr>
            <p:cNvPr id="74" name="Rectangle 12"/>
            <p:cNvSpPr/>
            <p:nvPr/>
          </p:nvSpPr>
          <p:spPr>
            <a:xfrm>
              <a:off x="6019920" y="5029200"/>
              <a:ext cx="2590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3030480" y="480996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КА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Ш</a:t>
            </a: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ТА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Н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190800" y="53352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ЖЁ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ЛУ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ДИ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4900680" y="68580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РЕ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Ш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КИ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новиться все холоднее и холодне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одеваться теплее: кофты, куртки, длинные штаны, колгот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осень"/>
          <p:cNvPicPr/>
          <p:nvPr/>
        </p:nvPicPr>
        <p:blipFill>
          <a:blip r:embed="rId1"/>
          <a:stretch/>
        </p:blipFill>
        <p:spPr>
          <a:xfrm>
            <a:off x="2371680" y="604800"/>
            <a:ext cx="4410000" cy="48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ие птицы собираются в стаи и улетают в теплые кра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Birds0111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51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и кусты тоже готовятся к зиме - они сбрасывают листву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ько елочки и сосны не расстаются со своими иголочкам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36034"/>
          <p:cNvPicPr/>
          <p:nvPr/>
        </p:nvPicPr>
        <p:blipFill>
          <a:blip r:embed="rId1"/>
          <a:stretch/>
        </p:blipFill>
        <p:spPr>
          <a:xfrm>
            <a:off x="838080" y="152280"/>
            <a:ext cx="7348680" cy="576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/>
  <dc:description/>
  <dc:language>en-US</dc:language>
  <cp:lastModifiedBy/>
  <dcterms:modified xsi:type="dcterms:W3CDTF">2012-02-15T12:11:24Z</dcterms:modified>
  <cp:revision>41</cp:revision>
  <dc:subject/>
  <dc:title/>
</cp:coreProperties>
</file>