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.jpeg" ContentType="image/jpeg"/>
  <Override PartName="/ppt/media/image2.png" ContentType="image/pn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media/image12.jpeg" ContentType="image/jpeg"/>
  <Override PartName="/ppt/media/image8.wmf" ContentType="image/x-wmf"/>
  <Override PartName="/ppt/media/image6.jpeg" ContentType="image/jpeg"/>
  <Override PartName="/ppt/media/image7.gif" ContentType="image/gi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A91-B75B-49A3-A1DE-2EEB6A43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4CD-2029-481B-9D91-1A7A85DE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B77-098E-42F5-B66E-7804767E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6EF-BC85-4107-BABA-B53C6451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275-F465-4B5C-9076-E2C95A7E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1B6-F3B4-4025-A095-488C8613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F16-D345-4E1A-976A-2D0C94C1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72D-E035-474D-83A9-8F15A431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ACA-9314-400D-A863-1FE67218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DD8-0BAC-4E3D-BBF5-101C71F1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3C5-E973-4F71-8F9C-5F4DE5FF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039-911C-41DB-A25E-3C6C9C53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8C52-7496-45CE-AE56-E570393F2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276720" y="1052640"/>
            <a:ext cx="5400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Начинается у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Он пойдет ребятам впр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Постарайтесь все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Хорошо запомин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1116000" y="4365720"/>
            <a:ext cx="1008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00040" y="2928960"/>
            <a:ext cx="25243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071720"/>
            <a:ext cx="72151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очитайте сказ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ла-была ворона. Ужасная модница! Купила она себе оранжевые сапоги, ярко-сиреневое пальто и длинные серьги. Нарядилась, взлетела на берёзу и стала громко кричать. Пошёл дождь. Пальто намокло так, серёжки цеплялись за ветки. Кое-как  укрылась она в дуп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ыпишите словарные слова, подчеркните буквы, написание которых надо запомнить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прове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7176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о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ьто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ёза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547640" y="1268280"/>
            <a:ext cx="495324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4500720" cy="621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6" descr="bird38"/>
          <p:cNvPicPr/>
          <p:nvPr/>
        </p:nvPicPr>
        <p:blipFill>
          <a:blip r:embed="rId2"/>
          <a:stretch/>
        </p:blipFill>
        <p:spPr>
          <a:xfrm>
            <a:off x="9929880" y="2786040"/>
            <a:ext cx="1342800" cy="960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6" descr="bird38"/>
          <p:cNvPicPr/>
          <p:nvPr/>
        </p:nvPicPr>
        <p:blipFill>
          <a:blip r:embed="rId3"/>
          <a:stretch/>
        </p:blipFill>
        <p:spPr>
          <a:xfrm>
            <a:off x="9644040" y="4786200"/>
            <a:ext cx="1343160" cy="960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6" descr="bird38"/>
          <p:cNvPicPr/>
          <p:nvPr/>
        </p:nvPicPr>
        <p:blipFill>
          <a:blip r:embed="rId4"/>
          <a:stretch/>
        </p:blipFill>
        <p:spPr>
          <a:xfrm flipH="1">
            <a:off x="-1499040" y="2857680"/>
            <a:ext cx="1498680" cy="107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6" descr="bird38"/>
          <p:cNvPicPr/>
          <p:nvPr/>
        </p:nvPicPr>
        <p:blipFill>
          <a:blip r:embed="rId5"/>
          <a:stretch/>
        </p:blipFill>
        <p:spPr>
          <a:xfrm>
            <a:off x="7286760" y="1214280"/>
            <a:ext cx="1342800" cy="960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bird38"/>
          <p:cNvPicPr/>
          <p:nvPr/>
        </p:nvPicPr>
        <p:blipFill>
          <a:blip r:embed="rId6"/>
          <a:stretch/>
        </p:blipFill>
        <p:spPr>
          <a:xfrm flipH="1">
            <a:off x="-1786320" y="4500720"/>
            <a:ext cx="1498680" cy="1071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bird38"/>
          <p:cNvPicPr/>
          <p:nvPr/>
        </p:nvPicPr>
        <p:blipFill>
          <a:blip r:embed="rId7"/>
          <a:stretch/>
        </p:blipFill>
        <p:spPr>
          <a:xfrm flipH="1">
            <a:off x="-2072160" y="714240"/>
            <a:ext cx="1498680" cy="107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6" descr="bird38"/>
          <p:cNvPicPr/>
          <p:nvPr/>
        </p:nvPicPr>
        <p:blipFill>
          <a:blip r:embed="rId8"/>
          <a:stretch/>
        </p:blipFill>
        <p:spPr>
          <a:xfrm flipH="1">
            <a:off x="-2143440" y="1785960"/>
            <a:ext cx="1498680" cy="1071720"/>
          </a:xfrm>
          <a:prstGeom prst="rect">
            <a:avLst/>
          </a:prstGeom>
          <a:ln w="0">
            <a:noFill/>
          </a:ln>
        </p:spPr>
      </p:pic>
      <p:pic>
        <p:nvPicPr>
          <p:cNvPr id="101" name="vitas_-_ptica_schastja_(zvukoff.ru).mp3" descr=""/>
          <p:cNvPicPr/>
          <p:nvPr/>
        </p:nvPicPr>
        <p:blipFill>
          <a:blip r:embed="rId9"/>
          <a:stretch/>
        </p:blipFill>
        <p:spPr>
          <a:xfrm>
            <a:off x="100008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48 0.07755 C -0.07534 -0.02662 -0.25017 -0.13032 -0.35573 -0.13241 C -0.46146 -0.13426 -0.49791 -0.03449 -0.53437 0.06551 E">
                                      <p:cBhvr>
                                        <p:cTn id="7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2037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2537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2173 C -0.17483 -0.08232 -0.34966 -0.18613 -0.45521 -0.18821 C -0.56094 -0.19006 -0.5974 -0.09018 -0.63386 0.00971 E">
                                      <p:cBhvr>
                                        <p:cTn id="8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C 0.00938 -0.00833 0.0033 -0.00278 0.01771 -0.01736 C 0.01979 -0.01921 0.02223 -0.01991 0.02431 -0.02153 C 0.03039 -0.02616 0.03646 -0.03264 0.04202 -0.03866 C 0.04844 -0.0456 0.0533 -0.05255 0.06129 -0.05602 C 0.06823 -0.06829 0.07882 -0.07222 0.08872 -0.07963 C 0.10278 -0.09028 0.11667 -0.10093 0.13229 -0.10764 C 0.14167 -0.11157 0.13559 -0.1088 0.15 -0.11829 C 0.15486 -0.12153 0.16615 -0.12269 0.16615 -0.12269 C 0.17466 -0.12824 0.18299 -0.13009 0.19202 -0.13333 C 0.20243 -0.13704 0.21216 -0.14282 0.22257 -0.1463 C 0.23438 -0.1544 0.24063 -0.15532 0.25486 -0.15694 C 0.28368 -0.17245 0.31372 -0.16204 0.34202 -0.15278 C 0.35365 -0.14468 0.36945 -0.14051 0.38229 -0.13773 C 0.38924 -0.1331 0.39653 -0.12963 0.4033 -0.12477 C 0.40677 -0.12222 0.40938 -0.11782 0.41302 -0.1162 C 0.42188 -0.11227 0.4283 -0.10903 0.43716 -0.10324 C 0.44202 -0.1 0.44792 -0.10185 0.4533 -0.10116 C 0.46823 -0.09444 0.48299 -0.08796 0.49844 -0.08403 C 0.50938 -0.07431 0.52743 -0.075 0.54028 -0.07315 C 0.54514 -0.07107 0.55035 -0.06968 0.55486 -0.06667 C 0.56111 -0.0625 0.56528 -0.0581 0.57257 -0.0581 E">
                                      <p:cBhvr>
                                        <p:cTn id="9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2173 C -0.17483 -0.08232 -0.34966 -0.18613 -0.45521 -0.18821 C -0.56094 -0.19006 -0.5974 -0.09018 -0.63386 0.00971 E">
                                      <p:cBhvr>
                                        <p:cTn id="10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C 0.00938 -0.00833 0.0033 -0.00278 0.01771 -0.01736 C 0.01979 -0.01921 0.02223 -0.01991 0.02431 -0.02153 C 0.03039 -0.02616 0.03646 -0.03264 0.04202 -0.03866 C 0.04844 -0.0456 0.0533 -0.05255 0.06129 -0.05602 C 0.06823 -0.06829 0.07882 -0.07222 0.08872 -0.07963 C 0.10278 -0.09028 0.11667 -0.10093 0.13229 -0.10764 C 0.14167 -0.11157 0.13559 -0.1088 0.15 -0.11829 C 0.15486 -0.12153 0.16615 -0.12269 0.16615 -0.12269 C 0.17466 -0.12824 0.18299 -0.13009 0.19202 -0.13333 C 0.20243 -0.13704 0.21216 -0.14282 0.22257 -0.1463 C 0.23438 -0.1544 0.24063 -0.15532 0.25486 -0.15694 C 0.28368 -0.17245 0.31372 -0.16204 0.34202 -0.15278 C 0.35365 -0.14468 0.36945 -0.14051 0.38229 -0.13773 C 0.38924 -0.1331 0.39653 -0.12963 0.4033 -0.12477 C 0.40677 -0.12222 0.40938 -0.11782 0.41302 -0.1162 C 0.42188 -0.11227 0.4283 -0.10903 0.43716 -0.10324 C 0.44202 -0.1 0.44792 -0.10185 0.4533 -0.10116 C 0.46823 -0.09444 0.48299 -0.08796 0.49844 -0.08403 C 0.50938 -0.07431 0.52743 -0.075 0.54028 -0.07315 C 0.54514 -0.07107 0.55035 -0.06968 0.55486 -0.06667 C 0.56111 -0.0625 0.56528 -0.0581 0.57257 -0.0581 E">
                                      <p:cBhvr>
                                        <p:cTn id="11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7.40741E-007 C 0.00764 -0.00325 0.01545 -0.00602 0.02257 -0.01088 C 0.02431 -0.01204 0.02552 -0.01436 0.02743 -0.01505 C 0.03472 -0.01783 0.04254 -0.01783 0.05018 -0.01945 C 0.05938 -0.02338 0.06597 -0.02639 0.07587 -0.02801 C 0.08281 -0.03033 0.09011 -0.03125 0.09688 -0.0345 C 0.10174 -0.03681 0.10677 -0.04167 0.11129 -0.04514 C 0.12396 -0.05487 0.13802 -0.06459 0.15174 -0.07107 C 0.16042 -0.08264 0.17222 -0.08195 0.18386 -0.0838 C 0.21215 -0.0963 0.23768 -0.10093 0.26788 -0.10325 C 0.2717 -0.10463 0.27535 -0.10672 0.27917 -0.10764 C 0.28334 -0.1088 0.28785 -0.10811 0.29202 -0.10973 C 0.29393 -0.11042 0.29497 -0.1132 0.29688 -0.11413 C 0.3 -0.11551 0.3033 -0.11551 0.3066 -0.11621 C 0.33386 -0.13056 0.36302 -0.12963 0.39202 -0.13125 C 0.41007 -0.13588 0.42674 -0.1419 0.44514 -0.14422 C 0.45712 -0.14931 0.45347 -0.14838 0.47587 -0.14838 C 0.53038 -0.14838 0.60261 -0.14584 0.65972 -0.14422 C 0.68143 -0.1294 0.70677 -0.12547 0.73073 -0.12269 C 0.74132 -0.11783 0.75226 -0.11575 0.76302 -0.11181 C 0.77309 -0.10163 0.78455 -0.09584 0.79688 -0.0926 C 0.80521 -0.08496 0.81511 -0.08056 0.82431 -0.07524 C 0.83073 -0.07153 0.83542 -0.06528 0.84202 -0.0625 C 0.84844 -0.05672 0.85452 -0.05348 0.86129 -0.04746 C 0.86406 -0.04491 0.87101 -0.04306 0.87101 -0.04306 C 0.88021 -0.03079 0.89063 -0.02107 0.9 -0.00857 C 0.90174 -0.00625 0.90191 -0.00255 0.9033 7.40741E-007 C 0.90469 0.00254 0.9066 0.00439 0.90816 0.00648 C 0.91337 0.02476 0.91597 0.0405 0.91788 0.06018 C 0.91736 0.07592 0.91702 0.09166 0.91615 0.1074 C 0.91511 0.12615 0.89445 0.14143 0.88386 0.15046 C 0.8783 0.16064 0.87674 0.16064 0.86788 0.16342 C 0.85608 0.17268 0.8441 0.18472 0.83073 0.18912 C 0.81997 0.19652 0.81667 0.19513 0.8033 0.19791 C 0.77049 0.20486 0.73802 0.20671 0.70486 0.20856 C 0.66406 0.20787 0.62309 0.20833 0.58229 0.20648 C 0.57518 0.20625 0.56129 0.20208 0.56129 0.20208 C 0.53559 0.19074 0.51528 0.19467 0.48559 0.19351 C 0.46945 0.18865 0.46268 0.1868 0.44514 0.18495 C 0.43056 0.17824 0.43889 0.18101 0.41945 0.17847 C 0.40955 0.16944 0.41823 0.17592 0.39844 0.17199 C 0.38212 0.16875 0.37205 0.16689 0.3533 0.1655 C 0.3415 0.16041 0.33542 0.15509 0.32257 0.15254 C 0.3191 0.14953 0.3165 0.1449 0.31302 0.14189 C 0.31025 0.13935 0.30625 0.13981 0.3033 0.1375 C 0.2875 0.12569 0.29931 0.13148 0.28872 0.12685 C 0.28021 0.1155 0.26979 0.10532 0.25972 0.09675 C 0.25209 0.08101 0.26042 0.04907 0.27431 0.04305 C 0.28316 0.03495 0.29167 0.02476 0.30174 0.01921 C 0.30903 0.01504 0.31719 0.0155 0.32431 0.01064 C 0.33698 0.00208 0.34618 -0.00186 0.35972 -0.00857 C 0.36406 -0.01065 0.36806 -0.01389 0.37257 -0.01505 C 0.38924 -0.01922 0.40608 -0.02292 0.42257 -0.02801 C 0.48559 -0.02639 0.54688 -0.01968 0.60972 -0.01505 C 0.6283 -0.00718 0.61667 -0.0088 0.64688 -0.00649 C 0.65903 -0.00093 0.67222 -0.00255 0.68386 0.00416 C 0.69722 0.0118 0.71025 0.02291 0.72431 0.028 C 0.73472 0.03819 0.74601 0.04652 0.7566 0.05578 C 0.76962 0.06736 0.77865 0.08148 0.79358 0.08819 C 0.79636 0.09166 0.79861 0.09583 0.80174 0.09884 C 0.80313 0.10023 0.80521 0.09953 0.8066 0.10092 C 0.82049 0.11597 0.83229 0.13518 0.84844 0.14629 C 0.85365 0.15625 0.86181 0.16504 0.86945 0.17199 C 0.87379 0.18125 0.87552 0.18564 0.88386 0.19351 C 0.88768 0.19699 0.89514 0.20416 0.89514 0.20416 C 0.89809 0.21527 0.89896 0.22476 0.9 0.23657 C 0.89948 0.28819 0.9 0.33981 0.89844 0.39143 C 0.89844 0.39398 0.89601 0.3956 0.89514 0.39791 C 0.88959 0.41435 0.88768 0.43125 0.87257 0.43657 C 0.86111 0.44814 0.85295 0.45509 0.83872 0.4581 C 0.8184 0.46875 0.79757 0.46736 0.77587 0.46875 C 0.7375 0.4787 0.69844 0.48009 0.65972 0.48587 C 0.64445 0.49143 0.63038 0.49791 0.61459 0.50092 C 0.56285 0.53055 0.54271 0.50925 0.46302 0.50532 C 0.44219 0.4993 0.42014 0.49537 0.4 0.48587 C 0.38056 0.47685 0.3625 0.46643 0.34202 0.46226 C 0.33108 0.45671 0.32136 0.45208 0.30972 0.44953 C 0.29097 0.43703 0.29913 0.44166 0.28559 0.43425 C 0.26667 0.40995 0.29514 0.44467 0.27431 0.42569 C 0.27275 0.4243 0.27257 0.42083 0.27101 0.41921 C 0.26806 0.41643 0.26459 0.41504 0.26129 0.41296 C 0.25972 0.41087 0.25834 0.40833 0.2566 0.40648 C 0.25347 0.40324 0.24688 0.39791 0.24688 0.39791 C 0.2441 0.39282 0.24011 0.38865 0.23872 0.38287 C 0.23507 0.36736 0.2375 0.37361 0.23229 0.36342 C 0.22882 0.33912 0.23386 0.36504 0.22587 0.34398 C 0.22327 0.3368 0.22222 0.32777 0.21945 0.32037 C 0.22031 0.28402 0.21094 0.24907 0.23559 0.23217 C 0.24445 0.21643 0.26302 0.20254 0.27743 0.19791 C 0.28229 0.19444 0.28802 0.1905 0.29358 0.18912 C 0.3 0.1875 0.31302 0.18495 0.31302 0.18495 C 0.38038 0.15393 0.45677 0.18194 0.52743 0.18703 C 0.5507 0.19212 0.57361 0.20092 0.59688 0.20648 C 0.61094 0.21365 0.62448 0.21805 0.63872 0.22361 C 0.654 0.23587 0.64132 0.22754 0.66788 0.23425 C 0.68004 0.23726 0.69254 0.2449 0.70486 0.24722 C 0.72361 0.25092 0.76129 0.25578 0.76129 0.25578 C 0.77465 0.26018 0.78681 0.26527 0.8 0.27083 C 0.8099 0.275 0.81545 0.28703 0.82587 0.29027 C 0.84132 0.30393 0.82934 0.29583 0.84358 0.30092 C 0.84688 0.30208 0.8533 0.30532 0.8533 0.30532 C 0.85625 0.3081 0.86042 0.30833 0.86302 0.3118 C 0.8658 0.3155 0.86736 0.32037 0.86945 0.32476 C 0.87483 0.33587 0.88542 0.34583 0.88872 0.35902 C 0.89184 0.37152 0.89445 0.38587 0.89844 0.39791 C 0.90139 0.40694 0.90347 0.40879 0.90486 0.41712 C 0.90868 0.43935 0.91181 0.46712 0.92431 0.48379 C 0.92709 0.503 0.93056 0.525 0.92431 0.54398 C 0.9165 0.56759 0.90104 0.58055 0.88559 0.59351 C 0.87483 0.60254 0.87431 0.60486 0.86302 0.60856 C 0.85209 0.61597 0.83976 0.62013 0.82917 0.628 C 0.82222 0.6331 0.81476 0.63912 0.80816 0.64513 C 0.8066 0.64652 0.80521 0.6493 0.8033 0.64953 C 0.79896 0.65023 0.79479 0.65092 0.79045 0.65162 C 0.78768 0.653 0.7849 0.65416 0.78229 0.65578 C 0.77952 0.65763 0.77726 0.66064 0.77431 0.66226 C 0.76806 0.66574 0.76077 0.6662 0.75486 0.67083 C 0.75226 0.67291 0.74983 0.67592 0.74688 0.67731 C 0.74375 0.67893 0.72622 0.68148 0.72431 0.68171 C 0.70382 0.68101 0.68351 0.68101 0.66302 0.67962 C 0.65764 0.67916 0.64566 0.66504 0.64514 0.66458 C 0.64132 0.66087 0.63577 0.66018 0.63229 0.65578 C 0.61597 0.63472 0.59792 0.61319 0.57917 0.5956 C 0.57552 0.58842 0.57101 0.58263 0.56945 0.57407 C 0.56771 0.56481 0.56459 0.54629 0.56459 0.54629 C 0.56129 0.46805 0.54549 0.38888 0.56945 0.3118 C 0.57084 0.2993 0.57084 0.29375 0.57587 0.28379 C 0.5783 0.27037 0.57934 0.25763 0.58386 0.24513 C 0.58629 0.23009 0.58698 0.21597 0.59202 0.20208 C 0.59514 0.19351 0.59601 0.19629 0.6 0.18703 C 0.60139 0.18379 0.60191 0.17986 0.6033 0.17638 C 0.60868 0.16342 0.6158 0.15185 0.61945 0.1375 C 0.6217 0.1287 0.62518 0.1206 0.62743 0.1118 C 0.63143 0.09583 0.6349 0.08287 0.64202 0.06875 C 0.6441 0.05995 0.64775 0.05069 0.65174 0.04305 C 0.65538 0.02824 0.65365 0.03194 0.65972 0.01921 C 0.66181 0.01481 0.66615 0.00648 0.66615 0.00648 C 0.66875 -0.00649 0.66719 0.000690000000000001 0.67101 -0.01505 C 0.67153 -0.01713 0.67257 -0.02153 0.67257 -0.02153 C 0.67205 -0.0294 0.67222 -0.03727 0.67101 -0.04514 C 0.66962 -0.05487 0.66702 -0.05301 0.66302 -0.06019 C 0.6592 -0.06713 0.66059 -0.06922 0.6566 -0.07524 C 0.65 -0.08496 0.63872 -0.10116 0.62917 -0.10533 C 0.62344 -0.11042 0.61337 -0.11621 0.6066 -0.11829 C 0.6033 -0.1176 0.59983 -0.11783 0.59688 -0.11621 C 0.59167 -0.11343 0.58368 -0.10371 0.57917 -0.09908 C 0.57188 -0.09167 0.5632 -0.08403 0.5566 -0.07524 C 0.54983 -0.06621 0.54861 -0.05394 0.54202 -0.04514 C 0.53768 -0.02732 0.54462 -0.05394 0.53559 -0.02801 C 0.53212 -0.01806 0.53212 -0.00903 0.52743 7.40741E-007 C 0.5224 0.03472 0.52847 0.07986 0.51302 0.1118 C 0.51077 0.12523 0.50955 0.13819 0.50486 0.15046 C 0.50104 0.17083 0.49913 0.18425 0.49202 0.20208 C 0.48854 0.21064 0.48229 0.228 0.48229 0.228 C 0.48125 0.23379 0.48056 0.23958 0.47917 0.24513 C 0.47795 0.24976 0.47552 0.25347 0.47431 0.2581 C 0.47084 0.27152 0.47205 0.28518 0.46615 0.29675 C 0.46372 0.31296 0.46042 0.33333 0.4533 0.34629 C 0.45 0.36481 0.45434 0.34398 0.44688 0.3655 C 0.44167 0.38055 0.43924 0.39699 0.43229 0.41064 C 0.42865 0.42592 0.42292 0.4405 0.41615 0.4537 C 0.41059 0.48425 0.39844 0.50949 0.38559 0.53541 C 0.37795 0.55069 0.37222 0.57083 0.36302 0.58495 C 0.35278 0.60069 0.33542 0.61018 0.32101 0.61712 C 0.31129 0.62175 0.29844 0.62268 0.28872 0.62361 C 0.26563 0.62569 0.24254 0.62731 0.21945 0.63009 C 0.19479 0.64004 0.20573 0.63726 0.18715 0.64074 C 0.17674 0.64583 0.16927 0.65532 0.15972 0.66226 C 0.15434 0.66597 0.14792 0.66736 0.14358 0.67314 C 0.13681 0.68217 0.14097 0.67893 0.13073 0.68171 C 0.10643 0.70625 0.07865 0.7155 0.04844 0.71828 C 0.03889 0.72245 -0.02239 0.7331 -0.01128 0.71828 E">
                                      <p:cBhvr>
                                        <p:cTn id="11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3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7.40741E-007 C 0.00764 -0.00325 0.01545 -0.00602 0.02257 -0.01088 C 0.02431 -0.01204 0.02552 -0.01436 0.02743 -0.01505 C 0.03472 -0.01783 0.04254 -0.01783 0.05018 -0.01945 C 0.05938 -0.02338 0.06597 -0.02639 0.07587 -0.02801 C 0.08281 -0.03033 0.09011 -0.03125 0.09688 -0.0345 C 0.10174 -0.03681 0.10677 -0.04167 0.11129 -0.04514 C 0.12396 -0.05487 0.13802 -0.06459 0.15174 -0.07107 C 0.16042 -0.08264 0.17222 -0.08195 0.18386 -0.0838 C 0.21215 -0.0963 0.23768 -0.10093 0.26788 -0.10325 C 0.2717 -0.10463 0.27535 -0.10672 0.27917 -0.10764 C 0.28334 -0.1088 0.28785 -0.10811 0.29202 -0.10973 C 0.29393 -0.11042 0.29497 -0.1132 0.29688 -0.11413 C 0.3 -0.11551 0.3033 -0.11551 0.3066 -0.11621 C 0.33386 -0.13056 0.36302 -0.12963 0.39202 -0.13125 C 0.41007 -0.13588 0.42674 -0.1419 0.44514 -0.14422 C 0.45712 -0.14931 0.45347 -0.14838 0.47587 -0.14838 C 0.53038 -0.14838 0.60261 -0.14584 0.65972 -0.14422 C 0.68143 -0.1294 0.70677 -0.12547 0.73073 -0.12269 C 0.74132 -0.11783 0.75226 -0.11575 0.76302 -0.11181 C 0.77309 -0.10163 0.78455 -0.09584 0.79688 -0.0926 C 0.80521 -0.08496 0.81511 -0.08056 0.82431 -0.07524 C 0.83073 -0.07153 0.83542 -0.06528 0.84202 -0.0625 C 0.84844 -0.05672 0.85452 -0.05348 0.86129 -0.04746 C 0.86406 -0.04491 0.87101 -0.04306 0.87101 -0.04306 C 0.88021 -0.03079 0.89063 -0.02107 0.9 -0.00857 C 0.90174 -0.00625 0.90191 -0.00255 0.9033 7.40741E-007 C 0.90469 0.00254 0.9066 0.00439 0.90816 0.00648 C 0.91337 0.02476 0.91597 0.0405 0.91788 0.06018 C 0.91736 0.07592 0.91702 0.09166 0.91615 0.1074 C 0.91511 0.12615 0.89445 0.14143 0.88386 0.15046 C 0.8783 0.16064 0.87674 0.16064 0.86788 0.16342 C 0.85608 0.17268 0.8441 0.18472 0.83073 0.18912 C 0.81997 0.19652 0.81667 0.19513 0.8033 0.19791 C 0.77049 0.20486 0.73802 0.20671 0.70486 0.20856 C 0.66406 0.20787 0.62309 0.20833 0.58229 0.20648 C 0.57518 0.20625 0.56129 0.20208 0.56129 0.20208 C 0.53559 0.19074 0.51528 0.19467 0.48559 0.19351 C 0.46945 0.18865 0.46268 0.1868 0.44514 0.18495 C 0.43056 0.17824 0.43889 0.18101 0.41945 0.17847 C 0.40955 0.16944 0.41823 0.17592 0.39844 0.17199 C 0.38212 0.16875 0.37205 0.16689 0.3533 0.1655 C 0.3415 0.16041 0.33542 0.15509 0.32257 0.15254 C 0.3191 0.14953 0.3165 0.1449 0.31302 0.14189 C 0.31025 0.13935 0.30625 0.13981 0.3033 0.1375 C 0.2875 0.12569 0.29931 0.13148 0.28872 0.12685 C 0.28021 0.1155 0.26979 0.10532 0.25972 0.09675 C 0.25209 0.08101 0.26042 0.04907 0.27431 0.04305 C 0.28316 0.03495 0.29167 0.02476 0.30174 0.01921 C 0.30903 0.01504 0.31719 0.0155 0.32431 0.01064 C 0.33698 0.00208 0.34618 -0.00186 0.35972 -0.00857 C 0.36406 -0.01065 0.36806 -0.01389 0.37257 -0.01505 C 0.38924 -0.01922 0.40608 -0.02292 0.42257 -0.02801 C 0.48559 -0.02639 0.54688 -0.01968 0.60972 -0.01505 C 0.6283 -0.00718 0.61667 -0.0088 0.64688 -0.00649 C 0.65903 -0.00093 0.67222 -0.00255 0.68386 0.00416 C 0.69722 0.0118 0.71025 0.02291 0.72431 0.028 C 0.73472 0.03819 0.74601 0.04652 0.7566 0.05578 C 0.76962 0.06736 0.77865 0.08148 0.79358 0.08819 C 0.79636 0.09166 0.79861 0.09583 0.80174 0.09884 C 0.80313 0.10023 0.80521 0.09953 0.8066 0.10092 C 0.82049 0.11597 0.83229 0.13518 0.84844 0.14629 C 0.85365 0.15625 0.86181 0.16504 0.86945 0.17199 C 0.87379 0.18125 0.87552 0.18564 0.88386 0.19351 C 0.88768 0.19699 0.89514 0.20416 0.89514 0.20416 C 0.89809 0.21527 0.89896 0.22476 0.9 0.23657 C 0.89948 0.28819 0.9 0.33981 0.89844 0.39143 C 0.89844 0.39398 0.89601 0.3956 0.89514 0.39791 C 0.88959 0.41435 0.88768 0.43125 0.87257 0.43657 C 0.86111 0.44814 0.85295 0.45509 0.83872 0.4581 C 0.8184 0.46875 0.79757 0.46736 0.77587 0.46875 C 0.7375 0.4787 0.69844 0.48009 0.65972 0.48587 C 0.64445 0.49143 0.63038 0.49791 0.61459 0.50092 C 0.56285 0.53055 0.54271 0.50925 0.46302 0.50532 C 0.44219 0.4993 0.42014 0.49537 0.4 0.48587 C 0.38056 0.47685 0.3625 0.46643 0.34202 0.46226 C 0.33108 0.45671 0.32136 0.45208 0.30972 0.44953 C 0.29097 0.43703 0.29913 0.44166 0.28559 0.43425 C 0.26667 0.40995 0.29514 0.44467 0.27431 0.42569 C 0.27275 0.4243 0.27257 0.42083 0.27101 0.41921 C 0.26806 0.41643 0.26459 0.41504 0.26129 0.41296 C 0.25972 0.41087 0.25834 0.40833 0.2566 0.40648 C 0.25347 0.40324 0.24688 0.39791 0.24688 0.39791 C 0.2441 0.39282 0.24011 0.38865 0.23872 0.38287 C 0.23507 0.36736 0.2375 0.37361 0.23229 0.36342 C 0.22882 0.33912 0.23386 0.36504 0.22587 0.34398 C 0.22327 0.3368 0.22222 0.32777 0.21945 0.32037 C 0.22031 0.28402 0.21094 0.24907 0.23559 0.23217 C 0.24445 0.21643 0.26302 0.20254 0.27743 0.19791 C 0.28229 0.19444 0.28802 0.1905 0.29358 0.18912 C 0.3 0.1875 0.31302 0.18495 0.31302 0.18495 C 0.38038 0.15393 0.45677 0.18194 0.52743 0.18703 C 0.5507 0.19212 0.57361 0.20092 0.59688 0.20648 C 0.61094 0.21365 0.62448 0.21805 0.63872 0.22361 C 0.654 0.23587 0.64132 0.22754 0.66788 0.23425 C 0.68004 0.23726 0.69254 0.2449 0.70486 0.24722 C 0.72361 0.25092 0.76129 0.25578 0.76129 0.25578 C 0.77465 0.26018 0.78681 0.26527 0.8 0.27083 C 0.8099 0.275 0.81545 0.28703 0.82587 0.29027 C 0.84132 0.30393 0.82934 0.29583 0.84358 0.30092 C 0.84688 0.30208 0.8533 0.30532 0.8533 0.30532 C 0.85625 0.3081 0.86042 0.30833 0.86302 0.3118 C 0.8658 0.3155 0.86736 0.32037 0.86945 0.32476 C 0.87483 0.33587 0.88542 0.34583 0.88872 0.35902 C 0.89184 0.37152 0.89445 0.38587 0.89844 0.39791 C 0.90139 0.40694 0.90347 0.40879 0.90486 0.41712 C 0.90868 0.43935 0.91181 0.46712 0.92431 0.48379 C 0.92709 0.503 0.93056 0.525 0.92431 0.54398 C 0.9165 0.56759 0.90104 0.58055 0.88559 0.59351 C 0.87483 0.60254 0.87431 0.60486 0.86302 0.60856 C 0.85209 0.61597 0.83976 0.62013 0.82917 0.628 C 0.82222 0.6331 0.81476 0.63912 0.80816 0.64513 C 0.8066 0.64652 0.80521 0.6493 0.8033 0.64953 C 0.79896 0.65023 0.79479 0.65092 0.79045 0.65162 C 0.78768 0.653 0.7849 0.65416 0.78229 0.65578 C 0.77952 0.65763 0.77726 0.66064 0.77431 0.66226 C 0.76806 0.66574 0.76077 0.6662 0.75486 0.67083 C 0.75226 0.67291 0.74983 0.67592 0.74688 0.67731 C 0.74375 0.67893 0.72622 0.68148 0.72431 0.68171 C 0.70382 0.68101 0.68351 0.68101 0.66302 0.67962 C 0.65764 0.67916 0.64566 0.66504 0.64514 0.66458 C 0.64132 0.66087 0.63577 0.66018 0.63229 0.65578 C 0.61597 0.63472 0.59792 0.61319 0.57917 0.5956 C 0.57552 0.58842 0.57101 0.58263 0.56945 0.57407 C 0.56771 0.56481 0.56459 0.54629 0.56459 0.54629 C 0.56129 0.46805 0.54549 0.38888 0.56945 0.3118 C 0.57084 0.2993 0.57084 0.29375 0.57587 0.28379 C 0.5783 0.27037 0.57934 0.25763 0.58386 0.24513 C 0.58629 0.23009 0.58698 0.21597 0.59202 0.20208 C 0.59514 0.19351 0.59601 0.19629 0.6 0.18703 C 0.60139 0.18379 0.60191 0.17986 0.6033 0.17638 C 0.60868 0.16342 0.6158 0.15185 0.61945 0.1375 C 0.6217 0.1287 0.62518 0.1206 0.62743 0.1118 C 0.63143 0.09583 0.6349 0.08287 0.64202 0.06875 C 0.6441 0.05995 0.64775 0.05069 0.65174 0.04305 C 0.65538 0.02824 0.65365 0.03194 0.65972 0.01921 C 0.66181 0.01481 0.66615 0.00648 0.66615 0.00648 C 0.66875 -0.00649 0.66719 0.000690000000000001 0.67101 -0.01505 C 0.67153 -0.01713 0.67257 -0.02153 0.67257 -0.02153 C 0.67205 -0.0294 0.67222 -0.03727 0.67101 -0.04514 C 0.66962 -0.05487 0.66702 -0.05301 0.66302 -0.06019 C 0.6592 -0.06713 0.66059 -0.06922 0.6566 -0.07524 C 0.65 -0.08496 0.63872 -0.10116 0.62917 -0.10533 C 0.62344 -0.11042 0.61337 -0.11621 0.6066 -0.11829 C 0.6033 -0.1176 0.59983 -0.11783 0.59688 -0.11621 C 0.59167 -0.11343 0.58368 -0.10371 0.57917 -0.09908 C 0.57188 -0.09167 0.5632 -0.08403 0.5566 -0.07524 C 0.54983 -0.06621 0.54861 -0.05394 0.54202 -0.04514 C 0.53768 -0.02732 0.54462 -0.05394 0.53559 -0.02801 C 0.53212 -0.01806 0.53212 -0.00903 0.52743 7.40741E-007 C 0.5224 0.03472 0.52847 0.07986 0.51302 0.1118 C 0.51077 0.12523 0.50955 0.13819 0.50486 0.15046 C 0.50104 0.17083 0.49913 0.18425 0.49202 0.20208 C 0.48854 0.21064 0.48229 0.228 0.48229 0.228 C 0.48125 0.23379 0.48056 0.23958 0.47917 0.24513 C 0.47795 0.24976 0.47552 0.25347 0.47431 0.2581 C 0.47084 0.27152 0.47205 0.28518 0.46615 0.29675 C 0.46372 0.31296 0.46042 0.33333 0.4533 0.34629 C 0.45 0.36481 0.45434 0.34398 0.44688 0.3655 C 0.44167 0.38055 0.43924 0.39699 0.43229 0.41064 C 0.42865 0.42592 0.42292 0.4405 0.41615 0.4537 C 0.41059 0.48425 0.39844 0.50949 0.38559 0.53541 C 0.37795 0.55069 0.37222 0.57083 0.36302 0.58495 C 0.35278 0.60069 0.33542 0.61018 0.32101 0.61712 C 0.31129 0.62175 0.29844 0.62268 0.28872 0.62361 C 0.26563 0.62569 0.24254 0.62731 0.21945 0.63009 C 0.19479 0.64004 0.20573 0.63726 0.18715 0.64074 C 0.17674 0.64583 0.16927 0.65532 0.15972 0.66226 C 0.15434 0.66597 0.14792 0.66736 0.14358 0.67314 C 0.13681 0.68217 0.14097 0.67893 0.13073 0.68171 C 0.10643 0.70625 0.07865 0.7155 0.04844 0.71828 C 0.03889 0.72245 -0.02239 0.7331 -0.01128 0.71828 E">
                                      <p:cBhvr>
                                        <p:cTn id="148" dur="10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Работа в тетради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Запиши текст, вставляя пропущенные предл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бе ярко светит солнышко. … крыш свисают сосульки. …дома лужицы. …деревьях весело чирикают воробь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проверка</a:t>
            </a: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42960" y="1600200"/>
            <a:ext cx="59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Calibri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небе ярко светит солнышко. </a:t>
            </a:r>
            <a:r>
              <a:rPr b="0" lang="ru-RU" sz="3600" spc="-1" strike="noStrike">
                <a:solidFill>
                  <a:srgbClr val="4f81bd"/>
                </a:solidFill>
                <a:latin typeface="Calibri"/>
              </a:rPr>
              <a:t>С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крыш свисают сосульки. </a:t>
            </a:r>
            <a:r>
              <a:rPr b="0" lang="ru-RU" sz="3600" spc="-1" strike="noStrike">
                <a:solidFill>
                  <a:srgbClr val="4f81bd"/>
                </a:solidFill>
                <a:latin typeface="Calibri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дома лужицы. </a:t>
            </a:r>
            <a:r>
              <a:rPr b="0" lang="ru-RU" sz="3600" spc="-1" strike="noStrike">
                <a:solidFill>
                  <a:srgbClr val="4f81bd"/>
                </a:solidFill>
                <a:latin typeface="Calibri"/>
              </a:rPr>
              <a:t>Н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деревьях весело чирикают воробь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785880" y="2000160"/>
            <a:ext cx="78883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ootball (Soccer) - Wikimedia Commons"/>
          <p:cNvPicPr/>
          <p:nvPr/>
        </p:nvPicPr>
        <p:blipFill>
          <a:blip r:embed="rId1"/>
          <a:stretch/>
        </p:blipFill>
        <p:spPr>
          <a:xfrm>
            <a:off x="457200" y="1000080"/>
            <a:ext cx="66866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285920" y="1886040"/>
            <a:ext cx="78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играют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футбо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285920" y="1643040"/>
            <a:ext cx="692928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Минутка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релаксации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-714240" y="-571680"/>
            <a:ext cx="5952960" cy="721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26030" t="8218" r="22605" b="0"/>
          <a:stretch/>
        </p:blipFill>
        <p:spPr>
          <a:xfrm>
            <a:off x="2428920" y="3429000"/>
            <a:ext cx="1706400" cy="3048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6e512718eb4ddfdeb3be803fc4e3f797.gif"/>
          <p:cNvPicPr/>
          <p:nvPr/>
        </p:nvPicPr>
        <p:blipFill>
          <a:blip r:embed="rId3"/>
          <a:stretch/>
        </p:blipFill>
        <p:spPr>
          <a:xfrm>
            <a:off x="5572080" y="4572000"/>
            <a:ext cx="1293840" cy="1704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3857760" y="35712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тя  поднялась          дере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929280" y="35712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77 0.0507 C -0.14618 0.05 -0.24427 0.11551 -0.28263 0.04005 C -0.28159 0.03797 -0.2809 0.03519 -0.27934 0.03357 C -0.27812 0.03218 -0.27465 0.03357 -0.27465 0.03148 C -0.27309 -0.01227 -0.26458 -0.04768 -0.28593 -0.07616 C -0.28645 -0.07963 -0.28663 -0.08333 -0.2875 -0.0868 C -0.28819 -0.08912 -0.29045 -0.09074 -0.29062 -0.09328 C -0.29565 -0.15416 -0.28489 -0.1294 -0.29548 -0.15139 C -0.29704 -0.16088 -0.29982 -0.1662 -0.30208 -0.175 C -0.3026 -0.22731 -0.30017 -0.27986 -0.30364 -0.33194 C -0.30399 -0.33796 -0.31093 -0.33981 -0.31336 -0.34491 C -0.31562 -0.34977 -0.32934 -0.37176 -0.32934 -0.375 E">
                                      <p:cBhvr>
                                        <p:cTn id="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Работа в тетради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оставь из слов предложение, запиши, предлог подчеркни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а              лесу                в           живё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проверка</a:t>
            </a: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2960" y="1600200"/>
            <a:ext cx="59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Лиса живет 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в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лес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347840" y="424440"/>
            <a:ext cx="5156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десный выдался денё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я учу уро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должен твердо знать ур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нас учитель строги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я шепчу, закрыв глаз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рестив под стулом н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значит – « по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значит – « за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« за», и « по» - предлог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хорошо бы – ЗА по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– мчаться ПО дорог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бы выдумать предл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 не учить предло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Шиб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тог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2640" y="1428840"/>
            <a:ext cx="74674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54061"/>
                </a:solidFill>
                <a:latin typeface="Calibri"/>
              </a:rPr>
              <a:t>Сегодня мы познакомились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54061"/>
                </a:solidFill>
                <a:latin typeface="Calibri"/>
              </a:rPr>
              <a:t>Узнали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54061"/>
                </a:solidFill>
                <a:latin typeface="Calibri"/>
              </a:rPr>
              <a:t>Научились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54061"/>
                </a:solidFill>
                <a:latin typeface="Calibri"/>
              </a:rPr>
              <a:t>Было трудно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14280" y="1714320"/>
            <a:ext cx="56865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Выучить предлоги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6"/>
          <p:cNvSpPr txBox="1"/>
          <p:nvPr/>
        </p:nvSpPr>
        <p:spPr>
          <a:xfrm>
            <a:off x="1908000" y="981000"/>
            <a:ext cx="23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00160" y="2286000"/>
            <a:ext cx="424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л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286000" y="478620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рева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КОУ «Богородская школа №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лог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предло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чего нужны предлоги в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ишутся предлог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202086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71920" y="3286080"/>
            <a:ext cx="506412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едлог-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6836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98989"/>
                </a:solidFill>
                <a:latin typeface="Calibri"/>
              </a:rPr>
              <a:t>Маленькие слова, которые нужны для связи слов в предложении. С другими словами пишутся  раздельно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1"/>
          <p:cNvPicPr/>
          <p:nvPr/>
        </p:nvPicPr>
        <p:blipFill>
          <a:blip r:embed="rId1"/>
          <a:stretch/>
        </p:blipFill>
        <p:spPr>
          <a:xfrm>
            <a:off x="900000" y="312912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4140360" y="3933720"/>
            <a:ext cx="718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8"/>
          <p:cNvSpPr txBox="1"/>
          <p:nvPr/>
        </p:nvSpPr>
        <p:spPr>
          <a:xfrm>
            <a:off x="785880" y="5715000"/>
            <a:ext cx="428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00000" y="1341360"/>
            <a:ext cx="7777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шина подъехала ….. до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шина стоит …. до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5500800" y="1428840"/>
            <a:ext cx="3603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4214880" y="2286000"/>
            <a:ext cx="43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8"/>
          <p:cNvSpPr txBox="1"/>
          <p:nvPr/>
        </p:nvSpPr>
        <p:spPr>
          <a:xfrm>
            <a:off x="611280" y="404640"/>
            <a:ext cx="80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тавим пропущенные слов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Picture 9" descr="BHOMES1"/>
          <p:cNvPicPr/>
          <p:nvPr/>
        </p:nvPicPr>
        <p:blipFill>
          <a:blip r:embed="rId1"/>
          <a:stretch/>
        </p:blipFill>
        <p:spPr>
          <a:xfrm>
            <a:off x="1979640" y="3860640"/>
            <a:ext cx="4824360" cy="255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VAN2"/>
          <p:cNvPicPr/>
          <p:nvPr/>
        </p:nvPicPr>
        <p:blipFill>
          <a:blip r:embed="rId2"/>
          <a:stretch/>
        </p:blipFill>
        <p:spPr>
          <a:xfrm>
            <a:off x="0" y="5516640"/>
            <a:ext cx="172872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47639 0.0037 E">
                                      <p:cBhvr>
                                        <p:cTn id="3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639 0.0037 L 0.72639 0.0037 E">
                                      <p:cBhvr>
                                        <p:cTn id="6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стопис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85880" y="1599840"/>
            <a:ext cx="750096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а П по П пу П пы П пя П пе П пю 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роворонила  ворона  воронен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"/>
          <p:cNvSpPr/>
          <p:nvPr/>
        </p:nvSpPr>
        <p:spPr>
          <a:xfrm>
            <a:off x="4419720" y="2819520"/>
            <a:ext cx="76176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 rot="21446400">
            <a:off x="1294920" y="1828800"/>
            <a:ext cx="1067040" cy="1066680"/>
          </a:xfrm>
          <a:prstGeom prst="rect">
            <a:avLst/>
          </a:prstGeom>
          <a:solidFill>
            <a:srgbClr val="4f81b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 rot="20323800">
            <a:off x="380880" y="2361960"/>
            <a:ext cx="1067040" cy="1066680"/>
          </a:xfrm>
          <a:prstGeom prst="rect">
            <a:avLst/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 rot="409200">
            <a:off x="2285640" y="1219320"/>
            <a:ext cx="1066680" cy="1066680"/>
          </a:xfrm>
          <a:prstGeom prst="rect">
            <a:avLst/>
          </a:prstGeom>
          <a:solidFill>
            <a:srgbClr val="e8e3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 rot="439800">
            <a:off x="5333760" y="837720"/>
            <a:ext cx="106668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 rot="21415800">
            <a:off x="6172200" y="1294920"/>
            <a:ext cx="1066680" cy="10670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267080" y="609480"/>
            <a:ext cx="1067040" cy="10670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 rot="21221400">
            <a:off x="3276360" y="838080"/>
            <a:ext cx="1066680" cy="10670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 rot="772200">
            <a:off x="7924320" y="2361960"/>
            <a:ext cx="1067040" cy="106668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 rot="564000">
            <a:off x="7010280" y="1905120"/>
            <a:ext cx="106704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 rot="20390400">
            <a:off x="7086240" y="4419360"/>
            <a:ext cx="106668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 rot="20700600">
            <a:off x="6048000" y="4905000"/>
            <a:ext cx="1066680" cy="1066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4786200" y="5214960"/>
            <a:ext cx="1067040" cy="10666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 rot="782400">
            <a:off x="2231640" y="5052600"/>
            <a:ext cx="1204920" cy="97632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 rot="1621800">
            <a:off x="1142640" y="441972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571920" y="2146320"/>
            <a:ext cx="2357280" cy="3022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3500280" y="5214960"/>
            <a:ext cx="106704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3:20:16Z</dcterms:created>
  <dc:creator>Admin</dc:creator>
  <dc:description/>
  <dc:language>en-US</dc:language>
  <cp:lastModifiedBy>Саша</cp:lastModifiedBy>
  <dcterms:modified xsi:type="dcterms:W3CDTF">2015-03-20T18:11:29Z</dcterms:modified>
  <cp:revision>42</cp:revision>
  <dc:subject/>
  <dc:title>Слайд 1</dc:title>
</cp:coreProperties>
</file>