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60C-D964-4764-B716-A4A94F70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FF7-D79D-45FC-AB1D-10F687A6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FCA-3898-4705-89A1-FCBD4A20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EDA-E53A-4D43-849E-5C53B8D8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B2A-BD6F-49A1-A462-1A7BEF11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C15-8AF5-42FB-8F74-1576DB4E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E71-D7DA-426E-A223-D400FA74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012-50C6-42E9-9070-86F4FAA4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282-996A-4E96-9778-80EE76FF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240-110D-4E34-A755-41E69829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D40-1E88-4888-85A2-0786F057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883-27F2-4961-A933-3957ED84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DE7A-AE43-45F7-A24A-222ABF91959F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FB41-072D-4295-9318-C977F6C3A57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50720" y="1066680"/>
            <a:ext cx="8242560" cy="4011840"/>
          </a:xfrm>
          <a:prstGeom prst="rect">
            <a:avLst/>
          </a:prstGeom>
          <a:ln w="0">
            <a:noFill/>
          </a:ln>
        </p:spPr>
      </p:pic>
      <p:sp>
        <p:nvSpPr>
          <p:cNvPr id="42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C78C-F9B8-40AE-90C6-83202AE5211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85A0-092D-4B96-B1AF-045EFED9D81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Содержимое 3" descr="i (45).jpg"/>
          <p:cNvPicPr/>
          <p:nvPr/>
        </p:nvPicPr>
        <p:blipFill>
          <a:blip r:embed="rId1"/>
          <a:stretch/>
        </p:blipFill>
        <p:spPr>
          <a:xfrm>
            <a:off x="1714680" y="1500120"/>
            <a:ext cx="4714560" cy="2754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500040" y="35712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ончарная мастерская «Горшен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D37F-FBC8-46C9-8C3C-76D3ED3EC82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C:\Users\Саша\Downloads\DSCN1879.jpg"/>
          <p:cNvPicPr/>
          <p:nvPr/>
        </p:nvPicPr>
        <p:blipFill>
          <a:blip r:embed="rId1"/>
          <a:stretch/>
        </p:blipFill>
        <p:spPr>
          <a:xfrm>
            <a:off x="2214720" y="1928880"/>
            <a:ext cx="46432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714680" y="42876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лица Героя Са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8664-8F53-4225-A69D-59D0B8F863A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F:\Фото С алов\P1040513.JPG"/>
          <p:cNvPicPr/>
          <p:nvPr/>
        </p:nvPicPr>
        <p:blipFill>
          <a:blip r:embed="rId1"/>
          <a:stretch/>
        </p:blipFill>
        <p:spPr>
          <a:xfrm>
            <a:off x="2571840" y="1428840"/>
            <a:ext cx="4357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000080" y="428760"/>
            <a:ext cx="700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15F1-003B-4927-8BF5-ADC24F666EA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Стрелка вправо 8"/>
          <p:cNvSpPr/>
          <p:nvPr/>
        </p:nvSpPr>
        <p:spPr>
          <a:xfrm rot="10800000">
            <a:off x="142920" y="6214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Рисунок 2" descr="img052.JPG"/>
          <p:cNvPicPr/>
          <p:nvPr/>
        </p:nvPicPr>
        <p:blipFill>
          <a:blip r:embed="rId1"/>
          <a:stretch/>
        </p:blipFill>
        <p:spPr>
          <a:xfrm>
            <a:off x="2714760" y="1643040"/>
            <a:ext cx="3500280" cy="257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24A8-BE3D-4801-B675-B28036005CD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Стрелка вправо 5"/>
          <p:cNvSpPr/>
          <p:nvPr/>
        </p:nvSpPr>
        <p:spPr>
          <a:xfrm rot="10800000">
            <a:off x="214200" y="6214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F:\Фото С алов\P1040509.JPG"/>
          <p:cNvPicPr/>
          <p:nvPr/>
        </p:nvPicPr>
        <p:blipFill>
          <a:blip r:embed="rId1"/>
          <a:stretch/>
        </p:blipFill>
        <p:spPr>
          <a:xfrm>
            <a:off x="2357280" y="107172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990E-DDBE-4BB3-8410-A8BB83D117C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Стрелка вправо 5"/>
          <p:cNvSpPr/>
          <p:nvPr/>
        </p:nvSpPr>
        <p:spPr>
          <a:xfrm rot="10800000">
            <a:off x="0" y="63576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Рисунок 1" descr="Салов во время учебы в летном училище в г. Энгельс 1938г.jpg"/>
          <p:cNvPicPr/>
          <p:nvPr/>
        </p:nvPicPr>
        <p:blipFill>
          <a:blip r:embed="rId1"/>
          <a:stretch/>
        </p:blipFill>
        <p:spPr>
          <a:xfrm>
            <a:off x="3429000" y="1500120"/>
            <a:ext cx="2857680" cy="32878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7"/>
          <p:cNvSpPr/>
          <p:nvPr/>
        </p:nvSpPr>
        <p:spPr>
          <a:xfrm>
            <a:off x="357120" y="2286000"/>
            <a:ext cx="292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Салов Михаи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Владимирович- летчик-штурмов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0250-0418-41CF-9801-C869E8CB9AD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Стрелка вправо 6"/>
          <p:cNvSpPr/>
          <p:nvPr/>
        </p:nvSpPr>
        <p:spPr>
          <a:xfrm rot="10800000">
            <a:off x="142920" y="6214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Рисунок 1" descr="img050.jpg"/>
          <p:cNvPicPr/>
          <p:nvPr/>
        </p:nvPicPr>
        <p:blipFill>
          <a:blip r:embed="rId1"/>
          <a:stretch/>
        </p:blipFill>
        <p:spPr>
          <a:xfrm>
            <a:off x="785880" y="571680"/>
            <a:ext cx="3029040" cy="3929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img103.jpg"/>
          <p:cNvPicPr/>
          <p:nvPr/>
        </p:nvPicPr>
        <p:blipFill>
          <a:blip r:embed="rId2"/>
          <a:stretch/>
        </p:blipFill>
        <p:spPr>
          <a:xfrm>
            <a:off x="4643280" y="714240"/>
            <a:ext cx="258624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/>
          <p:cNvSpPr/>
          <p:nvPr/>
        </p:nvSpPr>
        <p:spPr>
          <a:xfrm>
            <a:off x="571680" y="500040"/>
            <a:ext cx="8072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– “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Если дружба велика, будет Родина крепка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– “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одина – мать, умей за неё постоять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– “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Нет в мире краше Родины нашей”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Номер слайда 6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07EF-DDAE-49D4-B17A-AB8618D566E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7"/>
          <p:cNvSpPr/>
          <p:nvPr/>
        </p:nvSpPr>
        <p:spPr>
          <a:xfrm rot="10800000">
            <a:off x="142920" y="6214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Оля\Desktop\фото к Малой родине\Фото0137_001.jpg"/>
          <p:cNvPicPr/>
          <p:nvPr/>
        </p:nvPicPr>
        <p:blipFill>
          <a:blip r:embed="rId1"/>
          <a:stretch/>
        </p:blipFill>
        <p:spPr>
          <a:xfrm>
            <a:off x="2643120" y="3857760"/>
            <a:ext cx="3500640" cy="2706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857160" y="1143000"/>
            <a:ext cx="721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Вот такая у на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РОДИНА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F768-ADF9-4527-A011-0B01665AD3A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Стрелка вправо 4"/>
          <p:cNvSpPr/>
          <p:nvPr/>
        </p:nvSpPr>
        <p:spPr>
          <a:xfrm rot="10800000">
            <a:off x="142920" y="6214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0720" y="1066680"/>
            <a:ext cx="8242560" cy="4011840"/>
          </a:xfrm>
          <a:prstGeom prst="rect">
            <a:avLst/>
          </a:prstGeom>
          <a:ln w="0">
            <a:noFill/>
          </a:ln>
        </p:spPr>
      </p:pic>
      <p:sp>
        <p:nvSpPr>
          <p:cNvPr id="44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CF25-C7E5-4630-8A27-A09892C1217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Оля\Desktop\фото к Малой родине\Новая папка 333\DSCN1379.JPG"/>
          <p:cNvPicPr/>
          <p:nvPr/>
        </p:nvPicPr>
        <p:blipFill>
          <a:blip r:embed="rId1"/>
          <a:stretch/>
        </p:blipFill>
        <p:spPr>
          <a:xfrm>
            <a:off x="2571840" y="1857240"/>
            <a:ext cx="4071960" cy="3054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857160" y="35712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Моя    Роди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0" y="5214960"/>
            <a:ext cx="942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Подготовил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учитель начальных  классов Горева А.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E20D-F341-409D-8EA3-CF78F0EA9D2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1928880" y="5716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Times New Roman"/>
              </a:rPr>
              <a:t>РОСС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Номер слайда 10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552A-0FEE-4EF0-AA7B-4E0C9B235C1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Стрелка вправо 12"/>
          <p:cNvSpPr/>
          <p:nvPr/>
        </p:nvSpPr>
        <p:spPr>
          <a:xfrm rot="10800000">
            <a:off x="142920" y="62863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bio_and_nano511"/>
          <p:cNvPicPr/>
          <p:nvPr/>
        </p:nvPicPr>
        <p:blipFill>
          <a:blip r:embed="rId1"/>
          <a:stretch/>
        </p:blipFill>
        <p:spPr>
          <a:xfrm>
            <a:off x="2143080" y="2000160"/>
            <a:ext cx="492912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6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976B-FA19-49D2-B1B1-DA7B7E36A73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2071800" y="64296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Times New Roman"/>
              </a:rPr>
              <a:t>МОСКВ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Минрегион составил рейтинг привлекательности российских городов - Новости Полит.Про"/>
          <p:cNvPicPr/>
          <p:nvPr/>
        </p:nvPicPr>
        <p:blipFill>
          <a:blip r:embed="rId1"/>
          <a:stretch/>
        </p:blipFill>
        <p:spPr>
          <a:xfrm>
            <a:off x="1954080" y="1714680"/>
            <a:ext cx="4546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02D6-7067-446E-96C1-DF66D33A9B6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Содержимое 3" descr="f82e493f3e1e.jpg"/>
          <p:cNvPicPr/>
          <p:nvPr/>
        </p:nvPicPr>
        <p:blipFill>
          <a:blip r:embed="rId1"/>
          <a:stretch/>
        </p:blipFill>
        <p:spPr>
          <a:xfrm>
            <a:off x="2333520" y="1071720"/>
            <a:ext cx="4667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9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2C99-2194-44D7-9917-3039C604F1C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Содержимое 3" descr="i (31).jpg"/>
          <p:cNvPicPr/>
          <p:nvPr/>
        </p:nvPicPr>
        <p:blipFill>
          <a:blip r:embed="rId2"/>
          <a:stretch/>
        </p:blipFill>
        <p:spPr>
          <a:xfrm>
            <a:off x="1857240" y="1500120"/>
            <a:ext cx="52149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7D66-B2E9-4983-B841-07275D8D8E5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Содержимое 4" descr="город богородск нижегородской области"/>
          <p:cNvPicPr/>
          <p:nvPr/>
        </p:nvPicPr>
        <p:blipFill>
          <a:blip r:embed="rId2"/>
          <a:stretch/>
        </p:blipFill>
        <p:spPr>
          <a:xfrm>
            <a:off x="2143080" y="1571760"/>
            <a:ext cx="5000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5D44-E51C-4475-85AA-237E6A107F9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Содержимое 3" descr="i (48).jpg"/>
          <p:cNvPicPr/>
          <p:nvPr/>
        </p:nvPicPr>
        <p:blipFill>
          <a:blip r:embed="rId1"/>
          <a:stretch/>
        </p:blipFill>
        <p:spPr>
          <a:xfrm>
            <a:off x="2000160" y="1071720"/>
            <a:ext cx="52866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6:36:42Z</dcterms:created>
  <dc:creator>Оля</dc:creator>
  <dc:description/>
  <dc:language>en-US</dc:language>
  <cp:lastModifiedBy>Александр</cp:lastModifiedBy>
  <dcterms:modified xsi:type="dcterms:W3CDTF">2015-10-12T19:12:25Z</dcterms:modified>
  <cp:revision>43</cp:revision>
  <dc:subject/>
  <dc:title>Слайд 1</dc:title>
</cp:coreProperties>
</file>