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911-A76D-4947-972D-81FA96C3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9A2-4DC7-4637-BFB9-B812B61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D41-0B9D-421D-8F1F-5EDBEB61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75A-7C9E-44C2-8DDF-7D0C2BDA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941-BA51-4B8B-B5E4-AD2F99B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926-0450-450C-8883-01D1FA1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6F6-52AE-4106-8165-8FF7BBE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4CF-CE58-4B96-A887-70F7FC0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285-7A86-44A1-8240-A47AEC0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B8A-8723-4A8D-9DDF-AC8B003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178-6247-495B-9BB1-C9B7D2B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A47-A414-433A-816B-62660DC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7672-AEF0-4A5E-8406-E52442705C1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E52-3ADB-49BF-BB0D-34BFD1115D8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242560" cy="401184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B5A4-CC8B-44D9-8AD1-489E9CF4F9E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E16-00B6-460A-96FF-32655D3C69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Содержимое 3" descr="i (45).jpg"/>
          <p:cNvPicPr/>
          <p:nvPr/>
        </p:nvPicPr>
        <p:blipFill>
          <a:blip r:embed="rId1"/>
          <a:stretch/>
        </p:blipFill>
        <p:spPr>
          <a:xfrm>
            <a:off x="1714680" y="1500120"/>
            <a:ext cx="4714560" cy="2754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500040" y="3571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нчарная мастерская «Горшен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466-BD8D-475E-8809-9560031362B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C:\Users\Саша\Downloads\DSCN1879.jpg"/>
          <p:cNvPicPr/>
          <p:nvPr/>
        </p:nvPicPr>
        <p:blipFill>
          <a:blip r:embed="rId1"/>
          <a:stretch/>
        </p:blipFill>
        <p:spPr>
          <a:xfrm>
            <a:off x="2214720" y="1928880"/>
            <a:ext cx="4643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714680" y="4287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лица Героя Са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56D-F301-464C-8084-DE819F42EEB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F:\Фото С алов\P1040513.JPG"/>
          <p:cNvPicPr/>
          <p:nvPr/>
        </p:nvPicPr>
        <p:blipFill>
          <a:blip r:embed="rId1"/>
          <a:stretch/>
        </p:blipFill>
        <p:spPr>
          <a:xfrm>
            <a:off x="2571840" y="1428840"/>
            <a:ext cx="4357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00080" y="428760"/>
            <a:ext cx="700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EE8-97FE-4E94-957D-95968BFC4AA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Стрелка вправо 8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2" descr="img052.JPG"/>
          <p:cNvPicPr/>
          <p:nvPr/>
        </p:nvPicPr>
        <p:blipFill>
          <a:blip r:embed="rId1"/>
          <a:stretch/>
        </p:blipFill>
        <p:spPr>
          <a:xfrm>
            <a:off x="2714760" y="1643040"/>
            <a:ext cx="350028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0E0-6029-426E-B419-7A95310F053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Стрелка вправо 5"/>
          <p:cNvSpPr/>
          <p:nvPr/>
        </p:nvSpPr>
        <p:spPr>
          <a:xfrm rot="10800000">
            <a:off x="21420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F:\Фото С алов\P1040509.JPG"/>
          <p:cNvPicPr/>
          <p:nvPr/>
        </p:nvPicPr>
        <p:blipFill>
          <a:blip r:embed="rId1"/>
          <a:stretch/>
        </p:blipFill>
        <p:spPr>
          <a:xfrm>
            <a:off x="2357280" y="107172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242-5CE2-4AD8-9F11-788B91CE6D6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Стрелка вправо 5"/>
          <p:cNvSpPr/>
          <p:nvPr/>
        </p:nvSpPr>
        <p:spPr>
          <a:xfrm rot="10800000">
            <a:off x="0" y="63576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1" descr="Салов во время учебы в летном училище в г. Энгельс 1938г.jpg"/>
          <p:cNvPicPr/>
          <p:nvPr/>
        </p:nvPicPr>
        <p:blipFill>
          <a:blip r:embed="rId1"/>
          <a:stretch/>
        </p:blipFill>
        <p:spPr>
          <a:xfrm>
            <a:off x="3429000" y="1500120"/>
            <a:ext cx="2857680" cy="3287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357120" y="228600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Салов Миха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Владимирович- летчик-штурм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872E-0A4F-40AC-90B3-5352CCDD4A5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Стрелка вправо 6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1" descr="img050.jpg"/>
          <p:cNvPicPr/>
          <p:nvPr/>
        </p:nvPicPr>
        <p:blipFill>
          <a:blip r:embed="rId1"/>
          <a:stretch/>
        </p:blipFill>
        <p:spPr>
          <a:xfrm>
            <a:off x="785880" y="571680"/>
            <a:ext cx="3029040" cy="3929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img103.jpg"/>
          <p:cNvPicPr/>
          <p:nvPr/>
        </p:nvPicPr>
        <p:blipFill>
          <a:blip r:embed="rId2"/>
          <a:stretch/>
        </p:blipFill>
        <p:spPr>
          <a:xfrm>
            <a:off x="4643280" y="714240"/>
            <a:ext cx="258624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571680" y="500040"/>
            <a:ext cx="807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Если дружба велика, будет Родина крепка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дина – мать, умей за неё постоять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Нет в мире краше Родины нашей”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DF2-5DB0-419B-92EA-AB17E2F441B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7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Оля\Desktop\фото к Малой родине\Фото0137_001.jpg"/>
          <p:cNvPicPr/>
          <p:nvPr/>
        </p:nvPicPr>
        <p:blipFill>
          <a:blip r:embed="rId1"/>
          <a:stretch/>
        </p:blipFill>
        <p:spPr>
          <a:xfrm>
            <a:off x="2643120" y="3857760"/>
            <a:ext cx="3500640" cy="2706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857160" y="114300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Вот такая у на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ОДИН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B321-62F4-45BB-9625-636CE126AC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трелка вправо 4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242560" cy="401184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6935-D692-48EB-BFDC-6C56E8266B2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Оля\Desktop\фото к Малой родине\Новая папка 333\DSCN1379.JPG"/>
          <p:cNvPicPr/>
          <p:nvPr/>
        </p:nvPicPr>
        <p:blipFill>
          <a:blip r:embed="rId1"/>
          <a:stretch/>
        </p:blipFill>
        <p:spPr>
          <a:xfrm>
            <a:off x="2571840" y="1857240"/>
            <a:ext cx="4071960" cy="3054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57160" y="35712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Моя    Роди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0" y="5214960"/>
            <a:ext cx="942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учитель начальных  классов Горева А.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4CF-2B8B-4922-9C68-44C44E51563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1928880" y="571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</a:rPr>
              <a:t>РОСС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Номер слайда 10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564-F22F-4E49-BB7B-06E699E3135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трелка вправо 12"/>
          <p:cNvSpPr/>
          <p:nvPr/>
        </p:nvSpPr>
        <p:spPr>
          <a:xfrm rot="10800000">
            <a:off x="142920" y="62863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io_and_nano511"/>
          <p:cNvPicPr/>
          <p:nvPr/>
        </p:nvPicPr>
        <p:blipFill>
          <a:blip r:embed="rId1"/>
          <a:stretch/>
        </p:blipFill>
        <p:spPr>
          <a:xfrm>
            <a:off x="2143080" y="2000160"/>
            <a:ext cx="492912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8B0C-7F44-43EC-9453-F0BB22FAEAF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071800" y="64296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</a:rPr>
              <a:t>МОСКВ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Минрегион составил рейтинг привлекательности российских городов - Новости Полит.Про"/>
          <p:cNvPicPr/>
          <p:nvPr/>
        </p:nvPicPr>
        <p:blipFill>
          <a:blip r:embed="rId1"/>
          <a:stretch/>
        </p:blipFill>
        <p:spPr>
          <a:xfrm>
            <a:off x="1954080" y="1714680"/>
            <a:ext cx="4546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C73-1FC7-4068-933C-B48932AF0C0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Содержимое 3" descr="f82e493f3e1e.jpg"/>
          <p:cNvPicPr/>
          <p:nvPr/>
        </p:nvPicPr>
        <p:blipFill>
          <a:blip r:embed="rId1"/>
          <a:stretch/>
        </p:blipFill>
        <p:spPr>
          <a:xfrm>
            <a:off x="2333520" y="1071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5C9-A6F8-4BCD-85FF-1EE03C7165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Содержимое 3" descr="i (31).jpg"/>
          <p:cNvPicPr/>
          <p:nvPr/>
        </p:nvPicPr>
        <p:blipFill>
          <a:blip r:embed="rId2"/>
          <a:stretch/>
        </p:blipFill>
        <p:spPr>
          <a:xfrm>
            <a:off x="1857240" y="1500120"/>
            <a:ext cx="52149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8C2-EE6F-46B1-B951-42B3061506F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Содержимое 4" descr="город богородск нижегородской области"/>
          <p:cNvPicPr/>
          <p:nvPr/>
        </p:nvPicPr>
        <p:blipFill>
          <a:blip r:embed="rId2"/>
          <a:stretch/>
        </p:blipFill>
        <p:spPr>
          <a:xfrm>
            <a:off x="2143080" y="1571760"/>
            <a:ext cx="5000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FEF8-B80D-4033-83E8-DA3C9470763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Содержимое 3" descr="i (48).jpg"/>
          <p:cNvPicPr/>
          <p:nvPr/>
        </p:nvPicPr>
        <p:blipFill>
          <a:blip r:embed="rId1"/>
          <a:stretch/>
        </p:blipFill>
        <p:spPr>
          <a:xfrm>
            <a:off x="2000160" y="1071720"/>
            <a:ext cx="52866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36:42Z</dcterms:created>
  <dc:creator>Оля</dc:creator>
  <dc:description/>
  <dc:language>en-US</dc:language>
  <cp:lastModifiedBy>Александр</cp:lastModifiedBy>
  <dcterms:modified xsi:type="dcterms:W3CDTF">2015-10-12T19:12:25Z</dcterms:modified>
  <cp:revision>43</cp:revision>
  <dc:subject/>
  <dc:title>Слайд 1</dc:title>
</cp:coreProperties>
</file>