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703-6713-47B1-9C71-1A0687E7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254-EE91-4653-BACF-3FCEFFA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35B-AB3D-4A10-847A-83D75509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78A-7B97-4B60-B030-20C2A8F4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BF8F5-8C99-42BA-B28B-B1F6C24A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4A403-D204-4A61-93B3-A6FE66B0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2B9FE-FCC7-4617-8413-E79A4FFF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53183-1D86-40A5-A4C8-5D6AEB8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3DBC1-00B0-4CD0-8264-C5AD5C1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2731C-C88F-4900-B5C1-B831C049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85DCE-7926-4F9E-929F-6416D68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0C8-8C22-4DA5-A04A-97E46B4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A7CE8-424F-47DA-AB94-33884B9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02C4C-0214-41BF-831D-796953D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75A0-1857-4EB3-A929-5B020E0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ABC52-92D8-4974-A2D3-2B8D2C18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0A69-8A88-475C-82D4-07086EB3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F23-192F-4753-956F-220F476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918-19B9-47D8-A9BA-12FC87B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D4D-4306-49D9-9727-53C7268B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769-682B-4E88-B12D-41C0AEB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603-0489-45B6-9F06-415F7C7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3DC-496C-4EC5-BD00-4B4FF876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F5D-34E5-4A90-BEFA-40E2D789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178-DF01-4B3E-B610-B42A9C4C8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EAE-C285-48C4-B582-DB8650DCF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120000" cy="134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ути совершенствования коррекционно-логопедической работы в ДОУ в условиях ФГО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МО учителей-логопедов г.Ртищево Саратов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 учитель-логопед Стуенко Татьяна Геннад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тябрь 2015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мплексный подход к профилактике речевых нарушений у воспитанник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МДОУ предполагает такую организацию взаимодействия педагогов, при которой создаются условия для оптимального речевого развития ребен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 таким условиям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чевая среда, содержащая образцы правильного использования языка как средства общения и позн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я таких форм детской деятельности, в которых активизируются функции и процессы, находящиеся в основе речевого развития: психомоторные, познавательные, эмоциональны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гащение содержания самой деятельности детей, что составляет основу содержания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стематическое развитие предпосылок речевого 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предпосылок учебной деятельности: умение выполнять задания в общем темпе, противостоять отвлечениям, удерживать задачу взрослого в течение занятия; следовать единому замыслу работы, прилагать волевые усилия для достижения цели, достигать результата, взаимодействовать со сверстниками в процессе выполнения заданий, осуществлять самоконтроль своей дея­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Результаты развития и обучения"/>
          <p:cNvPicPr/>
          <p:nvPr/>
        </p:nvPicPr>
        <p:blipFill>
          <a:blip r:embed="rId2"/>
          <a:stretch/>
        </p:blipFill>
        <p:spPr>
          <a:xfrm>
            <a:off x="4572000" y="4125960"/>
            <a:ext cx="4176720" cy="2570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ЦЕЛЕВЫЕ ОРИЕНТИРЫ (Ожидаемый результат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):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соответствие показателей речевого развития возрастной норме, сформированность предпосылок учебн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7320" y="1015920"/>
            <a:ext cx="7569360" cy="482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БВИ И ТЕРП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РОГИЕ КОЛЛЕГ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Подумай - Картинка 2739/52"/>
          <p:cNvPicPr/>
          <p:nvPr/>
        </p:nvPicPr>
        <p:blipFill>
          <a:blip r:embed="rId2"/>
          <a:stretch/>
        </p:blipFill>
        <p:spPr>
          <a:xfrm>
            <a:off x="0" y="3975120"/>
            <a:ext cx="1960560" cy="2882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оответствии с ФГОС коррекционная работа и/или инклюзивное образование должны быть направлены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обеспечение коррекции нарушений развития различных категорий детей с ограниченными возможностями здоровья, оказание им квалифицированной помощи в освоении Програм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освоение детьми с огранич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можностями здоровья Программы,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стороннее развитие с учет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растных и индивидуаль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енностей и особых образователь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ребностей, социальной адапт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реализации Программы может проводиться оценка индивидуального развития детей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ультаты педагогической диагностики (мониторинга) могут использоваться исключительно для решения следующих образовательных задач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индивидуализации образования (в том числе поддержки ребенка, построения его образовательной траектории или профессиональной коррекции особенностей его развития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оптимизации работы с группой дет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необходимости используется психологическая диагностика развития детей (выявление и изучение индивидуально-психологических особенностей детей), которую проводят квалифицированные специалисты (педагоги-психологи, психолог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ие ребенка в психологической диагностике допускается только с согласия его родителей (законных представителе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ультаты психологической диагностики могут использоваться для решения задач психологического сопровождения и проведения квалифицированной коррекции развития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временной практике работы учителя-логопеда в условиях логопункта актуальность приобретает такая цель, как усиление коррекционной и профилактической направленности образовательного процесса в МДОУ в отношении детск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учетом данной приоритетной цели необходимо разрабатывать  рабочую программу деятельности учителя-логопеда  МДО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чая программа определяет возможные пути включения деятельности учителя-логопеда МДОУ в работу дошкольного образовательного учреждения по реализации федеральных государственных образовательных стандартов в структуре основной об­щеобразовательной программы дошкольного обра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фессиональная деятельность учителя-логопеда МДОУ должна быть направлена на оказание своевремен­ной коррекционно-педагогической помощи детям с различными видами речевых нарушений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ми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ам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ступаю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вление, преодоление и своевременное предупреждение речевых нарушений у воспитан­ников ДО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профессиональной компетентности педагогов в сфере эффективного взаи­модействия с детьми, имеющими речевые нарушения, а также в сфере профилактики и выявле­ния проблем в речевом развит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учение родителей эффективным приемам воспитания ребенка с нарушениями речи и ор­ганизации коррекционно-развивающей среды в семейных условия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щи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ипо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чей программе должен выступать принцип комплексности, выражающийся в единстве подходов к профилактике и коррекции речевых нарушений у воспитанников, личностно-деятельностного подхода к профилактике и коррекции нарушений речи, а также в понимании единства психического и речевого развития, взаимосвязи сенсорного, умственного и речевого разви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же в рабочей программе необходимо реализовать принципы развивающего обучения, учета зоны бли­жайшего развития, интеграции образовательных областей в организации коррекционно-педагогического проце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агнос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ррекционно-педагогический процесс организуется на диагностической основе, что предполагает проведение ежегодного мониторинга речевого развития воспитан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Коррекционна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работа осуществляется на индивидуальных, подгрупповых и фронтальных занятиях в соответствии с категориями воспитанников, имеющих речевые нарушения: фо­нетическое, фонематическое, фонетико-фонематическое недоразвитие, об­щее недоразвитие ре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К развивающему аспекту деятельности учителя-логопеда МДО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следует отнести не только специфические задачи по развитию речевых процессов у воспитанников с нарушениями речи, но и такие задачи, к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мотивации к обучени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филактика нарушений письменной и устной речи, подготовка к обучению грамот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самоконтроля за своей реч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психических процессов, которые взаимосвязаны с развитием речевой функции: зрительного и слухоречевого внимания, памяти, восприятия; сенсомоторных координации, про­странственных ориентировок, наглядно-образного мышления, элементов словесно-логического мышления, что создает условия для последующей успешной адаптации воспитанников МДОУ к условиям школьного об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цессе коррекции и развития речи у детей необходимым является примене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временных коррекционно-логопедических технолог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правленных на звуковую и смысловую стороны речи, а также связанные с речью процес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ровых технологий в логопедической коррек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-педагогических технологий в специальном образов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речедвигательной ритм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коррекции психомоторного развит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и логопедической, фонетической и речедвигательной ритмики (Н. Ю. Костылева,М. Ю. Картуши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-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оровьесберегающих технолог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ем-логопедом организуется как индивидуальное, так и групповое консультирование родителей. Консультирование предполагает работу с запросом родителей или педагогов с обяза­тельной разработкой соответствующих рекоменд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паганда логопедических зна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вляется условием успешного решения задач коррекционно-развивающего направления деятельности учителя-логопеда. Она осуществляется в работе учителя-логопеда по взаимодействию с педагогами и родител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аимодействие с педагогами Д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тие речи детей - это общая задача всего педагогического коллектива. Несогласован­ность требований взрослых к речи детей, неадекватный выбор способа общения с ребенком мо­гут стать факторами, запускающими или отягощающими его речевые пробл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ижение положительного результата работы учителя-логопеда на логопункте МДОУ достигае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утем реализации комплексного подхода в деятельности специалистов детского сада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­ля-логопеда, воспитателей,  музыкального руководителя, педагога-психолога. Только систематическое взаимодействие специалистов МДОУ по проблемам профилактики и коррекции нарушений речи позволяет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изирова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цесс сопровождения ребе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5T13:20:56Z</dcterms:created>
  <dc:creator>admin</dc:creator>
  <dc:description/>
  <dc:language>en-US</dc:language>
  <cp:lastModifiedBy>admin</cp:lastModifiedBy>
  <dcterms:modified xsi:type="dcterms:W3CDTF">2015-10-05T14:08:05Z</dcterms:modified>
  <cp:revision>5</cp:revision>
  <dc:subject/>
  <dc:title>Пути совершенствования коррекционно-логопедической работы в ДОУ в условиях ФГОС </dc:title>
</cp:coreProperties>
</file>