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5D1-436E-4135-92A8-8D122571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AE7-8107-46F5-9173-9A2D3F08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34D-A844-4EF9-A5A1-78EC04ED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D90-E29D-4E05-8A25-8C86B617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9840-035A-4C9C-AA64-D1D410FD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A3A1-5753-4833-BA47-61C59A9F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0580-BEC4-4319-9DEA-6F3EF470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DC72-CB6C-4909-A350-3947982A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96E2-6832-4B19-BDE6-3D76A433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16C8-24FF-4EA0-AD55-96C298AD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BC25-B0CF-4F45-AA2D-0BB94DB1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40A-9C9B-424A-9064-A65FEABC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A8AE-D75D-4A8C-BEAF-AC9A440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CDD-ACD4-440E-89E2-FD51129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F674-D19A-4E9E-A74C-8829CE9E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78C-CE49-4E9A-BBD7-B763F60F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D451-33DA-4B6A-80C8-E1D5ACE2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A1F-C8A3-418D-B4D7-F38C29FF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B5A-D89D-4822-825F-2357AA85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023-E5F5-4F11-B467-05DD9317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9B1-1C90-438A-AF38-11C29900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C9F-1253-46D4-AC40-1C90D2D6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700-F33A-4AEB-9D6F-04355053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3CF-5E6B-4724-9ECA-FC54D878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2B3F-E91E-4300-AEB2-6C7D25B104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A846-CEE8-41AA-9468-509270D3E9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Раздел 1. Вне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ма 1.2. Учет нематериальных акти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Амортизация НМ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мортизация нематериальных активов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систематическое уменьшение первоначальной   стоимости  НМА на протяжении срока их полезного исполь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Амортизация начис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линейным способ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способом уменьшаемого остат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способом списания стоимости пропорционально объ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дукции, работ, услу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амортизации НМА ведется на сч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05 « Амортизация нематериальных актив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ематериальные активы (НМА) –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это объекты, обладающие стоимостной оценкой, способные приносить организации экономические выгоды, используемые при производстве продукции (выполнении работ, оказании услуг либо в целях управления) в течение срока, превышающего 12 месяцев, не обладающие материально-вещественной структу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и принятии к бухгалтерскому учету активов в качестве нематериальных необходимо единовременное выполнение следующих услов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тсутствие материально-вещественной (физическо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трук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озможность идентификации (выделения, отделения) эт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ктивов от другого имущества орган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пользование в производстве продукции при выполнении раб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казании услуг либо для управленческих нужд орган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пользование в течение длительного времени, т.е. сро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олезного использования продолжительностью свыше 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сяцев или обычного операционного цикла, если он превыш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рганизацией не предполагается последующая перепрода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данного имуще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пособность этого имущества приносить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кономическую выгоду (доход) в будуще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личие документов, подтверждающих существование сам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ктива и исключительного права у организации на 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нтеллектуальной деятельности (патенты, свидетельст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другие охранные Документы, договор уступки (приобретен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атента, товарного знака и т.п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Классификация НМ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лючительные права патентообладателя на изобретения, промышленные образцы, полезные модели и селекционные достиж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лючительные авторские права на программы для ЭВМ и базы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лючительные права владельца на товарный знак и знак обслуживания, наименование места происхождения товар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еловая репутация организации, организационные расх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38188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чет наличия и движения НМА ведется на сч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04 «Нематериальные актив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нвентарный объект нематериальных активов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о совокупность прав, возникающих из одного патента, свидетельства, договора уступки прав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рок полезного использования  НМ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пределяется организацией при принятии объекта к бухгалтерскому учет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Оценка НМ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ервоначальная стоимость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сумма фактических затрат организации на приобретение, создание объектов за вычетом НДС и других возмещаемых нало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статочная стоимос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– это разность между первоначальной стоимостью и суммой начисленной амортизации нематериальных активов. По остаточной стоимости объекты нематериальных активов отражаются в бухгалтерском баланс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 состав фактических затрат включа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ммы, уплачиваемые в соответствии с договором уступ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приобретения) поставщику (продавцу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ммы, уплачиваемые организациям за информационные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онсультационные услуги, связанные с приобретени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ематериальных актив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егистрационные сборы, таможенные пошлины и друг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налогичные платежи, произведенные в связи с приобрет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получением) прав на объект нематериальных актив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ознаграждения, уплачиваемые посреднической организаци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ерез которую приобретен объект нематериальных актив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ные затраты, непосредственно связанные с приобретени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зданием нематериальных актив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2b2b2"/>
                </a:solidFill>
                <a:latin typeface="Arial"/>
              </a:rPr>
              <a:t>Поступление НМ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57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обретение за плату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здание организацие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качестве вклада в уставный капитал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 договору дарения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 договору мены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Выбытие НМ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упка исключительных прав на объекты интеллектуальной собственности другому юридическому или физическому лицу (за денежные средства или в обмен на иное имуще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клад в уставный капитал другой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безвозмездная передач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екращение срока действия или аннулирование охранного докумен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ральное устаревание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7:42:45Z</dcterms:created>
  <dc:creator>ЕВГЕНИЯ</dc:creator>
  <dc:description/>
  <dc:language>en-US</dc:language>
  <cp:lastModifiedBy>Евгения Викторовна</cp:lastModifiedBy>
  <dcterms:modified xsi:type="dcterms:W3CDTF">2011-07-01T04:40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