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924-4B0D-437B-A2C2-FFAC53A4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D23-9DA6-420D-A6F5-C2B30780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4CD-979D-46A8-A46E-439E46B9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38A-3EDB-43D3-9691-F2D831DD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A72C-160B-40E2-BE1D-A90B6583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180F-103A-498B-8790-97706B32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3189-009A-46F9-B3AB-82F82ADB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2BF9-52A7-4BA8-858A-DC67383D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FB1C-1F05-4B9B-BECE-408CDBD7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D921-57A2-4C8B-A27D-8DF8C25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885E-67D7-4807-BE5F-9427C9EC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9BE-ADE0-4725-BE6B-5FBE5BB9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2D3A-F5B3-4B7C-B221-E6ACA836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D92E-FEDD-4F36-81B0-4D1F3A1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8B84-AB3D-4D2E-A312-0207D571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9575-BBA3-4C01-A56C-55D45864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5277-43B6-4BE5-ABCC-61E70666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65C-F171-4A14-BC8C-2458BB49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C9C-E13B-46E9-95CE-2E836897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4FC-EB60-4707-9281-C776C140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A00-B87E-4950-A6BE-3AA21AAA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E44-E57A-4AD1-96CE-1915BBB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171-A3E5-4251-9D28-A5B65BF7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7D9-B178-4E50-BB30-574B6829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5602-90C4-4948-B9E0-F3D6EEA300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1A7C-E8E4-470D-9C88-D12B2A258E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Раздел 1. Вне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ма 1.2. Учет нематериальных актив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Амортизация НМ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мортизация нематериальных активов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систематическое уменьшение первоначальной   стоимости  НМА на протяжении срока их полезного исполь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Амортизация начисля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линейным способ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способом уменьшаемого остат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способом списания стоимости пропорционально объ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дукции, работ, услу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ет амортизации НМА ведется на сч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05 « Амортизация нематериальных актив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ематериальные активы (НМА) –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это объекты, обладающие стоимостной оценкой, способные приносить организации экономические выгоды, используемые при производстве продукции (выполнении работ, оказании услуг либо в целях управления) в течение срока, превышающего 12 месяцев, не обладающие материально-вещественной структу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и принятии к бухгалтерскому учету активов в качестве нематериальных необходимо единовременное выполнение следующих услов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тсутствие материально-вещественной (физическо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трукту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озможность идентификации (выделения, отделения) эт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ктивов от другого имущества орган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пользование в производстве продукции при выполнении рабо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казании услуг либо для управленческих нужд орган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пользование в течение длительного времени, т.е. сро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олезного использования продолжительностью свыше 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сяцев или обычного операционного цикла, если он превыш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2 меся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рганизацией не предполагается последующая перепрода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данного имуще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пособность этого имущества приносить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экономическую выгоду (доход) в будуще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279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аличие документов, подтверждающих существование сам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ктива и исключительного права у организации на 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нтеллектуальной деятельности (патенты, свидетельст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другие охранные Документы, договор уступки (приобретен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атента, товарного знака и т.п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Классификация НМ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лючительные права патентообладателя на изобретения, промышленные образцы, полезные модели и селекционные достиж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лючительные авторские права на программы для ЭВМ и базы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лючительные права владельца на товарный знак и знак обслуживания, наименование места происхождения товар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еловая репутация организации, организационные расх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38188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чет наличия и движения НМА ведется на сч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04 «Нематериальные актив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нвентарный объект нематериальных активов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то совокупность прав, возникающих из одного патента, свидетельства, договора уступки прав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рок полезного использования  НМ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пределяется организацией при принятии объекта к бухгалтерскому учету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Оценка НМ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ервоначальная стоимость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сумма фактических затрат организации на приобретение, создание объектов за вычетом НДС и других возмещаемых нало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статочная стоимост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– это разность между первоначальной стоимостью и суммой начисленной амортизации нематериальных активов. По остаточной стоимости объекты нематериальных активов отражаются в бухгалтерском баланс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 состав фактических затрат включа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уммы, уплачиваемые в соответствии с договором уступ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приобретения) поставщику (продавцу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уммы, уплачиваемые организациям за информационные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онсультационные услуги, связанные с приобретени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ематериальных актив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егистрационные сборы, таможенные пошлины и друг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налогичные платежи, произведенные в связи с приобрете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получением) прав на объект нематериальных актив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ознаграждения, уплачиваемые посреднической организаци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через которую приобретен объект нематериальных актив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ные затраты, непосредственно связанные с приобретени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зданием нематериальных актив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2b2b2"/>
                </a:solidFill>
                <a:latin typeface="Arial"/>
              </a:rPr>
              <a:t>Поступление НМ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57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57480" indent="-2667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обретение за плату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57480" indent="-2667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здание организацией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57480" indent="-2667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качестве вклада в уставный капитал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57480" indent="-2667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 договору дарения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57480" indent="-2667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 договору мены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Выбытие НМ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упка исключительных прав на объекты интеллектуальной собственности другому юридическому или физическому лицу (за денежные средства или в обмен на иное имуще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клад в уставный капитал другой орган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безвозмездная передач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екращение срока действия или аннулирование охранного докумен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ральное устаревание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07:42:45Z</dcterms:created>
  <dc:creator>ЕВГЕНИЯ</dc:creator>
  <dc:description/>
  <dc:language>en-US</dc:language>
  <cp:lastModifiedBy>Евгения Викторовна</cp:lastModifiedBy>
  <dcterms:modified xsi:type="dcterms:W3CDTF">2011-07-01T04:40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