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364-6A2D-4997-A554-73D92664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467-09F7-46F8-AE3D-4473D07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CF5-3218-4CF0-AA57-D5056F3D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9C1-31C4-450C-9071-85443D49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040-3AF9-46B4-9BDD-ED065908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8056-D270-4346-ADAA-A540D8AD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53A4-FBCD-48CD-ADF4-64314A60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BC4-18F3-43D3-BF25-764EA80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5A42-B43A-4A6E-A355-7217AADE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0090-5312-4F8B-B9EC-4CAEC04C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D032-72AB-4385-9478-9AC9998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F5E-FCEE-4664-BB1F-BCE04B8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F00-CA94-4231-8F9C-E889D20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EBD-66C4-4102-BB5F-3A970D0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ABB-06DE-46D7-BB1C-D3813F0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F91-6FCF-43CE-A89B-C8D463C7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056-2D4C-4494-BA5B-5CA2EBD4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BCB-038B-4D4A-8176-F16F37E3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8C9-57B6-44BE-A85D-5FB9FDF0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AAD-84BA-4A9D-8BD8-6D17095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D35-5152-455C-9799-7EF4C8A5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49D-9C1B-4A12-AC65-67D6C45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1B4-8D26-4E42-9931-B70C42C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31C-9F86-4E64-A352-580A7AA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BC32-9CF5-4B38-8C3F-C53C11B5B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9E6-56BA-4F7F-AF4C-2309C93E5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2b2b2"/>
                </a:solidFill>
                <a:latin typeface="Arial"/>
              </a:rPr>
              <a:t>Раздел 2. Оборотные активы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ма 2.1. Учет производственных зап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Отпуск и прочее выбытие производственных запас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 нужды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качестве вклада в уставный капитал других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дажа на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возмездная перед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 договору м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результате стихийных бедствий и иных чрезвычайных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Учет транспортно-заготовительных расход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анспортно-заготовительные расход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о затраты организации, непосредственно связанные с процессом заготовления и доставки материалов в организац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нт ТЗР рассчитывается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ЗРпост. + ТЗРо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%ТЗР =  --------------------------     *10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пост.    +   Мо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изр. * %ТЗ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умма ТЗР определяется  по формуле:    ТЗР = ---------------------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атериально-производственные запа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часть активов орган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емая в качестве сырья, материалов и т. п.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стве продукции, предназначенной для продаж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ении работ, оказании у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назначенная для продаж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емая для управленческих нужд орган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Классификация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 роли и назначению в процессе производ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помогатель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сновные производственные запас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о предметы труда, составляющие основу изготавливаемой продук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ырье – продукция добывающей промышленности и сель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зяй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материалы – продукция обрабатывающей промышл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упные полуфабрикаты – материалы, прошедшие определен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ботку, но еще не ставшие готовой продукц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лектующие изделия – материальные ценности, предназнач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комплектации изготавливаемого объ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спомогательные производственные запас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то предметы труда, придающие объекту определенные свойства и качества (лаки, краски и т. п.) или используемые для содержания средств труда (смазочно-обтирочный материа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Классификация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 техническим свойств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ырья и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купных полуфабрикатов и комплектующих издел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струкций и дета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пли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ры и тарны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асных час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чи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ительных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алов, переданных в переработку на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Единица бухгалтерского учета производственных запасов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номенклатурн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менклатурный номер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условное (кодовое) обозначение реально существующего о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оменклатур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– это систематизированный  перечень всех материалов, потребляемых в производств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b2b2b2"/>
                </a:solidFill>
                <a:latin typeface="Arial"/>
              </a:rPr>
              <a:t>Оценка производственных запасов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изводственные запасы принимаются к учету п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ической себестои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ической себестоимостью запасов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признается сумма фактических затрат организации на их приобретение и изготовление, без учета НДС и иных возмещаемых нал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Оценка производственных запас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 фактическим затратам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относ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уммы, уплачиваемые в соответствии с догов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авщику (продавц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ходы за информационные и консультационные услуг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язанные с приобретением материально-производств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па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аможенные пошли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знаграждения, уплачиваемые посреднической организац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через которую приобретены запа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атраты по заготовке и доставке запасов до места 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спользования, включая расходы по страх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ные затраты, непосредственно связанные с приобрет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ьно-производственн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763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ухгалтерский учет организуется с использованием сче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0 «Материа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1 «Сырье и материалы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2 «Покупные полуфабрикаты и комплектующие издел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онструкции и детал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3 «Топлив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4 «Тара и тарные материалы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5 «Запасные част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10-6 «Прочие материалы»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5 «Заготовление и приобретение материальных ценност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6 «Отклонение в стоимости материальных ценност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Поступление производственных запасов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изводственные запасы поступают в организацию 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ставщ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дотчетных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чредителей, в качестве вклада в устав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питал; вследствие выбытия пришедших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егодность основных средст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езвозмездно от юридических и физических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зготавливаются собственны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спомогательными производст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7:39:40Z</dcterms:created>
  <dc:creator>ЕВГЕНИЯ</dc:creator>
  <dc:description/>
  <dc:language>en-US</dc:language>
  <cp:lastModifiedBy>Евгения Викторовна</cp:lastModifiedBy>
  <dcterms:modified xsi:type="dcterms:W3CDTF">2011-07-02T11:47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