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EB2-AFB0-42FD-8BB6-73BCD130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A12-B51A-4468-9025-B4A49E3C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D7E-F7AB-41FA-A0B5-08057F2D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20A-53F8-40E2-A4A4-BB912C35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C9DF-E832-4306-8931-A3EB5B53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561B-33BA-4DA9-99F1-EFEC1CDA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A317-7086-40AA-9A81-170F43AC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618C-FA60-478C-B012-C6599C5F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DBC8-85E5-4D68-9CE4-44D0FA7C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39C8-4919-441A-BA42-CE655E8A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339E-B13F-4258-93E7-B015B0A8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F50-61DF-4612-AA65-5A99FEDA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C8A8-8773-4FAA-A126-79C36CF2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4AAE-C1D3-4F73-81B7-688F0FA8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AD53-6493-433F-B122-22D43B98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E24C-7C38-4132-8751-157FC434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85A0-7850-4178-B8CF-FCDAF24F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3125-654C-4D4A-92BE-FDB31EC5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CE3-1596-4D05-AA90-259C3B72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C1D6-9269-4439-BC5D-5BEC8D21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AFC-C2B3-49D9-8D1C-87BD5030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5F6-CFFB-4080-833A-FE11A7B4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F6C-4C6A-4403-9EA6-06FF5B59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211-DDE3-4473-85CF-DBC08E50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B701-0A54-4962-8FA7-E53EF8954F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E59C-C406-48F5-BBAB-B9C688EE06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2b2b2"/>
                </a:solidFill>
                <a:latin typeface="Arial"/>
              </a:rPr>
              <a:t>Раздел 2. Оборотные активы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Тема 2.1. Учет производственных зап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Отпуск и прочее выбытие производственных запасов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На нужды производ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 качестве вклада в уставный капитал других организ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одажа на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Безвозмездная передач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 договору ме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 результате стихийных бедствий и иных чрезвычайных ситу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Arial"/>
              </a:rPr>
              <a:t>Учет транспортно-заготовительных расходов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ранспортно-заготовительные расходы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это затраты организации, непосредственно связанные с процессом заготовления и доставки материалов в организац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цент ТЗР рассчитывается по форму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ЗРпост. + ТЗРос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%ТЗР =  --------------------------     *10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Мпост.    +   Мос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изр. * %ТЗ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умма ТЗР определяется  по формуле:    ТЗР = ---------------------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атериально-производственные запас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это часть активов организ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уемая в качестве сырья, материалов и т. п. пр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изводстве продукции, предназначенной для продаж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ении работ, оказании услу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дназначенная для продаж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уемая для управленческих нужд организ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Классификация производственных запасов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 роли и назначению в процессе производ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снов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спомогатель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сновные производственные запас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то предметы труда, составляющие основу изготавливаемой продук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ырье – продукция добывающей промышленности и сель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зяй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ые материалы – продукция обрабатывающей промышлен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купные полуфабрикаты – материалы, прошедшие определен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работку, но еще не ставшие готовой продукци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плектующие изделия – материальные ценности, предназнач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комплектации изготавливаемого объ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спомогательные производственные запас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это предметы труда, придающие объекту определенные свойства и качества (лаки, краски и т. п.) или используемые для содержания средств труда (смазочно-обтирочный материа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Классификация производственных запасов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  техническим свойства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ырья и материа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купных полуфабрикатов и комплектующих издел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струкций и дета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опли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ры и тарных материа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пасных част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чих материа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оительных материа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териалов, переданных в переработку на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Единица бухгалтерского учета производственных запасов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– номенклатурный ном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Номенклатурный номер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– это условное (кодовое) обозначение реально существующего объе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Номенклатур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– это систематизированный  перечень всех материалов, потребляемых в производств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Оценка производственных запасов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оизводственные запасы принимаются к учету по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актической себестоим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актической себестоимостью запасов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признается сумма фактических затрат организации на их приобретение и изготовление, без учета НДС и иных возмещаемых нало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2b2b2"/>
                </a:solidFill>
                <a:latin typeface="Arial"/>
              </a:rPr>
              <a:t>Оценка производственных запасов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 фактическим затратам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относя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уммы, уплачиваемые в соответствии с догово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ставщику (продавцу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асходы за информационные и консультационные услуг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вязанные с приобретением материально-производствен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запас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аможенные пошлин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ознаграждения, уплачиваемые посреднической организаци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через которую приобретены запас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затраты по заготовке и доставке запасов до места 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использования, включая расходы по страхова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иные затраты, непосредственно связанные с приобретен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териально-производственных зап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763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Бухгалтерский учет организуется с использованием счет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0 «Материал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10-1 «Сырье и материалы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10-2 «Покупные полуфабрикаты и комплектующие издел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конструкции и детали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10-3 «Топливо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10-4 «Тара и тарные материалы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10-5 «Запасные части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10-6 «Прочие материалы»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5 «Заготовление и приобретение материальных ценносте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6 «Отклонение в стоимости материальных ценносте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Поступление производственных запасов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оизводственные запасы поступают в организацию о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ставщ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дотчетных лиц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чредителей, в качестве вклада в устав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капитал; вследствие выбытия пришедших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негодность основных средст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безвозмездно от юридических и физических лиц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изготавливаются собственны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спомогательными производств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7:39:40Z</dcterms:created>
  <dc:creator>ЕВГЕНИЯ</dc:creator>
  <dc:description/>
  <dc:language>en-US</dc:language>
  <cp:lastModifiedBy>Евгения Викторовна</cp:lastModifiedBy>
  <dcterms:modified xsi:type="dcterms:W3CDTF">2011-07-02T11:47:3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