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2FF-2ED1-4753-A16E-40216191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607-9E3C-4A1E-9837-BFC9B10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5E1-AA9C-46A6-9270-C9167F53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BAC-3732-4923-B695-56BAD09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8C48-32E1-4A8E-AA68-94EFD96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9C2-2EEF-4D60-BC21-6649CA5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77E9-0FD9-460E-B5EB-246DDF3F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FFD3-8257-4726-9B31-ED813F25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0C5-2B82-4275-AA9D-4956F56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6FDD-4867-4FFB-9BC8-1292E274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0D7-EFA3-47C0-8A52-DDA43BD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80A-05E6-4145-BBC3-27126784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DF48-337E-4310-B2F5-0686082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8C22-06D7-4E2F-A486-FBAF95A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D76B-8D7B-4AFF-B75C-EC0A450A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E01D-2E46-4769-8AAA-2CDC9772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23F-BFE1-4A7E-B124-65E9D526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1494-FF34-4A5A-BADD-B554B5F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5E22-211E-4728-B4B9-AAFB7B8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3397-94A0-4161-8E8E-87BCD83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8F88-F297-4568-9C87-5DF653F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269E-44DD-429A-A701-CFBE920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C93-C2F5-47D4-95C9-BF799790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CF04-7939-4E95-9508-C68D35E7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D9D9-40B2-455D-95E8-7E712F6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BF49-344B-4C80-BA3B-BC978F6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B920-9144-4F44-82D8-580FBB4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445F-8192-420B-9BF6-33107C6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73CE-AECF-4BD1-B574-DF3576AA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E146-B0F8-44F5-BE22-2ECF52BC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2E3-CC9D-4BFF-82A3-176910CB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800-7F87-4F62-8959-3D4D802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6DE-B15C-4F00-A429-87F4193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EA9-3616-4962-B0E3-C98397F0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1BE-9679-403C-AF73-69763EC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395-B98F-4329-A501-27A3B07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A347-FA42-4892-868C-2B2B4C868D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FE4-478C-4A0B-8BB5-3D409B0D6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A224-C701-4DA5-BCF3-40E43EDA9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2. 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2.2. Учет затрат на 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ебестоимость продукции (работ, услуг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тоимостная оценка используемых в процессе производства продукции (работ, услуг) природных ресурсов, сырья, материалов, топлива, энергии, основных фондов, трудовых ресурсов, а также других затрат на ее производство и реализ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лькулирован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оцесс расчета денежных затрат на единицу продукции или конкретного вида работы, усл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бъекты калькулировани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дельные изделия, группы изделий, полуфабрикаты, работы и услуги, себестоимость которых опреде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лькуляционная единиц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змеритель объекта калькулир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2b2b2"/>
                </a:solidFill>
                <a:latin typeface="Arial"/>
              </a:rPr>
              <a:t>Классификация затрат на производств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5680" y="57852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28600"/>
          <a:ext cx="7772400" cy="6259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ой р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непосредствен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анные с технологическим процессом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ся в связи с организацией, обслуживанием производства и управления 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ставу (однородност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элемен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состоящего из одного элем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состоящие из нескольких эле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ключения в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аны с производством определенного вида продукции и могут быть прямо и непосредственно отнесены на его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е могут быть прямо отнесены на себестоимость отдельных видов продукции и распределяются косвенно (условн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зависимости от объема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размер которых изменяется пропорционально изменению объема производства прод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-постоя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расходов почти не зависит от изменения объема производства прод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85800" y="380880"/>
          <a:ext cx="7772400" cy="38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5800" y="838080"/>
          <a:ext cx="7772040" cy="42350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200"/>
              </a:tblGrid>
              <a:tr h="5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ериодичности возникн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которые имеют частую периоди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врем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крат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частию в процессе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связанные с изготовлением товарной продукции и образующие ее производственную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роизводств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родаж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производство продукции установленного качества при рациональной технологии и организации производства. Они планируют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извод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являющие следствием недостатков в технологии и организации производства. Непланируемые расх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5800" y="228600"/>
          <a:ext cx="7772400" cy="304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85800" y="533520"/>
          <a:ext cx="7772400" cy="5656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элемент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ые затраты (за вычетом стоимости возвратных расходов); затраты на оплату труда; отчисления на социальные нужды; амортизация ОС и НМА; прочие затр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ьям кальк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ье и материа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ные от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упные полуфабрик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иво и энергия на технологические ц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труда производственных рабочи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одготовку и освоение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извод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хозяй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от бр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оизвод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родаж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сту возникн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изводствам, цехам, участкам и другим структурным подразделе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продукции (работ, услу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продукции (работ, услу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Методы калькулирования себестоимост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рматив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меняется при четкой организации производства, отлаженности технологических процессов, наличии технически обоснованных норм расхода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заказ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используется в индивидуальном или мелкосерийном производств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дельный производственный заказ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передель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используется в массовом, крупносерийном производстве, где производственный процесс состоит из последовательных стадий (переделов), перерабатывающих исходный материал от начала обработки до получения из него готового издел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процесс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меняется и для массовых типов производств, где производится одинаковая продукция, например поточное производство телевизоров, автомоби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Система счетов для учета затрат на производство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«Основное производ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1 «Полуфабрикаты собственного  производ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3 «Вспомогательные про­изводств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5 «Общепроизводственные расход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6 «Общехозяйственные расход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8 «Брак в производств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9 «Обслуживающие производства и хозяй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6 «Резервы предстоящих расходо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7 «Расходы будущих периодо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1:47:48Z</dcterms:created>
  <dc:creator>ЕВГЕНИЯ</dc:creator>
  <dc:description/>
  <dc:language>en-US</dc:language>
  <cp:lastModifiedBy>Евгения Викторовна</cp:lastModifiedBy>
  <dcterms:modified xsi:type="dcterms:W3CDTF">2011-07-02T12:38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