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8D30-53F9-47B0-861B-430BC1E8E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3577-0B93-4630-AC56-98883655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AFBA-255C-4449-8E3D-DA356226A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D166-3CB4-414C-8C87-2A90D08AD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E330-B562-470A-B324-D98AD341A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3CE8-565D-4E52-8C46-BFDF681C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84ED-BBC5-4B20-B715-E63B38B4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24A7-D3CA-48E9-8DDE-B3E3A228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9A2A-039B-4210-B652-6AB1AED9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8B781-56F0-4996-A191-A2A9F5B2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57D3-1D65-4FC2-A8DA-34BB5468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B02A-F2A0-4663-B492-FF8D651F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86BB6-9AE0-4043-AE20-9461AFD1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B8A5-33BD-4205-AEBB-82F80350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91A9-68B9-46F8-99E0-CABC8C97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EA28-D69A-451E-AE92-BDBE9F07A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471DB-3C10-4BF7-ABCF-DAD9EDC52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F39C3-0AF0-4B2B-81DB-62841DF18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537DF-F851-411F-B239-0542441C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A9F8F-BAF3-4122-BB23-97870339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FC11F-D8A0-4E47-A7E8-E37793B3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E9CDF-10A1-47B2-B6BA-E76328ED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5875-208D-4F3E-95B8-42529096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EEBC3-23B4-4DDE-B9C8-5AF3AE0D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D76A1-4E00-43DB-A55D-3E07FB52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D09EB-FA8E-4C46-A72E-9FA9B53C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877F3-6B5C-4716-8251-0A40FB98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EA70D-7AEE-4A76-ADD0-10B3C1B7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4BD0C-35B0-4CA3-B086-3C9D2FCC4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D373D-3111-4FD8-853F-9E4555A43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0EB9-557B-4837-B6DB-7F5064FE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D165-167D-4A84-981C-D622CC9E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B85C-A6E7-4311-A09B-55CDC5FF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1661-A907-4A95-8B99-332D8761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D133-DD82-4054-B753-112927F4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C6F3-9F57-441D-995B-DEDFE84E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3FE6-E62E-4B37-A6C2-059C9F91E5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936A-6C46-46BD-9C31-CE5AAA7011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54F8-641E-4272-B24C-3464C37A2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2b2b2"/>
                </a:solidFill>
                <a:latin typeface="Arial"/>
              </a:rPr>
              <a:t>Раздел 2. Оборотные активы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Тема 2.2. Учет затрат на производ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Себестоимость продукции (работ, услуг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стоимостная оценка используемых в процессе производства продукции (работ, услуг) природных ресурсов, сырья, материалов, топлива, энергии, основных фондов, трудовых ресурсов, а также других затрат на ее производство и реализац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Калькулировани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процесс расчета денежных затрат на единицу продукции или конкретного вида работы, услуг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Объекты калькулирования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тдельные изделия, группы изделий, полуфабрикаты, работы и услуги, себестоимость которых определяе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Калькуляционная единиц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измеритель объекта калькулиро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b2b2b2"/>
                </a:solidFill>
                <a:latin typeface="Arial"/>
              </a:rPr>
              <a:t>Классификация затрат на производство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525680" y="578520"/>
            <a:ext cx="22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85800" y="228600"/>
          <a:ext cx="7772400" cy="625968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411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ификационный призна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ификац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затра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кономической рол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ты, непосредственн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язанные с технологическим процессом производств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кладные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уются в связи с организацией, обслуживанием производства и управления и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оставу (однородности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оэлемент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ты, состоящего из одного элемен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ты, состоящие из нескольких элемент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пособу включения в себестоим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язаны с производством определенного вида продукции и могут быть прямо и непосредственно отнесены на его себестоим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вен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ты не могут быть прямо отнесены на себестоимость отдельных видов продукции и распределяются косвенно (условно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тепени зависимости от объема производств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менные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, размер которых изменяется пропорционально изменению объема производства продук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но-постоян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 расходов почти не зависит от изменения объема производства продук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685800" y="380880"/>
          <a:ext cx="7772400" cy="3812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ификационный призна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ификац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затра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685800" y="838080"/>
          <a:ext cx="7772040" cy="42350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200"/>
              </a:tblGrid>
              <a:tr h="508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ериодичности возникнов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ущие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, которые имеют частую периодич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овременные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ократные расхо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участию в процессе производств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ственные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, связанные с изготовлением товарной продукции и образующие ее производственную себестоим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производственные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продаж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ффектив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ительные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ты на производство продукции установленного качества при рациональной технологии и организации производства. Они планируютс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роизводитель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, являющие следствием недостатков в технологии и организации производства. Непланируемые расходы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685800" y="228600"/>
          <a:ext cx="7772400" cy="30492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30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ификационный призна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ификац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затра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685800" y="533520"/>
          <a:ext cx="7772400" cy="565632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1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видам расход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кономическим элемента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ьные затраты (за вычетом стоимости возвратных расходов); затраты на оплату труда; отчисления на социальные нужды; амортизация ОС и НМА; прочие затра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татьям калькуля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ырье и материал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вратные отхо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упные полуфабрика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пливо и энергия на технологические цел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лата труда производственных рабочи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числения на социальные нуж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подготовку и освоение производств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производственные расхо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хозяйственные расхо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ри от бра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производственные расхо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продаж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есту возникнов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роизводствам, цехам, участкам и другим структурным подразделения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видам продукции (работ, услуг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видам продукции (работ, услуг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2b2b2"/>
                </a:solidFill>
                <a:latin typeface="Arial"/>
              </a:rPr>
              <a:t>Методы калькулирования себестоимости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Нормативный метод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применяется при четкой организации производства, отлаженности технологических процессов, наличии технически обоснованных норм расхода ресурс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озаказный метод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используется в индивидуальном или мелкосерийном производств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тдельный производственный заказ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опередельный метод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используется в массовом, крупносерийном производстве, где производственный процесс состоит из последовательных стадий (переделов), перерабатывающих исходный материал от начала обработки до получения из него готового издели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опроцессный метод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применяется и для массовых типов производств, где производится одинаковая продукция, например поточное производство телевизоров, автомоби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b2b2b2"/>
                </a:solidFill>
                <a:latin typeface="Arial"/>
              </a:rPr>
              <a:t>Система счетов для учета затрат на производство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20 «Основное производство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21 «Полуфабрикаты собственного  производств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23 «Вспомогательные про­изводства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25 «Общепроизводственные расходы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26 «Общехозяйственные расходы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28 «Брак в производстве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29 «Обслуживающие производства и хозяйств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96 «Резервы предстоящих расходов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97 «Расходы будущих периодов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2T11:47:48Z</dcterms:created>
  <dc:creator>ЕВГЕНИЯ</dc:creator>
  <dc:description/>
  <dc:language>en-US</dc:language>
  <cp:lastModifiedBy>Евгения Викторовна</cp:lastModifiedBy>
  <dcterms:modified xsi:type="dcterms:W3CDTF">2011-07-02T12:38:5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