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4711-F073-4DCF-847A-E2DCE2558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3853-021E-4F3E-837A-DD3EABAC6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0B52-6564-409C-966F-220D4DB77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69E4-FB8D-42CC-B3DC-F4648DA43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65DE-BA68-4A1C-AE47-4BAB8808A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8E35-44CA-4CCE-B853-E02EC1C46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E3C9-D944-447D-B4BB-794B48EDF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4EF0-247F-4B41-A133-B7A560EF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8583-87B2-4802-BDE7-D2E81DD81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CCA6-9363-4392-9E4B-879D96DC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5072-4EF4-45A2-9EE0-4CA85211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7B81-6A00-4BD8-B34D-5386A95A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0EB40-B116-4EA1-9171-BA6B92AE9B5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4678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Речевое насилие как угроза психическому и психологическому здоровью дет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ставител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дагог-психолог Роткина В.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ичины речевого насилия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по отношению к воспитанника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вторитарная система воспитани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как пережиток тоталитарного общественного стро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сихологическая неустойчивость педагогов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недостаточный уровень психологической культуры, слабое владение коммуникативными навыками, приводящими к эмоциональному выгоранию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рофессиональная несостоятельность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еумение или нежелание педагога с уважением отнестись к личности и проблемам ребенка, провоцирующим нестандартное поведение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23960" y="-360"/>
            <a:ext cx="7696080" cy="7621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речевому насилию относятс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68544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розы в адрес ребен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чания, высказанные в оскорбительной форме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жающие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оинство ребенка (в том числе публичные унижения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кр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ижение успехов ребен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ая критика в адрес ребен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авление инициатив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винение в адрес ребенка (брань, ругань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азание за неправильный отв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рректное высказывание о внешнем вид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ильственное вызывание ребенка давать ответы на вопросы воспитател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илигированное отношение к заискивающим детя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аз от утешения, когда дошкольник испуган или подавле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гативная характеристика ребен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ождествление ребенка с конфликтующим или неприятным для воспитателя родителе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кладывание на воспитанника ответственности за свои неудач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тое признание в нелюбви и ненависти к ребенку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7138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1e5831"/>
                </a:solidFill>
                <a:uFillTx/>
                <a:latin typeface="Times New Roman"/>
              </a:rPr>
              <a:t>Личностно - ориентированная модел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07520" y="1413000"/>
            <a:ext cx="8736120" cy="48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Основной принцип</a:t>
            </a:r>
            <a:r>
              <a:rPr b="1" lang="en-US" sz="2000" spc="-1" strike="noStrike">
                <a:solidFill>
                  <a:srgbClr val="18f662"/>
                </a:solidFill>
                <a:latin typeface="Times New Roman"/>
              </a:rPr>
              <a:t> 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"Не рядом и не над, а вместе!"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Цель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действовать становлению ребенка как личност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Задача педагога</a:t>
            </a:r>
            <a:r>
              <a:rPr b="1" lang="en-US" sz="2000" spc="-1" strike="noStrike">
                <a:solidFill>
                  <a:srgbClr val="18f662"/>
                </a:solidFill>
                <a:latin typeface="Times New Roman"/>
              </a:rPr>
              <a:t> -</a:t>
            </a:r>
            <a:r>
              <a:rPr b="1" lang="en-US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звитие доверия ребенка к миру, чувства радости существования (психологическое здоровье); формирование начал личности (базис личностной культуры); развитие индивидуальности ребенка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Тактика общения</a:t>
            </a:r>
            <a:r>
              <a:rPr b="1" lang="en-US" sz="2800" spc="-1" strike="noStrike">
                <a:solidFill>
                  <a:srgbClr val="18f662"/>
                </a:solidFill>
                <a:latin typeface="Times New Roman"/>
              </a:rPr>
              <a:t> 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трудничество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сходит из интересов ребенка и перспектив его дальнейшего развития как полноценного члена общества, взрослые создают условия для полноценного развития личности, ее гуманизации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Взгляд на ребенка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 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ак на полноправного партнера в условиях сотрудничеств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строение «Я – высказывания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1447920"/>
            <a:ext cx="7772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Я (мн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писание чувств, переживаний и эмо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2120" y="2590920"/>
            <a:ext cx="7696080" cy="8380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ак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чины возникновения реакции взросл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685800" y="3962160"/>
            <a:ext cx="7772400" cy="83808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5257800"/>
            <a:ext cx="7772400" cy="838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озможные последствия, если ребен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 изменит повед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120" y="3962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езоценочная характеристика поведения ребенк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безличной форм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0" y="23623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0" y="34290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48006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cc"/>
                </a:solidFill>
                <a:uFillTx/>
                <a:latin typeface="Times New Roman"/>
              </a:rPr>
              <a:t>Вывод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Осуждая, порицая, критикуя ребенка, мы чаще всего задеваем его личностные качества и тем самым не способствуем развитию ответственности за его собственные поступки, а также формируем неадекватную самооценку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Давая обратную связь в виде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«Я – сообщения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мы демонстрируем ребенку наше отношение к его поведению, через вербализацию собственных эмоций и чувств, предоставляем ему выбор изменить свое поведение или продолжить его, но затем нести ответственность за последств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делать воспитателю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тобы ситуац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чевого насилия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возник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сть негативной оценки поведения оценки детей воспитателем отпадает, если в группе выполняются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а поведения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и запреты не должны ограничивать естественные потребности детей в движении и познани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предложить детям совместно с воспитателем изготовить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зонтик правил»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торый поможет защитить от возможных  жизненных невзго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9900"/>
                </a:solidFill>
                <a:latin typeface="Monotype Corsiva"/>
              </a:rPr>
              <a:t>Благодарю за внимание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овные формы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жестокого обращения с детьми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ическо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уально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ическое (эмоциональное, в том числе и речевое) насили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епривация базовых потребностей ребен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лияние речевого насилия на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ическ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психологиче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о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доров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бен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81160" y="2209680"/>
            <a:ext cx="678168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сихосоматические заболе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95280" y="3809880"/>
            <a:ext cx="6782040" cy="990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ичностное развитие ребен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81160" y="5410080"/>
            <a:ext cx="6781680" cy="990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Жизненный сценарий ребен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114800" y="3200400"/>
            <a:ext cx="914400" cy="60948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21000" y="4800600"/>
            <a:ext cx="700200" cy="60948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прессивные, аффективные и тревожные расстрой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уици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рах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сихосоматические заболевания (энурез, заикание, астма, тики и т.д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81160" y="304920"/>
            <a:ext cx="6781680" cy="1218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сихосоматические заболев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сприятие окружающего мира как враждебн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изкая самооцен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сокий уровень агрессив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сокий уровень тревож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виантное повед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Личностное развитие ребен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ложности в создании собственной семь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роль «жертвы» и «тирана»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удности функционирования в супружеской и родительской роля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Жизненный сценарий ребен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оздействие стрессовых факторов на нарушение баланса в системе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«мозг-тело- душ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52480" y="1905120"/>
            <a:ext cx="1752840" cy="1523880"/>
          </a:xfrm>
          <a:prstGeom prst="ellipse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429000"/>
            <a:ext cx="1676520" cy="15238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ел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1676160" cy="1523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зу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29400" y="3429000"/>
            <a:ext cx="60948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28800" y="232740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Эмо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душ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362320" y="3429000"/>
            <a:ext cx="60948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638680" y="1219320"/>
            <a:ext cx="2590920" cy="2209680"/>
          </a:xfrm>
          <a:prstGeom prst="ellipse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Эмо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душ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15000" y="3429000"/>
            <a:ext cx="990720" cy="1523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зу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162920" y="3429000"/>
            <a:ext cx="914400" cy="15238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ел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наки речевого и психического насилия над ребенком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о печальный вид, длительно сохраняющееся подавленное состоя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покойство, тревожность, нарушение с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рессив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онность к уединени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мение общатьс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вный тик, энурез или другие психосоматически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оле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редные» привыч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ержка умственного развития, плохая успеваим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блемы с едо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лишняя уступчивость или осторож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кая самооцен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тиобщественное поведени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(источники) насили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йны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ое и речевое насилие родителей по отношению к детям или друг к друг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мент ребенка  определ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 основу развития моделей поведения личности и межличностных отношени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циальные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-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рофессиональная несостоятельность педагог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31T22:38:21Z</dcterms:created>
  <dc:creator>Родкин</dc:creator>
  <dc:description/>
  <dc:language>en-US</dc:language>
  <cp:lastModifiedBy>wilson</cp:lastModifiedBy>
  <dcterms:modified xsi:type="dcterms:W3CDTF">2015-10-10T10:06:33Z</dcterms:modified>
  <cp:revision>35</cp:revision>
  <dc:subject/>
  <dc:title>Речевое насилие как угроза психическому и психологическому здоровью детей</dc:title>
</cp:coreProperties>
</file>