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7AB9-B5C0-4CD9-8392-6A8A0BBBA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2E6B-2418-4F4F-97DC-1C258312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6C88-B63D-445A-80DC-F0A1A7FF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E0C8-090C-4C75-B629-636C3679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DB4D-05E2-4670-8530-196BECA2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4664-7077-4FE1-862D-1ADB8108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B0A9-4956-4B38-B509-BB48426D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882D-83C9-4386-A728-2BE8B585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E6CC-1F15-42B4-B1E9-4B4009F9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D570-68C6-42F7-A5F8-FCCA8A5F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A0D1-57E3-469E-A3DF-9A211A7C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5C5C-AF4B-4014-AAAD-D7682C6B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45B9-ABBD-4BBA-A1FE-7D97A757FE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4678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Речевое насилие как угроза психическому и психологическому здоровью де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ставител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дагог-психолог Роткина В.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чины речевого насили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по отношению к воспитанник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вторитарная система воспитани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как пережиток тоталитарного общественного стро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сихологическая неустойчивость педагого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недостаточный уровень психологической культуры, слабое владение коммуникативными навыками, приводящими к эмоциональному выгоранию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офессиональная несостоятельность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умение или нежелание педагога с уважением отнестись к личности и проблемам ребенка, провоцирующим нестандартное поведени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23960" y="-360"/>
            <a:ext cx="7696080" cy="7621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речевому насилию относятс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розы в адрес ребен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чания, высказанные в оскорбительной форме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жающи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оинство ребенка (в том числе публичные унижения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кр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ижение успехов ребен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ая критика в адрес ребен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вление инициатив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винение в адрес ребенка (брань, ругань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ание за неправильный отв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рректное высказывание о внешнем вид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ильственное вызывание ребенка давать ответы на вопросы воспитате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лигированное отношение к заискивающим детя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 от утешения, когда дошкольник испуган или подавле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ная характеристика ребен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ждествление ребенка с конфликтующим или неприятным для воспитателя родител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кладывание на воспитанника ответственности за свои неудач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ое признание в нелюбви и ненависти к ребенку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e5831"/>
                </a:solidFill>
                <a:uFillTx/>
                <a:latin typeface="Times New Roman"/>
              </a:rPr>
              <a:t>Личностно - ориентированная моде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7520" y="1413000"/>
            <a:ext cx="873612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Основной принцип</a:t>
            </a:r>
            <a:r>
              <a:rPr b="1" lang="en-US" sz="2000" spc="-1" strike="noStrike">
                <a:solidFill>
                  <a:srgbClr val="18f662"/>
                </a:solidFill>
                <a:latin typeface="Times New Roman"/>
              </a:rPr>
              <a:t> 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Не рядом и не над, а вместе!"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Цель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действовать становлению ребенка как лич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Задача педагога</a:t>
            </a:r>
            <a:r>
              <a:rPr b="1" lang="en-US" sz="2000" spc="-1" strike="noStrike">
                <a:solidFill>
                  <a:srgbClr val="18f662"/>
                </a:solidFill>
                <a:latin typeface="Times New Roman"/>
              </a:rPr>
              <a:t> -</a:t>
            </a:r>
            <a:r>
              <a:rPr b="1" lang="en-US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витие доверия ребенка к миру, чувства радости существования (психологическое здоровье); формирование начал личности (базис личностной культуры); развитие индивидуальности ребенка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Тактика общения</a:t>
            </a:r>
            <a:r>
              <a:rPr b="1" lang="en-US" sz="2800" spc="-1" strike="noStrike">
                <a:solidFill>
                  <a:srgbClr val="18f662"/>
                </a:solidFill>
                <a:latin typeface="Times New Roman"/>
              </a:rPr>
              <a:t> 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трудничеств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сходит из интересов ребенка и перспектив его дальнейшего развития как полноценного члена общества, взрослые создают условия для полноценного развития личности, ее гуманизации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Взгляд на ребенка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 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 на полноправного партнера в условиях сотрудничеств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строение «Я – высказыван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447920"/>
            <a:ext cx="7772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Я (мн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писание чувств, переживаний и эмо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2590920"/>
            <a:ext cx="7696080" cy="8380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ак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чины возникновения реакции взросл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85800" y="3962160"/>
            <a:ext cx="7772400" cy="83808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5257800"/>
            <a:ext cx="7772400" cy="838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зможные последствия, если ребе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 изменит повед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3962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зоценочная характеристика поведения ребенк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безличной фор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23623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34290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48006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cc"/>
                </a:solidFill>
                <a:uFillTx/>
                <a:latin typeface="Times New Roman"/>
              </a:rPr>
              <a:t>Вывод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Осуждая, порицая, критикуя ребенка, мы чаще всего задеваем его личностные качества и тем самым не способствуем развитию ответственности за его собственные поступки, а также формируем неадекватную самооценку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Давая обратную связь в вид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«Я – сообщения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мы демонстрируем ребенку наше отношение к его поведению, через вербализацию собственных эмоций и чувств, предоставляем ему выбор изменить свое поведение или продолжить его, но затем нести ответственность за последст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лать воспитателю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тобы ситуац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чевого насилия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озник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негативной оценки поведения оценки детей воспитателем отпадает, если в группе выполняются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поведения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и запреты не должны ограничивать естественные потребности детей в движении и познани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предложить детям совместно с воспитателем изготовить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зонтик правил»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торый поможет защитить от возможных  жизненных невзго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9900"/>
                </a:solidFill>
                <a:latin typeface="Monotype Corsiva"/>
              </a:rPr>
              <a:t>Благодарю за внимание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овные формы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жестокого обращения с детьм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ическо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уально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ое (эмоциональное, в том числе и речевое) насили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привация базовых потребностей ребе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лияние речевого насилия н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ческ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сихологиче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доров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бе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81160" y="2209680"/>
            <a:ext cx="678168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сихосоматические заболе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3809880"/>
            <a:ext cx="6782040" cy="99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ичностное развитие ребе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81160" y="5410080"/>
            <a:ext cx="6781680" cy="990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изненный сценарий ребе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14800" y="3200400"/>
            <a:ext cx="914400" cy="6094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21000" y="4800600"/>
            <a:ext cx="700200" cy="6094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прессивные, аффективные и тревожные расстро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уици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ах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ихосоматические заболевания (энурез, заикание, астма, тики и т.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1160" y="304920"/>
            <a:ext cx="678168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сихосоматические заболе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сприятие окружающего мира как враждеб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зкая самооце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сокий уровень агрессив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сокий уровень тревож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виантное повед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ичностное развитие ребе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ложности в создании собственной семь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роль «жертвы» и «тирана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удности функционирования в супружеской и родительской рол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Жизненный сценарий ребе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здействие стрессовых факторов на нарушение баланса в системе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мозг-тело- душ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2480" y="1905120"/>
            <a:ext cx="1752840" cy="152388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429000"/>
            <a:ext cx="1676520" cy="15238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1676160" cy="1523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у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3429000"/>
            <a:ext cx="60948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23274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мо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душ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3429000"/>
            <a:ext cx="60948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1219320"/>
            <a:ext cx="2590920" cy="220968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мо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душ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3429000"/>
            <a:ext cx="990720" cy="1523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у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62920" y="3429000"/>
            <a:ext cx="914400" cy="15238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и речевого и психического насилия над ребенком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печальный вид, длительно сохраняющееся подавленное состоя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покойство, тревожность, нарушение с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сив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ность к уединен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мение общать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ный тик, энурез или другие психосоматически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ле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редные» привыч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ржка умственного развития, плохая успеваим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блемы с ед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ишняя уступчивость или осторож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кая самооцен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иобщественное поведе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(источники) насил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ны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е и речевое насилие родителей по отношению к детям или друг к друг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мент ребенка  определ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основу развития моделей поведения личности и межличностных отношени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иальные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офессиональная несостоятельность педагог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22:38:21Z</dcterms:created>
  <dc:creator>Родкин</dc:creator>
  <dc:description/>
  <dc:language>en-US</dc:language>
  <cp:lastModifiedBy>wilson</cp:lastModifiedBy>
  <dcterms:modified xsi:type="dcterms:W3CDTF">2015-10-10T10:06:33Z</dcterms:modified>
  <cp:revision>35</cp:revision>
  <dc:subject/>
  <dc:title>Речевое насилие как угроза психическому и психологическому здоровью детей</dc:title>
</cp:coreProperties>
</file>