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ACA-9AA6-4432-B003-275290C6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5BA-B4A6-4CCE-B79E-D174AAF2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8EE-632A-4E3B-850F-3CB0C032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ABC-2D91-4582-B9C8-D0BBE9F0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22D7-CCB5-455E-BCB4-E14A0AA7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9706-2B34-42B0-87C4-8C8FC7D7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2076-75DB-4C0C-A678-1D8D85CA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A4A8-7BAD-4819-BC27-513CEB7D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BF1F-8DD1-4D8F-B2A7-E86F205D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3F12-D220-49D3-8785-87535396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716-586F-4F3F-BF02-E1D4277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EE0-8DCE-47FC-A634-0257A56A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426-561D-426F-99F5-1EBC3BA5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F304-01A1-4ABB-BF2B-D950856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D875-2FBC-4163-B694-EEEDCB6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60B0-5FBE-4F3B-9496-60249C03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34DE-A30D-4077-914A-DADA8ED8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F9E-76ED-4D8E-9F5B-387D1179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1F3-1779-40FF-8B55-AE9679CA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41B-45DC-4CA3-AC6D-55FB7BEE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EFF-9163-4EF5-B89A-6BFEC3F1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546-F277-448C-94D0-0BCF3A0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3EA-B80A-4B09-A125-676ED564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A18-BF1F-40F1-B94D-19BA0AA7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81AB-74F1-4FB4-9031-2CA3C5E012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8062-0C5D-4CA4-9E26-7EFF915D88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33"/>
                </a:solidFill>
                <a:latin typeface="Garamond"/>
              </a:rPr>
              <a:t>Смежные углы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арчук Ольга Ивановна, учитель математики , МБОУ «СОШ №1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Аб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755640" y="549360"/>
            <a:ext cx="3887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4328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227640" y="19782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651640" y="17002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 и  </a:t>
            </a:r>
            <a:r>
              <a:rPr b="1" i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2 смежны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64328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588000" y="2205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V="1">
            <a:off x="755640" y="2133720"/>
            <a:ext cx="3456000" cy="1295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 flipH="1" flipV="1">
            <a:off x="1618920" y="1267920"/>
            <a:ext cx="649080" cy="1584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1979640" y="2708280"/>
            <a:ext cx="216000" cy="730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1979640" y="2781360"/>
            <a:ext cx="71280" cy="1429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268360" y="2349360"/>
            <a:ext cx="7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161928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0"/>
          <p:cNvSpPr/>
          <p:nvPr/>
        </p:nvSpPr>
        <p:spPr>
          <a:xfrm>
            <a:off x="2165400" y="2633760"/>
            <a:ext cx="223920" cy="14760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2268360" y="2997360"/>
            <a:ext cx="65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2.  Если один из смежных углов прямой, то и другой тоже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539640" y="4076640"/>
            <a:ext cx="820764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1187280" y="4508640"/>
            <a:ext cx="74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3.  Если угол не развернутый, то его градусная мера меньше 180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468360" y="333360"/>
            <a:ext cx="1892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843280" y="404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айти смежные углы, если один из них в 4 раза меньше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611280" y="1628280"/>
            <a:ext cx="3024000" cy="20876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1908000" y="1267920"/>
            <a:ext cx="719280" cy="1584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8"/>
          <p:cNvSpPr/>
          <p:nvPr/>
        </p:nvSpPr>
        <p:spPr>
          <a:xfrm>
            <a:off x="2057400" y="2490840"/>
            <a:ext cx="160200" cy="115920"/>
          </a:xfrm>
          <a:prstGeom prst="pie">
            <a:avLst/>
          </a:pr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1774800" y="2560680"/>
            <a:ext cx="236520" cy="29700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124000" y="220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547640" y="242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572000" y="148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70836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- см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3276720" y="2276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в 4 раза меньше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2771640" y="2781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140360" y="278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3059280" y="3284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755640" y="371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Пусть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х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327672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гда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( 4х )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90000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+ </a:t>
            </a: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3419640" y="4292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по теореме о смежных угл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1128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5003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+ 4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5003640" y="501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5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5076720" y="530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684360" y="530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611280" y="580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)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36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4 = 144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900000" y="6237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твет: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144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zvonok"/>
          <p:cNvPicPr/>
          <p:nvPr/>
        </p:nvPicPr>
        <p:blipFill>
          <a:blip r:embed="rId1"/>
          <a:stretch/>
        </p:blipFill>
        <p:spPr>
          <a:xfrm>
            <a:off x="1187280" y="4292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8"/>
          <p:cNvSpPr txBox="1"/>
          <p:nvPr/>
        </p:nvSpPr>
        <p:spPr>
          <a:xfrm>
            <a:off x="539640" y="220500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сотрудничеств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атематический диктант. (неоконченное предложение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66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Фигура, которую нельзя разделить на части называется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6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Через любые две точки можно провест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6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Часть прямой ограниченная двумя точками называется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6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Если точк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 внутренняя точка отрезк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ru-RU" sz="3000" spc="-1" strike="noStrike">
                <a:solidFill>
                  <a:srgbClr val="6600cc"/>
                </a:solidFill>
                <a:latin typeface="Arial"/>
              </a:rPr>
              <a:t>, то выполняется следующее равенство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395280" y="76500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5. Фигура образованная двумя лучами, имеющими общее начало и не лежащими на одной прямой называе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6.        А               С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пишите осно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войство угл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                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7. Если градусная мера угла меньше 90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, то он …, если больше 90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, то он…, а если равна, то он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0"/>
          <p:cNvSpPr/>
          <p:nvPr/>
        </p:nvSpPr>
        <p:spPr>
          <a:xfrm>
            <a:off x="1835280" y="2286000"/>
            <a:ext cx="488880" cy="1389240"/>
          </a:xfrm>
          <a:prstGeom prst="line">
            <a:avLst/>
          </a:prstGeom>
          <a:ln w="38160">
            <a:solidFill>
              <a:srgbClr val="2c6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1"/>
          <p:cNvSpPr/>
          <p:nvPr/>
        </p:nvSpPr>
        <p:spPr>
          <a:xfrm flipV="1">
            <a:off x="2332080" y="2516040"/>
            <a:ext cx="1138320" cy="1146240"/>
          </a:xfrm>
          <a:prstGeom prst="line">
            <a:avLst/>
          </a:prstGeom>
          <a:ln w="38160">
            <a:solidFill>
              <a:srgbClr val="2c6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2"/>
          <p:cNvSpPr/>
          <p:nvPr/>
        </p:nvSpPr>
        <p:spPr>
          <a:xfrm>
            <a:off x="2340000" y="3645000"/>
            <a:ext cx="1655640" cy="17280"/>
          </a:xfrm>
          <a:prstGeom prst="line">
            <a:avLst/>
          </a:prstGeom>
          <a:ln w="38160">
            <a:solidFill>
              <a:srgbClr val="2c6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оверь себ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Точ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Прямую и притом только одн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Отрез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СА+АВ=С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Уго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   АВС+    С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   А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. острый, тупой, пря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114800" y="2971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7"/>
          <p:cNvSpPr/>
          <p:nvPr/>
        </p:nvSpPr>
        <p:spPr>
          <a:xfrm flipH="1">
            <a:off x="1331640" y="4508640"/>
            <a:ext cx="2156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>
            <a:off x="1332000" y="47242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1"/>
          <p:cNvSpPr/>
          <p:nvPr/>
        </p:nvSpPr>
        <p:spPr>
          <a:xfrm flipH="1">
            <a:off x="2771640" y="4508640"/>
            <a:ext cx="21600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3"/>
          <p:cNvSpPr/>
          <p:nvPr/>
        </p:nvSpPr>
        <p:spPr>
          <a:xfrm>
            <a:off x="2771640" y="4724280"/>
            <a:ext cx="28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7"/>
          <p:cNvSpPr/>
          <p:nvPr/>
        </p:nvSpPr>
        <p:spPr>
          <a:xfrm flipH="1">
            <a:off x="4114800" y="4508640"/>
            <a:ext cx="18432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1"/>
          <p:cNvSpPr/>
          <p:nvPr/>
        </p:nvSpPr>
        <p:spPr>
          <a:xfrm>
            <a:off x="4114800" y="4724280"/>
            <a:ext cx="31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403280" y="2276640"/>
            <a:ext cx="60483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угл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ознаком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определением смежных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теоремой о смежных углах и ее доказательст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о следствиями из теоремы о смежных угл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видами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аучиться решать задачи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900000" y="620640"/>
            <a:ext cx="25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611280" y="549360"/>
            <a:ext cx="639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 смежных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643280" y="1484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прямую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00720" y="191628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строим точку О, принадлежащую прямой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2637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луч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916360" y="299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лучили </a:t>
            </a:r>
            <a:r>
              <a:rPr b="1" i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700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а 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4360" y="386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ы ОА и 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826920" y="4221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ОС и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ВОС – смежные уг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684360" y="1268280"/>
            <a:ext cx="3600360" cy="2232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39640" y="306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341964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53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268360" y="2421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5148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В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6443640" y="2997360"/>
            <a:ext cx="27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углы  у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4500720" y="342900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об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132000" y="3860640"/>
            <a:ext cx="52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дополнительные полу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7"/>
          <p:cNvSpPr txBox="1"/>
          <p:nvPr/>
        </p:nvSpPr>
        <p:spPr>
          <a:xfrm>
            <a:off x="611280" y="4653000"/>
            <a:ext cx="3057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468360" y="501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а угла, у которых одна сторона общая, а две другие являются дополнительными полупрямыми, называются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5"/>
          <p:cNvSpPr/>
          <p:nvPr/>
        </p:nvSpPr>
        <p:spPr>
          <a:xfrm>
            <a:off x="1971720" y="2406600"/>
            <a:ext cx="100080" cy="243000"/>
          </a:xfrm>
          <a:prstGeom prst="pie">
            <a:avLst/>
          </a:pr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0"/>
          <p:cNvSpPr/>
          <p:nvPr/>
        </p:nvSpPr>
        <p:spPr>
          <a:xfrm>
            <a:off x="2009880" y="2314440"/>
            <a:ext cx="453960" cy="5580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1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3"/>
          <p:cNvSpPr/>
          <p:nvPr/>
        </p:nvSpPr>
        <p:spPr>
          <a:xfrm flipH="1">
            <a:off x="684360" y="2492280"/>
            <a:ext cx="1584000" cy="1008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4"/>
          <p:cNvSpPr/>
          <p:nvPr/>
        </p:nvSpPr>
        <p:spPr>
          <a:xfrm flipV="1">
            <a:off x="2268360" y="1268280"/>
            <a:ext cx="1943280" cy="1224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2124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04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орема о смежных углах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643280" y="333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Сумма смежных углов равна 180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 flipV="1">
            <a:off x="611280" y="1628280"/>
            <a:ext cx="3097080" cy="18716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 flipV="1">
            <a:off x="1908000" y="1341000"/>
            <a:ext cx="0" cy="13669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39640" y="335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92360" y="162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547640" y="1341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572000" y="155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284720" y="213372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4284720" y="1989000"/>
            <a:ext cx="30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ас)  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вс) - см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6"/>
          <p:cNvSpPr/>
          <p:nvPr/>
        </p:nvSpPr>
        <p:spPr>
          <a:xfrm>
            <a:off x="1700280" y="2538360"/>
            <a:ext cx="203040" cy="298440"/>
          </a:xfrm>
          <a:prstGeom prst="pie">
            <a:avLst/>
          </a:prstGeom>
          <a:noFill/>
          <a:ln w="284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1922400" y="2538360"/>
            <a:ext cx="130320" cy="5544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1922400" y="2406600"/>
            <a:ext cx="204840" cy="14940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4427640" y="2421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4572000" y="292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с)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+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) =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2700360" y="3357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395280" y="3860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) – развер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3276720" y="3860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5867280" y="38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0"/>
          <p:cNvSpPr/>
          <p:nvPr/>
        </p:nvSpPr>
        <p:spPr>
          <a:xfrm>
            <a:off x="611280" y="4292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Луч с проходит между сторонами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ав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611280" y="472428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(ав)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=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2"/>
          <p:cNvSpPr/>
          <p:nvPr/>
        </p:nvSpPr>
        <p:spPr>
          <a:xfrm>
            <a:off x="4716360" y="47242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3"/>
          <p:cNvSpPr/>
          <p:nvPr/>
        </p:nvSpPr>
        <p:spPr>
          <a:xfrm>
            <a:off x="684360" y="53625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Получили, что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755640" y="620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16360" y="422100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1.  Если два угла равны, то смежные с ними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900000" y="1989000"/>
            <a:ext cx="2521080" cy="11527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V="1">
            <a:off x="826920" y="3357720"/>
            <a:ext cx="2808360" cy="13665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H="1" flipV="1">
            <a:off x="539280" y="2133720"/>
            <a:ext cx="1584360" cy="433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 flipV="1">
            <a:off x="1042560" y="3789360"/>
            <a:ext cx="1081080" cy="287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87708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1"/>
          <p:cNvSpPr/>
          <p:nvPr/>
        </p:nvSpPr>
        <p:spPr>
          <a:xfrm>
            <a:off x="1835280" y="2492280"/>
            <a:ext cx="1440" cy="2509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3"/>
          <p:cNvSpPr/>
          <p:nvPr/>
        </p:nvSpPr>
        <p:spPr>
          <a:xfrm>
            <a:off x="1863720" y="4000680"/>
            <a:ext cx="33480" cy="1825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4"/>
          <p:cNvSpPr/>
          <p:nvPr/>
        </p:nvSpPr>
        <p:spPr>
          <a:xfrm>
            <a:off x="1979640" y="2421000"/>
            <a:ext cx="365040" cy="9216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5"/>
          <p:cNvSpPr/>
          <p:nvPr/>
        </p:nvSpPr>
        <p:spPr>
          <a:xfrm>
            <a:off x="1920960" y="3849840"/>
            <a:ext cx="318960" cy="15084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1979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154764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979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47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4140360" y="2060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;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 – смежны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4284720" y="25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4140360" y="306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 очевидно, что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4"/>
          <p:cNvSpPr/>
          <p:nvPr/>
        </p:nvSpPr>
        <p:spPr>
          <a:xfrm>
            <a:off x="428472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36:54Z</dcterms:created>
  <dc:creator>User</dc:creator>
  <dc:description/>
  <dc:language>en-US</dc:language>
  <cp:lastModifiedBy>Учитель</cp:lastModifiedBy>
  <dcterms:modified xsi:type="dcterms:W3CDTF">2015-10-12T02:21:40Z</dcterms:modified>
  <cp:revision>31</cp:revision>
  <dc:subject/>
  <dc:title>Слайд 1</dc:title>
</cp:coreProperties>
</file>