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9F6-E0C6-4D41-8E5B-0A09D683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A88-967D-49A3-9652-F80F7CB4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7F4-C727-43F3-8A57-AFDBC60E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DBF-EE46-46EB-851D-39E401E4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B17F-E82C-4417-88F9-72543BB2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D375-E672-4FF2-84B9-3112F2B5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E31A-A942-43D1-9CD1-FC4D96D5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D60D-FDFE-4C40-89F4-8EB5F469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2F98-D0CA-4ADD-9926-EE96C738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D0E5-722E-444C-BC49-A2118DF7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20A3-F91D-4321-8BE7-B3CA38FC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BE3A-2B2E-43FD-B239-210D73F0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7E5B-D926-46FC-83DF-04503823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83A6-91A0-4F88-9B2E-DA8EFF10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2818-BE57-4FDC-B7C6-5A3F3F07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AFED-E893-4FBB-A38B-D2F1C650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C8B6-1D47-4DAC-B956-578E074B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D75C-0D73-456F-A475-EE033EE3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C28-620C-4E0D-BDAC-2D632C4B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2D5-18DC-43A0-B7E0-1D277662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3CD-9C69-4CC7-931B-7C05ED4A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D05-B40C-4192-A735-AE0C3E2C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CCB-D997-4CA7-B8E2-570ECDF7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1F5-035F-4C60-8727-D8CA5F84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A119-5FAF-4C87-B43E-6A31FEE1B8A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0A7C-938E-4ED0-B08F-459C0171E9F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33"/>
                </a:solidFill>
                <a:latin typeface="Garamond"/>
              </a:rPr>
              <a:t>Смежные углы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парчук Ольга Ивановна, учитель математики , МБОУ «СОШ №1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 Аба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755640" y="549360"/>
            <a:ext cx="38876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едств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4643280" y="1700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6227640" y="197820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5651640" y="170028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 и  </a:t>
            </a:r>
            <a:r>
              <a:rPr b="1" i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2 смежные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464328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1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6588000" y="2205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2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V="1">
            <a:off x="755640" y="2133720"/>
            <a:ext cx="3456000" cy="12952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 flipH="1" flipV="1">
            <a:off x="1618920" y="1267920"/>
            <a:ext cx="649080" cy="15843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1979640" y="2708280"/>
            <a:ext cx="216000" cy="7308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1979640" y="2781360"/>
            <a:ext cx="71280" cy="1429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2268360" y="2349360"/>
            <a:ext cx="7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1619280" y="24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0"/>
          <p:cNvSpPr/>
          <p:nvPr/>
        </p:nvSpPr>
        <p:spPr>
          <a:xfrm>
            <a:off x="2165400" y="2633760"/>
            <a:ext cx="223920" cy="14760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2268360" y="2997360"/>
            <a:ext cx="65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2.  Если один из смежных углов прямой, то и другой тоже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539640" y="4076640"/>
            <a:ext cx="8207640" cy="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1187280" y="4508640"/>
            <a:ext cx="748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3.  Если угол не развернутый, то его градусная мера меньше 180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°</a:t>
            </a: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468360" y="333360"/>
            <a:ext cx="18921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843280" y="40464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Найти смежные углы, если один из них в 4 раза меньше дру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6"/>
          <p:cNvSpPr/>
          <p:nvPr/>
        </p:nvSpPr>
        <p:spPr>
          <a:xfrm flipV="1">
            <a:off x="611280" y="1628280"/>
            <a:ext cx="3024000" cy="208764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 flipV="1">
            <a:off x="1908000" y="1267920"/>
            <a:ext cx="719280" cy="158436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8"/>
          <p:cNvSpPr/>
          <p:nvPr/>
        </p:nvSpPr>
        <p:spPr>
          <a:xfrm>
            <a:off x="2057400" y="2490840"/>
            <a:ext cx="160200" cy="115920"/>
          </a:xfrm>
          <a:prstGeom prst="pie">
            <a:avLst/>
          </a:prstGeom>
          <a:noFill/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1"/>
          <p:cNvSpPr/>
          <p:nvPr/>
        </p:nvSpPr>
        <p:spPr>
          <a:xfrm>
            <a:off x="1774800" y="2560680"/>
            <a:ext cx="236520" cy="297000"/>
          </a:xfrm>
          <a:prstGeom prst="pie">
            <a:avLst/>
          </a:pr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2124000" y="2205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547640" y="2421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4572000" y="1484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3708360" y="1916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2- сме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3276720" y="227664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в 4 раза меньше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2771640" y="2781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140360" y="2781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3059280" y="328464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755640" y="371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Пусть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х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3276720" y="37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тогда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( 4х )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900000" y="4221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1 + </a:t>
            </a: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2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8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3419640" y="4292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(по теореме о смежных угла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11280" y="4653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Составим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5003640" y="465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х+ 4х 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5003640" y="501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5х 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5076720" y="5300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х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1"/>
          <p:cNvSpPr/>
          <p:nvPr/>
        </p:nvSpPr>
        <p:spPr>
          <a:xfrm>
            <a:off x="684360" y="53006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36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2"/>
          <p:cNvSpPr/>
          <p:nvPr/>
        </p:nvSpPr>
        <p:spPr>
          <a:xfrm>
            <a:off x="611280" y="580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)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 36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4 = 144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3"/>
          <p:cNvSpPr/>
          <p:nvPr/>
        </p:nvSpPr>
        <p:spPr>
          <a:xfrm>
            <a:off x="900000" y="6237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Ответ: 36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 144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zvonok"/>
          <p:cNvPicPr/>
          <p:nvPr/>
        </p:nvPicPr>
        <p:blipFill>
          <a:blip r:embed="rId1"/>
          <a:stretch/>
        </p:blipFill>
        <p:spPr>
          <a:xfrm>
            <a:off x="1187280" y="4292640"/>
            <a:ext cx="2160720" cy="2232000"/>
          </a:xfrm>
          <a:prstGeom prst="rect">
            <a:avLst/>
          </a:prstGeom>
          <a:ln w="0">
            <a:noFill/>
          </a:ln>
        </p:spPr>
      </p:pic>
      <p:sp>
        <p:nvSpPr>
          <p:cNvPr id="216" name="WordArt 8"/>
          <p:cNvSpPr txBox="1"/>
          <p:nvPr/>
        </p:nvSpPr>
        <p:spPr>
          <a:xfrm>
            <a:off x="539640" y="2205000"/>
            <a:ext cx="777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сотрудничеств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атематический диктант. (неоконченное предложение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6600cc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cc"/>
                </a:solidFill>
                <a:latin typeface="Arial"/>
              </a:rPr>
              <a:t>Фигура, которую нельзя разделить на части называется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6600cc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cc"/>
                </a:solidFill>
                <a:latin typeface="Arial"/>
              </a:rPr>
              <a:t>Через любые две точки можно провест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6600cc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cc"/>
                </a:solidFill>
                <a:latin typeface="Arial"/>
              </a:rPr>
              <a:t>Часть прямой ограниченная двумя точками называется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6600cc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cc"/>
                </a:solidFill>
                <a:latin typeface="Arial"/>
              </a:rPr>
              <a:t>Если точка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>
                <a:solidFill>
                  <a:srgbClr val="6600cc"/>
                </a:solidFill>
                <a:latin typeface="Arial"/>
              </a:rPr>
              <a:t> внутренняя точка отрезка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ru-RU" sz="3000" spc="-1" strike="noStrike">
                <a:solidFill>
                  <a:srgbClr val="6600cc"/>
                </a:solidFill>
                <a:latin typeface="Arial"/>
              </a:rPr>
              <a:t>, то выполняется следующее равенство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395280" y="765000"/>
            <a:ext cx="849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5. Фигура образованная двумя лучами, имеющими общее начало и не лежащими на одной прямой называет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6.        А               С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Запишите основ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свойство угл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В                  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7. Если градусная мера угла меньше 90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º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, то он …, если больше 90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º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, то он…, а если равна, то он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0"/>
          <p:cNvSpPr/>
          <p:nvPr/>
        </p:nvSpPr>
        <p:spPr>
          <a:xfrm>
            <a:off x="1835280" y="2286000"/>
            <a:ext cx="488880" cy="1389240"/>
          </a:xfrm>
          <a:prstGeom prst="line">
            <a:avLst/>
          </a:prstGeom>
          <a:ln w="38160">
            <a:solidFill>
              <a:srgbClr val="2c61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21"/>
          <p:cNvSpPr/>
          <p:nvPr/>
        </p:nvSpPr>
        <p:spPr>
          <a:xfrm flipV="1">
            <a:off x="2332080" y="2516040"/>
            <a:ext cx="1138320" cy="1146240"/>
          </a:xfrm>
          <a:prstGeom prst="line">
            <a:avLst/>
          </a:prstGeom>
          <a:ln w="38160">
            <a:solidFill>
              <a:srgbClr val="2c61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2"/>
          <p:cNvSpPr/>
          <p:nvPr/>
        </p:nvSpPr>
        <p:spPr>
          <a:xfrm>
            <a:off x="2340000" y="3645000"/>
            <a:ext cx="1655640" cy="17280"/>
          </a:xfrm>
          <a:prstGeom prst="line">
            <a:avLst/>
          </a:prstGeom>
          <a:ln w="38160">
            <a:solidFill>
              <a:srgbClr val="2c61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оверь себ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Точ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Прямую и притом только одн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Отрез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 СА+АВ=С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. Уго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.    АВС+    С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   А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7. острый, тупой, пря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4114800" y="2971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7"/>
          <p:cNvSpPr/>
          <p:nvPr/>
        </p:nvSpPr>
        <p:spPr>
          <a:xfrm flipH="1">
            <a:off x="1331640" y="4508640"/>
            <a:ext cx="21564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>
            <a:off x="1332000" y="472428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1"/>
          <p:cNvSpPr/>
          <p:nvPr/>
        </p:nvSpPr>
        <p:spPr>
          <a:xfrm flipH="1">
            <a:off x="2771640" y="4508640"/>
            <a:ext cx="21600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3"/>
          <p:cNvSpPr/>
          <p:nvPr/>
        </p:nvSpPr>
        <p:spPr>
          <a:xfrm>
            <a:off x="2771640" y="4724280"/>
            <a:ext cx="28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7"/>
          <p:cNvSpPr/>
          <p:nvPr/>
        </p:nvSpPr>
        <p:spPr>
          <a:xfrm flipH="1">
            <a:off x="4114800" y="4508640"/>
            <a:ext cx="18432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21"/>
          <p:cNvSpPr/>
          <p:nvPr/>
        </p:nvSpPr>
        <p:spPr>
          <a:xfrm>
            <a:off x="4114800" y="4724280"/>
            <a:ext cx="31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403280" y="2276640"/>
            <a:ext cx="604836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жные угл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Познаком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определением смежных уг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теоремой о смежных углах и ее доказательств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о следствиями из теоремы о смежных угл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видами уг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Научиться решать задачи по 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900000" y="620640"/>
            <a:ext cx="25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 урок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611280" y="549360"/>
            <a:ext cx="639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ределение смежных углов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643280" y="148428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роведем прямую 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00720" y="1916280"/>
            <a:ext cx="43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остроим точку О, принадлежащую прямой 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356000" y="263700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роведем луч 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916360" y="2997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олучили </a:t>
            </a:r>
            <a:r>
              <a:rPr b="1" i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А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700360" y="3429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сторона 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4360" y="386064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стороны ОА и 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826920" y="422100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АОС и </a:t>
            </a: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ВОС – смежные уг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684360" y="1268280"/>
            <a:ext cx="3600360" cy="223200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39640" y="306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3419640" y="1268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539640" y="162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2268360" y="2421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 flipH="1" flipV="1">
            <a:off x="394920" y="1916280"/>
            <a:ext cx="1873080" cy="57600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5148360" y="299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и </a:t>
            </a: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ВО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6443640" y="2997360"/>
            <a:ext cx="27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углы  у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4500720" y="3429000"/>
            <a:ext cx="187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общ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132000" y="3860640"/>
            <a:ext cx="525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дополнительные полупрям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27"/>
          <p:cNvSpPr txBox="1"/>
          <p:nvPr/>
        </p:nvSpPr>
        <p:spPr>
          <a:xfrm>
            <a:off x="611280" y="4653000"/>
            <a:ext cx="30574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ределени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468360" y="5013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Два угла, у которых одна сторона общая, а две другие являются дополнительными полупрямыми, называются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смеж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5"/>
          <p:cNvSpPr/>
          <p:nvPr/>
        </p:nvSpPr>
        <p:spPr>
          <a:xfrm>
            <a:off x="1971720" y="2406600"/>
            <a:ext cx="100080" cy="243000"/>
          </a:xfrm>
          <a:prstGeom prst="pie">
            <a:avLst/>
          </a:prstGeom>
          <a:noFill/>
          <a:ln w="2844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40"/>
          <p:cNvSpPr/>
          <p:nvPr/>
        </p:nvSpPr>
        <p:spPr>
          <a:xfrm>
            <a:off x="2009880" y="2314440"/>
            <a:ext cx="453960" cy="55800"/>
          </a:xfrm>
          <a:prstGeom prst="pie">
            <a:avLst/>
          </a:pr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1"/>
          <p:cNvSpPr/>
          <p:nvPr/>
        </p:nvSpPr>
        <p:spPr>
          <a:xfrm flipH="1" flipV="1">
            <a:off x="394920" y="1916280"/>
            <a:ext cx="1873080" cy="57600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3"/>
          <p:cNvSpPr/>
          <p:nvPr/>
        </p:nvSpPr>
        <p:spPr>
          <a:xfrm flipH="1">
            <a:off x="684360" y="2492280"/>
            <a:ext cx="1584000" cy="1008000"/>
          </a:xfrm>
          <a:prstGeom prst="line">
            <a:avLst/>
          </a:prstGeom>
          <a:ln w="38160">
            <a:solidFill>
              <a:srgbClr val="009e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4"/>
          <p:cNvSpPr/>
          <p:nvPr/>
        </p:nvSpPr>
        <p:spPr>
          <a:xfrm flipV="1">
            <a:off x="2268360" y="1268280"/>
            <a:ext cx="1943280" cy="1224000"/>
          </a:xfrm>
          <a:prstGeom prst="line">
            <a:avLst/>
          </a:prstGeom>
          <a:ln w="38160">
            <a:solidFill>
              <a:srgbClr val="009e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5"/>
          <p:cNvSpPr/>
          <p:nvPr/>
        </p:nvSpPr>
        <p:spPr>
          <a:xfrm>
            <a:off x="2124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11280" y="40464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орема о смежных углах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643280" y="33336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Сумма смежных углов равна 180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 flipV="1">
            <a:off x="611280" y="1628280"/>
            <a:ext cx="3097080" cy="18716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 flipV="1">
            <a:off x="1908000" y="1341000"/>
            <a:ext cx="0" cy="136692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39640" y="3357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492360" y="162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1547640" y="13413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572000" y="1557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284720" y="2133720"/>
            <a:ext cx="417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4284720" y="1989000"/>
            <a:ext cx="30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(ас)  и </a:t>
            </a: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(вс) - см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6"/>
          <p:cNvSpPr/>
          <p:nvPr/>
        </p:nvSpPr>
        <p:spPr>
          <a:xfrm>
            <a:off x="1700280" y="2538360"/>
            <a:ext cx="203040" cy="298440"/>
          </a:xfrm>
          <a:prstGeom prst="pie">
            <a:avLst/>
          </a:prstGeom>
          <a:noFill/>
          <a:ln w="2844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9"/>
          <p:cNvSpPr/>
          <p:nvPr/>
        </p:nvSpPr>
        <p:spPr>
          <a:xfrm>
            <a:off x="1922400" y="2538360"/>
            <a:ext cx="130320" cy="55440"/>
          </a:xfrm>
          <a:prstGeom prst="pie">
            <a:avLst/>
          </a:pr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0"/>
          <p:cNvSpPr/>
          <p:nvPr/>
        </p:nvSpPr>
        <p:spPr>
          <a:xfrm>
            <a:off x="1922400" y="2406600"/>
            <a:ext cx="204840" cy="149400"/>
          </a:xfrm>
          <a:prstGeom prst="pie">
            <a:avLst/>
          </a:pr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4427640" y="242100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4572000" y="29242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ас)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  + </a:t>
            </a:r>
            <a:r>
              <a:rPr b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вс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) = 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180 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2700360" y="335772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7"/>
          <p:cNvSpPr/>
          <p:nvPr/>
        </p:nvSpPr>
        <p:spPr>
          <a:xfrm>
            <a:off x="395280" y="386064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) – развернут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3276720" y="386064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значит </a:t>
            </a: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= 180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9"/>
          <p:cNvSpPr/>
          <p:nvPr/>
        </p:nvSpPr>
        <p:spPr>
          <a:xfrm>
            <a:off x="5867280" y="3860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(св-во измерения уг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0"/>
          <p:cNvSpPr/>
          <p:nvPr/>
        </p:nvSpPr>
        <p:spPr>
          <a:xfrm>
            <a:off x="611280" y="4292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Луч с проходит между сторонами</a:t>
            </a: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(ав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1"/>
          <p:cNvSpPr/>
          <p:nvPr/>
        </p:nvSpPr>
        <p:spPr>
          <a:xfrm>
            <a:off x="611280" y="472428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значит </a:t>
            </a: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(ав)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=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ас)  +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вс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2"/>
          <p:cNvSpPr/>
          <p:nvPr/>
        </p:nvSpPr>
        <p:spPr>
          <a:xfrm>
            <a:off x="4716360" y="472428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(св-во измерения угл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3"/>
          <p:cNvSpPr/>
          <p:nvPr/>
        </p:nvSpPr>
        <p:spPr>
          <a:xfrm>
            <a:off x="684360" y="536256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Получили, что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ас)  +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вс)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= 180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°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755640" y="620640"/>
            <a:ext cx="2438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едств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916360" y="422100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1.  Если два угла равны, то смежные с ними углы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 flipV="1">
            <a:off x="900000" y="1989000"/>
            <a:ext cx="2521080" cy="115272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 flipV="1">
            <a:off x="826920" y="3357720"/>
            <a:ext cx="2808360" cy="13665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 flipH="1" flipV="1">
            <a:off x="539280" y="2133720"/>
            <a:ext cx="1584360" cy="4334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 flipH="1" flipV="1">
            <a:off x="1042560" y="3789360"/>
            <a:ext cx="1081080" cy="2872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6877080" y="292428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1"/>
          <p:cNvSpPr/>
          <p:nvPr/>
        </p:nvSpPr>
        <p:spPr>
          <a:xfrm>
            <a:off x="1835280" y="2492280"/>
            <a:ext cx="1440" cy="25092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3"/>
          <p:cNvSpPr/>
          <p:nvPr/>
        </p:nvSpPr>
        <p:spPr>
          <a:xfrm>
            <a:off x="1863720" y="4000680"/>
            <a:ext cx="33480" cy="18252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4"/>
          <p:cNvSpPr/>
          <p:nvPr/>
        </p:nvSpPr>
        <p:spPr>
          <a:xfrm>
            <a:off x="1979640" y="2421000"/>
            <a:ext cx="365040" cy="92160"/>
          </a:xfrm>
          <a:prstGeom prst="pie">
            <a:avLst/>
          </a:pr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5"/>
          <p:cNvSpPr/>
          <p:nvPr/>
        </p:nvSpPr>
        <p:spPr>
          <a:xfrm>
            <a:off x="1920960" y="3849840"/>
            <a:ext cx="318960" cy="150840"/>
          </a:xfrm>
          <a:prstGeom prst="pie">
            <a:avLst/>
          </a:pr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197964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1547640" y="3933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1979640" y="2133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47636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1"/>
          <p:cNvSpPr/>
          <p:nvPr/>
        </p:nvSpPr>
        <p:spPr>
          <a:xfrm>
            <a:off x="4140360" y="206064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;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3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4 – смежные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4284720" y="256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3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3"/>
          <p:cNvSpPr/>
          <p:nvPr/>
        </p:nvSpPr>
        <p:spPr>
          <a:xfrm>
            <a:off x="4140360" y="3068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то очевидно, что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4"/>
          <p:cNvSpPr/>
          <p:nvPr/>
        </p:nvSpPr>
        <p:spPr>
          <a:xfrm>
            <a:off x="4284720" y="1700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9:36:54Z</dcterms:created>
  <dc:creator>User</dc:creator>
  <dc:description/>
  <dc:language>en-US</dc:language>
  <cp:lastModifiedBy>Учитель</cp:lastModifiedBy>
  <dcterms:modified xsi:type="dcterms:W3CDTF">2015-10-12T02:21:40Z</dcterms:modified>
  <cp:revision>31</cp:revision>
  <dc:subject/>
  <dc:title>Слайд 1</dc:title>
</cp:coreProperties>
</file>