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85F3-8ACA-4EDD-8EFD-B013A35C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1064-FDBA-4079-B395-E09875F6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30B0-7CC3-4C2A-9DC1-FA7E823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F970-50D7-4883-BF2F-93C53A6C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05E0-85E5-4FB1-A75A-E12E30B9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8145-5A57-4229-801C-B2D49997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EC30-2F66-4149-86A9-A91C532B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539F-8317-4137-A1AE-4AD69AB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0CD0-C241-466D-98AD-87B8301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B06-0091-4306-A3FB-A2295DC8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CFB0-0493-440D-9D9C-105A830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64AA-6FD7-4663-9E37-273CD0E4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E692-AB42-421A-AC12-0CB41C5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2EB3-C012-42C7-AAE4-9207B14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0B2-7CB0-4A5E-BC89-E721588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2A95-07D7-41C4-AA53-2D2CB1D0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EDC-F6B4-4135-BD08-D47C6E24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02BE-C4B3-471B-8105-C0734DEB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67B0-9523-4C58-81A2-E874C8E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93B0-3975-45AD-951B-B47B4C08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E6ED-DA92-4159-91C3-0AAD0E5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3F5B-3F18-4A7E-962E-54CF68FE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DE8E-E5F1-4BAB-ABFC-F73185F9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C657-319E-4530-9269-D3D2190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D500-839F-4BD8-8D23-15F201C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F91D-BDD3-4434-8B38-B086967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66FA-9FF2-4798-9FF6-295821C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59BB-DE41-4284-8EE3-73073991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BB8F-2499-4098-AD28-061D233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00BE-D358-4E51-8D4B-7BBEDFFF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15F4-43D3-4841-9901-6C63F32D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18A5-34A7-491E-AA83-A163A630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5F51-A897-4404-BBB0-A698B6A8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C60E-8071-4945-B38C-B772CAF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1605-95E1-4567-8EE5-53A36BC0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702D-A93C-426F-84BD-12E76C13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92E5-FB5B-4F82-9309-512D837C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96E0-03E6-430C-B789-AF558CC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2632-D290-48BE-9DA3-69CE971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2CC0-5809-4DF5-863D-52D4D1A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E9A8-F8AA-4E4A-9BCB-F66EFDF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1E03-8EBD-45D8-A6AB-C237D358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996D-560B-43B7-9178-69F4697E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D62F-99D0-4536-993D-92273E05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71C7-C321-46EC-B83E-E003324E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77AB-B105-43A2-9C79-AEB2AF9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DCC3-2816-4D3F-960D-698B296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4272-BA76-433A-B766-70B2627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BCDF-3DAE-4203-B50C-FE36277E4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130C-DFCC-48FC-9D57-20078AAF4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1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2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3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732-7304-4AC7-AA31-FAF41B5F919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9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9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0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0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1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1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2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E196-5CCE-49C4-9F99-E43F2B5918F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826920" y="981000"/>
            <a:ext cx="763272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466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КИСЛОРОДСОДЕРЖАЩ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ОРГАНИЧЕСК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ОЕДИ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512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 ОН  мет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эт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проп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9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бут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………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2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дек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3348000" y="1484280"/>
            <a:ext cx="201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R - O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3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Физические свой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2852640"/>
            <a:ext cx="3600360" cy="252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Ж, Ц, Р в 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О, Я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З (алкогольны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В (жгуч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Высшие спир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с С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Bookman Old Style"/>
              </a:rPr>
              <a:t>12</a:t>
            </a: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Bookman Old Style"/>
              </a:rPr>
              <a:t>25</a:t>
            </a: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ОН 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94840" y="1484280"/>
            <a:ext cx="7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7"/>
          <p:cNvSpPr txBox="1"/>
          <p:nvPr/>
        </p:nvSpPr>
        <p:spPr>
          <a:xfrm>
            <a:off x="395280" y="549360"/>
            <a:ext cx="820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Химические свойства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0048"/>
                </a:solidFill>
                <a:latin typeface="Comic Sans MS"/>
              </a:rPr>
              <a:t>1. Реакции замещения водорода в функциональной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40048"/>
                </a:solidFill>
                <a:latin typeface="Comic Sans MS"/>
              </a:rPr>
              <a:t>2. Реакции замещения функциональной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0048"/>
                </a:solidFill>
                <a:latin typeface="Comic Sans MS"/>
              </a:rPr>
              <a:t>3. Реакции ок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40048"/>
                </a:solidFill>
                <a:latin typeface="Comic Sans MS"/>
              </a:rPr>
              <a:t>4. Реакции элиминирования и этер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4788000" y="515772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R - O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329" name="Picture 4" descr="7_1_1"/>
          <p:cNvPicPr/>
          <p:nvPr/>
        </p:nvPicPr>
        <p:blipFill>
          <a:blip r:embed="rId1">
            <a:biLevel thresh="50000"/>
          </a:blip>
          <a:srcRect l="46057" t="7216" r="11077" b="41753"/>
          <a:stretch/>
        </p:blipFill>
        <p:spPr>
          <a:xfrm>
            <a:off x="5435640" y="2347920"/>
            <a:ext cx="3240000" cy="174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rot="20146200">
            <a:off x="6440400" y="3196800"/>
            <a:ext cx="505080" cy="216000"/>
          </a:xfrm>
          <a:custGeom>
            <a:avLst/>
            <a:gdLst>
              <a:gd name="textAreaLeft" fmla="*/ 96480 w 505080"/>
              <a:gd name="textAreaRight" fmla="*/ 324720 w 505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71" hR="21600" stAng="10800000" swAng="5400000"/>
                <a:lnTo>
                  <a:pt x="9747" y="0"/>
                </a:lnTo>
                <a:arcTo wR="8271" hR="21600" stAng="-5400000" swAng="2836991"/>
                <a:lnTo>
                  <a:pt x="21127" y="14400"/>
                </a:lnTo>
                <a:lnTo>
                  <a:pt x="17280" y="21600"/>
                </a:lnTo>
                <a:lnTo>
                  <a:pt x="12487" y="14400"/>
                </a:lnTo>
                <a:lnTo>
                  <a:pt x="16069" y="14400"/>
                </a:lnTo>
                <a:arcTo wR="8271" hR="21600" stAng="-2563009" swAng="-2719111"/>
                <a:lnTo>
                  <a:pt x="9009" y="86"/>
                </a:lnTo>
                <a:arcTo wR="8271" hR="21600" stAng="-5517881" swAng="-5282119"/>
                <a:close/>
              </a:path>
              <a:path fill="darkenLess" w="21600" h="21600">
                <a:moveTo>
                  <a:pt x="0" y="21600"/>
                </a:moveTo>
                <a:arcTo wR="8271" hR="21600" stAng="10800000" swAng="5400000"/>
                <a:lnTo>
                  <a:pt x="8271" y="0"/>
                </a:lnTo>
                <a:arcTo wR="8271" hR="21600" stAng="-5400000" swAng="117881"/>
                <a:lnTo>
                  <a:pt x="9009" y="86"/>
                </a:lnTo>
                <a:arcTo wR="8271" hR="21600" stAng="-5517881" swAng="-528211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739200">
            <a:off x="7234920" y="3284640"/>
            <a:ext cx="502920" cy="144360"/>
          </a:xfrm>
          <a:custGeom>
            <a:avLst/>
            <a:gdLst>
              <a:gd name="textAreaLeft" fmla="*/ 94680 w 502920"/>
              <a:gd name="textAreaRight" fmla="*/ 327960 w 502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87" hR="21600" stAng="10800000" swAng="5400000"/>
                <a:lnTo>
                  <a:pt x="10001" y="0"/>
                </a:lnTo>
                <a:arcTo wR="8187" hR="21600" stAng="-5400000" swAng="2819390"/>
                <a:lnTo>
                  <a:pt x="21132" y="14400"/>
                </a:lnTo>
                <a:lnTo>
                  <a:pt x="17280" y="21600"/>
                </a:lnTo>
                <a:lnTo>
                  <a:pt x="12492" y="14400"/>
                </a:lnTo>
                <a:lnTo>
                  <a:pt x="15905" y="14400"/>
                </a:lnTo>
                <a:arcTo wR="8187" hR="21600" stAng="-2580610" swAng="-2674228"/>
                <a:lnTo>
                  <a:pt x="9094" y="133"/>
                </a:lnTo>
                <a:arcTo wR="8187" hR="21600" stAng="-5545161" swAng="-5254839"/>
                <a:close/>
              </a:path>
              <a:path fill="darkenLess" w="21600" h="21600">
                <a:moveTo>
                  <a:pt x="0" y="21600"/>
                </a:moveTo>
                <a:arcTo wR="8187" hR="21600" stAng="10800000" swAng="5400000"/>
                <a:lnTo>
                  <a:pt x="8187" y="0"/>
                </a:lnTo>
                <a:arcTo wR="8187" hR="21600" stAng="-5400000" swAng="145161"/>
                <a:lnTo>
                  <a:pt x="9094" y="133"/>
                </a:lnTo>
                <a:arcTo wR="8187" hR="21600" stAng="-5545161" swAng="-525483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4"/>
          <p:cNvSpPr txBox="1"/>
          <p:nvPr/>
        </p:nvSpPr>
        <p:spPr>
          <a:xfrm>
            <a:off x="539640" y="404640"/>
            <a:ext cx="770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еакции замещения ВОДОРОДА в функциональной групп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24000" y="836640"/>
            <a:ext cx="8137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атомные спир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гируют с активными металлами, (проявляя кислотные свойства), образуя соли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коголя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R–OH +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RO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H +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+   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илат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908000" y="2411280"/>
            <a:ext cx="52563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560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1258920" y="476280"/>
            <a:ext cx="655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Bookman Old Style"/>
              </a:rPr>
              <a:t>Реакции замещения группы -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Bookman Old Style"/>
              <a:ea typeface="Bookman Old Style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79280" y="1628640"/>
            <a:ext cx="87854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мещ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ксильной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- 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исходит в реакции спиртов с галогеноводо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(проявляя свойства оснований)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H  +  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26160" y="501336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илбро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8431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979640" y="549360"/>
            <a:ext cx="5200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Bookman Old Style"/>
              </a:rPr>
              <a:t>Реакции дегидрат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250920" y="1052640"/>
            <a:ext cx="864216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нутри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ирт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образованием алке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в присутствии концентрированной серной кислоты 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0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=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      |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1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еж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образованием простых эфи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нагревании ни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0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+ 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1042920" y="549360"/>
            <a:ext cx="7143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Образование сложных эфи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468360" y="1052640"/>
            <a:ext cx="8496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пирты взаимодействуют с нерганическими и органическими кислотами, образуя сложные эфи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ир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сложн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нол     уксусная кисло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метилаце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ано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этилни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006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2484360" y="476280"/>
            <a:ext cx="452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Bookman Old Style"/>
              </a:rPr>
              <a:t>Реакции окисл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Bookman Old Style"/>
              <a:ea typeface="Bookman Old Style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08000" y="1268280"/>
            <a:ext cx="91440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и действии окисл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вичные спирты образуют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альдегид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, которые затем легко окисляются до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карбоновых кислот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ьдеги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и окислении вторичных спиртов образуются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кетон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'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РЕАКЦИЯ ГОРЕНИЕ (горят синим пламен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СПИРТ + О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 → СО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 + Н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С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Н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Comic Sans MS"/>
              </a:rPr>
              <a:t>5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ОН + 3О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240048"/>
                </a:solidFill>
                <a:latin typeface="Arial"/>
              </a:rPr>
              <a:t>→ 2СО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Arial"/>
              </a:rPr>
              <a:t> + 3Н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755640" y="549360"/>
            <a:ext cx="770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Химические свойст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многоатомных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90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8120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221600" cy="10288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3300"/>
                </a:solidFill>
                <a:latin typeface="Comic Sans MS"/>
              </a:rPr>
              <a:t>Получение спиртов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639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omic Sans MS"/>
              </a:rPr>
              <a:t>Метанол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omic Sans MS"/>
              </a:rPr>
              <a:t>Этанол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Из синтез – газ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гидратация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О + 2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= С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эти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4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+ 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 = 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Из галоген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Br + KOH = ROH + K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Из глюк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 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Н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+ 2CO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9900"/>
                </a:solidFill>
                <a:latin typeface="Comic Sans MS"/>
              </a:rPr>
              <a:t>Из древесины, крахмал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580000" y="3284640"/>
            <a:ext cx="2448000" cy="23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76920" y="3212640"/>
            <a:ext cx="2216160" cy="4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562720" y="3284640"/>
            <a:ext cx="1962000" cy="90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2819160" y="2819160"/>
            <a:ext cx="2286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76520" y="16761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019920" y="16761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9436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р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006560" cy="1676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1476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003e"/>
                </a:solidFill>
                <a:latin typeface="Bookman Old Style"/>
              </a:rPr>
              <a:t>КИСЛОРОДСОДЕРЖАЩИЕ СОЕДИН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36"/>
                </a:solidFill>
                <a:latin typeface="Comic Sans MS"/>
              </a:rPr>
              <a:t>Спирт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Альдегид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 Углевод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Карбоновые кислот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Comic Sans MS"/>
              </a:rPr>
              <a:t>Жир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Эфи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514240" y="1447920"/>
            <a:ext cx="685800" cy="30456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742840" y="1447920"/>
            <a:ext cx="685800" cy="8380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1447920"/>
            <a:ext cx="533520" cy="22860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447920"/>
            <a:ext cx="1371600" cy="91440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1523880"/>
            <a:ext cx="380880" cy="68580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1371600"/>
            <a:ext cx="0" cy="3808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2843280" y="3284640"/>
            <a:ext cx="3527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рт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2195640" y="4581360"/>
            <a:ext cx="540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алкоголи)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6"/>
          <p:cNvSpPr txBox="1"/>
          <p:nvPr/>
        </p:nvSpPr>
        <p:spPr>
          <a:xfrm>
            <a:off x="1332000" y="476280"/>
            <a:ext cx="6522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 Antiqua"/>
              </a:rPr>
              <a:t>Применение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 Antiqua"/>
              <a:ea typeface="Book Antiqua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08000" y="1557360"/>
            <a:ext cx="3960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Метанол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cc66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оизводство формальдегида, муравьиной кисл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твор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3635280" y="1268280"/>
            <a:ext cx="518472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Этанол С</a:t>
            </a:r>
            <a:r>
              <a:rPr b="1" lang="ru-RU" sz="2400" spc="-1" strike="noStrike" baseline="-25000">
                <a:solidFill>
                  <a:srgbClr val="cc66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</a:t>
            </a:r>
            <a:r>
              <a:rPr b="1" lang="ru-RU" sz="2400" spc="-1" strike="noStrike" baseline="-25000">
                <a:solidFill>
                  <a:srgbClr val="cc6600"/>
                </a:solidFill>
                <a:latin typeface="Comic Sans MS"/>
              </a:rPr>
              <a:t>5</a:t>
            </a: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О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этиловый сп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оизводство ацетальдегида, уксусной кислоты, бутади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остых и сложных эфи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растворитель для красителей, лекарственных и парфюмерн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оизводство ликеро-водочных изде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дезинфицирующее средство в медиц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ючее для двигателей, добавка к моторным топлива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1"/>
          <p:cNvPicPr/>
          <p:nvPr/>
        </p:nvPicPr>
        <p:blipFill>
          <a:blip r:embed="rId1"/>
          <a:stretch/>
        </p:blipFill>
        <p:spPr>
          <a:xfrm>
            <a:off x="539640" y="4797360"/>
            <a:ext cx="2664000" cy="17496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1476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54271"/>
          <p:cNvPicPr/>
          <p:nvPr/>
        </p:nvPicPr>
        <p:blipFill>
          <a:blip r:embed="rId1"/>
          <a:stretch/>
        </p:blipFill>
        <p:spPr>
          <a:xfrm>
            <a:off x="5219640" y="4221000"/>
            <a:ext cx="3529080" cy="2435400"/>
          </a:xfrm>
          <a:prstGeom prst="rect">
            <a:avLst/>
          </a:prstGeom>
          <a:ln w="0">
            <a:noFill/>
          </a:ln>
        </p:spPr>
      </p:pic>
      <p:sp>
        <p:nvSpPr>
          <p:cNvPr id="367" name="WordArt 5"/>
          <p:cNvSpPr txBox="1"/>
          <p:nvPr/>
        </p:nvSpPr>
        <p:spPr>
          <a:xfrm>
            <a:off x="1403280" y="476280"/>
            <a:ext cx="65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 Antiqua"/>
              </a:rPr>
              <a:t>Применение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 Antiqua"/>
              <a:ea typeface="Book Antiqua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907920"/>
            <a:ext cx="3744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иленглик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HOCH</a:t>
            </a:r>
            <a:r>
              <a:rPr b="1" lang="ru-RU" sz="2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о пласт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понент антифриз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ырье в органическом синт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4211640" y="907920"/>
            <a:ext cx="43927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лице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HOCH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)-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рмацевтическая и парфюмерная промыш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смягчитель кожи и тка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производство взрывчат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olg3"/>
          <p:cNvPicPr/>
          <p:nvPr/>
        </p:nvPicPr>
        <p:blipFill>
          <a:blip r:embed="rId2"/>
          <a:stretch/>
        </p:blipFill>
        <p:spPr>
          <a:xfrm>
            <a:off x="539640" y="443700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476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5"/>
          <p:cNvSpPr/>
          <p:nvPr/>
        </p:nvSpPr>
        <p:spPr>
          <a:xfrm>
            <a:off x="468360" y="47628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Спиртами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зывают производные углеводородов, в молекулах которых один или несколько атомов водорода замещены гидроксильными груп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512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 ОН  ме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э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проп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9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бу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1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пен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6084720" y="2637000"/>
            <a:ext cx="20163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R - O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08720" y="4005360"/>
            <a:ext cx="3384360" cy="19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R</a:t>
            </a: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 углеводоро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рад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ОН – гидрок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3"/>
          <p:cNvSpPr txBox="1"/>
          <p:nvPr/>
        </p:nvSpPr>
        <p:spPr>
          <a:xfrm>
            <a:off x="1258920" y="40464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Классификация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4000" y="1197000"/>
            <a:ext cx="84960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числу гидроксильных груп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ирты подразделяю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дноатомны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дна группа -ОН) 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многоатом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е и более групп -О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хатомный спирт – этиленгликоль (этандиол -1,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С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хатомный спирт – глицерин (пропантриол-1,2,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O–С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СН(ОН)–C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троению радика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анных с атомом кислорода, различают спир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или алканолы (например, С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O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или алкенолы (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CH–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O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O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468360" y="26028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Спирты могут быть </a:t>
            </a:r>
            <a:r>
              <a:rPr b="1" i="1" lang="en-US" sz="2800" spc="-1" strike="noStrike" u="sng">
                <a:solidFill>
                  <a:srgbClr val="26004c"/>
                </a:solidFill>
                <a:uFillTx/>
                <a:latin typeface="Arial"/>
              </a:rPr>
              <a:t>первичными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, </a:t>
            </a:r>
            <a:r>
              <a:rPr b="1" i="1" lang="en-US" sz="2800" spc="-1" strike="noStrike" u="sng">
                <a:solidFill>
                  <a:srgbClr val="26004c"/>
                </a:solidFill>
                <a:uFillTx/>
                <a:latin typeface="Arial"/>
              </a:rPr>
              <a:t>вторичными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 или </a:t>
            </a:r>
            <a:r>
              <a:rPr b="1" i="1" lang="en-US" sz="2800" spc="-1" strike="noStrike" u="sng">
                <a:solidFill>
                  <a:srgbClr val="26004c"/>
                </a:solidFill>
                <a:uFillTx/>
                <a:latin typeface="Arial"/>
              </a:rPr>
              <a:t>третичными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 в зависимости от того, при каком атоме углерода находится гидроксильна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475160" cy="2236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888000" cy="2168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49150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7_1_3"/>
          <p:cNvPicPr/>
          <p:nvPr/>
        </p:nvPicPr>
        <p:blipFill>
          <a:blip r:embed="rId1"/>
          <a:srcRect l="39207" t="0" r="0" b="4897"/>
          <a:stretch/>
        </p:blipFill>
        <p:spPr>
          <a:xfrm>
            <a:off x="471600" y="1484280"/>
            <a:ext cx="3452760" cy="259092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293" name="Text Box 7"/>
          <p:cNvSpPr/>
          <p:nvPr/>
        </p:nvSpPr>
        <p:spPr>
          <a:xfrm>
            <a:off x="826920" y="476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НОМЕНКЛАТУРА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4427640" y="148428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истематические названия спиртов даются по названию углеводорода с добавлением суффикса -ол и цифры, указывающей положение гидроксо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908000" y="4437000"/>
            <a:ext cx="561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     2     3      4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– СН – 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– 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2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– 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ПЕНТАН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ОЛ</a:t>
            </a:r>
            <a:r>
              <a:rPr b="1" i="1" lang="ru-RU" sz="2800" spc="-1" strike="noStrike">
                <a:solidFill>
                  <a:srgbClr val="003300"/>
                </a:solidFill>
                <a:latin typeface="Comic Sans MS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3"/>
          <p:cNvSpPr txBox="1"/>
          <p:nvPr/>
        </p:nvSpPr>
        <p:spPr>
          <a:xfrm>
            <a:off x="1763640" y="40464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Изомерия и номенклату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50920" y="907920"/>
            <a:ext cx="86407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изомерия положения ОН – групп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004c"/>
                </a:solidFill>
                <a:latin typeface="Arial"/>
              </a:rPr>
              <a:t>1         2        3        4                           1         2        3        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                                                               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танол – 1                                         Бутанол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углеродного скелета;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004c"/>
                </a:solidFill>
                <a:latin typeface="Arial"/>
              </a:rPr>
              <a:t>1         2        3        4        5               1        2         3      4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 - СН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                                                    ОН              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нтанол -1                                    3- метилбутанол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межклассовая изомерия с простыми эфи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O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O–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анол (этиловый спирт)         диметиловый эф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476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4402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33"/>
                </a:solidFill>
                <a:latin typeface="Mistral"/>
              </a:rPr>
              <a:t>СТРО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4723920"/>
            <a:ext cx="889308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00060"/>
                </a:solidFill>
                <a:latin typeface="Comic Sans MS"/>
              </a:rPr>
              <a:t>СН</a:t>
            </a:r>
            <a:r>
              <a:rPr b="1" lang="en-US" sz="4800" spc="-1" strike="noStrike" baseline="-25000">
                <a:solidFill>
                  <a:srgbClr val="30006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300060"/>
                </a:solidFill>
                <a:latin typeface="Comic Sans MS"/>
              </a:rPr>
              <a:t> – СН = СН – СН</a:t>
            </a:r>
            <a:r>
              <a:rPr b="1" lang="en-US" sz="4800" spc="-1" strike="noStrike" baseline="-25000">
                <a:solidFill>
                  <a:srgbClr val="300060"/>
                </a:solidFill>
                <a:latin typeface="Comic Sans MS"/>
              </a:rPr>
              <a:t>2</a:t>
            </a:r>
            <a:r>
              <a:rPr b="1" lang="en-US" sz="4800" spc="-1" strike="noStrike">
                <a:solidFill>
                  <a:srgbClr val="300060"/>
                </a:solidFill>
                <a:latin typeface="Comic Sans MS"/>
              </a:rPr>
              <a:t> – 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Виды гибридизации атомов угле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Виды химических связ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7280" y="1790640"/>
            <a:ext cx="3960720" cy="2502720"/>
            <a:chOff x="2627280" y="1790640"/>
            <a:chExt cx="3960720" cy="2502720"/>
          </a:xfrm>
        </p:grpSpPr>
        <p:sp>
          <p:nvSpPr>
            <p:cNvPr id="302" name="WordArt 4"/>
            <p:cNvSpPr txBox="1"/>
            <p:nvPr/>
          </p:nvSpPr>
          <p:spPr>
            <a:xfrm>
              <a:off x="2627280" y="2560320"/>
              <a:ext cx="3960720" cy="133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0066"/>
                  </a:solidFill>
                  <a:latin typeface="Times New Roman"/>
                </a:rPr>
                <a:t>R  O  H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692160" y="2956320"/>
              <a:ext cx="176760" cy="495000"/>
              <a:chOff x="3692160" y="2956320"/>
              <a:chExt cx="176760" cy="495000"/>
            </a:xfrm>
          </p:grpSpPr>
          <p:sp>
            <p:nvSpPr>
              <p:cNvPr id="304" name=""/>
              <p:cNvSpPr/>
              <p:nvPr/>
            </p:nvSpPr>
            <p:spPr>
              <a:xfrm>
                <a:off x="3692160" y="2956320"/>
                <a:ext cx="176760" cy="1483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92160" y="3303360"/>
                <a:ext cx="176760" cy="1479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228640" y="2907360"/>
              <a:ext cx="176760" cy="495000"/>
              <a:chOff x="5228640" y="2907360"/>
              <a:chExt cx="176760" cy="495000"/>
            </a:xfrm>
          </p:grpSpPr>
          <p:sp>
            <p:nvSpPr>
              <p:cNvPr id="307" name=""/>
              <p:cNvSpPr/>
              <p:nvPr/>
            </p:nvSpPr>
            <p:spPr>
              <a:xfrm>
                <a:off x="5228640" y="2907360"/>
                <a:ext cx="176760" cy="1483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28640" y="3254400"/>
                <a:ext cx="176760" cy="1479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341240" y="2165040"/>
              <a:ext cx="531000" cy="148320"/>
              <a:chOff x="4341240" y="2165040"/>
              <a:chExt cx="531000" cy="148320"/>
            </a:xfrm>
          </p:grpSpPr>
          <p:sp>
            <p:nvSpPr>
              <p:cNvPr id="310" name=""/>
              <p:cNvSpPr/>
              <p:nvPr/>
            </p:nvSpPr>
            <p:spPr>
              <a:xfrm flipH="1" rot="5400000">
                <a:off x="4718520" y="2159640"/>
                <a:ext cx="148320" cy="1591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5400000">
                <a:off x="4345920" y="2159640"/>
                <a:ext cx="148320" cy="1587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282560" y="4145400"/>
              <a:ext cx="531000" cy="147960"/>
              <a:chOff x="4282560" y="4145400"/>
              <a:chExt cx="531000" cy="147960"/>
            </a:xfrm>
          </p:grpSpPr>
          <p:sp>
            <p:nvSpPr>
              <p:cNvPr id="313" name=""/>
              <p:cNvSpPr/>
              <p:nvPr/>
            </p:nvSpPr>
            <p:spPr>
              <a:xfrm flipH="1" rot="5400000">
                <a:off x="4659840" y="4139640"/>
                <a:ext cx="147960" cy="1591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5400000">
                <a:off x="4287600" y="4140000"/>
                <a:ext cx="147960" cy="1587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21002400">
              <a:off x="2981520" y="2016360"/>
              <a:ext cx="1282680" cy="396000"/>
            </a:xfrm>
            <a:custGeom>
              <a:avLst/>
              <a:gdLst>
                <a:gd name="textAreaLeft" fmla="*/ 238680 w 1282680"/>
                <a:gd name="textAreaRight" fmla="*/ 837360 w 1282680"/>
                <a:gd name="textAreaTop" fmla="*/ 52920 h 396000"/>
                <a:gd name="textAreaBottom" fmla="*/ 343080 h 39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38" hR="21600" stAng="10800000" swAng="5400000"/>
                  <a:lnTo>
                    <a:pt x="10082" y="0"/>
                  </a:lnTo>
                  <a:arcTo wR="8038" hR="21600" stAng="-5400000" swAng="2787874"/>
                  <a:lnTo>
                    <a:pt x="21140" y="14400"/>
                  </a:lnTo>
                  <a:lnTo>
                    <a:pt x="17097" y="21600"/>
                  </a:lnTo>
                  <a:lnTo>
                    <a:pt x="12134" y="14400"/>
                  </a:lnTo>
                  <a:lnTo>
                    <a:pt x="15615" y="14400"/>
                  </a:lnTo>
                  <a:arcTo wR="8038" hR="21600" stAng="-2612126" swAng="-2624011"/>
                  <a:lnTo>
                    <a:pt x="9060" y="175"/>
                  </a:lnTo>
                  <a:arcTo wR="8038" hR="21600" stAng="-5563863" swAng="-5236137"/>
                  <a:close/>
                </a:path>
                <a:path fill="darkenLess" w="21600" h="21600">
                  <a:moveTo>
                    <a:pt x="0" y="21600"/>
                  </a:moveTo>
                  <a:arcTo wR="8038" hR="21600" stAng="10800000" swAng="5400000"/>
                  <a:lnTo>
                    <a:pt x="8038" y="0"/>
                  </a:lnTo>
                  <a:arcTo wR="8038" hR="21600" stAng="-5400000" swAng="163863"/>
                  <a:lnTo>
                    <a:pt x="9060" y="175"/>
                  </a:lnTo>
                  <a:arcTo wR="8038" hR="21600" stAng="-5563863" swAng="-523613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655200">
              <a:off x="4871520" y="1915920"/>
              <a:ext cx="1359000" cy="345600"/>
            </a:xfrm>
            <a:custGeom>
              <a:avLst/>
              <a:gdLst>
                <a:gd name="textAreaLeft" fmla="*/ 252360 w 1359000"/>
                <a:gd name="textAreaRight" fmla="*/ 886680 w 1359000"/>
                <a:gd name="textAreaTop" fmla="*/ 46080 h 345600"/>
                <a:gd name="textAreaBottom" fmla="*/ 29952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38" hR="21600" stAng="10800000" swAng="5400000"/>
                  <a:lnTo>
                    <a:pt x="10082" y="0"/>
                  </a:lnTo>
                  <a:arcTo wR="8038" hR="21600" stAng="-5400000" swAng="2787874"/>
                  <a:lnTo>
                    <a:pt x="21140" y="14400"/>
                  </a:lnTo>
                  <a:lnTo>
                    <a:pt x="17097" y="21600"/>
                  </a:lnTo>
                  <a:lnTo>
                    <a:pt x="12134" y="14400"/>
                  </a:lnTo>
                  <a:lnTo>
                    <a:pt x="15615" y="14400"/>
                  </a:lnTo>
                  <a:arcTo wR="8038" hR="21600" stAng="-2612126" swAng="-2624011"/>
                  <a:lnTo>
                    <a:pt x="9060" y="175"/>
                  </a:lnTo>
                  <a:arcTo wR="8038" hR="21600" stAng="-5563863" swAng="-5236137"/>
                  <a:close/>
                </a:path>
                <a:path fill="darkenLess" w="21600" h="21600">
                  <a:moveTo>
                    <a:pt x="0" y="21600"/>
                  </a:moveTo>
                  <a:arcTo wR="8038" hR="21600" stAng="10800000" swAng="5400000"/>
                  <a:lnTo>
                    <a:pt x="8038" y="0"/>
                  </a:lnTo>
                  <a:arcTo wR="8038" hR="21600" stAng="-5400000" swAng="163863"/>
                  <a:lnTo>
                    <a:pt x="9060" y="175"/>
                  </a:lnTo>
                  <a:arcTo wR="8038" hR="21600" stAng="-5563863" swAng="-523613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1547640" y="476280"/>
            <a:ext cx="60487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Физические свой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68360" y="170028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едствием полярности связи О–Н и наличия неподеленных пар электронов на атоме кислорода является способность спиртов к образованию </a:t>
            </a:r>
            <a:r>
              <a:rPr b="1" lang="ru-RU" sz="2400" spc="-1" strike="noStrike">
                <a:solidFill>
                  <a:srgbClr val="660066"/>
                </a:solidFill>
                <a:latin typeface="Bookman Old Style"/>
              </a:rPr>
              <a:t>водородных связей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объясняет, почему даже низшие спирты - жидкости с относительно высокой температурой кипения (т.кип. метанола +64,5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1042920" y="1052640"/>
            <a:ext cx="720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660066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ВОДОРОДНЫЕ СВЯЗИ</a:t>
            </a:r>
            <a:endParaRPr b="1" lang="en-US" sz="1800" spc="1" strike="noStrike">
              <a:ln w="22320">
                <a:solidFill>
                  <a:srgbClr val="660066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93080" y="3429000"/>
            <a:ext cx="1476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8:45:13Z</dcterms:created>
  <dc:creator>Наталья</dc:creator>
  <dc:description/>
  <dc:language>en-US</dc:language>
  <cp:lastModifiedBy>1</cp:lastModifiedBy>
  <dcterms:modified xsi:type="dcterms:W3CDTF">2001-12-31T21:21:09Z</dcterms:modified>
  <cp:revision>27</cp:revision>
  <dc:subject/>
  <dc:title>Слайд 1</dc:title>
</cp:coreProperties>
</file>