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800-C113-43B2-A3A1-56A56628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17C-2869-44E5-8F93-DC016E27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BAE-A47D-4214-A0EA-3A1A696C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8ED-D699-4A78-AAAC-18626071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700-C628-42B7-8275-B73CB335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B4D5-9622-4DFE-912D-49F9BDBF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C06-5EA3-4BF9-B100-94919B1F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5A3-F869-4F2F-ACE3-98A6271D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7E9-7160-446D-B71A-68F977A2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0763-2E81-49BB-94D0-928A9015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5DEB-4FAB-4959-A4A9-C6895CFC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3F4-F03C-470E-9478-2AE69F01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48A5-D901-4CDC-A6F6-B665C23F4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4680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 Black"/>
              </a:rPr>
              <a:t>ГБОУ ГИМНАЗИЯ № 402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 Black"/>
              </a:rPr>
              <a:t>им. Алии Молдагуловой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 Black"/>
              </a:rPr>
              <a:t>(структурное 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 Black"/>
              </a:rPr>
              <a:t>подразделение № 3)</a:t>
            </a:r>
            <a:br>
              <a:rPr sz="1800"/>
            </a:br>
            <a:br>
              <a:rPr sz="2400"/>
            </a:b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 Black"/>
              </a:rPr>
              <a:t>ПРОЕКТ НА ТЕМУ:</a:t>
            </a:r>
            <a:br>
              <a:rPr sz="1800"/>
            </a:br>
            <a:br>
              <a:rPr sz="2000"/>
            </a:br>
            <a:r>
              <a:rPr b="1" lang="ru-RU" sz="4000" spc="-1" strike="noStrike">
                <a:solidFill>
                  <a:srgbClr val="ff9900"/>
                </a:solidFill>
                <a:latin typeface="Arial Black"/>
              </a:rPr>
              <a:t>«ТРАНСПОРТ»</a:t>
            </a:r>
            <a:br>
              <a:rPr sz="3600"/>
            </a:br>
            <a:br>
              <a:rPr sz="3600"/>
            </a:b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В ГРУППЕ СРЕДНЕГО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ДОШКОЛЬНОГО ВЗРАСТА</a:t>
            </a:r>
            <a:br>
              <a:rPr sz="28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651640" y="404640"/>
            <a:ext cx="3382920" cy="25369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08000" y="1484280"/>
            <a:ext cx="5398920" cy="40482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755640" y="333360"/>
            <a:ext cx="345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дактическая иг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азлы. Транспор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651640" y="4005360"/>
            <a:ext cx="3394080" cy="2544840"/>
          </a:xfrm>
          <a:prstGeom prst="rect">
            <a:avLst/>
          </a:prstGeom>
          <a:ln w="158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4968720" cy="37288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4759200" cy="35701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84360" y="4292640"/>
            <a:ext cx="30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/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Какой транспорт ед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ыстрее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80000" y="1052640"/>
            <a:ext cx="302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/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Где движ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7920000" cy="594036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4522680" cy="33922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140360" y="3068640"/>
            <a:ext cx="4895640" cy="367344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395280" y="422100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/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Кто чем управля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4405320" cy="330516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3500280"/>
            <a:ext cx="4321080" cy="32418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95280" y="4076640"/>
            <a:ext cx="345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спитанников. Изгот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нижек-малышек на 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Транспор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042920" y="-171360"/>
            <a:ext cx="72741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50000">
                      <a:srgbClr val="006600"/>
                    </a:gs>
                    <a:gs pos="100000">
                      <a:srgbClr val="cc9900"/>
                    </a:gs>
                  </a:gsLst>
                  <a:lin ang="5400000"/>
                </a:gradFill>
                <a:latin typeface="Impact"/>
              </a:rPr>
              <a:t>СПАСИБО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50000">
                    <a:srgbClr val="006600"/>
                  </a:gs>
                  <a:gs pos="100000">
                    <a:srgbClr val="cc99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50000">
                      <a:srgbClr val="006600"/>
                    </a:gs>
                    <a:gs pos="100000">
                      <a:srgbClr val="cc9900"/>
                    </a:gs>
                  </a:gsLst>
                  <a:lin ang="5400000"/>
                </a:gradFill>
                <a:latin typeface="Impact"/>
              </a:rPr>
              <a:t>З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50000">
                    <a:srgbClr val="006600"/>
                  </a:gs>
                  <a:gs pos="100000">
                    <a:srgbClr val="cc99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50000">
                      <a:srgbClr val="006600"/>
                    </a:gs>
                    <a:gs pos="100000">
                      <a:srgbClr val="cc9900"/>
                    </a:gs>
                  </a:gsLst>
                  <a:lin ang="5400000"/>
                </a:gradFill>
                <a:latin typeface="Impact"/>
              </a:rPr>
              <a:t>ВНИМАНИЕ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50000">
                    <a:srgbClr val="006600"/>
                  </a:gs>
                  <a:gs pos="100000">
                    <a:srgbClr val="cc99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356000" y="260280"/>
            <a:ext cx="4932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ВОТ ЧТО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НУЖНО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ЗНАТЬ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4032360" cy="2678040"/>
          </a:xfrm>
          <a:prstGeom prst="rect">
            <a:avLst/>
          </a:prstGeom>
          <a:ln w="12600">
            <a:solidFill>
              <a:srgbClr val="9933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611280" y="2997360"/>
            <a:ext cx="8281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такое транспортное сред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Виды и назначение транспорта: назем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одный, воздушный, подвод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дземный, специа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Ориентироваться в прошлом и настоящ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ассажирского тран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О профессиях людей работающих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азных видах тран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Правила поведения в транспор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258920" y="115920"/>
            <a:ext cx="66978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Литература и пособ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использованны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о теме "ТРАНСПОРТ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8000" y="1844640"/>
            <a:ext cx="1454040" cy="20368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763640" y="1916280"/>
            <a:ext cx="2737080" cy="19443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643280" y="1844640"/>
            <a:ext cx="1441440" cy="20383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52" name="" descr="http://bukvarius.ru/upload/iblock/a54/a542f69b4f857d8468da1ec6cb03ab66.jpg"/>
          <p:cNvPicPr/>
          <p:nvPr/>
        </p:nvPicPr>
        <p:blipFill>
          <a:blip r:embed="rId5"/>
          <a:stretch/>
        </p:blipFill>
        <p:spPr>
          <a:xfrm>
            <a:off x="108000" y="4292640"/>
            <a:ext cx="1708200" cy="2303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6227640" y="1916280"/>
            <a:ext cx="2737080" cy="19443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54" name="" descr="http://www.img3.imgbb.ru/2/e/0/2e0a1c65c552b66529207615b2e454c1.jpg"/>
          <p:cNvPicPr/>
          <p:nvPr/>
        </p:nvPicPr>
        <p:blipFill>
          <a:blip r:embed="rId7"/>
          <a:stretch/>
        </p:blipFill>
        <p:spPr>
          <a:xfrm>
            <a:off x="2124000" y="4292640"/>
            <a:ext cx="1908360" cy="2303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55" name="" descr="http://ruslania.com/pictures/big/9785353062455.jpg"/>
          <p:cNvPicPr/>
          <p:nvPr/>
        </p:nvPicPr>
        <p:blipFill>
          <a:blip r:embed="rId8"/>
          <a:stretch/>
        </p:blipFill>
        <p:spPr>
          <a:xfrm>
            <a:off x="4284720" y="4292640"/>
            <a:ext cx="2001960" cy="2303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6516720" y="4292640"/>
            <a:ext cx="2303280" cy="22874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ид проекта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сугово-познава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рок работы по проекту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лгосроч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Цель проек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витие свободной творческой личности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витие  познавательных способ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витие творческого мыш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витие коммуникативных навы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общить и систематизировать представления детей 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ах и особенностях передвижения человека в разных средах 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мощью транспор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должать знакомить дошкольников с предметным ми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дачи проек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ширять знания детей о транспорте (наз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ранспортного средства, назначение, прошлое и настоящее транспор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точнять и расширять словарь по теме «Транспор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креплять умения детей классифицировать транспорт: назем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дный, воздушный, водный, подводный, подземн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точнить и расширить представления детей о правилах поведения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ранспор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ать знания о профессиях людей  работающих на разных вид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ранспорта. Воспитывать уважительное отношение к труду работ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ранспо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55640" y="115920"/>
            <a:ext cx="763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Информационная характеристи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роект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частники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ти среднего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одители воспитан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спитатель средней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арший воспита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дуктами проектной деятельност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льбом детских работ на тему «Транспор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тографический материал 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спекты 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ультимедийная презентация на тему «Плывем, едем и лети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55640" y="115920"/>
            <a:ext cx="763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Информационная характеристи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роект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63" name="" descr="Что перепутал художник.Дидактический материал."/>
          <p:cNvPicPr/>
          <p:nvPr/>
        </p:nvPicPr>
        <p:blipFill>
          <a:blip r:embed="rId2"/>
          <a:stretch/>
        </p:blipFill>
        <p:spPr>
          <a:xfrm>
            <a:off x="108000" y="4149720"/>
            <a:ext cx="3549600" cy="25606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64" name="" descr="Транспортные средства и их звуки - обучающая игра для малышей и детей дошкольного возраста По Yossi Raichman"/>
          <p:cNvPicPr/>
          <p:nvPr/>
        </p:nvPicPr>
        <p:blipFill>
          <a:blip r:embed="rId3"/>
          <a:stretch/>
        </p:blipFill>
        <p:spPr>
          <a:xfrm>
            <a:off x="3708360" y="4149720"/>
            <a:ext cx="2551320" cy="25509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65" name="" descr="Пожарная безопасность для детей в картинках - Поделки"/>
          <p:cNvPicPr/>
          <p:nvPr/>
        </p:nvPicPr>
        <p:blipFill>
          <a:blip r:embed="rId4"/>
          <a:stretch/>
        </p:blipFill>
        <p:spPr>
          <a:xfrm>
            <a:off x="6372360" y="4149720"/>
            <a:ext cx="2658960" cy="2519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556000" y="115920"/>
            <a:ext cx="38178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ЛАН РАБОТЫ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549360"/>
          <a:ext cx="8507520" cy="5999040"/>
        </p:xfrm>
        <a:graphic>
          <a:graphicData uri="http://schemas.openxmlformats.org/drawingml/2006/table">
            <a:tbl>
              <a:tblPr/>
              <a:tblGrid>
                <a:gridCol w="2552760"/>
                <a:gridCol w="595476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В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ОСНОВНЫЕ ФОРМЫ РАБО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С ДЕТЬ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ПОЗНАВАТЕЛЬНОЕ РАЗВИТИЕ, РЕЧЕВОЕ РАЗВИТ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cc3300"/>
                          </a:solidFill>
                          <a:uFillTx/>
                          <a:latin typeface="Verdana"/>
                        </a:rPr>
                        <a:t>Образовательные ситуации: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омощники в путешествии: транспорт»; 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циальный транспорт»; «Профессии людей работающих на разных видах транспорта»; «Правила поведения в транспорте»; «Правила поведения на дороге»; просмотр мультимедийной презентации на тему «Плывем, едем и летим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Д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/и «Группы транспорта»;Словесная д/и «Доскажи словечко» (назвать вид транспорта); Д/и «Какой вид транспорта движется быстрее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cc3300"/>
                          </a:solidFill>
                          <a:uFillTx/>
                          <a:latin typeface="Verdana"/>
                        </a:rPr>
                        <a:t>Восприятие художественной и познавательной литературы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ение стихов о транспорте; Е. Заостровцева «Игрушечная поэма. «Машина по имени Кот»; И. Токмакова «Поиграем»; прослушивание аудиоэнциклопедии «Автомобили и транспорт»; С. А. Баруздин «Сказка о трамвае»; чтение и рассматривание иллюстраций книги «Титаник. Корабль мечты»; чтение художественной литературы по мотивам мультипликационного фильма «Тачки»: «Ржавое состязание», «Буря в пустыне»; н. Носов «Автомобиль»; чтение стихотворения «Большое путешествие»; чтение стихов о специальном транспорте; С. Михалков «Шел трамвай десятый номер»; Ирина Глазунова «сказки про машин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700360" y="115920"/>
            <a:ext cx="4105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ЛАН РАБОТЫ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620640"/>
          <a:ext cx="8291160" cy="5832360"/>
        </p:xfrm>
        <a:graphic>
          <a:graphicData uri="http://schemas.openxmlformats.org/drawingml/2006/table">
            <a:tbl>
              <a:tblPr/>
              <a:tblGrid>
                <a:gridCol w="2486880"/>
                <a:gridCol w="5804280"/>
              </a:tblGrid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ВИД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ОСНОВНЫЕ ФОРМЫ РАБО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С ДЕТЬ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Д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ПОЗНАВАТЕЛЬНОЕ РАЗВИТИЕ, ХУДОЖЕСТВЕННО-ЭСТЕТИЧЕСКОЕ РАЗВИТ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 «Транспорт. Фургон»; конструирование из бумаги «Автобус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Д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/и Развивающее лото «Чудо-техника»; работа с раскрасками на тему «Транспорт»; беседы с детьми на темы: «Транспорт», «Специальный транспорт», «Правила поведения в транспорте», «Какие марки машин я знаю»; отгадывание загадок на тему «Транспорт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 время прогулки беседы, рассматривание транспор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остоя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бирание пазлов «Транспорт»; работа с раскрасками на тему «Транспорт»; рассматривание иллюстраций в книгах, журналах, просмотр мультипликационного фильма «Тачки»; игровые ситуации (игры со строительным материалом(«Моя улица», «Гараж», «Автостоянка»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заимодействие с семьями воспитан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готовление разного вида транспорта из бросового материала. Рассматривание разных видов транспорта во время прогулки с родителями. Изготовление книжек-малышек на тему «Транспор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700360" y="1916280"/>
            <a:ext cx="3889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ОТОГРАФИЧЕСКИ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АТЕРИАЛ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211640" y="549360"/>
            <a:ext cx="4788000" cy="35910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3994200" cy="53244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468360" y="5661000"/>
            <a:ext cx="30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формление предме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ранственно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теме «Транспор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19640" y="4365720"/>
            <a:ext cx="302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чной тр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кет у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19:24:09Z</dcterms:created>
  <dc:creator>Гоша</dc:creator>
  <dc:description/>
  <dc:language>en-US</dc:language>
  <cp:lastModifiedBy>Гоша</cp:lastModifiedBy>
  <dcterms:modified xsi:type="dcterms:W3CDTF">2015-10-12T18:25:16Z</dcterms:modified>
  <cp:revision>8</cp:revision>
  <dc:subject/>
  <dc:title>Слайд 1</dc:title>
</cp:coreProperties>
</file>