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9CB-7020-4072-A82D-E3FFCDF9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A25-F54E-4EB4-85B2-6A331110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D98-6B24-46B5-B696-CC697227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465-716A-4138-B687-7A75176D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221-7CED-4544-B504-FE29A6D9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90B-2E0D-4BCB-97BE-0A261AD0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825-2F8A-44CB-8B03-ABA65465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7F4-55A1-422C-8544-85EB771B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DFE-82C0-40A9-BC3F-486EB9BB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0ED-FA35-4E01-B8C6-1CA15E93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F0A-62FA-4BB4-9C26-335AC27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C21-A819-4635-B1BD-6BB3B4A2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9634-E2ED-4509-B68D-944BCE02C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4680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ГБОУ ГИМНАЗИЯ № 402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им. Алии Молдагуловой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(структурное 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подразделение № 3)</a:t>
            </a:r>
            <a:br>
              <a:rPr sz="1800"/>
            </a:br>
            <a:br>
              <a:rPr sz="2400"/>
            </a:b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 Black"/>
              </a:rPr>
              <a:t>ПРОЕКТ НА ТЕМУ:</a:t>
            </a:r>
            <a:br>
              <a:rPr sz="1800"/>
            </a:br>
            <a:br>
              <a:rPr sz="2000"/>
            </a:b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«ТРАНСПОРТ»</a:t>
            </a:r>
            <a:br>
              <a:rPr sz="3600"/>
            </a:br>
            <a:br>
              <a:rPr sz="3600"/>
            </a:b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В ГРУППЕ СРЕДНЕГО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ДОШКОЛЬНОГО ВЗРАСТА</a:t>
            </a:r>
            <a:br>
              <a:rPr sz="2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3382920" cy="25369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8000" y="1484280"/>
            <a:ext cx="5398920" cy="40482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755640" y="333360"/>
            <a:ext cx="345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ая иг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азлы. Транспо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394080" cy="254484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288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759200" cy="35701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84360" y="4292640"/>
            <a:ext cx="30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/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Какой транспорт е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ыстре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105264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/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Где движ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920000" cy="59403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522680" cy="33922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4895640" cy="36734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95280" y="422100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/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Кто чем управля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405320" cy="33051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3500280"/>
            <a:ext cx="4321080" cy="32418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07664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нников. Изгот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ижек-малышек на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Транспо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042920" y="-171360"/>
            <a:ext cx="72741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50000">
                      <a:srgbClr val="006600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Impact"/>
              </a:rPr>
              <a:t>СПАСИБО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50000">
                    <a:srgbClr val="006600"/>
                  </a:gs>
                  <a:gs pos="100000">
                    <a:srgbClr val="cc99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50000">
                      <a:srgbClr val="006600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Impact"/>
              </a:rPr>
              <a:t>З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50000">
                    <a:srgbClr val="006600"/>
                  </a:gs>
                  <a:gs pos="100000">
                    <a:srgbClr val="cc99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50000">
                      <a:srgbClr val="006600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Impact"/>
              </a:rPr>
              <a:t>ВНИМАНИЕ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50000">
                    <a:srgbClr val="006600"/>
                  </a:gs>
                  <a:gs pos="100000">
                    <a:srgbClr val="cc99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356000" y="260280"/>
            <a:ext cx="4932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ВОТ ЧТО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НУЖНО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ЗНАТ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032360" cy="2678040"/>
          </a:xfrm>
          <a:prstGeom prst="rect">
            <a:avLst/>
          </a:prstGeom>
          <a:ln w="12600">
            <a:solidFill>
              <a:srgbClr val="9933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611280" y="2997360"/>
            <a:ext cx="8281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такое транспортное сре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иды и назначение транспорта: назем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дный, воздушный, подвод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дземный, специ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Ориентироваться в прошлом и настоя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ассажирского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О профессиях людей работающих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азных видах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Правила поведения в транспо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258920" y="115920"/>
            <a:ext cx="6697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итература и пособ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спользованны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о теме "ТРАНСПОРТ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1454040" cy="2036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63640" y="1916280"/>
            <a:ext cx="2737080" cy="1944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43280" y="1844640"/>
            <a:ext cx="1441440" cy="20383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2" name="" descr="http://bukvarius.ru/upload/iblock/a54/a542f69b4f857d8468da1ec6cb03ab66.jpg"/>
          <p:cNvPicPr/>
          <p:nvPr/>
        </p:nvPicPr>
        <p:blipFill>
          <a:blip r:embed="rId5"/>
          <a:stretch/>
        </p:blipFill>
        <p:spPr>
          <a:xfrm>
            <a:off x="108000" y="4292640"/>
            <a:ext cx="1708200" cy="2303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227640" y="1916280"/>
            <a:ext cx="2737080" cy="1944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4" name="" descr="http://www.img3.imgbb.ru/2/e/0/2e0a1c65c552b66529207615b2e454c1.jpg"/>
          <p:cNvPicPr/>
          <p:nvPr/>
        </p:nvPicPr>
        <p:blipFill>
          <a:blip r:embed="rId7"/>
          <a:stretch/>
        </p:blipFill>
        <p:spPr>
          <a:xfrm>
            <a:off x="2124000" y="4292640"/>
            <a:ext cx="1908360" cy="2303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5" name="" descr="http://ruslania.com/pictures/big/9785353062455.jpg"/>
          <p:cNvPicPr/>
          <p:nvPr/>
        </p:nvPicPr>
        <p:blipFill>
          <a:blip r:embed="rId8"/>
          <a:stretch/>
        </p:blipFill>
        <p:spPr>
          <a:xfrm>
            <a:off x="4284720" y="4292640"/>
            <a:ext cx="2001960" cy="2303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6516720" y="4292640"/>
            <a:ext cx="2303280" cy="22874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ид проекта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сугово-познав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рок работы по проекту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лгосроч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ль про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свободной творческой личност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 познавательных способ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творческого мыш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коммуникативных навы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общить и систематизировать представления детей 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ах и особенностях передвижения человека в разных средах 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мощью транс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должать знакомить дошкольников с предметным ми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дачи про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ширять знания детей о транспорте (наз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анспортного средства, назначение, прошлое и настоящее транспор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точнять и расширять словарь по теме «Транспор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креплять умения детей классифицировать транспорт: назем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дный, воздушный, водный, подводный, подзем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точнить и расширить представления детей о правилах поведения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анспор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ать знания о профессиях людей  работающих на разных ви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анспорта. Воспитывать уважительное отношение к труду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анс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5640" y="11592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нформационная характеристи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оект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астники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ти среднего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дители воспитан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итатель средн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рший воспита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дуктами проектной деятельност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ьбом детских работ на тему «Транспор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тографический материал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пекты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ультимедийная презентация на тему «Плывем, едем и лети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5640" y="11592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нформационная характеристи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оект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63" name="" descr="Что перепутал художник.Дидактический материал."/>
          <p:cNvPicPr/>
          <p:nvPr/>
        </p:nvPicPr>
        <p:blipFill>
          <a:blip r:embed="rId2"/>
          <a:stretch/>
        </p:blipFill>
        <p:spPr>
          <a:xfrm>
            <a:off x="108000" y="4149720"/>
            <a:ext cx="3549600" cy="2560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64" name="" descr="Транспортные средства и их звуки - обучающая игра для малышей и детей дошкольного возраста По Yossi Raichman"/>
          <p:cNvPicPr/>
          <p:nvPr/>
        </p:nvPicPr>
        <p:blipFill>
          <a:blip r:embed="rId3"/>
          <a:stretch/>
        </p:blipFill>
        <p:spPr>
          <a:xfrm>
            <a:off x="3708360" y="4149720"/>
            <a:ext cx="2551320" cy="25509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65" name="" descr="Пожарная безопасность для детей в картинках - Поделки"/>
          <p:cNvPicPr/>
          <p:nvPr/>
        </p:nvPicPr>
        <p:blipFill>
          <a:blip r:embed="rId4"/>
          <a:stretch/>
        </p:blipFill>
        <p:spPr>
          <a:xfrm>
            <a:off x="6372360" y="4149720"/>
            <a:ext cx="2658960" cy="2519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556000" y="115920"/>
            <a:ext cx="3817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ЛАН РАБОТЫ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549360"/>
          <a:ext cx="8507520" cy="5999040"/>
        </p:xfrm>
        <a:graphic>
          <a:graphicData uri="http://schemas.openxmlformats.org/drawingml/2006/table">
            <a:tbl>
              <a:tblPr/>
              <a:tblGrid>
                <a:gridCol w="2552760"/>
                <a:gridCol w="595476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В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ОСНОВНЫЕ ФОРМЫ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ЗНАВАТЕЛЬНОЕ РАЗВИТИЕ, РЕЧЕВОЕ РАЗВИТ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c3300"/>
                          </a:solidFill>
                          <a:uFillTx/>
                          <a:latin typeface="Verdana"/>
                        </a:rPr>
                        <a:t>Образовательные ситуации: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мощники в путешествии: транспорт»; 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циальный транспорт»; «Профессии людей работающих на разных видах транспорта»; «Правила поведения в транспорте»; «Правила поведения на дороге»; просмотр мультимедийной презентации на тему «Плывем, едем и летим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Д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/и «Группы транспорта»;Словесная д/и «Доскажи словечко» (назвать вид транспорта); Д/и «Какой вид транспорта движется быстрее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c3300"/>
                          </a:solidFill>
                          <a:uFillTx/>
                          <a:latin typeface="Verdana"/>
                        </a:rPr>
                        <a:t>Восприятие художественной и познавательной литературы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стихов о транспорте; Е. Заостровцева «Игрушечная поэма. «Машина по имени Кот»; И. Токмакова «Поиграем»; прослушивание аудиоэнциклопедии «Автомобили и транспорт»; С. А. Баруздин «Сказка о трамвае»; чтение и рассматривание иллюстраций книги «Титаник. Корабль мечты»; чтение художественной литературы по мотивам мультипликационного фильма «Тачки»: «Ржавое состязание», «Буря в пустыне»; н. Носов «Автомобиль»; чтение стихотворения «Большое путешествие»; чтение стихов о специальном транспорте; С. Михалков «Шел трамвай десятый номер»; Ирина Глазунова «сказки про машин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700360" y="115920"/>
            <a:ext cx="4105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ЛАН РАБОТЫ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620640"/>
          <a:ext cx="8291160" cy="5832360"/>
        </p:xfrm>
        <a:graphic>
          <a:graphicData uri="http://schemas.openxmlformats.org/drawingml/2006/table">
            <a:tbl>
              <a:tblPr/>
              <a:tblGrid>
                <a:gridCol w="2486880"/>
                <a:gridCol w="580428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ВИ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ОСНОВНЫЕ ФОРМЫ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Verdana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Д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ЗНАВАТЕЛЬНОЕ РАЗВИТИЕ, ХУДОЖЕСТВЕННО-ЭСТЕТИЧЕСКОЕ РАЗВИТ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 «Транспорт. Фургон»; конструирование из бумаги «Автобус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Д в режимных мо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/и Развивающее лото «Чудо-техника»; работа с раскрасками на тему «Транспорт»; беседы с детьми на темы: «Транспорт», «Специальный транспорт», «Правила поведения в транспорте», «Какие марки машин я знаю»; отгадывание загадок на тему «Транспорт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 время прогулки беседы, рассматривание транспор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бирание пазлов «Транспорт»; работа с раскрасками на тему «Транспорт»; рассматривание иллюстраций в книгах, журналах, просмотр мультипликационного фильма «Тачки»; игровые ситуации (игры со строительным материалом(«Моя улица», «Гараж», «Автостоянка»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заимодействие с семьями воспитан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готовление разного вида транспорта из бросового материала. Рассматривание разных видов транспорта во время прогулки с родителями. Изготовление книжек-малышек на тему «Транспо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700360" y="1916280"/>
            <a:ext cx="3889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ОТОГРАФИЧЕСК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РИАЛ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1640" y="549360"/>
            <a:ext cx="4788000" cy="3591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3994200" cy="53244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68360" y="5661000"/>
            <a:ext cx="30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формление предме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ранственн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теме «Транспо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43657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чной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кет у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9:24:09Z</dcterms:created>
  <dc:creator>Гоша</dc:creator>
  <dc:description/>
  <dc:language>en-US</dc:language>
  <cp:lastModifiedBy>Гоша</cp:lastModifiedBy>
  <dcterms:modified xsi:type="dcterms:W3CDTF">2015-10-12T18:25:16Z</dcterms:modified>
  <cp:revision>8</cp:revision>
  <dc:subject/>
  <dc:title>Слайд 1</dc:title>
</cp:coreProperties>
</file>