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062-6BEC-4795-A0CB-4E0E80E7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8B8-5336-4052-9809-B44F2CC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667-5E24-4CF0-8F53-1E00EA5C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B30-8B55-4E36-A670-7CCF85F8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43EA-9325-4AD0-8E12-D73D2747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6753-1812-417E-8D9F-E45ED7E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8830-1BB7-4953-B349-73236B41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20EF-557C-49F9-A56C-4C5EBEC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56BB-F02A-439E-BA71-79393751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A971-2670-485F-B2A1-F557EF39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3B87-5FF5-4CB6-BB0F-862EA81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681-76F3-47C0-AAB2-2F24DA6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DC5C-6285-4347-B8CF-A38E5123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603F-B7FC-422B-BA8E-F436561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BA20-EB0D-4A12-A709-924C9E6F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A9D5-B214-44E7-90E8-674F4166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5727-D3FD-4DFF-B5C5-E3D0F204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4C2-E44D-4E2D-A6D5-2DB64D2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CE8-6BF8-474C-9018-7C6FF7F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C88-F7CE-4B2A-B798-54B63B69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DEB-59C0-4296-8EAD-7155D69A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B1D-6B89-4640-8D35-003E1B6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C5F-6F3E-4976-81E0-55004BBF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D05-CB42-4B81-8E79-F26BC39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78BD-C287-49E9-A65D-1D61D57027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158-9605-4851-9825-E21BF1010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Урок-путешествие</a:t>
            </a:r>
            <a:br>
              <a:rPr sz="6000"/>
            </a:b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в горо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Морфеминс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68360" y="609300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готовила учитель русского языка и литературы Гайворонская М. 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306864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окончани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655640" y="141300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Comic Sans MS"/>
              </a:rPr>
              <a:t>Часть слова без окончан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116000" y="249228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основ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79280" y="33336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Comic Sans MS"/>
              </a:rPr>
              <a:t>Музей морфемного разбор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Разбери сло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тросск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неж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дорожны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молисты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оре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раси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68360" y="141300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00"/>
                </a:solidFill>
                <a:latin typeface="Comic Sans MS"/>
              </a:rPr>
              <a:t>Составь слово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00" y="620640"/>
            <a:ext cx="7632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прилагательного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Предутренни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пристав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1341360"/>
            <a:ext cx="74883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Поговорить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пристав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95280" y="1052640"/>
            <a:ext cx="77058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прилагательног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Слагаемо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корен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971640" y="1341360"/>
            <a:ext cx="68403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Решать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суффик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4800" spc="-1" strike="noStrike">
                <a:solidFill>
                  <a:srgbClr val="800080"/>
                </a:solidFill>
                <a:latin typeface="Comic Sans MS"/>
              </a:rPr>
              <a:t>Галерея </a:t>
            </a:r>
            <a:br>
              <a:rPr sz="4800"/>
            </a:br>
            <a:r>
              <a:rPr b="0" lang="ru-RU" sz="4800" spc="-1" strike="noStrike">
                <a:solidFill>
                  <a:srgbClr val="800080"/>
                </a:solidFill>
                <a:latin typeface="Comic Sans MS"/>
              </a:rPr>
              <a:t>уникальных</a:t>
            </a:r>
            <a:r>
              <a:rPr b="0" lang="ru-RU" sz="5400" spc="-1" strike="noStrike">
                <a:solidFill>
                  <a:srgbClr val="800080"/>
                </a:solidFill>
                <a:latin typeface="Comic Sans MS"/>
              </a:rPr>
              <a:t> морфе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Корен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уффик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Пристав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Оконч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Осно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0" y="260280"/>
            <a:ext cx="7812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Писал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суффикс-показатель прошедшего времен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50920" y="260280"/>
            <a:ext cx="756108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Собирал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оконч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468360" y="18446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предполагал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324000" y="260280"/>
            <a:ext cx="74880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dff"/>
                </a:solidFill>
                <a:latin typeface="Comic Sans MS"/>
              </a:rPr>
              <a:t>Панорама орфограмм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95280" y="981000"/>
            <a:ext cx="756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Какие вы можете назвать корни с чередованием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Корни с чередование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-лаг- лож-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-раст- рос-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900000" y="981000"/>
            <a:ext cx="655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Comic Sans MS"/>
              </a:rPr>
              <a:t>Что вы знаете о правописании приставок на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Comic Sans MS"/>
              </a:rPr>
              <a:t>з и с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611280" y="105264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80"/>
                </a:solidFill>
                <a:latin typeface="Comic Sans MS"/>
              </a:rPr>
              <a:t>физминутк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042920" y="836640"/>
            <a:ext cx="705816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акое правило поможет нам правильно определить написание гласной в корне слов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Приш..л, заш..л, щ..тка, ш..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539640" y="549360"/>
            <a:ext cx="7345440" cy="54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Цыган подошёл к цыпленку на цыпочках и цыкнул:»Цыц!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 каком правиле идет реч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Comic Sans MS"/>
              </a:rPr>
              <a:t>Угадай морфему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4360" y="237492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Главная значимая часть слова, в которой заложено общее лексическое значение для всех однокоренных с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684360" y="260280"/>
            <a:ext cx="720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,3,5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,5,6,7,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,3,5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1,3,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3,4,6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.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684360" y="1197000"/>
            <a:ext cx="748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Comic Sans MS"/>
              </a:rPr>
              <a:t>Подведение итогов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Comic Sans MS"/>
              </a:rPr>
              <a:t>путешествия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547640" y="242100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корень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042920" y="1916280"/>
            <a:ext cx="74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Значимая часть слова, которая стоит перед корнем и служит для образования новых с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547640" y="2492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пристав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826920" y="404640"/>
            <a:ext cx="70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Comic Sans MS"/>
              </a:rPr>
              <a:t>Значимая часть слова, которая стоит после корня и служит для образования новых сл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32000" y="2276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суффик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39640" y="476280"/>
            <a:ext cx="734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Изменяемая часть слова, которая служит для образования форм сло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56:08Z</dcterms:created>
  <dc:creator>Пользователь</dc:creator>
  <dc:description/>
  <dc:language>en-US</dc:language>
  <cp:lastModifiedBy>user</cp:lastModifiedBy>
  <dcterms:modified xsi:type="dcterms:W3CDTF">2015-08-26T08:01:15Z</dcterms:modified>
  <cp:revision>7</cp:revision>
  <dc:subject/>
  <dc:title>Урок-путешествие в город</dc:title>
</cp:coreProperties>
</file>