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66E-6293-4486-8AA9-E0F17D93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CFE-20E2-4741-8E81-B2A97C14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652-12B7-40EC-A33F-6EA7CEB1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DEE-CF79-4D9D-82C8-5C527E2E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EEB9-A361-466C-AD69-46A59F65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AF3D-4308-45F7-9CC8-2DA2EB8C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FDF4-3037-4AC9-B8A2-984D5891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606F-FE44-4EEA-9AD6-A5429B07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C887-9D21-4074-A472-6637F32B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CE9B-4C7C-4513-B90C-499C6558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87B2-75D4-44CA-911D-2E1CE6FB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448-F35A-4106-B0C7-CF147042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4DCD-85EE-49D6-AF91-00060E1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9313-2430-46C5-9C81-55B6AD3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9092-F2BB-470F-AE71-46CEA5CA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3B61-EA64-4294-997D-F469F96A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2636-1E46-4D33-80C8-EE7DB6B5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A46-D1B6-4EBD-B66A-519AEDC7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A1F-F359-4F7B-B863-8029284D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11B-C9F7-4C3B-AF6D-1FE7B6E6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F97-314B-4121-A598-F8B57770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AB5-607D-4AFB-8299-4A7F44CB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E1F-9809-49E6-B403-776AB1EC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99A-96D6-4854-A3D5-79C66457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31AA-695D-41B7-8249-C20A2C32BD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AFCB-54AC-4587-9193-F9349A74E6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Урок-путешествие</a:t>
            </a:r>
            <a:br>
              <a:rPr sz="6000"/>
            </a:b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в горо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Морфеминс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468360" y="609300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готовила учитель русского языка и литературы Гайворонская М. 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116000" y="306864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Comic Sans MS"/>
              </a:rPr>
              <a:t>окончание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1655640" y="141300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Comic Sans MS"/>
              </a:rPr>
              <a:t>Часть слова без окончани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116000" y="249228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Comic Sans MS"/>
              </a:rPr>
              <a:t>основ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79280" y="33336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Comic Sans MS"/>
              </a:rPr>
              <a:t>Музей морфемного разбор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Разбери сло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тросск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неж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идорожны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молисты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оре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раси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468360" y="141300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00"/>
                </a:solidFill>
                <a:latin typeface="Comic Sans MS"/>
              </a:rPr>
              <a:t>Составь слово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24000" y="620640"/>
            <a:ext cx="7632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 прилагательного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Предутренний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приставк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1341360"/>
            <a:ext cx="748836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 глаго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Поговорить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приставк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95280" y="1052640"/>
            <a:ext cx="77058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 прилагательного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Слагаемое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корен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971640" y="1341360"/>
            <a:ext cx="68403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У глагол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Решать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суффик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4800" spc="-1" strike="noStrike">
                <a:solidFill>
                  <a:srgbClr val="800080"/>
                </a:solidFill>
                <a:latin typeface="Comic Sans MS"/>
              </a:rPr>
              <a:t>Галерея </a:t>
            </a:r>
            <a:br>
              <a:rPr sz="4800"/>
            </a:br>
            <a:r>
              <a:rPr b="0" lang="ru-RU" sz="4800" spc="-1" strike="noStrike">
                <a:solidFill>
                  <a:srgbClr val="800080"/>
                </a:solidFill>
                <a:latin typeface="Comic Sans MS"/>
              </a:rPr>
              <a:t>уникальных</a:t>
            </a:r>
            <a:r>
              <a:rPr b="0" lang="ru-RU" sz="5400" spc="-1" strike="noStrike">
                <a:solidFill>
                  <a:srgbClr val="800080"/>
                </a:solidFill>
                <a:latin typeface="Comic Sans MS"/>
              </a:rPr>
              <a:t> морфе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Корен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Суффик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Пристав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Оконч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Осно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0" y="260280"/>
            <a:ext cx="7812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 глаго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Писал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суффикс-показатель прошедшего времен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50920" y="260280"/>
            <a:ext cx="756108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 глаго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Собирала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озьмите оконч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468360" y="184464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предполагал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324000" y="260280"/>
            <a:ext cx="748800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dff"/>
                </a:solidFill>
                <a:latin typeface="Comic Sans MS"/>
              </a:rPr>
              <a:t>Панорама орфограмм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95280" y="981000"/>
            <a:ext cx="756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Comic Sans MS"/>
              </a:rPr>
              <a:t>Какие вы можете назвать корни с чередованием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Корни с чередование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00"/>
                </a:solidFill>
                <a:latin typeface="Comic Sans MS"/>
              </a:rPr>
              <a:t>-лаг- лож-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2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00"/>
                </a:solidFill>
                <a:latin typeface="Comic Sans MS"/>
              </a:rPr>
              <a:t>-раст- рос-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900000" y="981000"/>
            <a:ext cx="65516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Comic Sans MS"/>
              </a:rPr>
              <a:t>Что вы знаете о правописании приставок на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Comic Sans MS"/>
              </a:rPr>
              <a:t>з и с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611280" y="1052640"/>
            <a:ext cx="73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80"/>
                </a:solidFill>
                <a:latin typeface="Comic Sans MS"/>
              </a:rPr>
              <a:t>физминутк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1042920" y="836640"/>
            <a:ext cx="7058160" cy="52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акое правило поможет нам правильно определить написание гласной в корне слов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omic Sans MS"/>
              </a:rPr>
              <a:t>Приш..л, заш..л, щ..тка, ш..в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539640" y="549360"/>
            <a:ext cx="7345440" cy="54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Цыган подошёл к цыпленку на цыпочках и цыкнул:»Цыц!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 каком правиле идет реч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Comic Sans MS"/>
              </a:rPr>
              <a:t>Угадай морфему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84360" y="2374920"/>
            <a:ext cx="770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omic Sans MS"/>
              </a:rPr>
              <a:t>Главная значимая часть слова, в которой заложено общее лексическое значение для всех однокоренных с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684360" y="260280"/>
            <a:ext cx="7200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2,3,5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2,5,6,7,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2,3,5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1,3,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3,4,6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.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684360" y="1197000"/>
            <a:ext cx="7488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Comic Sans MS"/>
              </a:rPr>
              <a:t>Подведение итогов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Comic Sans MS"/>
              </a:rPr>
              <a:t>путешествия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547640" y="242100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Comic Sans MS"/>
              </a:rPr>
              <a:t>корень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1042920" y="1916280"/>
            <a:ext cx="748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omic Sans MS"/>
              </a:rPr>
              <a:t>Значимая часть слова, которая стоит перед корнем и служит для образования новых сл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547640" y="2492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Comic Sans MS"/>
              </a:rPr>
              <a:t>приставк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826920" y="404640"/>
            <a:ext cx="705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Comic Sans MS"/>
              </a:rPr>
              <a:t>Значимая часть слова, которая стоит после корня и служит для образования новых сло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332000" y="227664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80"/>
                </a:solidFill>
                <a:latin typeface="Comic Sans MS"/>
              </a:rPr>
              <a:t>суффик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539640" y="476280"/>
            <a:ext cx="734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Изменяемая часть слова, которая служит для образования форм сло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4:56:08Z</dcterms:created>
  <dc:creator>Пользователь</dc:creator>
  <dc:description/>
  <dc:language>en-US</dc:language>
  <cp:lastModifiedBy>user</cp:lastModifiedBy>
  <dcterms:modified xsi:type="dcterms:W3CDTF">2015-08-26T08:01:15Z</dcterms:modified>
  <cp:revision>7</cp:revision>
  <dc:subject/>
  <dc:title>Урок-путешествие в город</dc:title>
</cp:coreProperties>
</file>