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png" ContentType="image/png"/>
  <Override PartName="/ppt/media/image29.jpeg" ContentType="image/jpeg"/>
  <Override PartName="/ppt/media/image25.jpeg" ContentType="image/jpeg"/>
  <Override PartName="/ppt/media/image4.jpeg" ContentType="image/jpeg"/>
  <Override PartName="/ppt/media/image3.jpeg" ContentType="image/jpeg"/>
  <Override PartName="/ppt/media/image30.png" ContentType="image/png"/>
  <Override PartName="/ppt/media/image28.wmf" ContentType="image/x-wmf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png" ContentType="image/png"/>
  <Override PartName="/ppt/media/image13.jpeg" ContentType="image/jpe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18.jpeg" ContentType="image/jpeg"/>
  <Override PartName="/ppt/media/image19.png" ContentType="image/png"/>
  <Override PartName="/ppt/media/image21.png" ContentType="image/png"/>
  <Override PartName="/ppt/media/image24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797-2521-4E23-8042-5B3BFE9E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3A7-B1C2-4E96-9D0D-7F96763A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E3A-C2D7-432F-8EA5-759A2454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E25-6F46-48C2-B736-05DFC480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850F-C2C7-4221-9342-74FE46FC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EA20-70FC-4E9D-B0EA-2E7029A6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9A81-397B-4833-8A36-5B2B2D35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94BF-D879-4037-AEB5-BE584935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67B5-0259-4537-BFC6-C1506CF0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1258-B8D0-4B0C-9341-30231947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AE12-A6E8-4388-9F08-864F9D32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B10-5DD2-41EA-8C1E-39A5D3C5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BE55-E999-458C-83B4-D5F41E25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468F-DC93-4E9E-B140-F172EA2C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437E-C7E9-41B8-BD34-4972B9BC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3F0F-502A-4E26-92D8-40F2B328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742D-2F91-44F6-AD8E-EDBD3206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2B05-C392-4B9B-AB51-4F4BF637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28C9-2499-4B52-9192-4DBB7F1E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2D1F-E3BC-4AFF-9F31-06AB623C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DCFB-2F47-45B7-BDCA-67766674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65E2-D583-43B4-B4F9-CFC0A7E1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B4C-DFF3-4C2F-9D79-CBD3760E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DDE5-8C81-43A0-8E06-228C41C6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CD82-1EE4-4737-B611-A094B18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FCB2-A108-4233-A54B-97F4A5EE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6606-55E7-4442-8154-4D7AD01B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503C-1E48-490C-86C3-771C21FF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A78E-949C-4E5B-AF13-31E14CD8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6ADA-873D-4A3A-ACC6-3AE4C300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4A03-21A4-496F-992C-03FC4556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7A524-84C9-443D-B647-26B9654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67C2-E708-4AB9-8D96-E203D541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783-94B8-455E-9F60-5FA5A85C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9F75-FA0A-451A-87E1-CBB678B8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EA85-98B1-4033-9092-241F23E2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BBBD-ADC4-4BA5-A47D-231AEAA8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AAAD3-2461-4F2C-B36F-9E878D2B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D00AE-2F50-4125-9866-D34B868A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3F3E6-0F2E-4FC0-9B99-B8A62C2D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EB68-2D58-4377-B3DD-02D1A503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86C8E-CABB-4521-96B7-6C3B42D3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C9894-26BD-493D-8EE3-7E135F29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8B6-A364-44C6-8A2E-C42DF432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A14-B563-4F71-9282-A8ED8F32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6BB-D16B-45FF-971E-A0D99896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D74-A30F-4338-B6CF-A056AEA5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48A-6470-45C0-B2B0-E2179778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6176-B72E-43C6-A11D-0F9B4A8A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AF28-7988-4A66-95A1-E95EDF4841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10D7-FE45-4A71-95B9-32677DAB5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2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B1E-3625-4C0C-B13C-38B9DF5B6A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0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wmf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5"/>
          <p:cNvSpPr txBox="1"/>
          <p:nvPr/>
        </p:nvSpPr>
        <p:spPr>
          <a:xfrm>
            <a:off x="4140360" y="112536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ЗНАТЬ,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4500720" y="1989000"/>
            <a:ext cx="297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ЧТОБЫ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4643280" y="2924280"/>
            <a:ext cx="304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ЖИТЬ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81" name="Picture 9" descr="26_earth"/>
          <p:cNvPicPr/>
          <p:nvPr/>
        </p:nvPicPr>
        <p:blipFill>
          <a:blip r:embed="rId1"/>
          <a:stretch/>
        </p:blipFill>
        <p:spPr>
          <a:xfrm>
            <a:off x="539640" y="2276640"/>
            <a:ext cx="3095640" cy="2990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lg_pic"/>
          <p:cNvPicPr/>
          <p:nvPr/>
        </p:nvPicPr>
        <p:blipFill>
          <a:blip r:embed="rId2"/>
          <a:stretch/>
        </p:blipFill>
        <p:spPr>
          <a:xfrm>
            <a:off x="539640" y="2319480"/>
            <a:ext cx="1079640" cy="917280"/>
          </a:xfrm>
          <a:prstGeom prst="rect">
            <a:avLst/>
          </a:prstGeom>
          <a:ln w="0">
            <a:noFill/>
          </a:ln>
        </p:spPr>
      </p:pic>
      <p:sp>
        <p:nvSpPr>
          <p:cNvPr id="183" name="WordArt 7"/>
          <p:cNvSpPr txBox="1"/>
          <p:nvPr/>
        </p:nvSpPr>
        <p:spPr>
          <a:xfrm>
            <a:off x="4067280" y="3860640"/>
            <a:ext cx="4249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ЖИТЬ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4140360" y="4653000"/>
            <a:ext cx="4249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И БЫТЬ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1908000" y="5373720"/>
            <a:ext cx="6480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УСПЕШНЫМ!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2276280"/>
            <a:ext cx="82072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Друг мой, сосед мой, товарищ и брат!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Слышишь тяжелый и грозный набат?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Кокаин, никотин, СПАЙС, водка, вино!</a:t>
            </a:r>
            <a:br>
              <a:rPr sz="3200"/>
            </a:b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Места им в жизни быть                не должно.</a:t>
            </a:r>
            <a:endParaRPr b="1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218" name="Picture 4" descr="26_earth"/>
          <p:cNvPicPr/>
          <p:nvPr/>
        </p:nvPicPr>
        <p:blipFill>
          <a:blip r:embed="rId1"/>
          <a:stretch/>
        </p:blipFill>
        <p:spPr>
          <a:xfrm>
            <a:off x="6732720" y="552600"/>
            <a:ext cx="1942920" cy="1879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lg_pic"/>
          <p:cNvPicPr/>
          <p:nvPr/>
        </p:nvPicPr>
        <p:blipFill>
          <a:blip r:embed="rId2"/>
          <a:stretch/>
        </p:blipFill>
        <p:spPr>
          <a:xfrm>
            <a:off x="6804000" y="620640"/>
            <a:ext cx="777960" cy="660600"/>
          </a:xfrm>
          <a:prstGeom prst="rect">
            <a:avLst/>
          </a:prstGeom>
          <a:ln w="0">
            <a:noFill/>
          </a:ln>
        </p:spPr>
      </p:pic>
      <p:pic>
        <p:nvPicPr>
          <p:cNvPr id="220" name="колокола .MP3" descr=""/>
          <p:cNvPicPr/>
          <p:nvPr/>
        </p:nvPicPr>
        <p:blipFill>
          <a:blip r:embed="rId3"/>
          <a:stretch/>
        </p:blipFill>
        <p:spPr>
          <a:xfrm>
            <a:off x="285840" y="60721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9058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487692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Monotype Corsiva"/>
              </a:rPr>
              <a:t>      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58920" y="1267920"/>
            <a:ext cx="5020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223" name="Picture 4" descr="Гнев Земли?"/>
          <p:cNvPicPr/>
          <p:nvPr/>
        </p:nvPicPr>
        <p:blipFill>
          <a:blip r:embed="rId1"/>
          <a:stretch/>
        </p:blipFill>
        <p:spPr>
          <a:xfrm>
            <a:off x="673200" y="2557440"/>
            <a:ext cx="2386080" cy="2363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s?ZgwmsXkrDHRlHIQ0ic_JStZ0TJhynUhdsNEQiH3hsXw"/>
          <p:cNvPicPr/>
          <p:nvPr/>
        </p:nvPicPr>
        <p:blipFill>
          <a:blip r:embed="rId2"/>
          <a:stretch/>
        </p:blipFill>
        <p:spPr>
          <a:xfrm>
            <a:off x="826920" y="2708280"/>
            <a:ext cx="1285920" cy="973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225" name="Rectangle 6"/>
          <p:cNvSpPr/>
          <p:nvPr/>
        </p:nvSpPr>
        <p:spPr>
          <a:xfrm>
            <a:off x="3276720" y="1700280"/>
            <a:ext cx="52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Мы знаем много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о ВИЧ, но между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знанием и действительностью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больша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пропасть</a:t>
            </a:r>
            <a:r>
              <a:rPr b="0" lang="ru-RU" sz="3600" spc="-1" strike="noStrike">
                <a:solidFill>
                  <a:srgbClr val="8000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26_earth"/>
          <p:cNvPicPr/>
          <p:nvPr/>
        </p:nvPicPr>
        <p:blipFill>
          <a:blip r:embed="rId1"/>
          <a:stretch/>
        </p:blipFill>
        <p:spPr>
          <a:xfrm>
            <a:off x="6877080" y="554040"/>
            <a:ext cx="1798560" cy="173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lg_pic"/>
          <p:cNvPicPr/>
          <p:nvPr/>
        </p:nvPicPr>
        <p:blipFill>
          <a:blip r:embed="rId2"/>
          <a:stretch/>
        </p:blipFill>
        <p:spPr>
          <a:xfrm>
            <a:off x="7750080" y="711360"/>
            <a:ext cx="777960" cy="6602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684360" y="2580480"/>
            <a:ext cx="770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Чтобы СПИД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Не грозил ни мне, ни тебе…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Помоги человек человеку,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Чтобы быть человеком вдвойне</a:t>
            </a:r>
            <a:r>
              <a:rPr b="0" lang="ru-RU" sz="4000" spc="-1" strike="noStrike">
                <a:solidFill>
                  <a:srgbClr val="800000"/>
                </a:solidFill>
                <a:latin typeface="Arial Blac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ВРАГУ НЕ ПОЖЕЛАЮ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2016000" cy="14446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303640" cy="18493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32" name="Picture 11" descr=""/>
          <p:cNvPicPr/>
          <p:nvPr/>
        </p:nvPicPr>
        <p:blipFill>
          <a:blip r:embed="rId3"/>
          <a:stretch/>
        </p:blipFill>
        <p:spPr>
          <a:xfrm>
            <a:off x="6732720" y="692280"/>
            <a:ext cx="1834920" cy="1800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33" name="Picture 12" descr=""/>
          <p:cNvPicPr/>
          <p:nvPr/>
        </p:nvPicPr>
        <p:blipFill>
          <a:blip r:embed="rId4"/>
          <a:stretch/>
        </p:blipFill>
        <p:spPr>
          <a:xfrm rot="20968200">
            <a:off x="3779640" y="2205000"/>
            <a:ext cx="1457280" cy="16574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34" name="Рисунок 10" descr="1194458236_1971mad.jpg"/>
          <p:cNvPicPr/>
          <p:nvPr/>
        </p:nvPicPr>
        <p:blipFill>
          <a:blip r:embed="rId5"/>
          <a:srcRect l="7411" t="3375" r="7411" b="10124"/>
          <a:stretch/>
        </p:blipFill>
        <p:spPr>
          <a:xfrm>
            <a:off x="1258920" y="2133720"/>
            <a:ext cx="1973160" cy="224604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pic>
        <p:nvPicPr>
          <p:cNvPr id="235" name="Picture 12" descr="НАРКОТИКИ1"/>
          <p:cNvPicPr/>
          <p:nvPr/>
        </p:nvPicPr>
        <p:blipFill>
          <a:blip r:embed="rId6"/>
          <a:stretch/>
        </p:blipFill>
        <p:spPr>
          <a:xfrm>
            <a:off x="5867280" y="2781360"/>
            <a:ext cx="2508480" cy="25192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36" name="Picture 9" descr="C:\Users\Пользователь\Desktop\spice-vred.jpg"/>
          <p:cNvPicPr/>
          <p:nvPr/>
        </p:nvPicPr>
        <p:blipFill>
          <a:blip r:embed="rId7"/>
          <a:stretch/>
        </p:blipFill>
        <p:spPr>
          <a:xfrm rot="20349600">
            <a:off x="836640" y="3013200"/>
            <a:ext cx="1108080" cy="12888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МОЁ БУДЩЕЕ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pic>
        <p:nvPicPr>
          <p:cNvPr id="238" name="Picture 4" descr="Круги на воде copy1"/>
          <p:cNvPicPr/>
          <p:nvPr/>
        </p:nvPicPr>
        <p:blipFill>
          <a:blip r:embed="rId1"/>
          <a:stretch/>
        </p:blipFill>
        <p:spPr>
          <a:xfrm>
            <a:off x="684360" y="1916280"/>
            <a:ext cx="2735280" cy="2233440"/>
          </a:xfrm>
          <a:prstGeom prst="rect">
            <a:avLst/>
          </a:prstGeom>
          <a:ln w="12600">
            <a:solidFill>
              <a:srgbClr val="6c0036"/>
            </a:solidFill>
            <a:miter/>
          </a:ln>
        </p:spPr>
      </p:pic>
      <p:sp>
        <p:nvSpPr>
          <p:cNvPr id="239" name="WordArt 5"/>
          <p:cNvSpPr txBox="1"/>
          <p:nvPr/>
        </p:nvSpPr>
        <p:spPr>
          <a:xfrm>
            <a:off x="755640" y="3213000"/>
            <a:ext cx="251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ookman Old Style"/>
              </a:rPr>
              <a:t>жизнь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1835280" y="278136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1116000" y="2781360"/>
            <a:ext cx="17272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ыбираю</a:t>
            </a:r>
            <a:endParaRPr b="1" lang="en-US" sz="4400" spc="1" strike="noStrike">
              <a:ln w="6480">
                <a:solidFill>
                  <a:srgbClr val="8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42" name="WordArt 5"/>
          <p:cNvSpPr txBox="1"/>
          <p:nvPr/>
        </p:nvSpPr>
        <p:spPr>
          <a:xfrm>
            <a:off x="1763640" y="2205000"/>
            <a:ext cx="72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Я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pic>
        <p:nvPicPr>
          <p:cNvPr id="243" name="Рисунок 10" descr="1194458236_1971mad.jpg"/>
          <p:cNvPicPr/>
          <p:nvPr/>
        </p:nvPicPr>
        <p:blipFill>
          <a:blip r:embed="rId6"/>
          <a:srcRect l="7430" t="3397" r="7430" b="10149"/>
          <a:stretch/>
        </p:blipFill>
        <p:spPr>
          <a:xfrm>
            <a:off x="684360" y="1916280"/>
            <a:ext cx="645840" cy="73476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244" name="Line 9"/>
          <p:cNvSpPr/>
          <p:nvPr/>
        </p:nvSpPr>
        <p:spPr>
          <a:xfrm flipH="1">
            <a:off x="755280" y="2060640"/>
            <a:ext cx="5778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684360" y="2060640"/>
            <a:ext cx="5745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6" name="Picture 19" descr="crayon_coloring_hw"/>
          <p:cNvPicPr/>
          <p:nvPr/>
        </p:nvPicPr>
        <p:blipFill>
          <a:blip r:embed="rId7"/>
          <a:stretch/>
        </p:blipFill>
        <p:spPr>
          <a:xfrm rot="1191000">
            <a:off x="6732720" y="458100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morkovka"/>
          <p:cNvPicPr/>
          <p:nvPr/>
        </p:nvPicPr>
        <p:blipFill>
          <a:blip r:embed="rId8"/>
          <a:stretch/>
        </p:blipFill>
        <p:spPr>
          <a:xfrm>
            <a:off x="7236000" y="692280"/>
            <a:ext cx="1323720" cy="1628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191106_3"/>
          <p:cNvPicPr/>
          <p:nvPr/>
        </p:nvPicPr>
        <p:blipFill>
          <a:blip r:embed="rId9"/>
          <a:stretch/>
        </p:blipFill>
        <p:spPr>
          <a:xfrm>
            <a:off x="971640" y="4292640"/>
            <a:ext cx="2160360" cy="1685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j0430833"/>
          <p:cNvPicPr/>
          <p:nvPr/>
        </p:nvPicPr>
        <p:blipFill>
          <a:blip r:embed="rId10"/>
          <a:stretch/>
        </p:blipFill>
        <p:spPr>
          <a:xfrm>
            <a:off x="3348000" y="3213000"/>
            <a:ext cx="2951280" cy="27194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250" name="Picture 27" descr="Счастье"/>
          <p:cNvPicPr/>
          <p:nvPr/>
        </p:nvPicPr>
        <p:blipFill>
          <a:blip r:embed="rId11"/>
          <a:stretch/>
        </p:blipFill>
        <p:spPr>
          <a:xfrm rot="337200">
            <a:off x="5940360" y="2060280"/>
            <a:ext cx="1638360" cy="22492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251" name="Picture 28" descr="j0429815"/>
          <p:cNvPicPr/>
          <p:nvPr/>
        </p:nvPicPr>
        <p:blipFill>
          <a:blip r:embed="rId12"/>
          <a:stretch/>
        </p:blipFill>
        <p:spPr>
          <a:xfrm>
            <a:off x="3851280" y="1557360"/>
            <a:ext cx="1701720" cy="1803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7" descr="C:\Users\Пользователь\Desktop\01_sinteticheskie-narkotiki.jpg"/>
          <p:cNvPicPr/>
          <p:nvPr/>
        </p:nvPicPr>
        <p:blipFill>
          <a:blip r:embed="rId13"/>
          <a:stretch/>
        </p:blipFill>
        <p:spPr>
          <a:xfrm>
            <a:off x="2643120" y="1928880"/>
            <a:ext cx="785880" cy="785880"/>
          </a:xfrm>
          <a:prstGeom prst="rect">
            <a:avLst/>
          </a:prstGeom>
          <a:ln w="22320">
            <a:solidFill>
              <a:srgbClr val="993300"/>
            </a:solidFill>
            <a:miter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ВЕРЮ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-</a:t>
            </a: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 НЕ ВЕРЮ.</a:t>
            </a:r>
            <a:endParaRPr b="0" lang="en-US" sz="5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327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Опасно прикасаться к больному СПИДом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жно заразиться вирусом ВИЧ через стульчак туалета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Абсолютно безопасно находиться в классе с учителем, больным СПИДом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4. СПИД угрожает только гомосексуалистам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grpSp>
        <p:nvGrpSpPr>
          <p:cNvPr id="255" name="Group 7"/>
          <p:cNvGrpSpPr/>
          <p:nvPr/>
        </p:nvGrpSpPr>
        <p:grpSpPr>
          <a:xfrm>
            <a:off x="8028000" y="4292640"/>
            <a:ext cx="431640" cy="430200"/>
            <a:chOff x="8028000" y="4292640"/>
            <a:chExt cx="431640" cy="430200"/>
          </a:xfrm>
        </p:grpSpPr>
        <p:sp>
          <p:nvSpPr>
            <p:cNvPr id="256" name="Line 5"/>
            <p:cNvSpPr/>
            <p:nvPr/>
          </p:nvSpPr>
          <p:spPr>
            <a:xfrm>
              <a:off x="8028000" y="450828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7" name="Line 6"/>
            <p:cNvSpPr/>
            <p:nvPr/>
          </p:nvSpPr>
          <p:spPr>
            <a:xfrm>
              <a:off x="8244000" y="429264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58" name="Line 9"/>
          <p:cNvSpPr/>
          <p:nvPr/>
        </p:nvSpPr>
        <p:spPr>
          <a:xfrm>
            <a:off x="8028000" y="2565360"/>
            <a:ext cx="43164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7956720" y="5373720"/>
            <a:ext cx="43164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8028000" y="3429000"/>
            <a:ext cx="43164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ВЕРЮ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НЕ ВЕРЮ.</a:t>
            </a:r>
            <a:endParaRPr b="0" lang="en-US" sz="5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52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5. Нельзя заразиться ВИЧ, если пить из одного стакана, либо доедать бутерброд ВИЧ - инфицированного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6. Целесообразно остановить кровотечение рукой, если в школе кто то поранился и нуждается в помощи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7. Вирус ВИЧ вызывает болезнь - СПИД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grpSp>
        <p:nvGrpSpPr>
          <p:cNvPr id="263" name="Group 5"/>
          <p:cNvGrpSpPr/>
          <p:nvPr/>
        </p:nvGrpSpPr>
        <p:grpSpPr>
          <a:xfrm>
            <a:off x="7885080" y="2492280"/>
            <a:ext cx="431640" cy="430200"/>
            <a:chOff x="7885080" y="2492280"/>
            <a:chExt cx="431640" cy="430200"/>
          </a:xfrm>
        </p:grpSpPr>
        <p:sp>
          <p:nvSpPr>
            <p:cNvPr id="264" name="Line 6"/>
            <p:cNvSpPr/>
            <p:nvPr/>
          </p:nvSpPr>
          <p:spPr>
            <a:xfrm>
              <a:off x="7885080" y="270792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8101080" y="249228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66" name="Group 8"/>
          <p:cNvGrpSpPr/>
          <p:nvPr/>
        </p:nvGrpSpPr>
        <p:grpSpPr>
          <a:xfrm>
            <a:off x="7885080" y="5157720"/>
            <a:ext cx="431640" cy="430200"/>
            <a:chOff x="7885080" y="5157720"/>
            <a:chExt cx="431640" cy="430200"/>
          </a:xfrm>
        </p:grpSpPr>
        <p:sp>
          <p:nvSpPr>
            <p:cNvPr id="267" name="Line 9"/>
            <p:cNvSpPr/>
            <p:nvPr/>
          </p:nvSpPr>
          <p:spPr>
            <a:xfrm>
              <a:off x="7885080" y="537336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8101080" y="515772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69" name="Line 11"/>
          <p:cNvSpPr/>
          <p:nvPr/>
        </p:nvSpPr>
        <p:spPr>
          <a:xfrm>
            <a:off x="7885080" y="3860640"/>
            <a:ext cx="43200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ВЕРЮ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-</a:t>
            </a: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 НЕ ВЕРЮ.</a:t>
            </a:r>
            <a:endParaRPr b="0" lang="en-US" sz="5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3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8. Три основных пути, которыми передается СПИД: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контакты через кровь (использование общей иглы), сексуальные контакты, от матери к ребенку во время родов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Bookman Old Style"/>
              </a:rPr>
              <a:t>9. Правильное и постоянное использование презерватива препятствует заражению вирусом ВИЧ.</a:t>
            </a:r>
            <a:endParaRPr b="1" lang="en-US" sz="2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36"/>
                </a:solidFill>
                <a:latin typeface="Bookman Old Style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7885080" y="2276640"/>
            <a:ext cx="431640" cy="430200"/>
            <a:chOff x="7885080" y="2276640"/>
            <a:chExt cx="431640" cy="430200"/>
          </a:xfrm>
        </p:grpSpPr>
        <p:sp>
          <p:nvSpPr>
            <p:cNvPr id="273" name="Line 6"/>
            <p:cNvSpPr/>
            <p:nvPr/>
          </p:nvSpPr>
          <p:spPr>
            <a:xfrm>
              <a:off x="7885080" y="249228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4" name="Line 7"/>
            <p:cNvSpPr/>
            <p:nvPr/>
          </p:nvSpPr>
          <p:spPr>
            <a:xfrm>
              <a:off x="8101080" y="227664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75" name="Group 8"/>
          <p:cNvGrpSpPr/>
          <p:nvPr/>
        </p:nvGrpSpPr>
        <p:grpSpPr>
          <a:xfrm>
            <a:off x="7885080" y="4869000"/>
            <a:ext cx="431640" cy="430200"/>
            <a:chOff x="7885080" y="4869000"/>
            <a:chExt cx="431640" cy="430200"/>
          </a:xfrm>
        </p:grpSpPr>
        <p:sp>
          <p:nvSpPr>
            <p:cNvPr id="276" name="Line 9"/>
            <p:cNvSpPr/>
            <p:nvPr/>
          </p:nvSpPr>
          <p:spPr>
            <a:xfrm>
              <a:off x="7885080" y="508464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8101080" y="486900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transition spd="slow">
    <p:diamond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ВЕРЮ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-</a:t>
            </a: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 НЕ ВЕРЮ.</a:t>
            </a:r>
            <a:endParaRPr b="0" lang="en-US" sz="5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78469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Bookman Old Style"/>
              </a:rPr>
              <a:t>10. Диапазон времени от заражения вирусом ВИЧ до проявления симптомов болезни СПИД несколько лет. </a:t>
            </a:r>
            <a:endParaRPr b="1" lang="en-US" sz="2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Bookman Old Style"/>
              </a:rPr>
              <a:t>11. </a:t>
            </a: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С</a:t>
            </a:r>
            <a:r>
              <a:rPr b="1" lang="ru-RU" sz="2600" spc="-1" strike="noStrike">
                <a:solidFill>
                  <a:srgbClr val="660033"/>
                </a:solidFill>
                <a:latin typeface="Bookman Old Style"/>
              </a:rPr>
              <a:t>имптомы СПИДа не похожи на симптомы других болезней.</a:t>
            </a:r>
            <a:endParaRPr b="1" lang="en-US" sz="2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Bookman Old Style"/>
              </a:rPr>
              <a:t>12. Инфицированные ВИЧ и больные СПИДом нуждаются в помощи и поддержке. Чтобы помочь такому человеку, нужно остаться его другом.</a:t>
            </a:r>
            <a:r>
              <a:rPr b="1" lang="ru-RU" sz="2600" spc="-1" strike="noStrike">
                <a:solidFill>
                  <a:srgbClr val="005400"/>
                </a:solidFill>
                <a:latin typeface="Bookman Old Style"/>
              </a:rPr>
              <a:t>  </a:t>
            </a:r>
            <a:endParaRPr b="1" lang="en-US" sz="2600" spc="-1" strike="noStrike">
              <a:solidFill>
                <a:srgbClr val="4d4d4d"/>
              </a:solidFill>
              <a:latin typeface="Arial Narrow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7956720" y="2205000"/>
            <a:ext cx="431640" cy="430200"/>
            <a:chOff x="7956720" y="2205000"/>
            <a:chExt cx="431640" cy="430200"/>
          </a:xfrm>
        </p:grpSpPr>
        <p:sp>
          <p:nvSpPr>
            <p:cNvPr id="281" name="Line 6"/>
            <p:cNvSpPr/>
            <p:nvPr/>
          </p:nvSpPr>
          <p:spPr>
            <a:xfrm>
              <a:off x="7956720" y="242064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>
              <a:off x="8172720" y="220500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83" name="Group 8"/>
          <p:cNvGrpSpPr/>
          <p:nvPr/>
        </p:nvGrpSpPr>
        <p:grpSpPr>
          <a:xfrm>
            <a:off x="7956720" y="5013360"/>
            <a:ext cx="431640" cy="430200"/>
            <a:chOff x="7956720" y="5013360"/>
            <a:chExt cx="431640" cy="430200"/>
          </a:xfrm>
        </p:grpSpPr>
        <p:sp>
          <p:nvSpPr>
            <p:cNvPr id="284" name="Line 9"/>
            <p:cNvSpPr/>
            <p:nvPr/>
          </p:nvSpPr>
          <p:spPr>
            <a:xfrm>
              <a:off x="7956720" y="522900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8172720" y="501336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86" name="Line 11"/>
          <p:cNvSpPr/>
          <p:nvPr/>
        </p:nvSpPr>
        <p:spPr>
          <a:xfrm>
            <a:off x="7885080" y="3789360"/>
            <a:ext cx="43200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sp15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1439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Bookman Old Style"/>
              </a:rPr>
              <a:t>БОЛЕЗНЬ 21 ВЕКА</a:t>
            </a:r>
            <a:endParaRPr b="0" lang="en-US" sz="4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4280" y="2071440"/>
            <a:ext cx="64771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Bookman Old Style"/>
              </a:rPr>
              <a:t>СПИД</a:t>
            </a:r>
            <a:endParaRPr b="1" lang="en-US" sz="15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88" name="Picture 9" descr="26_earth"/>
          <p:cNvPicPr/>
          <p:nvPr/>
        </p:nvPicPr>
        <p:blipFill>
          <a:blip r:embed="rId1"/>
          <a:stretch/>
        </p:blipFill>
        <p:spPr>
          <a:xfrm>
            <a:off x="6357960" y="4206960"/>
            <a:ext cx="1976400" cy="190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lg_pic"/>
          <p:cNvPicPr/>
          <p:nvPr/>
        </p:nvPicPr>
        <p:blipFill>
          <a:blip r:embed="rId2"/>
          <a:stretch/>
        </p:blipFill>
        <p:spPr>
          <a:xfrm>
            <a:off x="7643880" y="4143240"/>
            <a:ext cx="689040" cy="586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4"/>
          <p:cNvSpPr txBox="1"/>
          <p:nvPr/>
        </p:nvSpPr>
        <p:spPr>
          <a:xfrm>
            <a:off x="1908000" y="1052640"/>
            <a:ext cx="17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ВИЧ -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4140360" y="1413000"/>
            <a:ext cx="38098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ЗНАТЬ,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0" name="WordArt 6"/>
          <p:cNvSpPr txBox="1"/>
          <p:nvPr/>
        </p:nvSpPr>
        <p:spPr>
          <a:xfrm>
            <a:off x="4140360" y="2997360"/>
            <a:ext cx="297180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ЧТОБЫ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1" name="WordArt 7"/>
          <p:cNvSpPr txBox="1"/>
          <p:nvPr/>
        </p:nvSpPr>
        <p:spPr>
          <a:xfrm>
            <a:off x="4427640" y="4724280"/>
            <a:ext cx="297180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ЖИТЬ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92" name="Picture 9" descr="26_earth"/>
          <p:cNvPicPr/>
          <p:nvPr/>
        </p:nvPicPr>
        <p:blipFill>
          <a:blip r:embed="rId1"/>
          <a:stretch/>
        </p:blipFill>
        <p:spPr>
          <a:xfrm>
            <a:off x="539640" y="2276640"/>
            <a:ext cx="3095640" cy="2990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lg_pic"/>
          <p:cNvPicPr/>
          <p:nvPr/>
        </p:nvPicPr>
        <p:blipFill>
          <a:blip r:embed="rId2"/>
          <a:stretch/>
        </p:blipFill>
        <p:spPr>
          <a:xfrm>
            <a:off x="539640" y="2319480"/>
            <a:ext cx="1079640" cy="91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900000" y="3039120"/>
            <a:ext cx="73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Bookman Old Style"/>
              </a:rPr>
              <a:t>РАЗУМ ДОЛЖЕН ПРЕОБЛАДАТЬ НАД ЧУВСТВАМИ.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5" name="Picture 3" descr="26_earth"/>
          <p:cNvPicPr/>
          <p:nvPr/>
        </p:nvPicPr>
        <p:blipFill>
          <a:blip r:embed="rId1"/>
          <a:stretch/>
        </p:blipFill>
        <p:spPr>
          <a:xfrm>
            <a:off x="6300720" y="620640"/>
            <a:ext cx="2154240" cy="2084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lg_pic"/>
          <p:cNvPicPr/>
          <p:nvPr/>
        </p:nvPicPr>
        <p:blipFill>
          <a:blip r:embed="rId2"/>
          <a:stretch/>
        </p:blipFill>
        <p:spPr>
          <a:xfrm>
            <a:off x="7380360" y="692280"/>
            <a:ext cx="96372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sp05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143920" cy="589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908000" y="1052640"/>
            <a:ext cx="17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ВИЧ -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4140360" y="1413000"/>
            <a:ext cx="38098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ЗНАТЬ,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4140360" y="2997360"/>
            <a:ext cx="297180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ЧТОБЫ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4" name="WordArt 7"/>
          <p:cNvSpPr txBox="1"/>
          <p:nvPr/>
        </p:nvSpPr>
        <p:spPr>
          <a:xfrm>
            <a:off x="4427640" y="4724280"/>
            <a:ext cx="297180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ЖИТЬ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95" name="Picture 9" descr="26_earth"/>
          <p:cNvPicPr/>
          <p:nvPr/>
        </p:nvPicPr>
        <p:blipFill>
          <a:blip r:embed="rId1"/>
          <a:stretch/>
        </p:blipFill>
        <p:spPr>
          <a:xfrm>
            <a:off x="539640" y="2276640"/>
            <a:ext cx="3095640" cy="29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lg_pic"/>
          <p:cNvPicPr/>
          <p:nvPr/>
        </p:nvPicPr>
        <p:blipFill>
          <a:blip r:embed="rId2"/>
          <a:stretch/>
        </p:blipFill>
        <p:spPr>
          <a:xfrm>
            <a:off x="539640" y="2319480"/>
            <a:ext cx="1079640" cy="91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487692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Monotype Corsiva"/>
              </a:rPr>
              <a:t>      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58920" y="1267920"/>
            <a:ext cx="5020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«Лучшая профилактика СПИДа - это голова на плечах.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Заражаются по-разному, умирают одинаково».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99" name="Picture 5" descr="Гнев Земли?"/>
          <p:cNvPicPr/>
          <p:nvPr/>
        </p:nvPicPr>
        <p:blipFill>
          <a:blip r:embed="rId1"/>
          <a:stretch/>
        </p:blipFill>
        <p:spPr>
          <a:xfrm>
            <a:off x="1547640" y="2924280"/>
            <a:ext cx="1584360" cy="1569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is?ZgwmsXkrDHRlHIQ0ic_JStZ0TJhynUhdsNEQiH3hsXw"/>
          <p:cNvPicPr/>
          <p:nvPr/>
        </p:nvPicPr>
        <p:blipFill>
          <a:blip r:embed="rId2"/>
          <a:stretch/>
        </p:blipFill>
        <p:spPr>
          <a:xfrm>
            <a:off x="1547640" y="2924280"/>
            <a:ext cx="854280" cy="6458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4360" y="579240"/>
            <a:ext cx="77040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Bookman Old Style"/>
              </a:rPr>
              <a:t>Как расшифровывается аббревиатура СПИД и ВИЧ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1916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СПИД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-СИНДРОМ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П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-ПРИОБРЕТЕННОГО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- большинство заражённых людей приобретало этот синдром во время своей жизни, они не родились с ним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ММУНО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Д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-ДЕФИЦИТА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ИЧ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- ВИРУС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- ИММУНОДЕФИЦИТА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Ч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– ЧЕЛОВЕК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2" name="Picture 4" descr="3d1f6ca82516"/>
          <p:cNvPicPr/>
          <p:nvPr/>
        </p:nvPicPr>
        <p:blipFill>
          <a:blip r:embed="rId1"/>
          <a:stretch/>
        </p:blipFill>
        <p:spPr>
          <a:xfrm>
            <a:off x="6877080" y="4797360"/>
            <a:ext cx="1430280" cy="136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26_earth"/>
          <p:cNvPicPr/>
          <p:nvPr/>
        </p:nvPicPr>
        <p:blipFill>
          <a:blip r:embed="rId2"/>
          <a:stretch/>
        </p:blipFill>
        <p:spPr>
          <a:xfrm>
            <a:off x="7380360" y="9810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lg_pic"/>
          <p:cNvPicPr/>
          <p:nvPr/>
        </p:nvPicPr>
        <p:blipFill>
          <a:blip r:embed="rId3"/>
          <a:stretch/>
        </p:blipFill>
        <p:spPr>
          <a:xfrm>
            <a:off x="7885080" y="1052640"/>
            <a:ext cx="588960" cy="500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11280" y="586080"/>
            <a:ext cx="669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800000"/>
                </a:solidFill>
                <a:latin typeface="Bookman Old Style"/>
              </a:rPr>
              <a:t>Чем отличается ВИЧ инфицированный от больного СПИДом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Picture 4" descr="26_earth"/>
          <p:cNvPicPr/>
          <p:nvPr/>
        </p:nvPicPr>
        <p:blipFill>
          <a:blip r:embed="rId1"/>
          <a:stretch/>
        </p:blipFill>
        <p:spPr>
          <a:xfrm>
            <a:off x="7380360" y="9810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lg_pic"/>
          <p:cNvPicPr/>
          <p:nvPr/>
        </p:nvPicPr>
        <p:blipFill>
          <a:blip r:embed="rId2"/>
          <a:stretch/>
        </p:blipFill>
        <p:spPr>
          <a:xfrm>
            <a:off x="7885080" y="1052640"/>
            <a:ext cx="588960" cy="500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11280" y="2061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 Antiqua"/>
              </a:rPr>
              <a:t>ВИЧ-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Book Antiqua"/>
              </a:rPr>
              <a:t>инфицированный – практически здоровый человек, в организме которого обнаруживается вирус иммунодефицита человек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800" spc="-1" strike="noStrike">
                <a:solidFill>
                  <a:srgbClr val="420021"/>
                </a:solidFill>
                <a:latin typeface="Book Antiqua"/>
              </a:rPr>
              <a:t>СПИД развивается у людей, заразившихся ВИЧ-инфекцией, и является конечной стадией этого заболевания, которая приводит к летальному исходу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26920" y="2204640"/>
            <a:ext cx="756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1. Половой путь передачи.  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2. Парентеральный путь передачи. 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фактор передачи – контакт с кровью инфицированного человека. 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3. Вертикальный путь передачи. 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ередача вируса иммунодефицита человека может произойти от ВИЧ- инфицированной матери ребенку во время беременности, родов и кормления грудью.</a:t>
            </a: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5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6696360" cy="139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26_earth"/>
          <p:cNvPicPr/>
          <p:nvPr/>
        </p:nvPicPr>
        <p:blipFill>
          <a:blip r:embed="rId2"/>
          <a:stretch/>
        </p:blipFill>
        <p:spPr>
          <a:xfrm>
            <a:off x="7020000" y="692280"/>
            <a:ext cx="1361880" cy="1317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g_pic"/>
          <p:cNvPicPr/>
          <p:nvPr/>
        </p:nvPicPr>
        <p:blipFill>
          <a:blip r:embed="rId3"/>
          <a:stretch/>
        </p:blipFill>
        <p:spPr>
          <a:xfrm>
            <a:off x="7812000" y="763560"/>
            <a:ext cx="588960" cy="500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4211640" y="2708280"/>
            <a:ext cx="40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Больные наркоманией- это  потенциальные переносчики СПИДа. Каждый третий                                   из них инфицирован ВИЧ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4" name="Picture 12" descr="НАРКОТИКИ1"/>
          <p:cNvPicPr/>
          <p:nvPr/>
        </p:nvPicPr>
        <p:blipFill>
          <a:blip r:embed="rId1"/>
          <a:stretch/>
        </p:blipFill>
        <p:spPr>
          <a:xfrm>
            <a:off x="755640" y="2205000"/>
            <a:ext cx="3368520" cy="3384720"/>
          </a:xfrm>
          <a:prstGeom prst="rect">
            <a:avLst/>
          </a:prstGeom>
          <a:ln w="41400">
            <a:solidFill>
              <a:srgbClr val="800000"/>
            </a:solidFill>
            <a:miter/>
          </a:ln>
        </p:spPr>
      </p:pic>
      <p:pic>
        <p:nvPicPr>
          <p:cNvPr id="215" name="Picture 2" descr="143_74"/>
          <p:cNvPicPr/>
          <p:nvPr/>
        </p:nvPicPr>
        <p:blipFill>
          <a:blip r:embed="rId2"/>
          <a:stretch/>
        </p:blipFill>
        <p:spPr>
          <a:xfrm>
            <a:off x="2627280" y="2276640"/>
            <a:ext cx="1397160" cy="1079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16" name="Rectangle 6"/>
          <p:cNvSpPr/>
          <p:nvPr/>
        </p:nvSpPr>
        <p:spPr>
          <a:xfrm>
            <a:off x="611280" y="83664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Bookman Old Style"/>
              </a:rPr>
              <a:t>ОСНОВНЫЕ ПЕРЕНОСЧИКИ ВИЧ ИНФЕКЦИИ, КТО ОНИ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1:13:26Z</dcterms:created>
  <dc:creator>ирина</dc:creator>
  <dc:description/>
  <dc:language>en-US</dc:language>
  <cp:lastModifiedBy>Пользователь</cp:lastModifiedBy>
  <dcterms:modified xsi:type="dcterms:W3CDTF">2014-10-28T17:13:24Z</dcterms:modified>
  <cp:revision>301</cp:revision>
  <dc:subject/>
  <dc:title> «Анализ работы и перспективы  воспитания и развития  младшего школьника» </dc:title>
</cp:coreProperties>
</file>