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png" ContentType="image/png"/>
  <Override PartName="/ppt/media/image29.jpeg" ContentType="image/jpeg"/>
  <Override PartName="/ppt/media/image25.jpeg" ContentType="image/jpeg"/>
  <Override PartName="/ppt/media/image4.jpeg" ContentType="image/jpeg"/>
  <Override PartName="/ppt/media/image3.jpeg" ContentType="image/jpeg"/>
  <Override PartName="/ppt/media/image30.png" ContentType="image/png"/>
  <Override PartName="/ppt/media/image28.wmf" ContentType="image/x-wmf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media/image13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2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533-8AE7-4D11-8929-7F088D6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4CE-E2D8-4AF9-B451-CC0DE92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09D-F039-451E-970D-C7DC8FEE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AC9-4883-4470-AC6F-179D166F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BD16-E8B3-4D5F-9148-67DBC677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CDC-585A-46FE-8244-8D708B8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772-1015-4B56-BFE2-2FC71CDB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0C7-4C84-47C2-8BBB-9EADF41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F95E-10DB-4B50-ABF9-9E96ED63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1B94-1812-43BB-9E48-0D18FE0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89D-4534-4AD0-835C-CDD8939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1C7-DBD8-4CF2-AA93-57DBE86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FC8-D44E-4191-9CC3-37C97BB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474-B832-4243-AB93-0CCCCF0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4354-996F-486E-83EB-C0421DA9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039-BCD7-47D8-A26B-566A3AC9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9B15-5FE9-4F63-BF37-46E10110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603F-58EF-4145-BF8F-0998663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188F-B7CD-42B0-8699-D415A84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356C-0850-4EF2-8E63-98EE49D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16C5-0DD2-44FD-99DD-803ACCB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EAD1-6CA2-4A04-B600-1DF55A3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EE0-6570-4A2C-AB68-15276EC9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E341-0EB2-4EEB-80D6-D8758BE1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24B8-1C3F-4D73-BD20-5DB3FC5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F843-5703-4C63-B886-BA93600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7EDE-6EDC-465E-87CC-E996275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1D17-7BE0-40FF-AE61-2F808C9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04D5-30E9-4AF6-9852-FDAC2016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18BD-3AC3-49F1-BE85-D1E82C63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C071-ABF8-4276-99D6-2FA80C7E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9727-7C13-4DD8-8EB7-871C1F04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BE6C-C3F1-4523-9E46-8055395D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7B3-0F5D-4563-BB72-D968051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A769-2D08-453D-A2F2-50C0E66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9AA3-ADF9-4D37-9D80-C7319DBB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7575-4437-48BD-8622-E556C60F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CDA4-D4D7-497B-938A-65536F6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88AA-E37F-4C2E-A96B-32ED933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AAB67-064B-460C-9912-B070603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F1A4-94B8-4C27-A430-5D7E982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EEB1-4EEE-4BF7-BA4F-7D98347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C7C0-2B2A-408D-9B01-8F1D9007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0D7-3C55-4545-B366-DF9F4BEE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3CF-A95B-4882-8A38-981357B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303-A09C-4D52-9AC4-6FBEB57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CA4-8037-43C8-871B-D5CC4C12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07C-7DCC-4669-8FC0-0E6C907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365-3A76-423F-94E7-9814CC03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3BC-B6AB-49FE-ADBC-91BFD99C3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7036-992D-4215-816E-0401208A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2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707-394D-468C-BB50-B310B3BFF3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0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wmf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4140360" y="112536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00720" y="1989000"/>
            <a:ext cx="297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4643280" y="2924280"/>
            <a:ext cx="304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81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7"/>
          <p:cNvSpPr txBox="1"/>
          <p:nvPr/>
        </p:nvSpPr>
        <p:spPr>
          <a:xfrm>
            <a:off x="4067280" y="3860640"/>
            <a:ext cx="4249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4140360" y="4653000"/>
            <a:ext cx="424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И БЫТЬ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1908000" y="5373720"/>
            <a:ext cx="6480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УСПЕШНЫМ!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82072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Друг мой, сосед мой, товарищ и брат!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Слышишь тяжелый и грозный набат?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Кокаин, никотин, СПАЙС, водка, вино!</a:t>
            </a:r>
            <a:br>
              <a:rPr sz="32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Места им в жизни быть                не должно.</a:t>
            </a:r>
            <a:endParaRPr b="1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18" name="Picture 4" descr="26_earth"/>
          <p:cNvPicPr/>
          <p:nvPr/>
        </p:nvPicPr>
        <p:blipFill>
          <a:blip r:embed="rId1"/>
          <a:stretch/>
        </p:blipFill>
        <p:spPr>
          <a:xfrm>
            <a:off x="6732720" y="552600"/>
            <a:ext cx="1942920" cy="1879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lg_pic"/>
          <p:cNvPicPr/>
          <p:nvPr/>
        </p:nvPicPr>
        <p:blipFill>
          <a:blip r:embed="rId2"/>
          <a:stretch/>
        </p:blipFill>
        <p:spPr>
          <a:xfrm>
            <a:off x="6804000" y="620640"/>
            <a:ext cx="777960" cy="660600"/>
          </a:xfrm>
          <a:prstGeom prst="rect">
            <a:avLst/>
          </a:prstGeom>
          <a:ln w="0">
            <a:noFill/>
          </a:ln>
        </p:spPr>
      </p:pic>
      <p:pic>
        <p:nvPicPr>
          <p:cNvPr id="220" name="колокола .MP3" descr=""/>
          <p:cNvPicPr/>
          <p:nvPr/>
        </p:nvPicPr>
        <p:blipFill>
          <a:blip r:embed="rId3"/>
          <a:stretch/>
        </p:blipFill>
        <p:spPr>
          <a:xfrm>
            <a:off x="285840" y="6072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905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     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58920" y="1267920"/>
            <a:ext cx="5020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23" name="Picture 4" descr="Гнев Земли?"/>
          <p:cNvPicPr/>
          <p:nvPr/>
        </p:nvPicPr>
        <p:blipFill>
          <a:blip r:embed="rId1"/>
          <a:stretch/>
        </p:blipFill>
        <p:spPr>
          <a:xfrm>
            <a:off x="673200" y="2557440"/>
            <a:ext cx="2386080" cy="2363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s?ZgwmsXkrDHRlHIQ0ic_JStZ0TJhynUhdsNEQiH3hsXw"/>
          <p:cNvPicPr/>
          <p:nvPr/>
        </p:nvPicPr>
        <p:blipFill>
          <a:blip r:embed="rId2"/>
          <a:stretch/>
        </p:blipFill>
        <p:spPr>
          <a:xfrm>
            <a:off x="826920" y="2708280"/>
            <a:ext cx="1285920" cy="97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25" name="Rectangle 6"/>
          <p:cNvSpPr/>
          <p:nvPr/>
        </p:nvSpPr>
        <p:spPr>
          <a:xfrm>
            <a:off x="3276720" y="170028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Мы знаем много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о ВИЧ, но между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знанием и действительностью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больша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ропасть</a:t>
            </a:r>
            <a:r>
              <a:rPr b="0" lang="ru-RU" sz="3600" spc="-1" strike="noStrike">
                <a:solidFill>
                  <a:srgbClr val="8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26_earth"/>
          <p:cNvPicPr/>
          <p:nvPr/>
        </p:nvPicPr>
        <p:blipFill>
          <a:blip r:embed="rId1"/>
          <a:stretch/>
        </p:blipFill>
        <p:spPr>
          <a:xfrm>
            <a:off x="6877080" y="554040"/>
            <a:ext cx="1798560" cy="173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lg_pic"/>
          <p:cNvPicPr/>
          <p:nvPr/>
        </p:nvPicPr>
        <p:blipFill>
          <a:blip r:embed="rId2"/>
          <a:stretch/>
        </p:blipFill>
        <p:spPr>
          <a:xfrm>
            <a:off x="7750080" y="711360"/>
            <a:ext cx="777960" cy="660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84360" y="258048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Чтобы СПИД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Не грозил ни мне, ни тебе…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Помоги человек человеку,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Чтобы быть человеком вдвойне</a:t>
            </a: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ВРАГУ НЕ ПОЖЕЛАЮ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2016000" cy="1444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303640" cy="1849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2" name="Picture 11" descr=""/>
          <p:cNvPicPr/>
          <p:nvPr/>
        </p:nvPicPr>
        <p:blipFill>
          <a:blip r:embed="rId3"/>
          <a:stretch/>
        </p:blipFill>
        <p:spPr>
          <a:xfrm>
            <a:off x="6732720" y="692280"/>
            <a:ext cx="1834920" cy="1800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3" name="Picture 12" descr=""/>
          <p:cNvPicPr/>
          <p:nvPr/>
        </p:nvPicPr>
        <p:blipFill>
          <a:blip r:embed="rId4"/>
          <a:stretch/>
        </p:blipFill>
        <p:spPr>
          <a:xfrm rot="20968200">
            <a:off x="3779640" y="2205000"/>
            <a:ext cx="1457280" cy="1657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4" name="Рисунок 10" descr="1194458236_1971mad.jpg"/>
          <p:cNvPicPr/>
          <p:nvPr/>
        </p:nvPicPr>
        <p:blipFill>
          <a:blip r:embed="rId5"/>
          <a:srcRect l="7411" t="3375" r="7411" b="10124"/>
          <a:stretch/>
        </p:blipFill>
        <p:spPr>
          <a:xfrm>
            <a:off x="1258920" y="2133720"/>
            <a:ext cx="1973160" cy="224604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pic>
        <p:nvPicPr>
          <p:cNvPr id="235" name="Picture 12" descr="НАРКОТИКИ1"/>
          <p:cNvPicPr/>
          <p:nvPr/>
        </p:nvPicPr>
        <p:blipFill>
          <a:blip r:embed="rId6"/>
          <a:stretch/>
        </p:blipFill>
        <p:spPr>
          <a:xfrm>
            <a:off x="5867280" y="2781360"/>
            <a:ext cx="2508480" cy="2519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236" name="Picture 9" descr="C:\Users\Пользователь\Desktop\spice-vred.jpg"/>
          <p:cNvPicPr/>
          <p:nvPr/>
        </p:nvPicPr>
        <p:blipFill>
          <a:blip r:embed="rId7"/>
          <a:stretch/>
        </p:blipFill>
        <p:spPr>
          <a:xfrm rot="20349600">
            <a:off x="836640" y="3013200"/>
            <a:ext cx="1108080" cy="12888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МОЁ БУДЩЕЕ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pic>
        <p:nvPicPr>
          <p:cNvPr id="238" name="Picture 4" descr="Круги на воде copy1"/>
          <p:cNvPicPr/>
          <p:nvPr/>
        </p:nvPicPr>
        <p:blipFill>
          <a:blip r:embed="rId1"/>
          <a:stretch/>
        </p:blipFill>
        <p:spPr>
          <a:xfrm>
            <a:off x="684360" y="1916280"/>
            <a:ext cx="2735280" cy="2233440"/>
          </a:xfrm>
          <a:prstGeom prst="rect">
            <a:avLst/>
          </a:prstGeom>
          <a:ln w="12600">
            <a:solidFill>
              <a:srgbClr val="6c0036"/>
            </a:solidFill>
            <a:miter/>
          </a:ln>
        </p:spPr>
      </p:pic>
      <p:sp>
        <p:nvSpPr>
          <p:cNvPr id="239" name="WordArt 5"/>
          <p:cNvSpPr txBox="1"/>
          <p:nvPr/>
        </p:nvSpPr>
        <p:spPr>
          <a:xfrm>
            <a:off x="755640" y="32130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835280" y="278136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1116000" y="2781360"/>
            <a:ext cx="17272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6480">
                <a:solidFill>
                  <a:srgbClr val="8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763640" y="2205000"/>
            <a:ext cx="7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243" name="Рисунок 10" descr="1194458236_1971mad.jpg"/>
          <p:cNvPicPr/>
          <p:nvPr/>
        </p:nvPicPr>
        <p:blipFill>
          <a:blip r:embed="rId6"/>
          <a:srcRect l="7430" t="3397" r="7430" b="10149"/>
          <a:stretch/>
        </p:blipFill>
        <p:spPr>
          <a:xfrm>
            <a:off x="684360" y="1916280"/>
            <a:ext cx="645840" cy="734760"/>
          </a:xfrm>
          <a:prstGeom prst="rect">
            <a:avLst/>
          </a:prstGeom>
          <a:ln w="34920">
            <a:solidFill>
              <a:srgbClr val="800000"/>
            </a:solidFill>
            <a:miter/>
          </a:ln>
        </p:spPr>
      </p:pic>
      <p:sp>
        <p:nvSpPr>
          <p:cNvPr id="244" name="Line 9"/>
          <p:cNvSpPr/>
          <p:nvPr/>
        </p:nvSpPr>
        <p:spPr>
          <a:xfrm flipH="1">
            <a:off x="755280" y="2060640"/>
            <a:ext cx="5778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684360" y="2060640"/>
            <a:ext cx="5745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Picture 19" descr="crayon_coloring_hw"/>
          <p:cNvPicPr/>
          <p:nvPr/>
        </p:nvPicPr>
        <p:blipFill>
          <a:blip r:embed="rId7"/>
          <a:stretch/>
        </p:blipFill>
        <p:spPr>
          <a:xfrm rot="1191000">
            <a:off x="6732720" y="4581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morkovka"/>
          <p:cNvPicPr/>
          <p:nvPr/>
        </p:nvPicPr>
        <p:blipFill>
          <a:blip r:embed="rId8"/>
          <a:stretch/>
        </p:blipFill>
        <p:spPr>
          <a:xfrm>
            <a:off x="7236000" y="692280"/>
            <a:ext cx="1323720" cy="1628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191106_3"/>
          <p:cNvPicPr/>
          <p:nvPr/>
        </p:nvPicPr>
        <p:blipFill>
          <a:blip r:embed="rId9"/>
          <a:stretch/>
        </p:blipFill>
        <p:spPr>
          <a:xfrm>
            <a:off x="971640" y="4292640"/>
            <a:ext cx="2160360" cy="1685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j0430833"/>
          <p:cNvPicPr/>
          <p:nvPr/>
        </p:nvPicPr>
        <p:blipFill>
          <a:blip r:embed="rId10"/>
          <a:stretch/>
        </p:blipFill>
        <p:spPr>
          <a:xfrm>
            <a:off x="3348000" y="3213000"/>
            <a:ext cx="2951280" cy="2719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250" name="Picture 27" descr="Счастье"/>
          <p:cNvPicPr/>
          <p:nvPr/>
        </p:nvPicPr>
        <p:blipFill>
          <a:blip r:embed="rId11"/>
          <a:stretch/>
        </p:blipFill>
        <p:spPr>
          <a:xfrm rot="337200">
            <a:off x="5940360" y="2060280"/>
            <a:ext cx="1638360" cy="22492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251" name="Picture 28" descr="j0429815"/>
          <p:cNvPicPr/>
          <p:nvPr/>
        </p:nvPicPr>
        <p:blipFill>
          <a:blip r:embed="rId12"/>
          <a:stretch/>
        </p:blipFill>
        <p:spPr>
          <a:xfrm>
            <a:off x="3851280" y="1557360"/>
            <a:ext cx="1701720" cy="1803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C:\Users\Пользователь\Desktop\01_sinteticheskie-narkotiki.jpg"/>
          <p:cNvPicPr/>
          <p:nvPr/>
        </p:nvPicPr>
        <p:blipFill>
          <a:blip r:embed="rId13"/>
          <a:stretch/>
        </p:blipFill>
        <p:spPr>
          <a:xfrm>
            <a:off x="2643120" y="1928880"/>
            <a:ext cx="785880" cy="785880"/>
          </a:xfrm>
          <a:prstGeom prst="rect">
            <a:avLst/>
          </a:prstGeom>
          <a:ln w="22320">
            <a:solidFill>
              <a:srgbClr val="993300"/>
            </a:solidFill>
            <a:miter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327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Опасно прикасаться к больному СПИДо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жно заразиться вирусом ВИЧ через стульчак туалета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Абсолютно безопасно находиться в классе с учителем, больным СПИДо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4. СПИД угрожает только гомосексуалистам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8028000" y="4292640"/>
            <a:ext cx="431640" cy="430200"/>
            <a:chOff x="8028000" y="4292640"/>
            <a:chExt cx="431640" cy="430200"/>
          </a:xfrm>
        </p:grpSpPr>
        <p:sp>
          <p:nvSpPr>
            <p:cNvPr id="256" name="Line 5"/>
            <p:cNvSpPr/>
            <p:nvPr/>
          </p:nvSpPr>
          <p:spPr>
            <a:xfrm>
              <a:off x="8028000" y="450828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>
              <a:off x="8244000" y="429264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58" name="Line 9"/>
          <p:cNvSpPr/>
          <p:nvPr/>
        </p:nvSpPr>
        <p:spPr>
          <a:xfrm>
            <a:off x="8028000" y="256536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7956720" y="537372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8028000" y="3429000"/>
            <a:ext cx="431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52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5. Нельзя заразиться ВИЧ, если пить из одного стакана, либо доедать бутерброд ВИЧ - инфицированного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6. Целесообразно остановить кровотечение рукой, если в школе кто то поранился и нуждается в помощи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7. Вирус ВИЧ вызывает болезнь - СПИД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7885080" y="2492280"/>
            <a:ext cx="431640" cy="430200"/>
            <a:chOff x="7885080" y="2492280"/>
            <a:chExt cx="431640" cy="430200"/>
          </a:xfrm>
        </p:grpSpPr>
        <p:sp>
          <p:nvSpPr>
            <p:cNvPr id="264" name="Line 6"/>
            <p:cNvSpPr/>
            <p:nvPr/>
          </p:nvSpPr>
          <p:spPr>
            <a:xfrm>
              <a:off x="7885080" y="270792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8101080" y="249228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66" name="Group 8"/>
          <p:cNvGrpSpPr/>
          <p:nvPr/>
        </p:nvGrpSpPr>
        <p:grpSpPr>
          <a:xfrm>
            <a:off x="7885080" y="5157720"/>
            <a:ext cx="431640" cy="430200"/>
            <a:chOff x="7885080" y="5157720"/>
            <a:chExt cx="431640" cy="430200"/>
          </a:xfrm>
        </p:grpSpPr>
        <p:sp>
          <p:nvSpPr>
            <p:cNvPr id="267" name="Line 9"/>
            <p:cNvSpPr/>
            <p:nvPr/>
          </p:nvSpPr>
          <p:spPr>
            <a:xfrm>
              <a:off x="7885080" y="537336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8101080" y="515772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69" name="Line 11"/>
          <p:cNvSpPr/>
          <p:nvPr/>
        </p:nvSpPr>
        <p:spPr>
          <a:xfrm>
            <a:off x="7885080" y="3860640"/>
            <a:ext cx="43200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8. Три основных пути, которыми передается СПИД: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контакты через кровь (использование общей иглы), сексуальные контакты, от матери к ребенку во время родов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9. Правильное и постоянное использование презерватива препятствует заражению вирусом ВИЧ.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Bookman Old Style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7885080" y="2276640"/>
            <a:ext cx="431640" cy="430200"/>
            <a:chOff x="7885080" y="2276640"/>
            <a:chExt cx="431640" cy="430200"/>
          </a:xfrm>
        </p:grpSpPr>
        <p:sp>
          <p:nvSpPr>
            <p:cNvPr id="273" name="Line 6"/>
            <p:cNvSpPr/>
            <p:nvPr/>
          </p:nvSpPr>
          <p:spPr>
            <a:xfrm>
              <a:off x="7885080" y="249228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Line 7"/>
            <p:cNvSpPr/>
            <p:nvPr/>
          </p:nvSpPr>
          <p:spPr>
            <a:xfrm>
              <a:off x="8101080" y="227664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75" name="Group 8"/>
          <p:cNvGrpSpPr/>
          <p:nvPr/>
        </p:nvGrpSpPr>
        <p:grpSpPr>
          <a:xfrm>
            <a:off x="7885080" y="4869000"/>
            <a:ext cx="431640" cy="430200"/>
            <a:chOff x="7885080" y="4869000"/>
            <a:chExt cx="431640" cy="430200"/>
          </a:xfrm>
        </p:grpSpPr>
        <p:sp>
          <p:nvSpPr>
            <p:cNvPr id="276" name="Line 9"/>
            <p:cNvSpPr/>
            <p:nvPr/>
          </p:nvSpPr>
          <p:spPr>
            <a:xfrm>
              <a:off x="7885080" y="508464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8101080" y="486900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 spd="slow"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ВЕРЮ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-</a:t>
            </a:r>
            <a:r>
              <a:rPr b="1" lang="ru-RU" sz="5400" spc="-1" strike="noStrike">
                <a:solidFill>
                  <a:srgbClr val="800000"/>
                </a:solidFill>
                <a:latin typeface="Bookman Old Style"/>
              </a:rPr>
              <a:t> НЕ ВЕРЮ.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8469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10. Диапазон времени от заражения вирусом ВИЧ до проявления симптомов болезни СПИД несколько лет. 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11. </a:t>
            </a: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С</a:t>
            </a:r>
            <a:r>
              <a:rPr b="1" lang="ru-RU" sz="2600" spc="-1" strike="noStrike">
                <a:solidFill>
                  <a:srgbClr val="660033"/>
                </a:solidFill>
                <a:latin typeface="Bookman Old Style"/>
              </a:rPr>
              <a:t>имптомы СПИДа не похожи на симптомы других болезней.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Bookman Old Style"/>
              </a:rPr>
              <a:t>12. Инфицированные ВИЧ и больные СПИДом нуждаются в помощи и поддержке. Чтобы помочь такому человеку, нужно остаться его другом.</a:t>
            </a:r>
            <a:r>
              <a:rPr b="1" lang="ru-RU" sz="2600" spc="-1" strike="noStrike">
                <a:solidFill>
                  <a:srgbClr val="005400"/>
                </a:solidFill>
                <a:latin typeface="Bookman Old Style"/>
              </a:rPr>
              <a:t>  </a:t>
            </a:r>
            <a:endParaRPr b="1" lang="en-US" sz="2600" spc="-1" strike="noStrike">
              <a:solidFill>
                <a:srgbClr val="4d4d4d"/>
              </a:solidFill>
              <a:latin typeface="Arial Narrow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7956720" y="2205000"/>
            <a:ext cx="431640" cy="430200"/>
            <a:chOff x="7956720" y="2205000"/>
            <a:chExt cx="431640" cy="430200"/>
          </a:xfrm>
        </p:grpSpPr>
        <p:sp>
          <p:nvSpPr>
            <p:cNvPr id="281" name="Line 6"/>
            <p:cNvSpPr/>
            <p:nvPr/>
          </p:nvSpPr>
          <p:spPr>
            <a:xfrm>
              <a:off x="7956720" y="242064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8172720" y="220500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7956720" y="5013360"/>
            <a:ext cx="431640" cy="430200"/>
            <a:chOff x="7956720" y="5013360"/>
            <a:chExt cx="431640" cy="430200"/>
          </a:xfrm>
        </p:grpSpPr>
        <p:sp>
          <p:nvSpPr>
            <p:cNvPr id="284" name="Line 9"/>
            <p:cNvSpPr/>
            <p:nvPr/>
          </p:nvSpPr>
          <p:spPr>
            <a:xfrm>
              <a:off x="7956720" y="5229000"/>
              <a:ext cx="431640" cy="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8172720" y="5013360"/>
              <a:ext cx="0" cy="43020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>
            <a:off x="7885080" y="3789360"/>
            <a:ext cx="43200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sp15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Bookman Old Style"/>
              </a:rPr>
              <a:t>БОЛЕЗНЬ 21 ВЕКА</a:t>
            </a:r>
            <a:endParaRPr b="0" lang="en-US" sz="4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4280" y="2071440"/>
            <a:ext cx="64771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Bookman Old Style"/>
              </a:rPr>
              <a:t>СПИД</a:t>
            </a:r>
            <a:endParaRPr b="1" lang="en-US" sz="15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88" name="Picture 9" descr="26_earth"/>
          <p:cNvPicPr/>
          <p:nvPr/>
        </p:nvPicPr>
        <p:blipFill>
          <a:blip r:embed="rId1"/>
          <a:stretch/>
        </p:blipFill>
        <p:spPr>
          <a:xfrm>
            <a:off x="6357960" y="4206960"/>
            <a:ext cx="1976400" cy="190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lg_pic"/>
          <p:cNvPicPr/>
          <p:nvPr/>
        </p:nvPicPr>
        <p:blipFill>
          <a:blip r:embed="rId2"/>
          <a:stretch/>
        </p:blipFill>
        <p:spPr>
          <a:xfrm>
            <a:off x="7643880" y="4143240"/>
            <a:ext cx="689040" cy="5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1908000" y="1052640"/>
            <a:ext cx="17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ВИЧ -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4140360" y="1413000"/>
            <a:ext cx="38098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4140360" y="2997360"/>
            <a:ext cx="297180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1" name="WordArt 7"/>
          <p:cNvSpPr txBox="1"/>
          <p:nvPr/>
        </p:nvSpPr>
        <p:spPr>
          <a:xfrm>
            <a:off x="4427640" y="4724280"/>
            <a:ext cx="29718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92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00000" y="3039120"/>
            <a:ext cx="73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Bookman Old Style"/>
              </a:rPr>
              <a:t>РАЗУМ ДОЛЖЕН ПРЕОБЛАДАТЬ НАД ЧУВСТВАМИ.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Picture 3" descr="26_earth"/>
          <p:cNvPicPr/>
          <p:nvPr/>
        </p:nvPicPr>
        <p:blipFill>
          <a:blip r:embed="rId1"/>
          <a:stretch/>
        </p:blipFill>
        <p:spPr>
          <a:xfrm>
            <a:off x="6300720" y="620640"/>
            <a:ext cx="2154240" cy="208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lg_pic"/>
          <p:cNvPicPr/>
          <p:nvPr/>
        </p:nvPicPr>
        <p:blipFill>
          <a:blip r:embed="rId2"/>
          <a:stretch/>
        </p:blipFill>
        <p:spPr>
          <a:xfrm>
            <a:off x="7380360" y="692280"/>
            <a:ext cx="96372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sp05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908000" y="1052640"/>
            <a:ext cx="17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ВИЧ -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4140360" y="1413000"/>
            <a:ext cx="38098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ЗНАТЬ,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4140360" y="2997360"/>
            <a:ext cx="297180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ЧТОБЫ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4427640" y="4724280"/>
            <a:ext cx="29718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ЖИТЬ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95" name="Picture 9" descr="26_earth"/>
          <p:cNvPicPr/>
          <p:nvPr/>
        </p:nvPicPr>
        <p:blipFill>
          <a:blip r:embed="rId1"/>
          <a:stretch/>
        </p:blipFill>
        <p:spPr>
          <a:xfrm>
            <a:off x="539640" y="2276640"/>
            <a:ext cx="3095640" cy="29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lg_pic"/>
          <p:cNvPicPr/>
          <p:nvPr/>
        </p:nvPicPr>
        <p:blipFill>
          <a:blip r:embed="rId2"/>
          <a:stretch/>
        </p:blipFill>
        <p:spPr>
          <a:xfrm>
            <a:off x="539640" y="2319480"/>
            <a:ext cx="1079640" cy="91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      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58920" y="1267920"/>
            <a:ext cx="5020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«Лучшая профилактика СПИДа - это голова на плечах.</a:t>
            </a:r>
            <a:endParaRPr b="1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аражаются по-разному, умирают одинаково»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99" name="Picture 5" descr="Гнев Земли?"/>
          <p:cNvPicPr/>
          <p:nvPr/>
        </p:nvPicPr>
        <p:blipFill>
          <a:blip r:embed="rId1"/>
          <a:stretch/>
        </p:blipFill>
        <p:spPr>
          <a:xfrm>
            <a:off x="1547640" y="2924280"/>
            <a:ext cx="1584360" cy="156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is?ZgwmsXkrDHRlHIQ0ic_JStZ0TJhynUhdsNEQiH3hsXw"/>
          <p:cNvPicPr/>
          <p:nvPr/>
        </p:nvPicPr>
        <p:blipFill>
          <a:blip r:embed="rId2"/>
          <a:stretch/>
        </p:blipFill>
        <p:spPr>
          <a:xfrm>
            <a:off x="1547640" y="2924280"/>
            <a:ext cx="854280" cy="6458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4360" y="579240"/>
            <a:ext cx="770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Bookman Old Style"/>
              </a:rPr>
              <a:t>Как расшифровывается аббревиатура СПИД и ВИЧ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man Old Style"/>
              </a:rPr>
              <a:t>СПИД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СИНДРО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ПРИОБРЕТЕННОГ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- большинство заражённых людей приобретало этот синдром во время своей жизни, они не родились с ним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ММУН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Д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ДЕФИЦИТ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ИЧ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- ВИРУС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- ИММУНОДЕФИЦИТА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– ЧЕЛОВЕК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4" descr="3d1f6ca82516"/>
          <p:cNvPicPr/>
          <p:nvPr/>
        </p:nvPicPr>
        <p:blipFill>
          <a:blip r:embed="rId1"/>
          <a:stretch/>
        </p:blipFill>
        <p:spPr>
          <a:xfrm>
            <a:off x="6877080" y="4797360"/>
            <a:ext cx="1430280" cy="136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26_earth"/>
          <p:cNvPicPr/>
          <p:nvPr/>
        </p:nvPicPr>
        <p:blipFill>
          <a:blip r:embed="rId2"/>
          <a:stretch/>
        </p:blipFill>
        <p:spPr>
          <a:xfrm>
            <a:off x="7380360" y="9810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g_pic"/>
          <p:cNvPicPr/>
          <p:nvPr/>
        </p:nvPicPr>
        <p:blipFill>
          <a:blip r:embed="rId3"/>
          <a:stretch/>
        </p:blipFill>
        <p:spPr>
          <a:xfrm>
            <a:off x="7885080" y="1052640"/>
            <a:ext cx="58896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11280" y="586080"/>
            <a:ext cx="669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Bookman Old Style"/>
              </a:rPr>
              <a:t>Чем отличается ВИЧ инфицированный от больного СПИДом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4" descr="26_earth"/>
          <p:cNvPicPr/>
          <p:nvPr/>
        </p:nvPicPr>
        <p:blipFill>
          <a:blip r:embed="rId1"/>
          <a:stretch/>
        </p:blipFill>
        <p:spPr>
          <a:xfrm>
            <a:off x="7380360" y="9810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lg_pic"/>
          <p:cNvPicPr/>
          <p:nvPr/>
        </p:nvPicPr>
        <p:blipFill>
          <a:blip r:embed="rId2"/>
          <a:stretch/>
        </p:blipFill>
        <p:spPr>
          <a:xfrm>
            <a:off x="7885080" y="1052640"/>
            <a:ext cx="588960" cy="500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11280" y="2061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ВИЧ-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Book Antiqua"/>
              </a:rPr>
              <a:t>инфицированный – практически здоровый человек, в организме которого обнаруживается вирус иммунодефицита человек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19160"/>
              </a:tabLst>
            </a:pPr>
            <a:r>
              <a:rPr b="1" lang="ru-RU" sz="2800" spc="-1" strike="noStrike">
                <a:solidFill>
                  <a:srgbClr val="420021"/>
                </a:solidFill>
                <a:latin typeface="Book Antiqua"/>
              </a:rPr>
              <a:t>СПИД развивается у людей, заразившихся ВИЧ-инфекцией, и является конечной стадией этого заболевания, которая приводит к летальному исходу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26920" y="220464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1. Половой путь передачи.  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2. Парентеральный путь передачи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фактор передачи – контакт с кровью инфицированного человека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3. Вертикальный путь передачи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ередача вируса иммунодефицита человека может произойти от ВИЧ- инфицированной матери ребенку во время беременности, родов и кормления грудью.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696360" cy="139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6_earth"/>
          <p:cNvPicPr/>
          <p:nvPr/>
        </p:nvPicPr>
        <p:blipFill>
          <a:blip r:embed="rId2"/>
          <a:stretch/>
        </p:blipFill>
        <p:spPr>
          <a:xfrm>
            <a:off x="7020000" y="692280"/>
            <a:ext cx="1361880" cy="131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g_pic"/>
          <p:cNvPicPr/>
          <p:nvPr/>
        </p:nvPicPr>
        <p:blipFill>
          <a:blip r:embed="rId3"/>
          <a:stretch/>
        </p:blipFill>
        <p:spPr>
          <a:xfrm>
            <a:off x="7812000" y="763560"/>
            <a:ext cx="588960" cy="50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4211640" y="2708280"/>
            <a:ext cx="40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Больные наркоманией- это  потенциальные переносчики СПИДа. Каждый третий                                   из них инфицирован ВИЧ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4" name="Picture 12" descr="НАРКОТИКИ1"/>
          <p:cNvPicPr/>
          <p:nvPr/>
        </p:nvPicPr>
        <p:blipFill>
          <a:blip r:embed="rId1"/>
          <a:stretch/>
        </p:blipFill>
        <p:spPr>
          <a:xfrm>
            <a:off x="755640" y="2205000"/>
            <a:ext cx="3368520" cy="3384720"/>
          </a:xfrm>
          <a:prstGeom prst="rect">
            <a:avLst/>
          </a:prstGeom>
          <a:ln w="41400">
            <a:solidFill>
              <a:srgbClr val="800000"/>
            </a:solidFill>
            <a:miter/>
          </a:ln>
        </p:spPr>
      </p:pic>
      <p:pic>
        <p:nvPicPr>
          <p:cNvPr id="215" name="Picture 2" descr="143_74"/>
          <p:cNvPicPr/>
          <p:nvPr/>
        </p:nvPicPr>
        <p:blipFill>
          <a:blip r:embed="rId2"/>
          <a:stretch/>
        </p:blipFill>
        <p:spPr>
          <a:xfrm>
            <a:off x="2627280" y="2276640"/>
            <a:ext cx="1397160" cy="1079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16" name="Rectangle 6"/>
          <p:cNvSpPr/>
          <p:nvPr/>
        </p:nvSpPr>
        <p:spPr>
          <a:xfrm>
            <a:off x="611280" y="836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man Old Style"/>
              </a:rPr>
              <a:t>ОСНОВНЫЕ ПЕРЕНОСЧИКИ ВИЧ ИНФЕКЦИИ, КТО ОНИ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1:13:26Z</dcterms:created>
  <dc:creator>ирина</dc:creator>
  <dc:description/>
  <dc:language>en-US</dc:language>
  <cp:lastModifiedBy>Пользователь</cp:lastModifiedBy>
  <dcterms:modified xsi:type="dcterms:W3CDTF">2014-10-28T17:13:24Z</dcterms:modified>
  <cp:revision>301</cp:revision>
  <dc:subject/>
  <dc:title> «Анализ работы и перспективы  воспитания и развития  младшего школьника» </dc:title>
</cp:coreProperties>
</file>