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1F3-50CD-469D-BED7-09CBF654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85D-9A0B-4BF6-ACD8-1B151B03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81A-539B-4E70-807A-F6F643F1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B5C-E4ED-44C1-8CFE-20896486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37F-2293-4A24-8AA3-C9F2E5F7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3F1-758C-4B28-83B8-3B7738C1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A49-9737-467C-897E-395E08AD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613-C3F2-4421-8F35-56EF7534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3F1-85A6-4C5D-BCB4-3F52B710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61B-0D9C-4FC4-8A52-778A5867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008-0B7C-4A4F-BEE6-C7F636EF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3FB-B272-4829-A9FA-C449AFB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189D-EE0A-435C-92C9-51AB4763A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6633"/>
                </a:solidFill>
                <a:latin typeface="Arial"/>
              </a:rPr>
              <a:t>Биология – наука о живой 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2720" y="4797000"/>
            <a:ext cx="247968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иос» -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логос» - 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логия (с греч.) – «учение о жизни»             или наука о живых организм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изуч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а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изуч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а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лог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олог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иб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биолог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организ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276720" y="2852640"/>
            <a:ext cx="2592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знаки жи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1476360" y="54936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468360" y="278136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раж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5076720" y="47628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395280" y="530064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6443640" y="537372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3348000" y="5373720"/>
            <a:ext cx="244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6227640" y="2708280"/>
            <a:ext cx="24498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V="1">
            <a:off x="4500720" y="1844640"/>
            <a:ext cx="1511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H="1" flipV="1">
            <a:off x="3203280" y="1844640"/>
            <a:ext cx="12970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2339640" y="3789360"/>
            <a:ext cx="208764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4643280" y="3789360"/>
            <a:ext cx="244980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4500720" y="3789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5867280" y="3429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2916000" y="3429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549360"/>
          <a:ext cx="8229600" cy="5298840"/>
        </p:xfrm>
        <a:graphic>
          <a:graphicData uri="http://schemas.openxmlformats.org/drawingml/2006/table">
            <a:tbl>
              <a:tblPr/>
              <a:tblGrid>
                <a:gridCol w="1522440"/>
                <a:gridCol w="3313080"/>
                <a:gridCol w="3394080"/>
              </a:tblGrid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зн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ют питательные вещества за счет энергии с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ются готовыми органическими веществ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граничен (всю жиз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определен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ообме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ыхают кислород, выдыхают углекислый газ. Способны к фотосинтезу (поглощение углекислого газа и выделение кисл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ыхают кислород, выдыхают углекислый газ. Не способы к фотосинте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подвижны, не имеют специфических органов пере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 передвигаются, имеют специфические органы пере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науки 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836640"/>
          <a:ext cx="8229600" cy="594036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из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ия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 стр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фология ра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е стр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ология ра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 внутри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тика ра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образие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ботан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е и значение растительных сооб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ек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та растений и их св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толог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химия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 состав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еоботан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опаемые 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я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ь с окружающей сред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очитат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тр.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 – 12;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 11.  рт-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ворческое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казка, герои –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) рассказ на тему «что бы произош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 бы на Земле исчезли все растения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*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найдите информацию о растениях, которые сыграли важную роль в истории стран или в судьб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апишите на отдельном листочке, красиво оформите и сдайте учител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DSC00862"/>
          <p:cNvPicPr/>
          <p:nvPr/>
        </p:nvPicPr>
        <p:blipFill>
          <a:blip r:embed="rId1"/>
          <a:stretch/>
        </p:blipFill>
        <p:spPr>
          <a:xfrm>
            <a:off x="100080" y="7452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6:09:50Z</dcterms:created>
  <dc:creator>User</dc:creator>
  <dc:description/>
  <dc:language>en-US</dc:language>
  <cp:lastModifiedBy>Пользователь</cp:lastModifiedBy>
  <dcterms:modified xsi:type="dcterms:W3CDTF">2015-10-12T00:34:48Z</dcterms:modified>
  <cp:revision>10</cp:revision>
  <dc:subject/>
  <dc:title>Биология – наука о живой природе</dc:title>
</cp:coreProperties>
</file>