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DA7-B8CC-4A5E-872A-1E5449DE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523-5A57-47A2-B08B-2638DF52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38D-89EC-4405-BCD9-DF91A18D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AF5-1C8A-4994-9B7C-E4A78F24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291-3FF9-4265-B536-BF5B3F7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481-C939-46FD-A6CA-12673E90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597-1537-4D6E-B67F-ADF809F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4B-78D3-4E7D-9DBE-01DAEF6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44B-0625-4E83-98C3-7B50BFE8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2DE-7A74-4792-B83B-40AC22C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0E5-FF21-4F7A-972E-8D6A13F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0B9-0E75-49F8-A68C-728260C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38B-75A1-4038-A748-1953FF049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33"/>
                </a:solidFill>
                <a:latin typeface="Arial"/>
              </a:rPr>
              <a:t>Биология – наука о живой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720" y="4797000"/>
            <a:ext cx="24796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иос» -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логос» - 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логия (с греч.) – «учение о жизни»             или наука о живых организ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зу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а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зу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а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б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би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организ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76720" y="2852640"/>
            <a:ext cx="2592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знаки ж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1476360" y="54936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68360" y="278136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раж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5076720" y="47628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395280" y="530064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443640" y="537372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3348000" y="537372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6227640" y="2708280"/>
            <a:ext cx="24498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V="1">
            <a:off x="4500720" y="1844640"/>
            <a:ext cx="1511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 flipV="1">
            <a:off x="3203280" y="1844640"/>
            <a:ext cx="12970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2339640" y="3789360"/>
            <a:ext cx="208764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4643280" y="3789360"/>
            <a:ext cx="24498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4500720" y="3789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586728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91600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549360"/>
          <a:ext cx="8229600" cy="5298840"/>
        </p:xfrm>
        <a:graphic>
          <a:graphicData uri="http://schemas.openxmlformats.org/drawingml/2006/table">
            <a:tbl>
              <a:tblPr/>
              <a:tblGrid>
                <a:gridCol w="1522440"/>
                <a:gridCol w="3313080"/>
                <a:gridCol w="3394080"/>
              </a:tblGrid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 питательные вещества за счет энергии с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ются готовыми органическими вещест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граничен (всю жиз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определен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ообм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ыхают кислород, выдыхают углекислый газ. Способны к фотосинтезу (поглощение углекислого газа и выделение кисл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ыхают кислород, выдыхают углекислый газ. Не способы к фотосинте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подвижны, не имеют специфических органов пере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 передвигаются, имеют специфические органы пере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науки 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836640"/>
          <a:ext cx="8229600" cy="594036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з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ия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фология 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гия 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внутри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ка 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образие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бота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е и значение растительных сооб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е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а растений и их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химия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 состав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еобота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опаемые 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я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с окружающей сред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очитат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тр.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 – 12;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 11.  рт-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ворческо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казка, герои –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) рассказ на тему «что бы произош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 бы на Земле исчезли все растени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*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йдите информацию о растениях, которые сыграли важную роль в истории стран или в судьб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пишите на отдельном листочке, красиво оформите и сдайте учител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SC00862"/>
          <p:cNvPicPr/>
          <p:nvPr/>
        </p:nvPicPr>
        <p:blipFill>
          <a:blip r:embed="rId1"/>
          <a:stretch/>
        </p:blipFill>
        <p:spPr>
          <a:xfrm>
            <a:off x="1000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09:50Z</dcterms:created>
  <dc:creator>User</dc:creator>
  <dc:description/>
  <dc:language>en-US</dc:language>
  <cp:lastModifiedBy>Пользователь</cp:lastModifiedBy>
  <dcterms:modified xsi:type="dcterms:W3CDTF">2015-10-12T00:34:48Z</dcterms:modified>
  <cp:revision>10</cp:revision>
  <dc:subject/>
  <dc:title>Биология – наука о живой природе</dc:title>
</cp:coreProperties>
</file>