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7.gif" ContentType="image/gif"/>
  <Override PartName="/ppt/media/image15.gif" ContentType="image/gif"/>
  <Override PartName="/ppt/media/image14.png" ContentType="image/png"/>
  <Override PartName="/ppt/media/image8.png" ContentType="image/png"/>
  <Override PartName="/ppt/media/image5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D58-6DB3-4766-A128-C3ABA84D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A70-208C-4952-94D7-B2B35414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8E8-066D-49C5-ACA6-5E60FDE8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CE2-3BD1-4947-A6B4-51825843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BDE8D-5158-4858-BB53-DA0A5413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5552E-55DC-401D-865D-AB682D7C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7027B-0003-490C-97E8-3331EC30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1292A-5641-4F41-A5D4-D719D287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19EDE-3804-4012-B919-8DB7DA12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CC821-1BEF-4D7D-A181-95F1586D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2B09C-AFF8-4DB1-A71D-32FD9F2C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E9C-ACB5-4411-84CE-65DCE207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BF221-B90C-4254-A88E-8D1EED82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884B5-D2F3-4D36-86CF-8582A62F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A34DA-A43D-445D-9335-C66DF350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9B702-E9A5-4400-BCA6-B5797CE9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4A985-E653-43F1-9B53-11D1B3C1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603-F8DD-42B8-8BF6-9E35B972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300-A850-4681-B809-28FB192E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7F0-34E6-4B32-B0ED-100956CF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A67-E284-40C8-925D-BB925588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D00-326B-46E7-BD26-43754FD2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BFB-DAF5-4431-9BB7-2B4F1070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901-4A12-4A39-9742-18CE9212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DDBE-8276-46C1-8E36-DFCD627B03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EE03-9AFA-4B2C-8C5F-104AE31344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6966000" cy="23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Земляничк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27280" y="2492280"/>
            <a:ext cx="564048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Очень просим заходите в наш просторный, светлый дом, очень просим- поглядите, как мы весело живё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9" descr="детский сад 063"/>
          <p:cNvPicPr/>
          <p:nvPr/>
        </p:nvPicPr>
        <p:blipFill>
          <a:blip r:embed="rId1"/>
          <a:stretch/>
        </p:blipFill>
        <p:spPr>
          <a:xfrm>
            <a:off x="6084720" y="333360"/>
            <a:ext cx="2735280" cy="1952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детский сад 050"/>
          <p:cNvPicPr/>
          <p:nvPr/>
        </p:nvPicPr>
        <p:blipFill>
          <a:blip r:embed="rId2"/>
          <a:stretch/>
        </p:blipFill>
        <p:spPr>
          <a:xfrm>
            <a:off x="324000" y="4724280"/>
            <a:ext cx="3240000" cy="187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ram59"/>
          <p:cNvPicPr/>
          <p:nvPr/>
        </p:nvPicPr>
        <p:blipFill>
          <a:blip r:embed="rId3"/>
          <a:stretch/>
        </p:blipFill>
        <p:spPr>
          <a:xfrm>
            <a:off x="250920" y="4653000"/>
            <a:ext cx="3384360" cy="201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ram59"/>
          <p:cNvPicPr/>
          <p:nvPr/>
        </p:nvPicPr>
        <p:blipFill>
          <a:blip r:embed="rId4"/>
          <a:stretch/>
        </p:blipFill>
        <p:spPr>
          <a:xfrm>
            <a:off x="6012000" y="333360"/>
            <a:ext cx="2881080" cy="201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еемств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47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выпускники детского сада                              « Земляничка» поступают в Надеждинскую среднюю общеобразовательную школу имени полного кавалера орденов Платонова В.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детский сад 064"/>
          <p:cNvPicPr/>
          <p:nvPr/>
        </p:nvPicPr>
        <p:blipFill>
          <a:blip r:embed="rId1"/>
          <a:stretch/>
        </p:blipFill>
        <p:spPr>
          <a:xfrm>
            <a:off x="1547640" y="4005360"/>
            <a:ext cx="4608720" cy="237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ram40"/>
          <p:cNvPicPr/>
          <p:nvPr/>
        </p:nvPicPr>
        <p:blipFill>
          <a:blip r:embed="rId2"/>
          <a:stretch/>
        </p:blipFill>
        <p:spPr>
          <a:xfrm>
            <a:off x="1258920" y="3789360"/>
            <a:ext cx="5184720" cy="266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дминистрация детского с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ование среднее специальное – учитель начальных  классов, воспита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дагогический стаж 24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тегор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572160" y="2857680"/>
            <a:ext cx="2071800" cy="2786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граммы по которым работаю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Основная программ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сильевой М.А., Гербовой, Комаров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циальные программ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колаева С.Н. «Юный эколог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ндаренко Т.М. « Педагогика нового времен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 Здоровый дошкольник» - социально- оздоровительные технолог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ывать у детей экологическую культуру при совместной работе детского сада и семь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хранять и укреплять здоровье детей при использовании здоровьесберегающих методи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ть творческие способности детей посредством театрализованной де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blest76"/>
          <p:cNvPicPr/>
          <p:nvPr/>
        </p:nvPicPr>
        <p:blipFill>
          <a:blip r:embed="rId1"/>
          <a:stretch/>
        </p:blipFill>
        <p:spPr>
          <a:xfrm>
            <a:off x="2843280" y="260280"/>
            <a:ext cx="5832360" cy="1362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lest76"/>
          <p:cNvPicPr/>
          <p:nvPr/>
        </p:nvPicPr>
        <p:blipFill>
          <a:blip r:embed="rId2"/>
          <a:stretch/>
        </p:blipFill>
        <p:spPr>
          <a:xfrm>
            <a:off x="1547640" y="5084640"/>
            <a:ext cx="5977080" cy="1362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доровый ребён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алив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ренняя гимнаст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рядка после с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гул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илактика простудных, инфекционных и кишечных заболев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нятие физкультурой и спорт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blest21"/>
          <p:cNvPicPr/>
          <p:nvPr/>
        </p:nvPicPr>
        <p:blipFill>
          <a:blip r:embed="rId1"/>
          <a:stretch/>
        </p:blipFill>
        <p:spPr>
          <a:xfrm>
            <a:off x="5867280" y="333360"/>
            <a:ext cx="2610000" cy="2543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blest105"/>
          <p:cNvPicPr/>
          <p:nvPr/>
        </p:nvPicPr>
        <p:blipFill>
          <a:blip r:embed="rId2"/>
          <a:stretch/>
        </p:blipFill>
        <p:spPr>
          <a:xfrm>
            <a:off x="7164360" y="3573360"/>
            <a:ext cx="1676520" cy="2266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д коллекти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едующая Надеждинским детским садом « Земляничка»- Жиренкова Елена Анатольев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ощник воспитателя – Парунова Галина Анатоль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line152"/>
          <p:cNvPicPr/>
          <p:nvPr/>
        </p:nvPicPr>
        <p:blipFill>
          <a:blip r:embed="rId1"/>
          <a:stretch/>
        </p:blipFill>
        <p:spPr>
          <a:xfrm>
            <a:off x="1042920" y="260280"/>
            <a:ext cx="6985080" cy="57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line152"/>
          <p:cNvPicPr/>
          <p:nvPr/>
        </p:nvPicPr>
        <p:blipFill>
          <a:blip r:embed="rId2"/>
          <a:stretch/>
        </p:blipFill>
        <p:spPr>
          <a:xfrm>
            <a:off x="1187280" y="5229360"/>
            <a:ext cx="6769440" cy="79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 это мы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ас мало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мы в тельняшках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детский сад 044"/>
          <p:cNvPicPr/>
          <p:nvPr/>
        </p:nvPicPr>
        <p:blipFill>
          <a:blip r:embed="rId1"/>
          <a:stretch/>
        </p:blipFill>
        <p:spPr>
          <a:xfrm>
            <a:off x="4788000" y="333360"/>
            <a:ext cx="3816360" cy="273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детский сад 067"/>
          <p:cNvPicPr/>
          <p:nvPr/>
        </p:nvPicPr>
        <p:blipFill>
          <a:blip r:embed="rId2"/>
          <a:stretch/>
        </p:blipFill>
        <p:spPr>
          <a:xfrm>
            <a:off x="5003640" y="3429000"/>
            <a:ext cx="367200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детский сад 005"/>
          <p:cNvPicPr/>
          <p:nvPr/>
        </p:nvPicPr>
        <p:blipFill>
          <a:blip r:embed="rId3"/>
          <a:stretch/>
        </p:blipFill>
        <p:spPr>
          <a:xfrm>
            <a:off x="611280" y="3357720"/>
            <a:ext cx="4032000" cy="302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ram50"/>
          <p:cNvPicPr/>
          <p:nvPr/>
        </p:nvPicPr>
        <p:blipFill>
          <a:blip r:embed="rId4"/>
          <a:stretch/>
        </p:blipFill>
        <p:spPr>
          <a:xfrm>
            <a:off x="4788000" y="333360"/>
            <a:ext cx="3960720" cy="2830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ram50"/>
          <p:cNvPicPr/>
          <p:nvPr/>
        </p:nvPicPr>
        <p:blipFill>
          <a:blip r:embed="rId5"/>
          <a:stretch/>
        </p:blipFill>
        <p:spPr>
          <a:xfrm>
            <a:off x="4788000" y="3357720"/>
            <a:ext cx="4032000" cy="309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ram50"/>
          <p:cNvPicPr/>
          <p:nvPr/>
        </p:nvPicPr>
        <p:blipFill>
          <a:blip r:embed="rId6"/>
          <a:stretch/>
        </p:blipFill>
        <p:spPr>
          <a:xfrm>
            <a:off x="324000" y="3357720"/>
            <a:ext cx="4438440" cy="3062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жим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7.30-16.30ч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 дней в недел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ходной воскресенье и праздничные д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детский сад 040"/>
          <p:cNvPicPr/>
          <p:nvPr/>
        </p:nvPicPr>
        <p:blipFill>
          <a:blip r:embed="rId1"/>
          <a:stretch/>
        </p:blipFill>
        <p:spPr>
          <a:xfrm>
            <a:off x="3708360" y="3573360"/>
            <a:ext cx="5111640" cy="280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ram41"/>
          <p:cNvPicPr/>
          <p:nvPr/>
        </p:nvPicPr>
        <p:blipFill>
          <a:blip r:embed="rId2"/>
          <a:stretch/>
        </p:blipFill>
        <p:spPr>
          <a:xfrm>
            <a:off x="3708360" y="3500280"/>
            <a:ext cx="5111640" cy="302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569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атериально – техническая база . В детском саду имеются специальные помеще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2781360"/>
            <a:ext cx="73864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пповая комната для де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альная комн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дицинский кабин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министративная комн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так ж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тняя спортивная площад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тний опытный учас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kartina10"/>
          <p:cNvPicPr/>
          <p:nvPr/>
        </p:nvPicPr>
        <p:blipFill>
          <a:blip r:embed="rId1"/>
          <a:stretch/>
        </p:blipFill>
        <p:spPr>
          <a:xfrm>
            <a:off x="5867280" y="2781360"/>
            <a:ext cx="2952720" cy="324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6:14:57Z</dcterms:created>
  <dc:creator>ас</dc:creator>
  <dc:description/>
  <dc:language>en-US</dc:language>
  <cp:lastModifiedBy>Admin</cp:lastModifiedBy>
  <dcterms:modified xsi:type="dcterms:W3CDTF">2015-10-09T19:55:52Z</dcterms:modified>
  <cp:revision>16</cp:revision>
  <dc:subject/>
  <dc:title>«Земляничка»</dc:title>
</cp:coreProperties>
</file>