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7.gif" ContentType="image/gif"/>
  <Override PartName="/ppt/media/image15.gif" ContentType="image/gif"/>
  <Override PartName="/ppt/media/image14.png" ContentType="image/png"/>
  <Override PartName="/ppt/media/image8.png" ContentType="image/png"/>
  <Override PartName="/ppt/media/image5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4AF-B350-4FF5-8E0A-BE379675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F13-70B4-4A3B-8440-A1272679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714-2159-42BB-8A4E-C2928CB9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DE4-5A86-4118-823C-E2F6CDA3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89833-932E-45D2-A077-8F915FC2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44AA2-57C6-4A13-AC88-11236D3B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0120E-624F-436E-92C3-238283C8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F216C-191A-4B71-B45A-31CD4CC5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1F30B-7DBE-40F3-B242-8D6BBED5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1CB93-5CC7-464D-AA85-928133E5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F3710-8ACA-4212-9584-C508C22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0FC-0D21-4D81-B9DF-BFA1514A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77AFC-81D0-4857-9119-9797C17A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47D64-3F88-427A-A14A-4A464D35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804B8-1985-429D-949B-00B08356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8DD4B-E78F-415D-A6EC-1AE46E43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D61B9-35AC-49A7-8A99-8E065431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738-8878-4947-B165-3B0E806A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F05-0473-4779-A35F-30D23C84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1AF-998F-453A-B129-CA3A2D93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E5B-63FF-4E42-A26D-08C3A054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B1C-16FD-435A-BACC-F04FE723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00B-EA7C-478B-9032-8DC3A4E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C74-AD0B-4D8E-9702-9D3521C9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E8DC-D01B-4334-90CA-EC2E1824E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6AF6-265B-4EAB-8A67-9D6E682A7B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6966000" cy="23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Землянич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27280" y="2492280"/>
            <a:ext cx="564048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Очень просим заходите в наш просторный, светлый дом, очень просим- поглядите, как мы весело живё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9" descr="детский сад 063"/>
          <p:cNvPicPr/>
          <p:nvPr/>
        </p:nvPicPr>
        <p:blipFill>
          <a:blip r:embed="rId1"/>
          <a:stretch/>
        </p:blipFill>
        <p:spPr>
          <a:xfrm>
            <a:off x="6084720" y="333360"/>
            <a:ext cx="2735280" cy="195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детский сад 050"/>
          <p:cNvPicPr/>
          <p:nvPr/>
        </p:nvPicPr>
        <p:blipFill>
          <a:blip r:embed="rId2"/>
          <a:stretch/>
        </p:blipFill>
        <p:spPr>
          <a:xfrm>
            <a:off x="324000" y="4724280"/>
            <a:ext cx="3240000" cy="187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ram59"/>
          <p:cNvPicPr/>
          <p:nvPr/>
        </p:nvPicPr>
        <p:blipFill>
          <a:blip r:embed="rId3"/>
          <a:stretch/>
        </p:blipFill>
        <p:spPr>
          <a:xfrm>
            <a:off x="250920" y="4653000"/>
            <a:ext cx="338436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ram59"/>
          <p:cNvPicPr/>
          <p:nvPr/>
        </p:nvPicPr>
        <p:blipFill>
          <a:blip r:embed="rId4"/>
          <a:stretch/>
        </p:blipFill>
        <p:spPr>
          <a:xfrm>
            <a:off x="6012000" y="333360"/>
            <a:ext cx="2881080" cy="201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ем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выпускники детского сада                              « Земляничка» поступают в Надеждинскую среднюю общеобразовательную школу имени полного кавалера орденов Платонова В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детский сад 064"/>
          <p:cNvPicPr/>
          <p:nvPr/>
        </p:nvPicPr>
        <p:blipFill>
          <a:blip r:embed="rId1"/>
          <a:stretch/>
        </p:blipFill>
        <p:spPr>
          <a:xfrm>
            <a:off x="1547640" y="4005360"/>
            <a:ext cx="4608720" cy="237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ram40"/>
          <p:cNvPicPr/>
          <p:nvPr/>
        </p:nvPicPr>
        <p:blipFill>
          <a:blip r:embed="rId2"/>
          <a:stretch/>
        </p:blipFill>
        <p:spPr>
          <a:xfrm>
            <a:off x="1258920" y="3789360"/>
            <a:ext cx="5184720" cy="26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дминистрация детского с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среднее специальное – учитель начальных  классов, воспита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дагогический стаж 24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тегор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572160" y="2857680"/>
            <a:ext cx="2071800" cy="2786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граммы по которым работаю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Основная программ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сильевой М.А., Гербовой, Комаров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циальные програм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лаева С.Н. «Юный эколог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ндаренко Т.М. « Педагогика нового времен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Здоровый дошкольник» - социально- оздоровительные технолог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ывать у детей экологическую культуру при совместной работе детского сада и семь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ять и укреплять здоровье детей при использовании здоровьесберегающих метод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творческие способности детей посредством театрализованной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blest76"/>
          <p:cNvPicPr/>
          <p:nvPr/>
        </p:nvPicPr>
        <p:blipFill>
          <a:blip r:embed="rId1"/>
          <a:stretch/>
        </p:blipFill>
        <p:spPr>
          <a:xfrm>
            <a:off x="2843280" y="260280"/>
            <a:ext cx="5832360" cy="1362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lest76"/>
          <p:cNvPicPr/>
          <p:nvPr/>
        </p:nvPicPr>
        <p:blipFill>
          <a:blip r:embed="rId2"/>
          <a:stretch/>
        </p:blipFill>
        <p:spPr>
          <a:xfrm>
            <a:off x="1547640" y="5084640"/>
            <a:ext cx="5977080" cy="1362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доровый ребё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али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ренняя гимна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рядка после с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ул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илактика простудных, инфекционных и кишечных заболев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ятие физкультурой и спорт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blest21"/>
          <p:cNvPicPr/>
          <p:nvPr/>
        </p:nvPicPr>
        <p:blipFill>
          <a:blip r:embed="rId1"/>
          <a:stretch/>
        </p:blipFill>
        <p:spPr>
          <a:xfrm>
            <a:off x="5867280" y="333360"/>
            <a:ext cx="2610000" cy="254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blest105"/>
          <p:cNvPicPr/>
          <p:nvPr/>
        </p:nvPicPr>
        <p:blipFill>
          <a:blip r:embed="rId2"/>
          <a:stretch/>
        </p:blipFill>
        <p:spPr>
          <a:xfrm>
            <a:off x="7164360" y="3573360"/>
            <a:ext cx="167652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д коллекти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едующая Надеждинским детским садом « Земляничка»- Жиренкова Елена Анатолье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щник воспитателя – Парунова Галина Анатол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line152"/>
          <p:cNvPicPr/>
          <p:nvPr/>
        </p:nvPicPr>
        <p:blipFill>
          <a:blip r:embed="rId1"/>
          <a:stretch/>
        </p:blipFill>
        <p:spPr>
          <a:xfrm>
            <a:off x="1042920" y="260280"/>
            <a:ext cx="6985080" cy="57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line152"/>
          <p:cNvPicPr/>
          <p:nvPr/>
        </p:nvPicPr>
        <p:blipFill>
          <a:blip r:embed="rId2"/>
          <a:stretch/>
        </p:blipFill>
        <p:spPr>
          <a:xfrm>
            <a:off x="1187280" y="5229360"/>
            <a:ext cx="6769440" cy="79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 это м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с мало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мы в тельняшках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детский сад 044"/>
          <p:cNvPicPr/>
          <p:nvPr/>
        </p:nvPicPr>
        <p:blipFill>
          <a:blip r:embed="rId1"/>
          <a:stretch/>
        </p:blipFill>
        <p:spPr>
          <a:xfrm>
            <a:off x="4788000" y="333360"/>
            <a:ext cx="3816360" cy="273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детский сад 067"/>
          <p:cNvPicPr/>
          <p:nvPr/>
        </p:nvPicPr>
        <p:blipFill>
          <a:blip r:embed="rId2"/>
          <a:stretch/>
        </p:blipFill>
        <p:spPr>
          <a:xfrm>
            <a:off x="5003640" y="3429000"/>
            <a:ext cx="36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детский сад 005"/>
          <p:cNvPicPr/>
          <p:nvPr/>
        </p:nvPicPr>
        <p:blipFill>
          <a:blip r:embed="rId3"/>
          <a:stretch/>
        </p:blipFill>
        <p:spPr>
          <a:xfrm>
            <a:off x="611280" y="335772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ram50"/>
          <p:cNvPicPr/>
          <p:nvPr/>
        </p:nvPicPr>
        <p:blipFill>
          <a:blip r:embed="rId4"/>
          <a:stretch/>
        </p:blipFill>
        <p:spPr>
          <a:xfrm>
            <a:off x="4788000" y="333360"/>
            <a:ext cx="3960720" cy="283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ram50"/>
          <p:cNvPicPr/>
          <p:nvPr/>
        </p:nvPicPr>
        <p:blipFill>
          <a:blip r:embed="rId5"/>
          <a:stretch/>
        </p:blipFill>
        <p:spPr>
          <a:xfrm>
            <a:off x="4788000" y="3357720"/>
            <a:ext cx="4032000" cy="309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am50"/>
          <p:cNvPicPr/>
          <p:nvPr/>
        </p:nvPicPr>
        <p:blipFill>
          <a:blip r:embed="rId6"/>
          <a:stretch/>
        </p:blipFill>
        <p:spPr>
          <a:xfrm>
            <a:off x="324000" y="3357720"/>
            <a:ext cx="4438440" cy="3062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жим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7.30-16.30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дней в недел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ходной воскресенье и праздничные д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детский сад 040"/>
          <p:cNvPicPr/>
          <p:nvPr/>
        </p:nvPicPr>
        <p:blipFill>
          <a:blip r:embed="rId1"/>
          <a:stretch/>
        </p:blipFill>
        <p:spPr>
          <a:xfrm>
            <a:off x="3708360" y="3573360"/>
            <a:ext cx="5111640" cy="280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ram41"/>
          <p:cNvPicPr/>
          <p:nvPr/>
        </p:nvPicPr>
        <p:blipFill>
          <a:blip r:embed="rId2"/>
          <a:stretch/>
        </p:blipFill>
        <p:spPr>
          <a:xfrm>
            <a:off x="3708360" y="3500280"/>
            <a:ext cx="511164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териально – техническая база . В детском саду имеются специальные помеще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2781360"/>
            <a:ext cx="73864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овая комната для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альная ком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ицинский кабин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тивная ком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 ж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няя спортивная площа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ний опытный учас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kartina10"/>
          <p:cNvPicPr/>
          <p:nvPr/>
        </p:nvPicPr>
        <p:blipFill>
          <a:blip r:embed="rId1"/>
          <a:stretch/>
        </p:blipFill>
        <p:spPr>
          <a:xfrm>
            <a:off x="5867280" y="2781360"/>
            <a:ext cx="2952720" cy="324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14:57Z</dcterms:created>
  <dc:creator>ас</dc:creator>
  <dc:description/>
  <dc:language>en-US</dc:language>
  <cp:lastModifiedBy>Admin</cp:lastModifiedBy>
  <dcterms:modified xsi:type="dcterms:W3CDTF">2015-10-09T19:55:52Z</dcterms:modified>
  <cp:revision>16</cp:revision>
  <dc:subject/>
  <dc:title>«Земляничка»</dc:title>
</cp:coreProperties>
</file>