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E1E-E1F0-4BA4-97D8-61A70C6B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ECA-88A6-439F-9DA4-9563711E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AA2-26F8-4ADA-83E5-3C8F9D7E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16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0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16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0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7D6-97F9-4A9F-A79D-6EA4D772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AB47-087E-427A-A0C4-DBC8F3E8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3043-DE2D-4CCC-9970-D37BE4F7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8FFD-32E8-4516-B131-96B51811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98F2-80D4-4AFA-9515-3F31CB97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9CD9-A85B-4099-AFD7-8EADDC16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752480" y="990360"/>
            <a:ext cx="6400800" cy="11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0EBE-82FB-463D-9808-8CF84FE1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5FBF-9F90-4440-9871-67B89E95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211-9E88-44EA-9A90-749595E2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106A-A305-48DB-AA98-59739622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AFDD-99FE-4765-BFC7-ACD04D20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A9C2-263C-4CA0-A34C-E86BBF81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0AA2-68DB-44B7-964C-17D59E7E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16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80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752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16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80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DB78-A557-486C-811F-5606A87F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6C4-D85F-4971-9EDC-8DBDC99C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71E-DD99-4C34-93A3-3917CF38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3D3-32A5-40AC-82CB-368D5984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52480" y="990360"/>
            <a:ext cx="6400800" cy="11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2BD-F24E-40D4-8BFA-401CE942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2C2-707D-4763-9197-E76AD6F5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04F-4982-49A9-9F8C-BE0C6CEA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60E-7DD3-4CAA-AACE-5640439E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6798-874B-4BE9-B371-4C37E28A70F4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6C0D-13F1-4DE0-A570-A940A8F8BF80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63640" y="98064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ЖИВОТНЫЕ </a:t>
            </a:r>
            <a:br>
              <a:rPr sz="4400"/>
            </a:b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НА </a:t>
            </a:r>
            <a:br>
              <a:rPr sz="4400"/>
            </a:b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ВОЙНЕ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м животным, участвовавшим в Великой Отечественной войне посвящае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Санитарные собаки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640" y="537336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находили тяжело раненых солдат в болотах, лесах, оврагах и приводили к ним санитаров, неся на своих спинах тюки с медикаментами и перевязочным материало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cf1f36c4f9de" descr=""/>
          <p:cNvPicPr/>
          <p:nvPr/>
        </p:nvPicPr>
        <p:blipFill>
          <a:blip r:embed="rId2"/>
          <a:stretch/>
        </p:blipFill>
        <p:spPr>
          <a:xfrm>
            <a:off x="2050920" y="981000"/>
            <a:ext cx="576108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Собаки разведывательной службы</a:t>
            </a: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508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провождали разведчиков в тыл врага для успешного прохода через его передовые позиции, обнаружения скрытых огневых точек, засад, секретов, оказания помощи при захвате «языка», работали быстро, четко и беззвучн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3d67f7bcd5b" descr=""/>
          <p:cNvPicPr/>
          <p:nvPr/>
        </p:nvPicPr>
        <p:blipFill>
          <a:blip r:embed="rId2"/>
          <a:stretch/>
        </p:blipFill>
        <p:spPr>
          <a:xfrm>
            <a:off x="2195640" y="907920"/>
            <a:ext cx="5616360" cy="4118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Сторожевые собаки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920" y="522936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ли в боевом охранении, в засадах для обнаружения врага ночью и в ненастную погоду. Эти четвероногие умницы только натяжением поводка и поворотом туловища указывали направление грозящей опасн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b6dd0f7e01b1" descr=""/>
          <p:cNvPicPr/>
          <p:nvPr/>
        </p:nvPicPr>
        <p:blipFill>
          <a:blip r:embed="rId2">
            <a:lum contrast="6000"/>
          </a:blip>
          <a:srcRect l="0" t="7052" r="0" b="0"/>
          <a:stretch/>
        </p:blipFill>
        <p:spPr>
          <a:xfrm>
            <a:off x="1619280" y="907920"/>
            <a:ext cx="6697800" cy="427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Диверсионные собаки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544464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подрывали железнодорожные составы и мосты. На спине у таких собак был закреплен разъемный боевой вью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a3067e2269c7" descr=""/>
          <p:cNvPicPr/>
          <p:nvPr/>
        </p:nvPicPr>
        <p:blipFill>
          <a:blip r:embed="rId2">
            <a:lum contrast="6000"/>
          </a:blip>
          <a:srcRect l="0" t="1728" r="8221" b="0"/>
          <a:stretch/>
        </p:blipFill>
        <p:spPr>
          <a:xfrm>
            <a:off x="1835280" y="1052640"/>
            <a:ext cx="6048360" cy="4383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71280" y="5300640"/>
            <a:ext cx="78483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меньше собак и лошадей пользы принесли во время войны и кошки. Фронтовики заводили в окопах и землянках самых обыкновенных, но, вполне «годных к нестроевой службе» кошек.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404640"/>
            <a:ext cx="7345440" cy="792360"/>
          </a:xfrm>
          <a:custGeom>
            <a:avLst/>
            <a:gdLst>
              <a:gd name="textAreaLeft" fmla="*/ 1189080 w 7345440"/>
              <a:gd name="textAreaRight" fmla="*/ 6156360 w 7345440"/>
              <a:gd name="textAreaTop" fmla="*/ 0 h 792360"/>
              <a:gd name="textAreaBottom" fmla="*/ 693360 h 792360"/>
            </a:gdLst>
            <a:ahLst/>
            <a:rect l="textAreaLeft" t="textAreaTop" r="textAreaRight" b="textAreaBottom"/>
            <a:pathLst>
              <a:path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1263"/>
                  <a:pt x="5777" y="21600"/>
                  <a:pt x="5357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497" y="2700"/>
                </a:lnTo>
                <a:lnTo>
                  <a:pt x="3497" y="675"/>
                </a:lnTo>
                <a:cubicBezTo>
                  <a:pt x="3497" y="338"/>
                  <a:pt x="3917" y="0"/>
                  <a:pt x="4337" y="0"/>
                </a:cubicBezTo>
                <a:lnTo>
                  <a:pt x="17263" y="0"/>
                </a:lnTo>
                <a:cubicBezTo>
                  <a:pt x="17683" y="0"/>
                  <a:pt x="18103" y="338"/>
                  <a:pt x="18103" y="675"/>
                </a:cubicBezTo>
                <a:lnTo>
                  <a:pt x="18103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243" y="21600"/>
                </a:lnTo>
                <a:cubicBezTo>
                  <a:pt x="15823" y="21600"/>
                  <a:pt x="15403" y="21263"/>
                  <a:pt x="15403" y="20925"/>
                </a:cubicBezTo>
                <a:lnTo>
                  <a:pt x="15403" y="18900"/>
                </a:lnTo>
                <a:close/>
              </a:path>
              <a:path fill="darkenLess"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0588"/>
                  <a:pt x="5777" y="20250"/>
                  <a:pt x="5357" y="20250"/>
                </a:cubicBezTo>
                <a:lnTo>
                  <a:pt x="4337" y="20250"/>
                </a:lnTo>
                <a:cubicBezTo>
                  <a:pt x="3917" y="20250"/>
                  <a:pt x="3497" y="19913"/>
                  <a:pt x="3497" y="19575"/>
                </a:cubicBezTo>
                <a:cubicBezTo>
                  <a:pt x="3497" y="19238"/>
                  <a:pt x="3917" y="18900"/>
                  <a:pt x="4337" y="18900"/>
                </a:cubicBezTo>
                <a:close/>
              </a:path>
              <a:path fill="darkenLess" w="21600" h="21600">
                <a:moveTo>
                  <a:pt x="15403" y="18900"/>
                </a:moveTo>
                <a:lnTo>
                  <a:pt x="15403" y="20925"/>
                </a:lnTo>
                <a:cubicBezTo>
                  <a:pt x="15403" y="20588"/>
                  <a:pt x="15823" y="20250"/>
                  <a:pt x="16243" y="20250"/>
                </a:cubicBezTo>
                <a:lnTo>
                  <a:pt x="17263" y="20250"/>
                </a:lnTo>
                <a:cubicBezTo>
                  <a:pt x="17683" y="20250"/>
                  <a:pt x="18103" y="19913"/>
                  <a:pt x="18103" y="19575"/>
                </a:cubicBezTo>
                <a:cubicBezTo>
                  <a:pt x="18103" y="19238"/>
                  <a:pt x="17683" y="18900"/>
                  <a:pt x="17263" y="18900"/>
                </a:cubicBezTo>
                <a:close/>
              </a:path>
              <a:path fill="darkenLess" w="21600" h="21600">
                <a:moveTo>
                  <a:pt x="3497" y="19575"/>
                </a:moveTo>
                <a:lnTo>
                  <a:pt x="3497" y="2700"/>
                </a:lnTo>
              </a:path>
              <a:path fill="darkenLess" w="21600" h="21600">
                <a:moveTo>
                  <a:pt x="18103" y="19575"/>
                </a:moveTo>
                <a:lnTo>
                  <a:pt x="18103" y="270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808080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38560" y="455760"/>
            <a:ext cx="3095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42"/>
                </a:solidFill>
                <a:latin typeface="Monotype Corsiva"/>
              </a:rPr>
              <a:t>Кошки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000042"/>
              </a:solidFill>
              <a:latin typeface="Monotype Corsiva"/>
              <a:ea typeface="Monotype Corsiva"/>
            </a:endParaRPr>
          </a:p>
        </p:txBody>
      </p:sp>
      <p:pic>
        <p:nvPicPr>
          <p:cNvPr id="130" name="000f0e9w.8maxe5m6of8kkcw8csowwwscs.dikonvxswd4c4ss0g48844kwo.th" descr="Посыльный кот"/>
          <p:cNvPicPr/>
          <p:nvPr/>
        </p:nvPicPr>
        <p:blipFill>
          <a:blip r:embed="rId2"/>
          <a:stretch/>
        </p:blipFill>
        <p:spPr>
          <a:xfrm>
            <a:off x="2268360" y="1413000"/>
            <a:ext cx="5400720" cy="3855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Кот Саймон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кот с военного судна «Аметист» флота Великобритании даже получил медал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абль был задержан на реке Янцзы в 1949 году, и течение ста дней корабль считался пленником революционного Китая. Саймон тоже пострадал: его ранило шрапнелью, и он сильно опалил шерсть. Все это время Саймон, как говорилось в дипломе, «поднимал дух военнослужащих и исполнял свои обязанности, ловя корабельных крыс»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0b9acf38e8ab" descr="Изображение"/>
          <p:cNvPicPr/>
          <p:nvPr/>
        </p:nvPicPr>
        <p:blipFill>
          <a:blip r:embed="rId2"/>
          <a:stretch/>
        </p:blipFill>
        <p:spPr>
          <a:xfrm>
            <a:off x="1187280" y="1268280"/>
            <a:ext cx="4061160" cy="4691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7ac4abb5d3c4" descr="Изображение"/>
          <p:cNvPicPr/>
          <p:nvPr/>
        </p:nvPicPr>
        <p:blipFill>
          <a:blip r:embed="rId2">
            <a:lum contrast="6000"/>
          </a:blip>
          <a:srcRect l="5042" t="0" r="6128" b="6070"/>
          <a:stretch/>
        </p:blipFill>
        <p:spPr>
          <a:xfrm>
            <a:off x="1042920" y="404640"/>
            <a:ext cx="3009960" cy="3384720"/>
          </a:xfrm>
          <a:prstGeom prst="rect">
            <a:avLst/>
          </a:prstGeom>
          <a:ln w="0">
            <a:noFill/>
          </a:ln>
        </p:spPr>
      </p:pic>
      <p:pic>
        <p:nvPicPr>
          <p:cNvPr id="135" name="fbe4f444a65d" descr="Изображение"/>
          <p:cNvPicPr/>
          <p:nvPr/>
        </p:nvPicPr>
        <p:blipFill>
          <a:blip r:embed="rId3">
            <a:lum contrast="6000"/>
          </a:blip>
          <a:srcRect l="3356" t="0" r="2812" b="0"/>
          <a:stretch/>
        </p:blipFill>
        <p:spPr>
          <a:xfrm>
            <a:off x="4140360" y="3119400"/>
            <a:ext cx="4608360" cy="3044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71280" y="5373720"/>
            <a:ext cx="78483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носливые животные дошли до Берлина вместе с солдатами. А 8 мая 1945 года расчёт орудия, передвигаемого верблюдами, защищал воинов, водружавших Знамя Победы над рейхстаг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404640"/>
            <a:ext cx="7345440" cy="792360"/>
          </a:xfrm>
          <a:custGeom>
            <a:avLst/>
            <a:gdLst>
              <a:gd name="textAreaLeft" fmla="*/ 1189080 w 7345440"/>
              <a:gd name="textAreaRight" fmla="*/ 6156360 w 7345440"/>
              <a:gd name="textAreaTop" fmla="*/ 0 h 792360"/>
              <a:gd name="textAreaBottom" fmla="*/ 693360 h 792360"/>
            </a:gdLst>
            <a:ahLst/>
            <a:rect l="textAreaLeft" t="textAreaTop" r="textAreaRight" b="textAreaBottom"/>
            <a:pathLst>
              <a:path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1263"/>
                  <a:pt x="5777" y="21600"/>
                  <a:pt x="5357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497" y="2700"/>
                </a:lnTo>
                <a:lnTo>
                  <a:pt x="3497" y="675"/>
                </a:lnTo>
                <a:cubicBezTo>
                  <a:pt x="3497" y="338"/>
                  <a:pt x="3917" y="0"/>
                  <a:pt x="4337" y="0"/>
                </a:cubicBezTo>
                <a:lnTo>
                  <a:pt x="17263" y="0"/>
                </a:lnTo>
                <a:cubicBezTo>
                  <a:pt x="17683" y="0"/>
                  <a:pt x="18103" y="338"/>
                  <a:pt x="18103" y="675"/>
                </a:cubicBezTo>
                <a:lnTo>
                  <a:pt x="18103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243" y="21600"/>
                </a:lnTo>
                <a:cubicBezTo>
                  <a:pt x="15823" y="21600"/>
                  <a:pt x="15403" y="21263"/>
                  <a:pt x="15403" y="20925"/>
                </a:cubicBezTo>
                <a:lnTo>
                  <a:pt x="15403" y="18900"/>
                </a:lnTo>
                <a:close/>
              </a:path>
              <a:path fill="darkenLess"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0588"/>
                  <a:pt x="5777" y="20250"/>
                  <a:pt x="5357" y="20250"/>
                </a:cubicBezTo>
                <a:lnTo>
                  <a:pt x="4337" y="20250"/>
                </a:lnTo>
                <a:cubicBezTo>
                  <a:pt x="3917" y="20250"/>
                  <a:pt x="3497" y="19913"/>
                  <a:pt x="3497" y="19575"/>
                </a:cubicBezTo>
                <a:cubicBezTo>
                  <a:pt x="3497" y="19238"/>
                  <a:pt x="3917" y="18900"/>
                  <a:pt x="4337" y="18900"/>
                </a:cubicBezTo>
                <a:close/>
              </a:path>
              <a:path fill="darkenLess" w="21600" h="21600">
                <a:moveTo>
                  <a:pt x="15403" y="18900"/>
                </a:moveTo>
                <a:lnTo>
                  <a:pt x="15403" y="20925"/>
                </a:lnTo>
                <a:cubicBezTo>
                  <a:pt x="15403" y="20588"/>
                  <a:pt x="15823" y="20250"/>
                  <a:pt x="16243" y="20250"/>
                </a:cubicBezTo>
                <a:lnTo>
                  <a:pt x="17263" y="20250"/>
                </a:lnTo>
                <a:cubicBezTo>
                  <a:pt x="17683" y="20250"/>
                  <a:pt x="18103" y="19913"/>
                  <a:pt x="18103" y="19575"/>
                </a:cubicBezTo>
                <a:cubicBezTo>
                  <a:pt x="18103" y="19238"/>
                  <a:pt x="17683" y="18900"/>
                  <a:pt x="17263" y="18900"/>
                </a:cubicBezTo>
                <a:close/>
              </a:path>
              <a:path fill="darkenLess" w="21600" h="21600">
                <a:moveTo>
                  <a:pt x="3497" y="19575"/>
                </a:moveTo>
                <a:lnTo>
                  <a:pt x="3497" y="2700"/>
                </a:lnTo>
              </a:path>
              <a:path fill="darkenLess" w="21600" h="21600">
                <a:moveTo>
                  <a:pt x="18103" y="19575"/>
                </a:moveTo>
                <a:lnTo>
                  <a:pt x="18103" y="270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808080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38560" y="455760"/>
            <a:ext cx="3095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42"/>
                </a:solidFill>
                <a:latin typeface="Monotype Corsiva"/>
              </a:rPr>
              <a:t>Верблюды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000042"/>
              </a:solidFill>
              <a:latin typeface="Monotype Corsiva"/>
              <a:ea typeface="Monotype Corsiva"/>
            </a:endParaRPr>
          </a:p>
        </p:txBody>
      </p:sp>
      <p:pic>
        <p:nvPicPr>
          <p:cNvPr id="139" name="n8icamel-b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4824360" cy="3830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280" y="5445000"/>
            <a:ext cx="78483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двадцати лосей были направлены в разведотделы армии. Известны случаи успешных рейдов наших разведчиков на лосях в тыл противни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404640"/>
            <a:ext cx="7345440" cy="792360"/>
          </a:xfrm>
          <a:custGeom>
            <a:avLst/>
            <a:gdLst>
              <a:gd name="textAreaLeft" fmla="*/ 1189080 w 7345440"/>
              <a:gd name="textAreaRight" fmla="*/ 6156360 w 7345440"/>
              <a:gd name="textAreaTop" fmla="*/ 0 h 792360"/>
              <a:gd name="textAreaBottom" fmla="*/ 693360 h 792360"/>
            </a:gdLst>
            <a:ahLst/>
            <a:rect l="textAreaLeft" t="textAreaTop" r="textAreaRight" b="textAreaBottom"/>
            <a:pathLst>
              <a:path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1263"/>
                  <a:pt x="5777" y="21600"/>
                  <a:pt x="5357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497" y="2700"/>
                </a:lnTo>
                <a:lnTo>
                  <a:pt x="3497" y="675"/>
                </a:lnTo>
                <a:cubicBezTo>
                  <a:pt x="3497" y="338"/>
                  <a:pt x="3917" y="0"/>
                  <a:pt x="4337" y="0"/>
                </a:cubicBezTo>
                <a:lnTo>
                  <a:pt x="17263" y="0"/>
                </a:lnTo>
                <a:cubicBezTo>
                  <a:pt x="17683" y="0"/>
                  <a:pt x="18103" y="338"/>
                  <a:pt x="18103" y="675"/>
                </a:cubicBezTo>
                <a:lnTo>
                  <a:pt x="18103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243" y="21600"/>
                </a:lnTo>
                <a:cubicBezTo>
                  <a:pt x="15823" y="21600"/>
                  <a:pt x="15403" y="21263"/>
                  <a:pt x="15403" y="20925"/>
                </a:cubicBezTo>
                <a:lnTo>
                  <a:pt x="15403" y="18900"/>
                </a:lnTo>
                <a:close/>
              </a:path>
              <a:path fill="darkenLess"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0588"/>
                  <a:pt x="5777" y="20250"/>
                  <a:pt x="5357" y="20250"/>
                </a:cubicBezTo>
                <a:lnTo>
                  <a:pt x="4337" y="20250"/>
                </a:lnTo>
                <a:cubicBezTo>
                  <a:pt x="3917" y="20250"/>
                  <a:pt x="3497" y="19913"/>
                  <a:pt x="3497" y="19575"/>
                </a:cubicBezTo>
                <a:cubicBezTo>
                  <a:pt x="3497" y="19238"/>
                  <a:pt x="3917" y="18900"/>
                  <a:pt x="4337" y="18900"/>
                </a:cubicBezTo>
                <a:close/>
              </a:path>
              <a:path fill="darkenLess" w="21600" h="21600">
                <a:moveTo>
                  <a:pt x="15403" y="18900"/>
                </a:moveTo>
                <a:lnTo>
                  <a:pt x="15403" y="20925"/>
                </a:lnTo>
                <a:cubicBezTo>
                  <a:pt x="15403" y="20588"/>
                  <a:pt x="15823" y="20250"/>
                  <a:pt x="16243" y="20250"/>
                </a:cubicBezTo>
                <a:lnTo>
                  <a:pt x="17263" y="20250"/>
                </a:lnTo>
                <a:cubicBezTo>
                  <a:pt x="17683" y="20250"/>
                  <a:pt x="18103" y="19913"/>
                  <a:pt x="18103" y="19575"/>
                </a:cubicBezTo>
                <a:cubicBezTo>
                  <a:pt x="18103" y="19238"/>
                  <a:pt x="17683" y="18900"/>
                  <a:pt x="17263" y="18900"/>
                </a:cubicBezTo>
                <a:close/>
              </a:path>
              <a:path fill="darkenLess" w="21600" h="21600">
                <a:moveTo>
                  <a:pt x="3497" y="19575"/>
                </a:moveTo>
                <a:lnTo>
                  <a:pt x="3497" y="2700"/>
                </a:lnTo>
              </a:path>
              <a:path fill="darkenLess" w="21600" h="21600">
                <a:moveTo>
                  <a:pt x="18103" y="19575"/>
                </a:moveTo>
                <a:lnTo>
                  <a:pt x="18103" y="270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808080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419640" y="476280"/>
            <a:ext cx="252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42"/>
                </a:solidFill>
                <a:latin typeface="Monotype Corsiva"/>
              </a:rPr>
              <a:t>Лоси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000042"/>
              </a:solidFill>
              <a:latin typeface="Monotype Corsiva"/>
              <a:ea typeface="Monotype Corsiva"/>
            </a:endParaRPr>
          </a:p>
        </p:txBody>
      </p:sp>
      <p:pic>
        <p:nvPicPr>
          <p:cNvPr id="143" name="44560891" descr=""/>
          <p:cNvPicPr/>
          <p:nvPr/>
        </p:nvPicPr>
        <p:blipFill>
          <a:blip r:embed="rId2">
            <a:lum contrast="6000"/>
          </a:blip>
          <a:srcRect l="0" t="3713" r="0" b="0"/>
          <a:stretch/>
        </p:blipFill>
        <p:spPr>
          <a:xfrm>
            <a:off x="2954160" y="1417680"/>
            <a:ext cx="394992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МЕДАЛЬ МАРИИ ДИККИН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4168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граждать животных, которые вместе с людьми принимают участие в войнах, предложила в 1943 году Мария Дикки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6408c77730af" descr=""/>
          <p:cNvPicPr/>
          <p:nvPr/>
        </p:nvPicPr>
        <p:blipFill>
          <a:blip r:embed="rId2"/>
          <a:stretch/>
        </p:blipFill>
        <p:spPr>
          <a:xfrm>
            <a:off x="5276880" y="1214280"/>
            <a:ext cx="333540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87640" y="836640"/>
            <a:ext cx="38876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ажаемые владельцы животных и птиц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дравляем Ва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Днем Победы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аем удачи и крепкого здоровья Вам и Вашим питомцам! Ведь наши четвероногие и крылатые  друзья не только радуют нас дома своим теплом и вниманием, ходят на охоту и выставки, доставляя радость, но в тяжелое время сделают все, чтобы помочь защитить нас и страну от врага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i-main-pic" descr="Картинка 52 из 610"/>
          <p:cNvPicPr/>
          <p:nvPr/>
        </p:nvPicPr>
        <p:blipFill>
          <a:blip r:embed="rId2"/>
          <a:stretch/>
        </p:blipFill>
        <p:spPr>
          <a:xfrm>
            <a:off x="1187280" y="549360"/>
            <a:ext cx="3600720" cy="5472000"/>
          </a:xfrm>
          <a:prstGeom prst="rect">
            <a:avLst/>
          </a:prstGeom>
          <a:ln w="0">
            <a:noFill/>
          </a:ln>
        </p:spPr>
      </p:pic>
      <p:sp>
        <p:nvSpPr>
          <p:cNvPr id="92" name="PubHalfFrame"/>
          <p:cNvSpPr/>
          <p:nvPr/>
        </p:nvSpPr>
        <p:spPr>
          <a:xfrm>
            <a:off x="1166760" y="549360"/>
            <a:ext cx="668520" cy="576000"/>
          </a:xfrm>
          <a:custGeom>
            <a:avLst/>
            <a:gdLst>
              <a:gd name="textAreaLeft" fmla="*/ 0 w 668520"/>
              <a:gd name="textAreaRight" fmla="*/ 445680 w 668520"/>
              <a:gd name="textAreaTop" fmla="*/ 0 h 576000"/>
              <a:gd name="textAreaBottom" fmla="*/ 1918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ubHalfFrame"/>
          <p:cNvSpPr/>
          <p:nvPr/>
        </p:nvSpPr>
        <p:spPr>
          <a:xfrm rot="10800000">
            <a:off x="4142880" y="5444640"/>
            <a:ext cx="668520" cy="576360"/>
          </a:xfrm>
          <a:custGeom>
            <a:avLst/>
            <a:gdLst>
              <a:gd name="textAreaLeft" fmla="*/ 0 w 668520"/>
              <a:gd name="textAreaRight" fmla="*/ 445680 w 668520"/>
              <a:gd name="textAreaTop" fmla="*/ 0 h 576360"/>
              <a:gd name="textAreaBottom" fmla="*/ 1922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edb5d84fddae" descr="Изображение"/>
          <p:cNvPicPr/>
          <p:nvPr/>
        </p:nvPicPr>
        <p:blipFill>
          <a:blip r:embed="rId2">
            <a:lum contrast="6000"/>
          </a:blip>
          <a:srcRect l="0" t="918" r="0" b="0"/>
          <a:stretch/>
        </p:blipFill>
        <p:spPr>
          <a:xfrm>
            <a:off x="1547640" y="812880"/>
            <a:ext cx="2494080" cy="5137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284360" y="155736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аль Марии Диккин равнозначна высшей военной награде в Англии - Кресту Ордена Виктор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о с 1943 года было вручено 63 награ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енным животным у нас в России и в других странах установлены памятни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Великобритании есть памятник животным – героям войн, проявившим храбрость под огнём и своей преданной службой приблизившим побед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42920" y="4868640"/>
            <a:ext cx="7772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азных странах вместе с человеком воюют уже много веков лошади, слоны, верблюды, голуби, лоси, морские львы, дельфины и даже светлячки. На этом памятнике изображены все животные, участвовавшие когда-либо в войнах. На монументе есть изображение и медали Марии Дикки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bec226a98687f6d4b3b5cfcf3bcf6033" descr=""/>
          <p:cNvPicPr/>
          <p:nvPr/>
        </p:nvPicPr>
        <p:blipFill>
          <a:blip r:embed="rId2">
            <a:lum contrast="6000"/>
          </a:blip>
          <a:srcRect l="0" t="0" r="1142" b="0"/>
          <a:stretch/>
        </p:blipFill>
        <p:spPr>
          <a:xfrm>
            <a:off x="1908000" y="549360"/>
            <a:ext cx="6193080" cy="416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42920" y="5013000"/>
            <a:ext cx="77724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необычный памятник стоит в центре Лондон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мориал выполнен в виде барельефа с изображением лошадей, слонов и собак, а также двух бронзовых статуй мулов, нагруженных боеприпасами. Из насекомых особой чести удостоились светля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c44db51c3957" descr="Изображение"/>
          <p:cNvPicPr/>
          <p:nvPr/>
        </p:nvPicPr>
        <p:blipFill>
          <a:blip r:embed="rId2"/>
          <a:stretch/>
        </p:blipFill>
        <p:spPr>
          <a:xfrm>
            <a:off x="1979640" y="404640"/>
            <a:ext cx="5977080" cy="4483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f329ddbc4b10" descr="Изображение"/>
          <p:cNvPicPr/>
          <p:nvPr/>
        </p:nvPicPr>
        <p:blipFill>
          <a:blip r:embed="rId2"/>
          <a:stretch/>
        </p:blipFill>
        <p:spPr>
          <a:xfrm>
            <a:off x="1908000" y="476280"/>
            <a:ext cx="5905800" cy="44290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42920" y="4941720"/>
            <a:ext cx="77724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пись на монументе трагичн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Животным на войне. Этот памятник посвящен всем тем животным, которые сражались и погибали вместе с британскими военнослужащими и их союзника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 все времен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42920" y="242064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рудно представить нашу побед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ез этих красивых и благородных животных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916000" y="3068280"/>
            <a:ext cx="3887640" cy="1942920"/>
          </a:xfrm>
          <a:prstGeom prst="rect">
            <a:avLst/>
          </a:prstGeom>
          <a:noFill/>
          <a:ln w="76320">
            <a:solidFill>
              <a:srgbClr val="caa966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ы материалы сайт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www.radikal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zoo-yarsk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img-fotki.yandex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hkolazhizni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488360" cy="187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82400"/>
                </a:solidFill>
                <a:latin typeface="Times New Roman"/>
              </a:rPr>
              <a:t>Презентацию подготовила:</a:t>
            </a:r>
            <a:br>
              <a:rPr sz="2800"/>
            </a:br>
            <a:r>
              <a:rPr b="0" i="1" lang="ru-RU" sz="2800" spc="-1" strike="noStrike">
                <a:solidFill>
                  <a:srgbClr val="482400"/>
                </a:solidFill>
                <a:latin typeface="Times New Roman"/>
              </a:rPr>
              <a:t>Фоминых Елена Викторовна, </a:t>
            </a:r>
            <a:br>
              <a:rPr sz="2800"/>
            </a:br>
            <a:r>
              <a:rPr b="0" i="1" lang="ru-RU" sz="2800" spc="-1" strike="noStrike">
                <a:solidFill>
                  <a:srgbClr val="482400"/>
                </a:solidFill>
                <a:latin typeface="Times New Roman"/>
              </a:rPr>
              <a:t>педагог </a:t>
            </a:r>
            <a:r>
              <a:rPr b="0" i="1" lang="en-US" sz="2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482400"/>
                </a:solidFill>
                <a:latin typeface="Times New Roman"/>
              </a:rPr>
              <a:t>МДОУ № 15, </a:t>
            </a:r>
            <a:br>
              <a:rPr sz="2800"/>
            </a:br>
            <a:r>
              <a:rPr b="0" i="1" lang="ru-RU" sz="2800" spc="-1" strike="noStrike">
                <a:solidFill>
                  <a:srgbClr val="482400"/>
                </a:solidFill>
                <a:latin typeface="Times New Roman"/>
              </a:rPr>
              <a:t>г.Богданович </a:t>
            </a:r>
            <a:r>
              <a:rPr b="0" i="1" lang="en-US" sz="2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482400"/>
                </a:solidFill>
                <a:latin typeface="Times New Roman"/>
              </a:rPr>
              <a:t>Свердловской области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5950080"/>
            <a:ext cx="7632720" cy="647640"/>
          </a:xfrm>
          <a:prstGeom prst="rect">
            <a:avLst/>
          </a:prstGeom>
          <a:noFill/>
          <a:ln w="76320">
            <a:solidFill>
              <a:srgbClr val="caa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я опубликована на сайте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viki.rdf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06280" y="946080"/>
            <a:ext cx="76086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шло больше шестидесяти лет, как мир стал свидетелем подвига советского нар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те годы рядом с солдатами на фронте воевали и те, кого мы называем нашими меньшими братьями: звери и птицы. Им не давали орденов, они не получали званий. Они совершали подвиги, не зная этого. Они просто делали то, чему их научили люди – и гибли, как и люди. Но, погибая, они спасали тысячи человеческих жизней…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44559436" descr=""/>
          <p:cNvPicPr/>
          <p:nvPr/>
        </p:nvPicPr>
        <p:blipFill>
          <a:blip r:embed="rId2"/>
          <a:srcRect l="0" t="3050" r="0" b="0"/>
          <a:stretch/>
        </p:blipFill>
        <p:spPr>
          <a:xfrm>
            <a:off x="2106720" y="1398600"/>
            <a:ext cx="5703840" cy="3886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116000" y="5445000"/>
            <a:ext cx="74851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ойну лошадей применяли и как транспортную силу, особенно в артиллерии. Упряжка в шесть лошадей тянула пушку, меняя огневые позиции батаре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404640"/>
            <a:ext cx="7345440" cy="792360"/>
          </a:xfrm>
          <a:custGeom>
            <a:avLst/>
            <a:gdLst>
              <a:gd name="textAreaLeft" fmla="*/ 1189080 w 7345440"/>
              <a:gd name="textAreaRight" fmla="*/ 6156360 w 7345440"/>
              <a:gd name="textAreaTop" fmla="*/ 0 h 792360"/>
              <a:gd name="textAreaBottom" fmla="*/ 693360 h 792360"/>
            </a:gdLst>
            <a:ahLst/>
            <a:rect l="textAreaLeft" t="textAreaTop" r="textAreaRight" b="textAreaBottom"/>
            <a:pathLst>
              <a:path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1263"/>
                  <a:pt x="5777" y="21600"/>
                  <a:pt x="5357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497" y="2700"/>
                </a:lnTo>
                <a:lnTo>
                  <a:pt x="3497" y="675"/>
                </a:lnTo>
                <a:cubicBezTo>
                  <a:pt x="3497" y="338"/>
                  <a:pt x="3917" y="0"/>
                  <a:pt x="4337" y="0"/>
                </a:cubicBezTo>
                <a:lnTo>
                  <a:pt x="17263" y="0"/>
                </a:lnTo>
                <a:cubicBezTo>
                  <a:pt x="17683" y="0"/>
                  <a:pt x="18103" y="338"/>
                  <a:pt x="18103" y="675"/>
                </a:cubicBezTo>
                <a:lnTo>
                  <a:pt x="18103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243" y="21600"/>
                </a:lnTo>
                <a:cubicBezTo>
                  <a:pt x="15823" y="21600"/>
                  <a:pt x="15403" y="21263"/>
                  <a:pt x="15403" y="20925"/>
                </a:cubicBezTo>
                <a:lnTo>
                  <a:pt x="15403" y="18900"/>
                </a:lnTo>
                <a:close/>
              </a:path>
              <a:path fill="darkenLess"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0588"/>
                  <a:pt x="5777" y="20250"/>
                  <a:pt x="5357" y="20250"/>
                </a:cubicBezTo>
                <a:lnTo>
                  <a:pt x="4337" y="20250"/>
                </a:lnTo>
                <a:cubicBezTo>
                  <a:pt x="3917" y="20250"/>
                  <a:pt x="3497" y="19913"/>
                  <a:pt x="3497" y="19575"/>
                </a:cubicBezTo>
                <a:cubicBezTo>
                  <a:pt x="3497" y="19238"/>
                  <a:pt x="3917" y="18900"/>
                  <a:pt x="4337" y="18900"/>
                </a:cubicBezTo>
                <a:close/>
              </a:path>
              <a:path fill="darkenLess" w="21600" h="21600">
                <a:moveTo>
                  <a:pt x="15403" y="18900"/>
                </a:moveTo>
                <a:lnTo>
                  <a:pt x="15403" y="20925"/>
                </a:lnTo>
                <a:cubicBezTo>
                  <a:pt x="15403" y="20588"/>
                  <a:pt x="15823" y="20250"/>
                  <a:pt x="16243" y="20250"/>
                </a:cubicBezTo>
                <a:lnTo>
                  <a:pt x="17263" y="20250"/>
                </a:lnTo>
                <a:cubicBezTo>
                  <a:pt x="17683" y="20250"/>
                  <a:pt x="18103" y="19913"/>
                  <a:pt x="18103" y="19575"/>
                </a:cubicBezTo>
                <a:cubicBezTo>
                  <a:pt x="18103" y="19238"/>
                  <a:pt x="17683" y="18900"/>
                  <a:pt x="17263" y="18900"/>
                </a:cubicBezTo>
                <a:close/>
              </a:path>
              <a:path fill="darkenLess" w="21600" h="21600">
                <a:moveTo>
                  <a:pt x="3497" y="19575"/>
                </a:moveTo>
                <a:lnTo>
                  <a:pt x="3497" y="2700"/>
                </a:lnTo>
              </a:path>
              <a:path fill="darkenLess" w="21600" h="21600">
                <a:moveTo>
                  <a:pt x="18103" y="19575"/>
                </a:moveTo>
                <a:lnTo>
                  <a:pt x="18103" y="270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808080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38560" y="455760"/>
            <a:ext cx="3095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42"/>
                </a:solidFill>
                <a:latin typeface="Monotype Corsiva"/>
              </a:rPr>
              <a:t>Лошади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000042"/>
              </a:solidFill>
              <a:latin typeface="Monotype Corsiva"/>
              <a:ea typeface="Monotype Corsiva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16000" y="5229000"/>
            <a:ext cx="7485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ую и единственную в России Центральную школу военного собаководства «Красная звезда» создал ученый, генерал-майор Григорий Медведев. Уже к началу 1941 года эта школа готовила собак по 11 видам служб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404640"/>
            <a:ext cx="7345440" cy="792360"/>
          </a:xfrm>
          <a:custGeom>
            <a:avLst/>
            <a:gdLst>
              <a:gd name="textAreaLeft" fmla="*/ 1189080 w 7345440"/>
              <a:gd name="textAreaRight" fmla="*/ 6156360 w 7345440"/>
              <a:gd name="textAreaTop" fmla="*/ 0 h 792360"/>
              <a:gd name="textAreaBottom" fmla="*/ 693360 h 792360"/>
            </a:gdLst>
            <a:ahLst/>
            <a:rect l="textAreaLeft" t="textAreaTop" r="textAreaRight" b="textAreaBottom"/>
            <a:pathLst>
              <a:path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1263"/>
                  <a:pt x="5777" y="21600"/>
                  <a:pt x="5357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497" y="2700"/>
                </a:lnTo>
                <a:lnTo>
                  <a:pt x="3497" y="675"/>
                </a:lnTo>
                <a:cubicBezTo>
                  <a:pt x="3497" y="338"/>
                  <a:pt x="3917" y="0"/>
                  <a:pt x="4337" y="0"/>
                </a:cubicBezTo>
                <a:lnTo>
                  <a:pt x="17263" y="0"/>
                </a:lnTo>
                <a:cubicBezTo>
                  <a:pt x="17683" y="0"/>
                  <a:pt x="18103" y="338"/>
                  <a:pt x="18103" y="675"/>
                </a:cubicBezTo>
                <a:lnTo>
                  <a:pt x="18103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243" y="21600"/>
                </a:lnTo>
                <a:cubicBezTo>
                  <a:pt x="15823" y="21600"/>
                  <a:pt x="15403" y="21263"/>
                  <a:pt x="15403" y="20925"/>
                </a:cubicBezTo>
                <a:lnTo>
                  <a:pt x="15403" y="18900"/>
                </a:lnTo>
                <a:close/>
              </a:path>
              <a:path fill="darkenLess" w="21600" h="21600">
                <a:moveTo>
                  <a:pt x="6197" y="18900"/>
                </a:moveTo>
                <a:lnTo>
                  <a:pt x="6197" y="20925"/>
                </a:lnTo>
                <a:cubicBezTo>
                  <a:pt x="6197" y="20588"/>
                  <a:pt x="5777" y="20250"/>
                  <a:pt x="5357" y="20250"/>
                </a:cubicBezTo>
                <a:lnTo>
                  <a:pt x="4337" y="20250"/>
                </a:lnTo>
                <a:cubicBezTo>
                  <a:pt x="3917" y="20250"/>
                  <a:pt x="3497" y="19913"/>
                  <a:pt x="3497" y="19575"/>
                </a:cubicBezTo>
                <a:cubicBezTo>
                  <a:pt x="3497" y="19238"/>
                  <a:pt x="3917" y="18900"/>
                  <a:pt x="4337" y="18900"/>
                </a:cubicBezTo>
                <a:close/>
              </a:path>
              <a:path fill="darkenLess" w="21600" h="21600">
                <a:moveTo>
                  <a:pt x="15403" y="18900"/>
                </a:moveTo>
                <a:lnTo>
                  <a:pt x="15403" y="20925"/>
                </a:lnTo>
                <a:cubicBezTo>
                  <a:pt x="15403" y="20588"/>
                  <a:pt x="15823" y="20250"/>
                  <a:pt x="16243" y="20250"/>
                </a:cubicBezTo>
                <a:lnTo>
                  <a:pt x="17263" y="20250"/>
                </a:lnTo>
                <a:cubicBezTo>
                  <a:pt x="17683" y="20250"/>
                  <a:pt x="18103" y="19913"/>
                  <a:pt x="18103" y="19575"/>
                </a:cubicBezTo>
                <a:cubicBezTo>
                  <a:pt x="18103" y="19238"/>
                  <a:pt x="17683" y="18900"/>
                  <a:pt x="17263" y="18900"/>
                </a:cubicBezTo>
                <a:close/>
              </a:path>
              <a:path fill="darkenLess" w="21600" h="21600">
                <a:moveTo>
                  <a:pt x="3497" y="19575"/>
                </a:moveTo>
                <a:lnTo>
                  <a:pt x="3497" y="2700"/>
                </a:lnTo>
              </a:path>
              <a:path fill="darkenLess" w="21600" h="21600">
                <a:moveTo>
                  <a:pt x="18103" y="19575"/>
                </a:moveTo>
                <a:lnTo>
                  <a:pt x="18103" y="270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808080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38560" y="455760"/>
            <a:ext cx="3095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42"/>
                </a:solidFill>
                <a:latin typeface="Monotype Corsiva"/>
              </a:rPr>
              <a:t>Собаки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000042"/>
              </a:solidFill>
              <a:latin typeface="Monotype Corsiva"/>
              <a:ea typeface="Monotype Corsiva"/>
            </a:endParaRPr>
          </a:p>
        </p:txBody>
      </p:sp>
      <p:pic>
        <p:nvPicPr>
          <p:cNvPr id="102" name="75dd5abc8e4c" descr=""/>
          <p:cNvPicPr/>
          <p:nvPr/>
        </p:nvPicPr>
        <p:blipFill>
          <a:blip r:embed="rId2">
            <a:lum contrast="6000"/>
          </a:blip>
          <a:srcRect l="7079" t="0" r="0" b="0"/>
          <a:stretch/>
        </p:blipFill>
        <p:spPr>
          <a:xfrm>
            <a:off x="2124000" y="1341360"/>
            <a:ext cx="5686560" cy="3834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Ездовые собаки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544464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оло 15 тысяч упряжек, зимой на нартах, летом на специальных тележках под огнем и взрывами вывезли с поля боя около 700 тысяч тяжело раненых, подвезли к боевым частям 3500 тонн боеприпас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d14b88aa5d9c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7561440" cy="4111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Собаки-миноискатели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7" name="69774fd286b6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154160" y="1073160"/>
            <a:ext cx="4648320" cy="5113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96000" y="1628640"/>
            <a:ext cx="302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ши четвероногие миноискатели разминировали Белгород, Киев, Одессу, Новгород, Витебск, Полоцк, Варшаву, Прагу, Вену, Будапешт, Берли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ая протяженность военных дорог проверенных собаками составила 15153 к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Собаки-связисты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530028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ложной боевой обстановке, порой в непроходимых для человека местах доставили свыше 120 тысяч боевых донесений, для установления связи проложили 8 тысяч км телефонного прово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e87b655a5db0" descr=""/>
          <p:cNvPicPr/>
          <p:nvPr/>
        </p:nvPicPr>
        <p:blipFill>
          <a:blip r:embed="rId2"/>
          <a:srcRect l="3933" t="0" r="0" b="2820"/>
          <a:stretch/>
        </p:blipFill>
        <p:spPr>
          <a:xfrm>
            <a:off x="1077840" y="1189080"/>
            <a:ext cx="765972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Собаки-истребители танков</a:t>
            </a: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5589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ие собаки шли на смерть подорвав более 300 фашистских танков. Немцы боялись таких псов больше, чем противотанковых оруд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c3bf929d11a3" descr=""/>
          <p:cNvPicPr/>
          <p:nvPr/>
        </p:nvPicPr>
        <p:blipFill>
          <a:blip r:embed="rId2">
            <a:lum contrast="6000"/>
          </a:blip>
          <a:srcRect l="0" t="0" r="1013" b="0"/>
          <a:stretch/>
        </p:blipFill>
        <p:spPr>
          <a:xfrm>
            <a:off x="1370160" y="1155600"/>
            <a:ext cx="7127640" cy="4376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8:02:25Z</dcterms:created>
  <dc:creator>Alena</dc:creator>
  <dc:description/>
  <cp:keywords/>
  <dc:language>en-US</dc:language>
  <cp:lastModifiedBy>Вовка</cp:lastModifiedBy>
  <dcterms:modified xsi:type="dcterms:W3CDTF">2015-10-12T11:42:59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