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633A-F8CC-4195-ABD8-8D1DB4BD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24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324E-F2D0-4CDF-B2C7-B5DAC690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752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32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8D78-DE87-4C55-87AD-19A826D21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164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0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7524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164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0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0A1E-2054-4E76-A961-788631A2D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381D-FCDE-4BB8-BF4D-D988D2072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D58F-EBF0-4AED-B841-2836CB59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09EC-EDA0-4C66-94C7-7306F489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CC4D-0DAD-4993-907D-28504613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7EED-51E8-413E-BB95-E811810D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752480" y="990360"/>
            <a:ext cx="6400800" cy="11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9A9C-B385-4444-BB72-EAE42DD2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752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8531-A471-42A9-AECB-C17E2CDC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3DE8-C713-41AB-9A82-0A8314CF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32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F5D8-1785-4541-AA6C-8CA31384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4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9806-053B-420D-A48B-5F78C997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7524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835F-2960-4021-8942-0DE307BF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752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32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3E0B-A6B2-4E07-ADDD-0025E4B3E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9164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80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7524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9164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80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66FA-7923-4FB5-B886-74CD0BAF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5FC2-286F-4788-A5D9-79781B6C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7CD5-AC28-43F8-957A-10F4B9F6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C630-E54E-4DC9-B1E7-4E1191FB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752480" y="990360"/>
            <a:ext cx="6400800" cy="11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81A4-74F5-4357-8CC4-BCF19CAB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752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1B57-ABEF-46E5-BA51-8E081E63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32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2D1B-E16C-45A9-90AF-DC8704A6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7524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D5D9-7487-46B5-8D9B-CE4C19DB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70D8-68A9-4052-857C-178C2DE756C9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D12C-8FDC-48C2-A17A-2FAF48B49A35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9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63640" y="98064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82400"/>
                </a:solidFill>
                <a:latin typeface="Times New Roman"/>
              </a:rPr>
              <a:t>ЖИВОТНЫЕ </a:t>
            </a:r>
            <a:br>
              <a:rPr sz="4400"/>
            </a:br>
            <a:r>
              <a:rPr b="1" i="1" lang="ru-RU" sz="4400" spc="-1" strike="noStrike">
                <a:solidFill>
                  <a:srgbClr val="482400"/>
                </a:solidFill>
                <a:latin typeface="Times New Roman"/>
              </a:rPr>
              <a:t>НА </a:t>
            </a:r>
            <a:br>
              <a:rPr sz="4400"/>
            </a:br>
            <a:r>
              <a:rPr b="1" i="1" lang="ru-RU" sz="4400" spc="-1" strike="noStrike">
                <a:solidFill>
                  <a:srgbClr val="482400"/>
                </a:solidFill>
                <a:latin typeface="Times New Roman"/>
              </a:rPr>
              <a:t>ВОЙНЕ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м животным, участвовавшим в Великой Отечественной войне посвящаетс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82400"/>
                </a:solidFill>
                <a:latin typeface="Times New Roman"/>
              </a:rPr>
              <a:t>Санитарные собаки</a:t>
            </a:r>
            <a:r>
              <a:rPr b="0" i="1" lang="ru-RU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640" y="537336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и находили тяжело раненых солдат в болотах, лесах, оврагах и приводили к ним санитаров, неся на своих спинах тюки с медикаментами и перевязочным материало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cf1f36c4f9de" descr=""/>
          <p:cNvPicPr/>
          <p:nvPr/>
        </p:nvPicPr>
        <p:blipFill>
          <a:blip r:embed="rId2"/>
          <a:stretch/>
        </p:blipFill>
        <p:spPr>
          <a:xfrm>
            <a:off x="2050920" y="981000"/>
            <a:ext cx="576108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81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82400"/>
                </a:solidFill>
                <a:latin typeface="Times New Roman"/>
              </a:rPr>
              <a:t>Собаки разведывательной службы</a:t>
            </a:r>
            <a:r>
              <a:rPr b="1" i="1" lang="ru-RU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508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провождали разведчиков в тыл врага для успешного прохода через его передовые позиции, обнаружения скрытых огневых точек, засад, секретов, оказания помощи при захвате «языка», работали быстро, четко и беззвучно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f3d67f7bcd5b" descr=""/>
          <p:cNvPicPr/>
          <p:nvPr/>
        </p:nvPicPr>
        <p:blipFill>
          <a:blip r:embed="rId2"/>
          <a:stretch/>
        </p:blipFill>
        <p:spPr>
          <a:xfrm>
            <a:off x="2195640" y="907920"/>
            <a:ext cx="5616360" cy="4118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82400"/>
                </a:solidFill>
                <a:latin typeface="Times New Roman"/>
              </a:rPr>
              <a:t>Сторожевые собаки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42920" y="522936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тали в боевом охранении, в засадах для обнаружения врага ночью и в ненастную погоду. Эти четвероногие умницы только натяжением поводка и поворотом туловища указывали направление грозящей опасност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b6dd0f7e01b1" descr=""/>
          <p:cNvPicPr/>
          <p:nvPr/>
        </p:nvPicPr>
        <p:blipFill>
          <a:blip r:embed="rId2">
            <a:lum contrast="6000"/>
          </a:blip>
          <a:srcRect l="0" t="7052" r="0" b="0"/>
          <a:stretch/>
        </p:blipFill>
        <p:spPr>
          <a:xfrm>
            <a:off x="1619280" y="907920"/>
            <a:ext cx="6697800" cy="4272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82400"/>
                </a:solidFill>
                <a:latin typeface="Times New Roman"/>
              </a:rPr>
              <a:t>Диверсионные собаки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71640" y="544464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и подрывали железнодорожные составы и мосты. На спине у таких собак был закреплен разъемный боевой вьюк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a3067e2269c7" descr=""/>
          <p:cNvPicPr/>
          <p:nvPr/>
        </p:nvPicPr>
        <p:blipFill>
          <a:blip r:embed="rId2">
            <a:lum contrast="6000"/>
          </a:blip>
          <a:srcRect l="0" t="1728" r="8221" b="0"/>
          <a:stretch/>
        </p:blipFill>
        <p:spPr>
          <a:xfrm>
            <a:off x="1835280" y="1052640"/>
            <a:ext cx="6048360" cy="4383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71280" y="5300640"/>
            <a:ext cx="784836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меньше собак и лошадей пользы принесли во время войны и кошки. Фронтовики заводили в окопах и землянках самых обыкновенных, но, вполне «годных к нестроевой службе» кошек.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58920" y="404640"/>
            <a:ext cx="7345440" cy="792360"/>
          </a:xfrm>
          <a:custGeom>
            <a:avLst/>
            <a:gdLst>
              <a:gd name="textAreaLeft" fmla="*/ 1189080 w 7345440"/>
              <a:gd name="textAreaRight" fmla="*/ 6156360 w 7345440"/>
              <a:gd name="textAreaTop" fmla="*/ 0 h 792360"/>
              <a:gd name="textAreaBottom" fmla="*/ 693360 h 792360"/>
            </a:gdLst>
            <a:ahLst/>
            <a:rect l="textAreaLeft" t="textAreaTop" r="textAreaRight" b="textAreaBottom"/>
            <a:pathLst>
              <a:path w="21600" h="21600">
                <a:moveTo>
                  <a:pt x="6197" y="18900"/>
                </a:moveTo>
                <a:lnTo>
                  <a:pt x="6197" y="20925"/>
                </a:lnTo>
                <a:cubicBezTo>
                  <a:pt x="6197" y="21263"/>
                  <a:pt x="5777" y="21600"/>
                  <a:pt x="5357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497" y="2700"/>
                </a:lnTo>
                <a:lnTo>
                  <a:pt x="3497" y="675"/>
                </a:lnTo>
                <a:cubicBezTo>
                  <a:pt x="3497" y="338"/>
                  <a:pt x="3917" y="0"/>
                  <a:pt x="4337" y="0"/>
                </a:cubicBezTo>
                <a:lnTo>
                  <a:pt x="17263" y="0"/>
                </a:lnTo>
                <a:cubicBezTo>
                  <a:pt x="17683" y="0"/>
                  <a:pt x="18103" y="338"/>
                  <a:pt x="18103" y="675"/>
                </a:cubicBezTo>
                <a:lnTo>
                  <a:pt x="18103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243" y="21600"/>
                </a:lnTo>
                <a:cubicBezTo>
                  <a:pt x="15823" y="21600"/>
                  <a:pt x="15403" y="21263"/>
                  <a:pt x="15403" y="20925"/>
                </a:cubicBezTo>
                <a:lnTo>
                  <a:pt x="15403" y="18900"/>
                </a:lnTo>
                <a:close/>
              </a:path>
              <a:path fill="darkenLess" w="21600" h="21600">
                <a:moveTo>
                  <a:pt x="6197" y="18900"/>
                </a:moveTo>
                <a:lnTo>
                  <a:pt x="6197" y="20925"/>
                </a:lnTo>
                <a:cubicBezTo>
                  <a:pt x="6197" y="20588"/>
                  <a:pt x="5777" y="20250"/>
                  <a:pt x="5357" y="20250"/>
                </a:cubicBezTo>
                <a:lnTo>
                  <a:pt x="4337" y="20250"/>
                </a:lnTo>
                <a:cubicBezTo>
                  <a:pt x="3917" y="20250"/>
                  <a:pt x="3497" y="19913"/>
                  <a:pt x="3497" y="19575"/>
                </a:cubicBezTo>
                <a:cubicBezTo>
                  <a:pt x="3497" y="19238"/>
                  <a:pt x="3917" y="18900"/>
                  <a:pt x="4337" y="18900"/>
                </a:cubicBezTo>
                <a:close/>
              </a:path>
              <a:path fill="darkenLess" w="21600" h="21600">
                <a:moveTo>
                  <a:pt x="15403" y="18900"/>
                </a:moveTo>
                <a:lnTo>
                  <a:pt x="15403" y="20925"/>
                </a:lnTo>
                <a:cubicBezTo>
                  <a:pt x="15403" y="20588"/>
                  <a:pt x="15823" y="20250"/>
                  <a:pt x="16243" y="20250"/>
                </a:cubicBezTo>
                <a:lnTo>
                  <a:pt x="17263" y="20250"/>
                </a:lnTo>
                <a:cubicBezTo>
                  <a:pt x="17683" y="20250"/>
                  <a:pt x="18103" y="19913"/>
                  <a:pt x="18103" y="19575"/>
                </a:cubicBezTo>
                <a:cubicBezTo>
                  <a:pt x="18103" y="19238"/>
                  <a:pt x="17683" y="18900"/>
                  <a:pt x="17263" y="18900"/>
                </a:cubicBezTo>
                <a:close/>
              </a:path>
              <a:path fill="darkenLess" w="21600" h="21600">
                <a:moveTo>
                  <a:pt x="3497" y="19575"/>
                </a:moveTo>
                <a:lnTo>
                  <a:pt x="3497" y="2700"/>
                </a:lnTo>
              </a:path>
              <a:path fill="darkenLess" w="21600" h="21600">
                <a:moveTo>
                  <a:pt x="18103" y="19575"/>
                </a:moveTo>
                <a:lnTo>
                  <a:pt x="18103" y="2700"/>
                </a:lnTo>
              </a:path>
            </a:pathLst>
          </a:custGeom>
          <a:gradFill rotWithShape="0">
            <a:gsLst>
              <a:gs pos="0">
                <a:srgbClr val="ff9933"/>
              </a:gs>
              <a:gs pos="50000">
                <a:srgbClr val="808080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38560" y="455760"/>
            <a:ext cx="30956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42"/>
                </a:solidFill>
                <a:latin typeface="Monotype Corsiva"/>
              </a:rPr>
              <a:t>Кошки</a:t>
            </a:r>
            <a:endParaRPr b="1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000042"/>
              </a:solidFill>
              <a:latin typeface="Monotype Corsiva"/>
              <a:ea typeface="Monotype Corsiva"/>
            </a:endParaRPr>
          </a:p>
        </p:txBody>
      </p:sp>
      <p:pic>
        <p:nvPicPr>
          <p:cNvPr id="130" name="000f0e9w.8maxe5m6of8kkcw8csowwwscs.dikonvxswd4c4ss0g48844kwo.th" descr="Посыльный кот"/>
          <p:cNvPicPr/>
          <p:nvPr/>
        </p:nvPicPr>
        <p:blipFill>
          <a:blip r:embed="rId2"/>
          <a:stretch/>
        </p:blipFill>
        <p:spPr>
          <a:xfrm>
            <a:off x="2268360" y="1413000"/>
            <a:ext cx="5400720" cy="38559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82400"/>
                </a:solidFill>
                <a:latin typeface="Times New Roman"/>
              </a:rPr>
              <a:t>Кот Саймон</a:t>
            </a:r>
            <a:r>
              <a:rPr b="0" i="1" lang="ru-RU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28840" y="1752480"/>
            <a:ext cx="380988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т кот с военного судна «Аметист» флота Великобритании даже получил медаль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рабль был задержан на реке Янцзы в 1949 году, и течение ста дней корабль считался пленником революционного Китая. Саймон тоже пострадал: его ранило шрапнелью, и он сильно опалил шерсть. Все это время Саймон, как говорилось в дипломе, «поднимал дух военнослужащих и исполнял свои обязанности, ловя корабельных крыс»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0b9acf38e8ab" descr="Изображение"/>
          <p:cNvPicPr/>
          <p:nvPr/>
        </p:nvPicPr>
        <p:blipFill>
          <a:blip r:embed="rId2"/>
          <a:stretch/>
        </p:blipFill>
        <p:spPr>
          <a:xfrm>
            <a:off x="1187280" y="1268280"/>
            <a:ext cx="4061160" cy="46911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7ac4abb5d3c4" descr="Изображение"/>
          <p:cNvPicPr/>
          <p:nvPr/>
        </p:nvPicPr>
        <p:blipFill>
          <a:blip r:embed="rId2">
            <a:lum contrast="6000"/>
          </a:blip>
          <a:srcRect l="5042" t="0" r="6128" b="6070"/>
          <a:stretch/>
        </p:blipFill>
        <p:spPr>
          <a:xfrm>
            <a:off x="1042920" y="404640"/>
            <a:ext cx="3009960" cy="3384720"/>
          </a:xfrm>
          <a:prstGeom prst="rect">
            <a:avLst/>
          </a:prstGeom>
          <a:ln w="0">
            <a:noFill/>
          </a:ln>
        </p:spPr>
      </p:pic>
      <p:pic>
        <p:nvPicPr>
          <p:cNvPr id="135" name="fbe4f444a65d" descr="Изображение"/>
          <p:cNvPicPr/>
          <p:nvPr/>
        </p:nvPicPr>
        <p:blipFill>
          <a:blip r:embed="rId3">
            <a:lum contrast="6000"/>
          </a:blip>
          <a:srcRect l="3356" t="0" r="2812" b="0"/>
          <a:stretch/>
        </p:blipFill>
        <p:spPr>
          <a:xfrm>
            <a:off x="4140360" y="3119400"/>
            <a:ext cx="4608360" cy="3044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71280" y="5373720"/>
            <a:ext cx="784836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носливые животные дошли до Берлина вместе с солдатами. А 8 мая 1945 года расчёт орудия, передвигаемого верблюдами, защищал воинов, водружавших Знамя Победы над рейхстаг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404640"/>
            <a:ext cx="7345440" cy="792360"/>
          </a:xfrm>
          <a:custGeom>
            <a:avLst/>
            <a:gdLst>
              <a:gd name="textAreaLeft" fmla="*/ 1189080 w 7345440"/>
              <a:gd name="textAreaRight" fmla="*/ 6156360 w 7345440"/>
              <a:gd name="textAreaTop" fmla="*/ 0 h 792360"/>
              <a:gd name="textAreaBottom" fmla="*/ 693360 h 792360"/>
            </a:gdLst>
            <a:ahLst/>
            <a:rect l="textAreaLeft" t="textAreaTop" r="textAreaRight" b="textAreaBottom"/>
            <a:pathLst>
              <a:path w="21600" h="21600">
                <a:moveTo>
                  <a:pt x="6197" y="18900"/>
                </a:moveTo>
                <a:lnTo>
                  <a:pt x="6197" y="20925"/>
                </a:lnTo>
                <a:cubicBezTo>
                  <a:pt x="6197" y="21263"/>
                  <a:pt x="5777" y="21600"/>
                  <a:pt x="5357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497" y="2700"/>
                </a:lnTo>
                <a:lnTo>
                  <a:pt x="3497" y="675"/>
                </a:lnTo>
                <a:cubicBezTo>
                  <a:pt x="3497" y="338"/>
                  <a:pt x="3917" y="0"/>
                  <a:pt x="4337" y="0"/>
                </a:cubicBezTo>
                <a:lnTo>
                  <a:pt x="17263" y="0"/>
                </a:lnTo>
                <a:cubicBezTo>
                  <a:pt x="17683" y="0"/>
                  <a:pt x="18103" y="338"/>
                  <a:pt x="18103" y="675"/>
                </a:cubicBezTo>
                <a:lnTo>
                  <a:pt x="18103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243" y="21600"/>
                </a:lnTo>
                <a:cubicBezTo>
                  <a:pt x="15823" y="21600"/>
                  <a:pt x="15403" y="21263"/>
                  <a:pt x="15403" y="20925"/>
                </a:cubicBezTo>
                <a:lnTo>
                  <a:pt x="15403" y="18900"/>
                </a:lnTo>
                <a:close/>
              </a:path>
              <a:path fill="darkenLess" w="21600" h="21600">
                <a:moveTo>
                  <a:pt x="6197" y="18900"/>
                </a:moveTo>
                <a:lnTo>
                  <a:pt x="6197" y="20925"/>
                </a:lnTo>
                <a:cubicBezTo>
                  <a:pt x="6197" y="20588"/>
                  <a:pt x="5777" y="20250"/>
                  <a:pt x="5357" y="20250"/>
                </a:cubicBezTo>
                <a:lnTo>
                  <a:pt x="4337" y="20250"/>
                </a:lnTo>
                <a:cubicBezTo>
                  <a:pt x="3917" y="20250"/>
                  <a:pt x="3497" y="19913"/>
                  <a:pt x="3497" y="19575"/>
                </a:cubicBezTo>
                <a:cubicBezTo>
                  <a:pt x="3497" y="19238"/>
                  <a:pt x="3917" y="18900"/>
                  <a:pt x="4337" y="18900"/>
                </a:cubicBezTo>
                <a:close/>
              </a:path>
              <a:path fill="darkenLess" w="21600" h="21600">
                <a:moveTo>
                  <a:pt x="15403" y="18900"/>
                </a:moveTo>
                <a:lnTo>
                  <a:pt x="15403" y="20925"/>
                </a:lnTo>
                <a:cubicBezTo>
                  <a:pt x="15403" y="20588"/>
                  <a:pt x="15823" y="20250"/>
                  <a:pt x="16243" y="20250"/>
                </a:cubicBezTo>
                <a:lnTo>
                  <a:pt x="17263" y="20250"/>
                </a:lnTo>
                <a:cubicBezTo>
                  <a:pt x="17683" y="20250"/>
                  <a:pt x="18103" y="19913"/>
                  <a:pt x="18103" y="19575"/>
                </a:cubicBezTo>
                <a:cubicBezTo>
                  <a:pt x="18103" y="19238"/>
                  <a:pt x="17683" y="18900"/>
                  <a:pt x="17263" y="18900"/>
                </a:cubicBezTo>
                <a:close/>
              </a:path>
              <a:path fill="darkenLess" w="21600" h="21600">
                <a:moveTo>
                  <a:pt x="3497" y="19575"/>
                </a:moveTo>
                <a:lnTo>
                  <a:pt x="3497" y="2700"/>
                </a:lnTo>
              </a:path>
              <a:path fill="darkenLess" w="21600" h="21600">
                <a:moveTo>
                  <a:pt x="18103" y="19575"/>
                </a:moveTo>
                <a:lnTo>
                  <a:pt x="18103" y="2700"/>
                </a:lnTo>
              </a:path>
            </a:pathLst>
          </a:custGeom>
          <a:gradFill rotWithShape="0">
            <a:gsLst>
              <a:gs pos="0">
                <a:srgbClr val="ff9933"/>
              </a:gs>
              <a:gs pos="50000">
                <a:srgbClr val="808080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38560" y="455760"/>
            <a:ext cx="30956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42"/>
                </a:solidFill>
                <a:latin typeface="Monotype Corsiva"/>
              </a:rPr>
              <a:t>Верблюды</a:t>
            </a:r>
            <a:endParaRPr b="1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000042"/>
              </a:solidFill>
              <a:latin typeface="Monotype Corsiva"/>
              <a:ea typeface="Monotype Corsiva"/>
            </a:endParaRPr>
          </a:p>
        </p:txBody>
      </p:sp>
      <p:pic>
        <p:nvPicPr>
          <p:cNvPr id="139" name="n8icamel-b" descr=""/>
          <p:cNvPicPr/>
          <p:nvPr/>
        </p:nvPicPr>
        <p:blipFill>
          <a:blip r:embed="rId2"/>
          <a:stretch/>
        </p:blipFill>
        <p:spPr>
          <a:xfrm>
            <a:off x="2627280" y="1484280"/>
            <a:ext cx="4824360" cy="38307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71280" y="5445000"/>
            <a:ext cx="784836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оло двадцати лосей были направлены в разведотделы армии. Известны случаи успешных рейдов наших разведчиков на лосях в тыл противник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8920" y="404640"/>
            <a:ext cx="7345440" cy="792360"/>
          </a:xfrm>
          <a:custGeom>
            <a:avLst/>
            <a:gdLst>
              <a:gd name="textAreaLeft" fmla="*/ 1189080 w 7345440"/>
              <a:gd name="textAreaRight" fmla="*/ 6156360 w 7345440"/>
              <a:gd name="textAreaTop" fmla="*/ 0 h 792360"/>
              <a:gd name="textAreaBottom" fmla="*/ 693360 h 792360"/>
            </a:gdLst>
            <a:ahLst/>
            <a:rect l="textAreaLeft" t="textAreaTop" r="textAreaRight" b="textAreaBottom"/>
            <a:pathLst>
              <a:path w="21600" h="21600">
                <a:moveTo>
                  <a:pt x="6197" y="18900"/>
                </a:moveTo>
                <a:lnTo>
                  <a:pt x="6197" y="20925"/>
                </a:lnTo>
                <a:cubicBezTo>
                  <a:pt x="6197" y="21263"/>
                  <a:pt x="5777" y="21600"/>
                  <a:pt x="5357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497" y="2700"/>
                </a:lnTo>
                <a:lnTo>
                  <a:pt x="3497" y="675"/>
                </a:lnTo>
                <a:cubicBezTo>
                  <a:pt x="3497" y="338"/>
                  <a:pt x="3917" y="0"/>
                  <a:pt x="4337" y="0"/>
                </a:cubicBezTo>
                <a:lnTo>
                  <a:pt x="17263" y="0"/>
                </a:lnTo>
                <a:cubicBezTo>
                  <a:pt x="17683" y="0"/>
                  <a:pt x="18103" y="338"/>
                  <a:pt x="18103" y="675"/>
                </a:cubicBezTo>
                <a:lnTo>
                  <a:pt x="18103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243" y="21600"/>
                </a:lnTo>
                <a:cubicBezTo>
                  <a:pt x="15823" y="21600"/>
                  <a:pt x="15403" y="21263"/>
                  <a:pt x="15403" y="20925"/>
                </a:cubicBezTo>
                <a:lnTo>
                  <a:pt x="15403" y="18900"/>
                </a:lnTo>
                <a:close/>
              </a:path>
              <a:path fill="darkenLess" w="21600" h="21600">
                <a:moveTo>
                  <a:pt x="6197" y="18900"/>
                </a:moveTo>
                <a:lnTo>
                  <a:pt x="6197" y="20925"/>
                </a:lnTo>
                <a:cubicBezTo>
                  <a:pt x="6197" y="20588"/>
                  <a:pt x="5777" y="20250"/>
                  <a:pt x="5357" y="20250"/>
                </a:cubicBezTo>
                <a:lnTo>
                  <a:pt x="4337" y="20250"/>
                </a:lnTo>
                <a:cubicBezTo>
                  <a:pt x="3917" y="20250"/>
                  <a:pt x="3497" y="19913"/>
                  <a:pt x="3497" y="19575"/>
                </a:cubicBezTo>
                <a:cubicBezTo>
                  <a:pt x="3497" y="19238"/>
                  <a:pt x="3917" y="18900"/>
                  <a:pt x="4337" y="18900"/>
                </a:cubicBezTo>
                <a:close/>
              </a:path>
              <a:path fill="darkenLess" w="21600" h="21600">
                <a:moveTo>
                  <a:pt x="15403" y="18900"/>
                </a:moveTo>
                <a:lnTo>
                  <a:pt x="15403" y="20925"/>
                </a:lnTo>
                <a:cubicBezTo>
                  <a:pt x="15403" y="20588"/>
                  <a:pt x="15823" y="20250"/>
                  <a:pt x="16243" y="20250"/>
                </a:cubicBezTo>
                <a:lnTo>
                  <a:pt x="17263" y="20250"/>
                </a:lnTo>
                <a:cubicBezTo>
                  <a:pt x="17683" y="20250"/>
                  <a:pt x="18103" y="19913"/>
                  <a:pt x="18103" y="19575"/>
                </a:cubicBezTo>
                <a:cubicBezTo>
                  <a:pt x="18103" y="19238"/>
                  <a:pt x="17683" y="18900"/>
                  <a:pt x="17263" y="18900"/>
                </a:cubicBezTo>
                <a:close/>
              </a:path>
              <a:path fill="darkenLess" w="21600" h="21600">
                <a:moveTo>
                  <a:pt x="3497" y="19575"/>
                </a:moveTo>
                <a:lnTo>
                  <a:pt x="3497" y="2700"/>
                </a:lnTo>
              </a:path>
              <a:path fill="darkenLess" w="21600" h="21600">
                <a:moveTo>
                  <a:pt x="18103" y="19575"/>
                </a:moveTo>
                <a:lnTo>
                  <a:pt x="18103" y="2700"/>
                </a:lnTo>
              </a:path>
            </a:pathLst>
          </a:custGeom>
          <a:gradFill rotWithShape="0">
            <a:gsLst>
              <a:gs pos="0">
                <a:srgbClr val="ff9933"/>
              </a:gs>
              <a:gs pos="50000">
                <a:srgbClr val="808080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419640" y="476280"/>
            <a:ext cx="252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42"/>
                </a:solidFill>
                <a:latin typeface="Monotype Corsiva"/>
              </a:rPr>
              <a:t>Лоси</a:t>
            </a:r>
            <a:endParaRPr b="1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000042"/>
              </a:solidFill>
              <a:latin typeface="Monotype Corsiva"/>
              <a:ea typeface="Monotype Corsiva"/>
            </a:endParaRPr>
          </a:p>
        </p:txBody>
      </p:sp>
      <p:pic>
        <p:nvPicPr>
          <p:cNvPr id="143" name="44560891" descr=""/>
          <p:cNvPicPr/>
          <p:nvPr/>
        </p:nvPicPr>
        <p:blipFill>
          <a:blip r:embed="rId2">
            <a:lum contrast="6000"/>
          </a:blip>
          <a:srcRect l="0" t="3713" r="0" b="0"/>
          <a:stretch/>
        </p:blipFill>
        <p:spPr>
          <a:xfrm>
            <a:off x="2954160" y="1417680"/>
            <a:ext cx="3949920" cy="39607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82400"/>
                </a:solidFill>
                <a:latin typeface="Times New Roman"/>
              </a:rPr>
              <a:t>МЕДАЛЬ МАРИИ ДИККИН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00000" y="2205000"/>
            <a:ext cx="41688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граждать животных, которые вместе с людьми принимают участие в войнах, предложила в 1943 году Мария Диккин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6408c77730af" descr=""/>
          <p:cNvPicPr/>
          <p:nvPr/>
        </p:nvPicPr>
        <p:blipFill>
          <a:blip r:embed="rId2"/>
          <a:stretch/>
        </p:blipFill>
        <p:spPr>
          <a:xfrm>
            <a:off x="5276880" y="1214280"/>
            <a:ext cx="3335400" cy="4896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787640" y="836640"/>
            <a:ext cx="38876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ажаемые владельцы животных и птиц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дравляем Ва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Днем Победы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лаем удачи и крепкого здоровья Вам и Вашим питомцам! Ведь наши четвероногие и крылатые  друзья не только радуют нас дома своим теплом и вниманием, ходят на охоту и выставки, доставляя радость, но в тяжелое время сделают все, чтобы помочь защитить нас и страну от врага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i-main-pic" descr="Картинка 52 из 610"/>
          <p:cNvPicPr/>
          <p:nvPr/>
        </p:nvPicPr>
        <p:blipFill>
          <a:blip r:embed="rId2"/>
          <a:stretch/>
        </p:blipFill>
        <p:spPr>
          <a:xfrm>
            <a:off x="1187280" y="549360"/>
            <a:ext cx="3600720" cy="5472000"/>
          </a:xfrm>
          <a:prstGeom prst="rect">
            <a:avLst/>
          </a:prstGeom>
          <a:ln w="0">
            <a:noFill/>
          </a:ln>
        </p:spPr>
      </p:pic>
      <p:sp>
        <p:nvSpPr>
          <p:cNvPr id="92" name="PubHalfFrame"/>
          <p:cNvSpPr/>
          <p:nvPr/>
        </p:nvSpPr>
        <p:spPr>
          <a:xfrm>
            <a:off x="1166760" y="549360"/>
            <a:ext cx="668520" cy="576000"/>
          </a:xfrm>
          <a:custGeom>
            <a:avLst/>
            <a:gdLst>
              <a:gd name="textAreaLeft" fmla="*/ 0 w 668520"/>
              <a:gd name="textAreaRight" fmla="*/ 445680 w 668520"/>
              <a:gd name="textAreaTop" fmla="*/ 0 h 576000"/>
              <a:gd name="textAreaBottom" fmla="*/ 1918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ubHalfFrame"/>
          <p:cNvSpPr/>
          <p:nvPr/>
        </p:nvSpPr>
        <p:spPr>
          <a:xfrm rot="10800000">
            <a:off x="4142880" y="5444640"/>
            <a:ext cx="668520" cy="576360"/>
          </a:xfrm>
          <a:custGeom>
            <a:avLst/>
            <a:gdLst>
              <a:gd name="textAreaLeft" fmla="*/ 0 w 668520"/>
              <a:gd name="textAreaRight" fmla="*/ 445680 w 668520"/>
              <a:gd name="textAreaTop" fmla="*/ 0 h 576360"/>
              <a:gd name="textAreaBottom" fmla="*/ 1922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edb5d84fddae" descr="Изображение"/>
          <p:cNvPicPr/>
          <p:nvPr/>
        </p:nvPicPr>
        <p:blipFill>
          <a:blip r:embed="rId2">
            <a:lum contrast="6000"/>
          </a:blip>
          <a:srcRect l="0" t="918" r="0" b="0"/>
          <a:stretch/>
        </p:blipFill>
        <p:spPr>
          <a:xfrm>
            <a:off x="1547640" y="812880"/>
            <a:ext cx="2494080" cy="51372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284360" y="1557360"/>
            <a:ext cx="431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даль Марии Диккин равнозначна высшей военной награде в Англии - Кресту Ордена Виктор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го с 1943 года было вручено 63 награ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4292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енным животным у нас в России и в других странах установлены памятник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Великобритании есть памятник животным – героям войн, проявившим храбрость под огнём и своей преданной службой приблизившим побед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42920" y="4868640"/>
            <a:ext cx="7772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разных странах вместе с человеком воюют уже много веков лошади, слоны, верблюды, голуби, лоси, морские львы, дельфины и даже светлячки. На этом памятнике изображены все животные, участвовавшие когда-либо в войнах. На монументе есть изображение и медали Марии Дикки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bec226a98687f6d4b3b5cfcf3bcf6033" descr=""/>
          <p:cNvPicPr/>
          <p:nvPr/>
        </p:nvPicPr>
        <p:blipFill>
          <a:blip r:embed="rId2">
            <a:lum contrast="6000"/>
          </a:blip>
          <a:srcRect l="0" t="0" r="1142" b="0"/>
          <a:stretch/>
        </p:blipFill>
        <p:spPr>
          <a:xfrm>
            <a:off x="1908000" y="549360"/>
            <a:ext cx="6193080" cy="41623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42920" y="5013000"/>
            <a:ext cx="77724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т необычный памятник стоит в центре Лондон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мориал выполнен в виде барельефа с изображением лошадей, слонов и собак, а также двух бронзовых статуй мулов, нагруженных боеприпасами. Из насекомых особой чести удостоились светляч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c44db51c3957" descr="Изображение"/>
          <p:cNvPicPr/>
          <p:nvPr/>
        </p:nvPicPr>
        <p:blipFill>
          <a:blip r:embed="rId2"/>
          <a:stretch/>
        </p:blipFill>
        <p:spPr>
          <a:xfrm>
            <a:off x="1979640" y="404640"/>
            <a:ext cx="5977080" cy="44834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f329ddbc4b10" descr="Изображение"/>
          <p:cNvPicPr/>
          <p:nvPr/>
        </p:nvPicPr>
        <p:blipFill>
          <a:blip r:embed="rId2"/>
          <a:stretch/>
        </p:blipFill>
        <p:spPr>
          <a:xfrm>
            <a:off x="1908000" y="476280"/>
            <a:ext cx="5905800" cy="44290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42920" y="4941720"/>
            <a:ext cx="77724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дпись на монументе трагична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Животным на войне. Этот памятник посвящен всем тем животным, которые сражались и погибали вместе с британскими военнослужащими и их союзникам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 все времена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042920" y="242064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рудно представить нашу побед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ез этих красивых и благородных животных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2916000" y="3068280"/>
            <a:ext cx="3887640" cy="1942920"/>
          </a:xfrm>
          <a:prstGeom prst="rect">
            <a:avLst/>
          </a:prstGeom>
          <a:noFill/>
          <a:ln w="76320">
            <a:solidFill>
              <a:srgbClr val="caa966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ользованы материалы сайтов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/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www.radikal.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/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zoo-yarsk.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/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img-fotki.yandex.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/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shkolazhizni.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488360" cy="187308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82400"/>
                </a:solidFill>
                <a:latin typeface="Times New Roman"/>
              </a:rPr>
              <a:t>Презентацию подготовила:</a:t>
            </a:r>
            <a:br>
              <a:rPr sz="2800"/>
            </a:br>
            <a:r>
              <a:rPr b="0" i="1" lang="ru-RU" sz="2800" spc="-1" strike="noStrike">
                <a:solidFill>
                  <a:srgbClr val="482400"/>
                </a:solidFill>
                <a:latin typeface="Times New Roman"/>
              </a:rPr>
              <a:t>Фоминых Елена Викторовна, </a:t>
            </a:r>
            <a:br>
              <a:rPr sz="2800"/>
            </a:br>
            <a:r>
              <a:rPr b="0" i="1" lang="ru-RU" sz="2800" spc="-1" strike="noStrike">
                <a:solidFill>
                  <a:srgbClr val="482400"/>
                </a:solidFill>
                <a:latin typeface="Times New Roman"/>
              </a:rPr>
              <a:t>педагог </a:t>
            </a:r>
            <a:r>
              <a:rPr b="0" i="1" lang="en-US" sz="2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482400"/>
                </a:solidFill>
                <a:latin typeface="Times New Roman"/>
              </a:rPr>
              <a:t>МДОУ № 15, </a:t>
            </a:r>
            <a:br>
              <a:rPr sz="2800"/>
            </a:br>
            <a:r>
              <a:rPr b="0" i="1" lang="ru-RU" sz="2800" spc="-1" strike="noStrike">
                <a:solidFill>
                  <a:srgbClr val="482400"/>
                </a:solidFill>
                <a:latin typeface="Times New Roman"/>
              </a:rPr>
              <a:t>г.Богданович </a:t>
            </a:r>
            <a:r>
              <a:rPr b="0" i="1" lang="en-US" sz="2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482400"/>
                </a:solidFill>
                <a:latin typeface="Times New Roman"/>
              </a:rPr>
              <a:t>Свердловской области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42920" y="5950080"/>
            <a:ext cx="7632720" cy="647640"/>
          </a:xfrm>
          <a:prstGeom prst="rect">
            <a:avLst/>
          </a:prstGeom>
          <a:noFill/>
          <a:ln w="76320">
            <a:solidFill>
              <a:srgbClr val="caa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зентация опубликована на сайте 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viki.rdf.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106280" y="946080"/>
            <a:ext cx="76086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шло больше шестидесяти лет, как мир стал свидетелем подвига советского народ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те годы рядом с солдатами на фронте воевали и те, кого мы называем нашими меньшими братьями: звери и птицы. Им не давали орденов, они не получали званий. Они совершали подвиги, не зная этого. Они просто делали то, чему их научили люди – и гибли, как и люди. Но, погибая, они спасали тысячи человеческих жизней…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44559436" descr=""/>
          <p:cNvPicPr/>
          <p:nvPr/>
        </p:nvPicPr>
        <p:blipFill>
          <a:blip r:embed="rId2"/>
          <a:srcRect l="0" t="3050" r="0" b="0"/>
          <a:stretch/>
        </p:blipFill>
        <p:spPr>
          <a:xfrm>
            <a:off x="2106720" y="1398600"/>
            <a:ext cx="5703840" cy="38862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116000" y="5445000"/>
            <a:ext cx="748512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войну лошадей применяли и как транспортную силу, особенно в артиллерии. Упряжка в шесть лошадей тянула пушку, меняя огневые позиции батаре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404640"/>
            <a:ext cx="7345440" cy="792360"/>
          </a:xfrm>
          <a:custGeom>
            <a:avLst/>
            <a:gdLst>
              <a:gd name="textAreaLeft" fmla="*/ 1189080 w 7345440"/>
              <a:gd name="textAreaRight" fmla="*/ 6156360 w 7345440"/>
              <a:gd name="textAreaTop" fmla="*/ 0 h 792360"/>
              <a:gd name="textAreaBottom" fmla="*/ 693360 h 792360"/>
            </a:gdLst>
            <a:ahLst/>
            <a:rect l="textAreaLeft" t="textAreaTop" r="textAreaRight" b="textAreaBottom"/>
            <a:pathLst>
              <a:path w="21600" h="21600">
                <a:moveTo>
                  <a:pt x="6197" y="18900"/>
                </a:moveTo>
                <a:lnTo>
                  <a:pt x="6197" y="20925"/>
                </a:lnTo>
                <a:cubicBezTo>
                  <a:pt x="6197" y="21263"/>
                  <a:pt x="5777" y="21600"/>
                  <a:pt x="5357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497" y="2700"/>
                </a:lnTo>
                <a:lnTo>
                  <a:pt x="3497" y="675"/>
                </a:lnTo>
                <a:cubicBezTo>
                  <a:pt x="3497" y="338"/>
                  <a:pt x="3917" y="0"/>
                  <a:pt x="4337" y="0"/>
                </a:cubicBezTo>
                <a:lnTo>
                  <a:pt x="17263" y="0"/>
                </a:lnTo>
                <a:cubicBezTo>
                  <a:pt x="17683" y="0"/>
                  <a:pt x="18103" y="338"/>
                  <a:pt x="18103" y="675"/>
                </a:cubicBezTo>
                <a:lnTo>
                  <a:pt x="18103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243" y="21600"/>
                </a:lnTo>
                <a:cubicBezTo>
                  <a:pt x="15823" y="21600"/>
                  <a:pt x="15403" y="21263"/>
                  <a:pt x="15403" y="20925"/>
                </a:cubicBezTo>
                <a:lnTo>
                  <a:pt x="15403" y="18900"/>
                </a:lnTo>
                <a:close/>
              </a:path>
              <a:path fill="darkenLess" w="21600" h="21600">
                <a:moveTo>
                  <a:pt x="6197" y="18900"/>
                </a:moveTo>
                <a:lnTo>
                  <a:pt x="6197" y="20925"/>
                </a:lnTo>
                <a:cubicBezTo>
                  <a:pt x="6197" y="20588"/>
                  <a:pt x="5777" y="20250"/>
                  <a:pt x="5357" y="20250"/>
                </a:cubicBezTo>
                <a:lnTo>
                  <a:pt x="4337" y="20250"/>
                </a:lnTo>
                <a:cubicBezTo>
                  <a:pt x="3917" y="20250"/>
                  <a:pt x="3497" y="19913"/>
                  <a:pt x="3497" y="19575"/>
                </a:cubicBezTo>
                <a:cubicBezTo>
                  <a:pt x="3497" y="19238"/>
                  <a:pt x="3917" y="18900"/>
                  <a:pt x="4337" y="18900"/>
                </a:cubicBezTo>
                <a:close/>
              </a:path>
              <a:path fill="darkenLess" w="21600" h="21600">
                <a:moveTo>
                  <a:pt x="15403" y="18900"/>
                </a:moveTo>
                <a:lnTo>
                  <a:pt x="15403" y="20925"/>
                </a:lnTo>
                <a:cubicBezTo>
                  <a:pt x="15403" y="20588"/>
                  <a:pt x="15823" y="20250"/>
                  <a:pt x="16243" y="20250"/>
                </a:cubicBezTo>
                <a:lnTo>
                  <a:pt x="17263" y="20250"/>
                </a:lnTo>
                <a:cubicBezTo>
                  <a:pt x="17683" y="20250"/>
                  <a:pt x="18103" y="19913"/>
                  <a:pt x="18103" y="19575"/>
                </a:cubicBezTo>
                <a:cubicBezTo>
                  <a:pt x="18103" y="19238"/>
                  <a:pt x="17683" y="18900"/>
                  <a:pt x="17263" y="18900"/>
                </a:cubicBezTo>
                <a:close/>
              </a:path>
              <a:path fill="darkenLess" w="21600" h="21600">
                <a:moveTo>
                  <a:pt x="3497" y="19575"/>
                </a:moveTo>
                <a:lnTo>
                  <a:pt x="3497" y="2700"/>
                </a:lnTo>
              </a:path>
              <a:path fill="darkenLess" w="21600" h="21600">
                <a:moveTo>
                  <a:pt x="18103" y="19575"/>
                </a:moveTo>
                <a:lnTo>
                  <a:pt x="18103" y="2700"/>
                </a:lnTo>
              </a:path>
            </a:pathLst>
          </a:custGeom>
          <a:gradFill rotWithShape="0">
            <a:gsLst>
              <a:gs pos="0">
                <a:srgbClr val="ff9933"/>
              </a:gs>
              <a:gs pos="50000">
                <a:srgbClr val="808080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238560" y="455760"/>
            <a:ext cx="30956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42"/>
                </a:solidFill>
                <a:latin typeface="Monotype Corsiva"/>
              </a:rPr>
              <a:t>Лошади</a:t>
            </a:r>
            <a:endParaRPr b="1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000042"/>
              </a:solidFill>
              <a:latin typeface="Monotype Corsiva"/>
              <a:ea typeface="Monotype Corsiva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116000" y="5229000"/>
            <a:ext cx="74851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вую и единственную в России Центральную школу военного собаководства «Красная звезда» создал ученый, генерал-майор Григорий Медведев. Уже к началу 1941 года эта школа готовила собак по 11 видам служб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58920" y="404640"/>
            <a:ext cx="7345440" cy="792360"/>
          </a:xfrm>
          <a:custGeom>
            <a:avLst/>
            <a:gdLst>
              <a:gd name="textAreaLeft" fmla="*/ 1189080 w 7345440"/>
              <a:gd name="textAreaRight" fmla="*/ 6156360 w 7345440"/>
              <a:gd name="textAreaTop" fmla="*/ 0 h 792360"/>
              <a:gd name="textAreaBottom" fmla="*/ 693360 h 792360"/>
            </a:gdLst>
            <a:ahLst/>
            <a:rect l="textAreaLeft" t="textAreaTop" r="textAreaRight" b="textAreaBottom"/>
            <a:pathLst>
              <a:path w="21600" h="21600">
                <a:moveTo>
                  <a:pt x="6197" y="18900"/>
                </a:moveTo>
                <a:lnTo>
                  <a:pt x="6197" y="20925"/>
                </a:lnTo>
                <a:cubicBezTo>
                  <a:pt x="6197" y="21263"/>
                  <a:pt x="5777" y="21600"/>
                  <a:pt x="5357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497" y="2700"/>
                </a:lnTo>
                <a:lnTo>
                  <a:pt x="3497" y="675"/>
                </a:lnTo>
                <a:cubicBezTo>
                  <a:pt x="3497" y="338"/>
                  <a:pt x="3917" y="0"/>
                  <a:pt x="4337" y="0"/>
                </a:cubicBezTo>
                <a:lnTo>
                  <a:pt x="17263" y="0"/>
                </a:lnTo>
                <a:cubicBezTo>
                  <a:pt x="17683" y="0"/>
                  <a:pt x="18103" y="338"/>
                  <a:pt x="18103" y="675"/>
                </a:cubicBezTo>
                <a:lnTo>
                  <a:pt x="18103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243" y="21600"/>
                </a:lnTo>
                <a:cubicBezTo>
                  <a:pt x="15823" y="21600"/>
                  <a:pt x="15403" y="21263"/>
                  <a:pt x="15403" y="20925"/>
                </a:cubicBezTo>
                <a:lnTo>
                  <a:pt x="15403" y="18900"/>
                </a:lnTo>
                <a:close/>
              </a:path>
              <a:path fill="darkenLess" w="21600" h="21600">
                <a:moveTo>
                  <a:pt x="6197" y="18900"/>
                </a:moveTo>
                <a:lnTo>
                  <a:pt x="6197" y="20925"/>
                </a:lnTo>
                <a:cubicBezTo>
                  <a:pt x="6197" y="20588"/>
                  <a:pt x="5777" y="20250"/>
                  <a:pt x="5357" y="20250"/>
                </a:cubicBezTo>
                <a:lnTo>
                  <a:pt x="4337" y="20250"/>
                </a:lnTo>
                <a:cubicBezTo>
                  <a:pt x="3917" y="20250"/>
                  <a:pt x="3497" y="19913"/>
                  <a:pt x="3497" y="19575"/>
                </a:cubicBezTo>
                <a:cubicBezTo>
                  <a:pt x="3497" y="19238"/>
                  <a:pt x="3917" y="18900"/>
                  <a:pt x="4337" y="18900"/>
                </a:cubicBezTo>
                <a:close/>
              </a:path>
              <a:path fill="darkenLess" w="21600" h="21600">
                <a:moveTo>
                  <a:pt x="15403" y="18900"/>
                </a:moveTo>
                <a:lnTo>
                  <a:pt x="15403" y="20925"/>
                </a:lnTo>
                <a:cubicBezTo>
                  <a:pt x="15403" y="20588"/>
                  <a:pt x="15823" y="20250"/>
                  <a:pt x="16243" y="20250"/>
                </a:cubicBezTo>
                <a:lnTo>
                  <a:pt x="17263" y="20250"/>
                </a:lnTo>
                <a:cubicBezTo>
                  <a:pt x="17683" y="20250"/>
                  <a:pt x="18103" y="19913"/>
                  <a:pt x="18103" y="19575"/>
                </a:cubicBezTo>
                <a:cubicBezTo>
                  <a:pt x="18103" y="19238"/>
                  <a:pt x="17683" y="18900"/>
                  <a:pt x="17263" y="18900"/>
                </a:cubicBezTo>
                <a:close/>
              </a:path>
              <a:path fill="darkenLess" w="21600" h="21600">
                <a:moveTo>
                  <a:pt x="3497" y="19575"/>
                </a:moveTo>
                <a:lnTo>
                  <a:pt x="3497" y="2700"/>
                </a:lnTo>
              </a:path>
              <a:path fill="darkenLess" w="21600" h="21600">
                <a:moveTo>
                  <a:pt x="18103" y="19575"/>
                </a:moveTo>
                <a:lnTo>
                  <a:pt x="18103" y="2700"/>
                </a:lnTo>
              </a:path>
            </a:pathLst>
          </a:custGeom>
          <a:gradFill rotWithShape="0">
            <a:gsLst>
              <a:gs pos="0">
                <a:srgbClr val="ff9933"/>
              </a:gs>
              <a:gs pos="50000">
                <a:srgbClr val="808080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38560" y="455760"/>
            <a:ext cx="30956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42"/>
                </a:solidFill>
                <a:latin typeface="Monotype Corsiva"/>
              </a:rPr>
              <a:t>Собаки</a:t>
            </a:r>
            <a:endParaRPr b="1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000042"/>
              </a:solidFill>
              <a:latin typeface="Monotype Corsiva"/>
              <a:ea typeface="Monotype Corsiva"/>
            </a:endParaRPr>
          </a:p>
        </p:txBody>
      </p:sp>
      <p:pic>
        <p:nvPicPr>
          <p:cNvPr id="102" name="75dd5abc8e4c" descr=""/>
          <p:cNvPicPr/>
          <p:nvPr/>
        </p:nvPicPr>
        <p:blipFill>
          <a:blip r:embed="rId2">
            <a:lum contrast="6000"/>
          </a:blip>
          <a:srcRect l="7079" t="0" r="0" b="0"/>
          <a:stretch/>
        </p:blipFill>
        <p:spPr>
          <a:xfrm>
            <a:off x="2124000" y="1341360"/>
            <a:ext cx="5686560" cy="3834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82400"/>
                </a:solidFill>
                <a:latin typeface="Times New Roman"/>
              </a:rPr>
              <a:t>Ездовые собаки</a:t>
            </a:r>
            <a:r>
              <a:rPr b="0" i="1" lang="ru-RU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2920" y="544464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коло 15 тысяч упряжек, зимой на нартах, летом на специальных тележках под огнем и взрывами вывезли с поля боя около 700 тысяч тяжело раненых, подвезли к боевым частям 3500 тонн боеприпас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d14b88aa5d9c" descr=""/>
          <p:cNvPicPr/>
          <p:nvPr/>
        </p:nvPicPr>
        <p:blipFill>
          <a:blip r:embed="rId2"/>
          <a:stretch/>
        </p:blipFill>
        <p:spPr>
          <a:xfrm>
            <a:off x="1116000" y="1052640"/>
            <a:ext cx="7561440" cy="41115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82400"/>
                </a:solidFill>
                <a:latin typeface="Times New Roman"/>
              </a:rPr>
              <a:t>Собаки-миноискатели</a:t>
            </a:r>
            <a:r>
              <a:rPr b="0" i="1" lang="ru-RU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7" name="69774fd286b6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154160" y="1073160"/>
            <a:ext cx="4648320" cy="5113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796000" y="1628640"/>
            <a:ext cx="302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ши четвероногие миноискатели разминировали Белгород, Киев, Одессу, Новгород, Витебск, Полоцк, Варшаву, Прагу, Вену, Будапешт, Берлин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ая протяженность военных дорог проверенных собаками составила 15153 к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82400"/>
                </a:solidFill>
                <a:latin typeface="Times New Roman"/>
              </a:rPr>
              <a:t>Собаки-связисты</a:t>
            </a:r>
            <a:r>
              <a:rPr b="0" i="1" lang="ru-RU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920" y="530028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ложной боевой обстановке, порой в непроходимых для человека местах доставили свыше 120 тысяч боевых донесений, для установления связи проложили 8 тысяч км телефонного провод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e87b655a5db0" descr=""/>
          <p:cNvPicPr/>
          <p:nvPr/>
        </p:nvPicPr>
        <p:blipFill>
          <a:blip r:embed="rId2"/>
          <a:srcRect l="3933" t="0" r="0" b="2820"/>
          <a:stretch/>
        </p:blipFill>
        <p:spPr>
          <a:xfrm>
            <a:off x="1077840" y="1189080"/>
            <a:ext cx="7659720" cy="3959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82400"/>
                </a:solidFill>
                <a:latin typeface="Times New Roman"/>
              </a:rPr>
              <a:t>Собаки-истребители танков</a:t>
            </a:r>
            <a:r>
              <a:rPr b="0" i="1" lang="ru-RU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5589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ие собаки шли на смерть подорвав более 300 фашистских танков. Немцы боялись таких псов больше, чем противотанковых оруди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c3bf929d11a3" descr=""/>
          <p:cNvPicPr/>
          <p:nvPr/>
        </p:nvPicPr>
        <p:blipFill>
          <a:blip r:embed="rId2">
            <a:lum contrast="6000"/>
          </a:blip>
          <a:srcRect l="0" t="0" r="1013" b="0"/>
          <a:stretch/>
        </p:blipFill>
        <p:spPr>
          <a:xfrm>
            <a:off x="1370160" y="1155600"/>
            <a:ext cx="7127640" cy="4376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0T18:02:25Z</dcterms:created>
  <dc:creator>Alena</dc:creator>
  <dc:description/>
  <cp:keywords/>
  <dc:language>en-US</dc:language>
  <cp:lastModifiedBy>Вовка</cp:lastModifiedBy>
  <dcterms:modified xsi:type="dcterms:W3CDTF">2015-10-12T11:42:59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71049</vt:lpwstr>
  </property>
</Properties>
</file>