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293-8853-4118-BD28-BFD9A4CC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724-856F-4787-8901-0C903963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FB0-F786-41EF-B881-FC8C34E5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158-FF49-44D1-8F35-8771165E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0CD6-4D5A-4F6F-BE3A-EBFA08EA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5602-C438-4F54-AF4E-AA24EDAF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02C2-524D-4F71-8DFE-2C30B4B6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B441-BB8A-46DD-BD4A-33CD1E5C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1859-A497-47E5-A88C-95AC0176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7773-69EE-4B04-8ABA-A79F38CB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660C-C0A8-4B6F-8946-AD0199C8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345-3143-4855-BBFF-06D7CA20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3B80-9197-4065-9A87-553DDF62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3F59-0611-4A3C-B3A2-511847FA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1F1E-EC64-412E-9A29-5798D06F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4CCA-9F3C-4564-A1BC-BDB093A0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3D53-5790-48CB-B4DB-3C177153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8E22-911E-46DD-865E-EE5D6934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CDFF-D607-451C-A064-3C1597DE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D8BA-0E69-45D8-9E4A-A30D1D3C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1FDE-2C5B-4E89-8111-E27B3DD7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B52E-46AB-48D4-8BE7-8C29FD0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E65-165F-4421-A626-DD5873E0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D603-8867-46C5-9D1A-3BFCA1BD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8473-7AF2-4336-973F-83295549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FA6E-4583-4E91-AFE5-4D8D270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DD8C-BE74-4C46-A2DC-941F3B5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D842-B4CF-4E6C-9D72-97308D30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5BFB-E638-41A3-882F-483CE196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57D9-5AD4-4EEB-8464-15134391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404D6-F1F7-4809-889F-C5F25463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47C5A-3F5F-4AFE-9082-C5C26079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8298-E5AC-4119-8D89-7E0121C8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FAD-96C9-4CA6-B832-13B944AE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9870-94D8-4A9F-A9B9-7E095EBD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FCE6-FD95-4503-A6A7-C284CA7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8981C-F34F-4F8E-9919-79CD590F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14072-72B2-4537-9376-B59F248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244F-A978-4CB2-900E-3082174A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C391-7DF6-4CDF-8832-0D9204F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087DD-99A2-4B0B-A8C0-C5A99B29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8B51F-78A1-476A-8FB6-C86D841C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65BB-29BC-486E-A0E4-0CD109CF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443-798C-4FC1-8EA0-F09A2133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4D3-0D16-44C9-BE0F-B00EC065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086-8BCA-46E5-A557-F1C3DCC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760-8EE1-4D3E-9BCA-7A894BC9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F82-CCA5-42D4-ABEC-C2BF2AFE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737-1A12-4775-9ADF-2C049A0CACA2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5392-8838-4328-9BF2-636444C35DE6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3180-7F1B-4308-976E-F9F2912AFCCC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0F0D-456E-4CF9-87D2-9FA9032F874A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glory.rin.ru/cgi-bin/article.pl?id=307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60520" y="706320"/>
            <a:ext cx="9205920" cy="2567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Города - Герои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i-main-pic" descr="Картинка 30 из 789"/>
          <p:cNvPicPr/>
          <p:nvPr/>
        </p:nvPicPr>
        <p:blipFill>
          <a:blip r:embed="rId2"/>
          <a:stretch/>
        </p:blipFill>
        <p:spPr>
          <a:xfrm>
            <a:off x="285840" y="3071880"/>
            <a:ext cx="38862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00240" y="428760"/>
            <a:ext cx="27432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Керчь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760" y="2285640"/>
            <a:ext cx="3457440" cy="41432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ашисты установили в Керчи жестокий оккупационный режим, проводили репрессии против населения ,действовали партизанские отряды. Фашисты проводили в Керчи жестокий террор, в городе и пригородах они уничтожили 15 тыс. советских военнопленных, погибло 14 тысяч мирных жителей и свыше 14 тысяч было увезено на принудительные работы в Германию. Злодеяния фашистов в Керчи были настолько чудовищными, что материалы о них фигурировали на Нюрнбергском процессе над главными военными преступниками фашистской Герман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900"/>
            </a:b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929360" y="1676520"/>
            <a:ext cx="757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2" descr="Герб города Керчь"/>
          <p:cNvPicPr/>
          <p:nvPr/>
        </p:nvPicPr>
        <p:blipFill>
          <a:blip r:embed="rId1"/>
          <a:stretch/>
        </p:blipFill>
        <p:spPr>
          <a:xfrm>
            <a:off x="642960" y="214200"/>
            <a:ext cx="2000160" cy="2071800"/>
          </a:xfrm>
          <a:prstGeom prst="rect">
            <a:avLst/>
          </a:prstGeom>
          <a:ln w="0">
            <a:noFill/>
          </a:ln>
        </p:spPr>
      </p:pic>
      <p:pic>
        <p:nvPicPr>
          <p:cNvPr id="252" name="i-main-pic" descr="Картинка 12 из 203"/>
          <p:cNvPicPr/>
          <p:nvPr/>
        </p:nvPicPr>
        <p:blipFill>
          <a:blip r:embed="rId2"/>
          <a:stretch/>
        </p:blipFill>
        <p:spPr>
          <a:xfrm>
            <a:off x="5072040" y="1214280"/>
            <a:ext cx="3643200" cy="2517840"/>
          </a:xfrm>
          <a:prstGeom prst="rect">
            <a:avLst/>
          </a:prstGeom>
          <a:ln w="0">
            <a:noFill/>
          </a:ln>
        </p:spPr>
      </p:pic>
      <p:pic>
        <p:nvPicPr>
          <p:cNvPr id="253" name="i-main-pic" descr="Картинка 28 из 203"/>
          <p:cNvPicPr/>
          <p:nvPr/>
        </p:nvPicPr>
        <p:blipFill>
          <a:blip r:embed="rId3"/>
          <a:stretch/>
        </p:blipFill>
        <p:spPr>
          <a:xfrm>
            <a:off x="4143240" y="3714840"/>
            <a:ext cx="4005360" cy="2862000"/>
          </a:xfrm>
          <a:prstGeom prst="rect">
            <a:avLst/>
          </a:prstGeom>
          <a:ln w="0">
            <a:noFill/>
          </a:ln>
        </p:spPr>
      </p:pic>
      <p:pic>
        <p:nvPicPr>
          <p:cNvPr id="254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6929280" y="28584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71280" y="428760"/>
            <a:ext cx="37292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46b86"/>
                </a:solidFill>
                <a:latin typeface="Calibri"/>
              </a:rPr>
              <a:t>Новороссийск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2886120" cy="4286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19 августа 1942 года начались бои за Новороссийск. Они продолжались 393 дня. Дольше оборону держал только героический Ленинград. Первые недели боев принесли горечь утрат и разочарований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225 дней длился героическая эпос Малой земли. В результате боевых действий десантной группы войск в период с 4 по 30 апреля 1943 г. было уничтожено более 20 тысяч вражеских солдат и офицеров, захвачено и уничтожено большое количество военной техник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14 сентября 1973 года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городу Новороссийску было присвоено звание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"Города-героя"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500960" y="1676520"/>
            <a:ext cx="11858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Герб города Новороссийска"/>
          <p:cNvPicPr/>
          <p:nvPr/>
        </p:nvPicPr>
        <p:blipFill>
          <a:blip r:embed="rId2"/>
          <a:stretch/>
        </p:blipFill>
        <p:spPr>
          <a:xfrm>
            <a:off x="571680" y="285840"/>
            <a:ext cx="2071440" cy="2286000"/>
          </a:xfrm>
          <a:prstGeom prst="rect">
            <a:avLst/>
          </a:prstGeom>
          <a:ln w="0">
            <a:noFill/>
          </a:ln>
        </p:spPr>
      </p:pic>
      <p:pic>
        <p:nvPicPr>
          <p:cNvPr id="259" name="i-main-pic" descr="Картинка 162 из 3790"/>
          <p:cNvPicPr/>
          <p:nvPr/>
        </p:nvPicPr>
        <p:blipFill>
          <a:blip r:embed="rId3"/>
          <a:stretch/>
        </p:blipFill>
        <p:spPr>
          <a:xfrm>
            <a:off x="5214960" y="114300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260" name="i-main-pic" descr="Картинка 22 из 596"/>
          <p:cNvPicPr/>
          <p:nvPr/>
        </p:nvPicPr>
        <p:blipFill>
          <a:blip r:embed="rId4"/>
          <a:stretch/>
        </p:blipFill>
        <p:spPr>
          <a:xfrm>
            <a:off x="4071960" y="3406680"/>
            <a:ext cx="2786040" cy="3260880"/>
          </a:xfrm>
          <a:prstGeom prst="rect">
            <a:avLst/>
          </a:prstGeom>
          <a:ln w="0">
            <a:noFill/>
          </a:ln>
        </p:spPr>
      </p:pic>
      <p:pic>
        <p:nvPicPr>
          <p:cNvPr id="261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6929280" y="28584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71880" y="428760"/>
            <a:ext cx="27432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Минск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356920"/>
            <a:ext cx="2743200" cy="38912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С 28 июня Минск — в оккупации. За время войны погибло около 70 тыс. минчан. В 1941 и в 1944 годах город подвергался воздушным бомбардировкам. На момент занятия города Красной армией в центральных районах Минска осталось всего около 70 неразрушенных зданий. Город был освобожден войсками Красной армии 3 июля 1944 года. За мужество и героизм 600 участников минского подполья были награждены орденами и медалями. Восемь человек удостоены звания Героя Советского Союза. </a:t>
            </a:r>
            <a:br>
              <a:rPr sz="1300"/>
            </a:b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26 июня 1974 года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Минску было присвоено звание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“Города-героя”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786800" y="1676160"/>
            <a:ext cx="900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Герб города Минска"/>
          <p:cNvPicPr/>
          <p:nvPr/>
        </p:nvPicPr>
        <p:blipFill>
          <a:blip r:embed="rId1"/>
          <a:stretch/>
        </p:blipFill>
        <p:spPr>
          <a:xfrm>
            <a:off x="785880" y="214200"/>
            <a:ext cx="1857240" cy="2071800"/>
          </a:xfrm>
          <a:prstGeom prst="rect">
            <a:avLst/>
          </a:prstGeom>
          <a:ln w="0">
            <a:noFill/>
          </a:ln>
        </p:spPr>
      </p:pic>
      <p:pic>
        <p:nvPicPr>
          <p:cNvPr id="266" name="i-main-pic" descr="Картинка 130 из 931"/>
          <p:cNvPicPr/>
          <p:nvPr/>
        </p:nvPicPr>
        <p:blipFill>
          <a:blip r:embed="rId2"/>
          <a:stretch/>
        </p:blipFill>
        <p:spPr>
          <a:xfrm>
            <a:off x="4500720" y="1071720"/>
            <a:ext cx="3895560" cy="2928960"/>
          </a:xfrm>
          <a:prstGeom prst="rect">
            <a:avLst/>
          </a:prstGeom>
          <a:ln w="0">
            <a:noFill/>
          </a:ln>
        </p:spPr>
      </p:pic>
      <p:pic>
        <p:nvPicPr>
          <p:cNvPr id="267" name="i-main-pic" descr="Картинка 6 из 931"/>
          <p:cNvPicPr/>
          <p:nvPr/>
        </p:nvPicPr>
        <p:blipFill>
          <a:blip r:embed="rId3"/>
          <a:stretch/>
        </p:blipFill>
        <p:spPr>
          <a:xfrm>
            <a:off x="3714840" y="3286080"/>
            <a:ext cx="2928960" cy="3376800"/>
          </a:xfrm>
          <a:prstGeom prst="rect">
            <a:avLst/>
          </a:prstGeom>
          <a:ln w="0">
            <a:noFill/>
          </a:ln>
        </p:spPr>
      </p:pic>
      <p:pic>
        <p:nvPicPr>
          <p:cNvPr id="268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7143840" y="28584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9000" y="285480"/>
            <a:ext cx="27432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Тула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571480"/>
            <a:ext cx="2743200" cy="3676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 октября 1941 г. 2-я танковая армия Гудериана возобновила наступление с целью захвата Тулы и обхода Москвы с юго-востока. Оборона города была поручена 50-й армии генерала А.Н. Ермаков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борона Тулы имела большое значение в стабилизации линии фронта на южных подступах к Москве. Она выдержала удары противника, находясь почти в полном окружении и сковала его крупные силы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7 декабря 1976 год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городу Туле было присвоено звание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"Города-героя"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071840" y="1676520"/>
            <a:ext cx="16146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Герб города Тулы"/>
          <p:cNvPicPr/>
          <p:nvPr/>
        </p:nvPicPr>
        <p:blipFill>
          <a:blip r:embed="rId1"/>
          <a:stretch/>
        </p:blipFill>
        <p:spPr>
          <a:xfrm>
            <a:off x="714240" y="214200"/>
            <a:ext cx="207180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i-main-pic" descr="Картинка 28 из 418"/>
          <p:cNvPicPr/>
          <p:nvPr/>
        </p:nvPicPr>
        <p:blipFill>
          <a:blip r:embed="rId2"/>
          <a:stretch/>
        </p:blipFill>
        <p:spPr>
          <a:xfrm>
            <a:off x="4429080" y="12142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274" name="i-main-pic" descr="Картинка 30 из 789"/>
          <p:cNvPicPr/>
          <p:nvPr/>
        </p:nvPicPr>
        <p:blipFill>
          <a:blip r:embed="rId3"/>
          <a:stretch/>
        </p:blipFill>
        <p:spPr>
          <a:xfrm>
            <a:off x="6572160" y="357120"/>
            <a:ext cx="1857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357720" y="285480"/>
            <a:ext cx="30715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Мурманск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480" y="2428920"/>
            <a:ext cx="3143160" cy="3819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ходе Великой Отечественной войны Мурманск неоднократно подвергался атакам с суши и с воздуха. Немецкие войска стремились захватить город, имеющий стратегическое значение, однако прифронтовой Мурманск более 40 месяцев сдерживал натиск врага с суши и с воздуха. После того, как город отразил наступления, враг атаковал его с воздуха, совершая в отдельные дни до 15-18 налётов и сбросив за годы войны в общей сложности 185 тысяч бомб и совершив 792 налета.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6 мая 1985 год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за выдающиеся заслуги в Великой Отечественной войне городу Мурманску присвоено звание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Город-герой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00960" y="1676520"/>
            <a:ext cx="11858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Герб города Мурманска"/>
          <p:cNvPicPr/>
          <p:nvPr/>
        </p:nvPicPr>
        <p:blipFill>
          <a:blip r:embed="rId1"/>
          <a:stretch/>
        </p:blipFill>
        <p:spPr>
          <a:xfrm>
            <a:off x="785880" y="285840"/>
            <a:ext cx="2071800" cy="2171520"/>
          </a:xfrm>
          <a:prstGeom prst="rect">
            <a:avLst/>
          </a:prstGeom>
          <a:ln w="0">
            <a:noFill/>
          </a:ln>
        </p:spPr>
      </p:pic>
      <p:pic>
        <p:nvPicPr>
          <p:cNvPr id="279" name="i-main-pic" descr="Картинка 11 из 337"/>
          <p:cNvPicPr/>
          <p:nvPr/>
        </p:nvPicPr>
        <p:blipFill>
          <a:blip r:embed="rId2"/>
          <a:stretch/>
        </p:blipFill>
        <p:spPr>
          <a:xfrm>
            <a:off x="3929040" y="1143000"/>
            <a:ext cx="2533680" cy="3357720"/>
          </a:xfrm>
          <a:prstGeom prst="rect">
            <a:avLst/>
          </a:prstGeom>
          <a:ln w="0">
            <a:noFill/>
          </a:ln>
        </p:spPr>
      </p:pic>
      <p:pic>
        <p:nvPicPr>
          <p:cNvPr id="280" name="i-main-pic" descr="Картинка 84 из 337"/>
          <p:cNvPicPr/>
          <p:nvPr/>
        </p:nvPicPr>
        <p:blipFill>
          <a:blip r:embed="rId3"/>
          <a:stretch/>
        </p:blipFill>
        <p:spPr>
          <a:xfrm>
            <a:off x="6143760" y="285768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281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6572160" y="571680"/>
            <a:ext cx="1857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916360" y="285840"/>
            <a:ext cx="34560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46b86"/>
                </a:solidFill>
                <a:latin typeface="Calibri"/>
              </a:rPr>
              <a:t>Смоленск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571480"/>
            <a:ext cx="2743200" cy="3676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 начала Великой отечественной войны Смоленск оказался на направлении главного удара немецко-фашистских войск к Москве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После ожесточенных боев в ночь на 29 июля советские войска оставили город. 2 года и 3 месяца на Смоленской земле полыхал огонь войны. 25 сентября 1943 г. советские войска освободили Смоленск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6 мая 1985 года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городу Смоленску было присвоено звание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"Города-героя"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215120" y="1676520"/>
            <a:ext cx="14716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2" descr="Герб города Смоленска"/>
          <p:cNvPicPr/>
          <p:nvPr/>
        </p:nvPicPr>
        <p:blipFill>
          <a:blip r:embed="rId2"/>
          <a:stretch/>
        </p:blipFill>
        <p:spPr>
          <a:xfrm>
            <a:off x="500040" y="28584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286" name="i-main-pic" descr="Картинка 7 из 325"/>
          <p:cNvPicPr/>
          <p:nvPr/>
        </p:nvPicPr>
        <p:blipFill>
          <a:blip r:embed="rId3"/>
          <a:stretch/>
        </p:blipFill>
        <p:spPr>
          <a:xfrm>
            <a:off x="5286240" y="1071720"/>
            <a:ext cx="2857680" cy="3427200"/>
          </a:xfrm>
          <a:prstGeom prst="rect">
            <a:avLst/>
          </a:prstGeom>
          <a:ln w="0">
            <a:noFill/>
          </a:ln>
        </p:spPr>
      </p:pic>
      <p:pic>
        <p:nvPicPr>
          <p:cNvPr id="287" name="i-main-pic" descr="Картинка 10 из 325"/>
          <p:cNvPicPr/>
          <p:nvPr/>
        </p:nvPicPr>
        <p:blipFill>
          <a:blip r:embed="rId4"/>
          <a:stretch/>
        </p:blipFill>
        <p:spPr>
          <a:xfrm>
            <a:off x="3786120" y="3857760"/>
            <a:ext cx="3643560" cy="2714400"/>
          </a:xfrm>
          <a:prstGeom prst="rect">
            <a:avLst/>
          </a:prstGeom>
          <a:ln w="0">
            <a:noFill/>
          </a:ln>
        </p:spPr>
      </p:pic>
      <p:pic>
        <p:nvPicPr>
          <p:cNvPr id="288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6858000" y="64296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560520" y="706320"/>
            <a:ext cx="9205920" cy="25671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Города - Герои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1" name="i-main-pic" descr="Картинка 30 из 789"/>
          <p:cNvPicPr/>
          <p:nvPr/>
        </p:nvPicPr>
        <p:blipFill>
          <a:blip r:embed="rId2"/>
          <a:stretch/>
        </p:blipFill>
        <p:spPr>
          <a:xfrm>
            <a:off x="285840" y="3071880"/>
            <a:ext cx="38862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3" descr=""/>
          <p:cNvPicPr/>
          <p:nvPr/>
        </p:nvPicPr>
        <p:blipFill>
          <a:blip r:embed="rId1"/>
          <a:stretch/>
        </p:blipFill>
        <p:spPr>
          <a:xfrm>
            <a:off x="115920" y="1311120"/>
            <a:ext cx="8192880" cy="14320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Идет священная война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вящается городам – героям в годы Великой Отечественной вой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i-main-pic" descr="Картинка 30 из 789"/>
          <p:cNvPicPr/>
          <p:nvPr/>
        </p:nvPicPr>
        <p:blipFill>
          <a:blip r:embed="rId2"/>
          <a:stretch/>
        </p:blipFill>
        <p:spPr>
          <a:xfrm>
            <a:off x="285840" y="3786120"/>
            <a:ext cx="34290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86080" y="213840"/>
            <a:ext cx="2743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Брест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2357280"/>
            <a:ext cx="3214800" cy="4143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ночь на 22 июня 1941 года гитлеровская Германия напала на Советский Союз без объявления войны. Граница СССР была прорвана в районе Брестской крепост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2 июня в 3:15 по крепости был открыт артиллерийский огонь, заставший гарнизон врасплох. В результате были уничтожены склады, водопровод, прервана связь, нанесены крупные потери гарнизону. В 3:45 начался штурм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8 мая 1965 год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Брестской крепости присвоено звание крепость-герой, с вручением ордена Ленина и медал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"Золотая Звезда"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00640" y="1676520"/>
            <a:ext cx="685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Герб города Бреста"/>
          <p:cNvPicPr/>
          <p:nvPr/>
        </p:nvPicPr>
        <p:blipFill>
          <a:blip r:embed="rId1"/>
          <a:stretch/>
        </p:blipFill>
        <p:spPr>
          <a:xfrm>
            <a:off x="357120" y="14292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205" name="i-main-pic" descr="Картинка 1 из 298"/>
          <p:cNvPicPr/>
          <p:nvPr/>
        </p:nvPicPr>
        <p:blipFill>
          <a:blip r:embed="rId2"/>
          <a:stretch/>
        </p:blipFill>
        <p:spPr>
          <a:xfrm>
            <a:off x="5500800" y="857160"/>
            <a:ext cx="2733480" cy="3500640"/>
          </a:xfrm>
          <a:prstGeom prst="rect">
            <a:avLst/>
          </a:prstGeom>
          <a:ln w="0">
            <a:noFill/>
          </a:ln>
        </p:spPr>
      </p:pic>
      <p:pic>
        <p:nvPicPr>
          <p:cNvPr id="206" name="i-main-pic" descr="Картинка 3 из 298"/>
          <p:cNvPicPr/>
          <p:nvPr/>
        </p:nvPicPr>
        <p:blipFill>
          <a:blip r:embed="rId3"/>
          <a:stretch/>
        </p:blipFill>
        <p:spPr>
          <a:xfrm>
            <a:off x="3643200" y="3905280"/>
            <a:ext cx="4005360" cy="295272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330984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b86"/>
                </a:solidFill>
                <a:latin typeface="Calibri"/>
              </a:rPr>
              <a:t>Сталинград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2743200" cy="26431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17 июля 1942 г. началась одна из величайших битв Великой Отечественной и второй мировой войны — Сталинградская битва, которая продолжалась 200 дней и ночей. Гитлеровцы стремились в кратчайший срок овладеть Сталинградом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8 мая 1965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года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Волгограду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было присвоено звание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"Города-героя"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500960" y="1676160"/>
            <a:ext cx="1185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i-main-pic" descr="Картинка 11 из 3790"/>
          <p:cNvPicPr/>
          <p:nvPr/>
        </p:nvPicPr>
        <p:blipFill>
          <a:blip r:embed="rId2"/>
          <a:stretch/>
        </p:blipFill>
        <p:spPr>
          <a:xfrm>
            <a:off x="4071960" y="500040"/>
            <a:ext cx="4356000" cy="3357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Герб города Волгограда"/>
          <p:cNvPicPr/>
          <p:nvPr/>
        </p:nvPicPr>
        <p:blipFill>
          <a:blip r:embed="rId3"/>
          <a:stretch/>
        </p:blipFill>
        <p:spPr>
          <a:xfrm>
            <a:off x="7000920" y="214200"/>
            <a:ext cx="1762200" cy="2071800"/>
          </a:xfrm>
          <a:prstGeom prst="rect">
            <a:avLst/>
          </a:prstGeom>
          <a:ln w="0">
            <a:noFill/>
          </a:ln>
        </p:spPr>
      </p:pic>
      <p:pic>
        <p:nvPicPr>
          <p:cNvPr id="213" name="i-main-pic" descr="Картинка 45 из 830"/>
          <p:cNvPicPr/>
          <p:nvPr/>
        </p:nvPicPr>
        <p:blipFill>
          <a:blip r:embed="rId4"/>
          <a:stretch/>
        </p:blipFill>
        <p:spPr>
          <a:xfrm>
            <a:off x="2428920" y="3691080"/>
            <a:ext cx="4643280" cy="3166920"/>
          </a:xfrm>
          <a:prstGeom prst="rect">
            <a:avLst/>
          </a:prstGeom>
          <a:ln w="0">
            <a:noFill/>
          </a:ln>
        </p:spPr>
      </p:pic>
      <p:pic>
        <p:nvPicPr>
          <p:cNvPr id="214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1857240" y="350028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9000" y="357120"/>
            <a:ext cx="27432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Киев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85880" y="2643120"/>
            <a:ext cx="2743200" cy="35719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первый день Великой Отечественной войны немецко-фашистская авиация нанесла воздушный удар по Киеву. 6 июля 1941 года был создан штаб обороны города. Началась 72-дневная героическая оборо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 мая 1965го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за героизм, проявленный во время обороны,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иев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было присвоено звание города-героя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786800" y="1676520"/>
            <a:ext cx="9000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Герб города Киева"/>
          <p:cNvPicPr/>
          <p:nvPr/>
        </p:nvPicPr>
        <p:blipFill>
          <a:blip r:embed="rId1"/>
          <a:stretch/>
        </p:blipFill>
        <p:spPr>
          <a:xfrm>
            <a:off x="714240" y="214200"/>
            <a:ext cx="16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i-main-pic" descr="Картинка 12 из 931"/>
          <p:cNvPicPr/>
          <p:nvPr/>
        </p:nvPicPr>
        <p:blipFill>
          <a:blip r:embed="rId2"/>
          <a:stretch/>
        </p:blipFill>
        <p:spPr>
          <a:xfrm>
            <a:off x="5357880" y="1143000"/>
            <a:ext cx="2609640" cy="343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4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40006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221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7000920" y="64296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79280" y="142560"/>
            <a:ext cx="33130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b86"/>
                </a:solidFill>
                <a:latin typeface="Calibri"/>
              </a:rPr>
              <a:t>Ленинград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143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3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 20 ноября началась голодная блокада Ленинграда. Блокада города продлится до января 1944 года. 900 дней и ночей самых страшных  мгновений жизни для многих тысяч людей. За массовый героизм его защитников Ленинграду присвоено звание "Город-герой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"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929280" y="1676520"/>
            <a:ext cx="175752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Герб города Санкт-Петербурга"/>
          <p:cNvPicPr/>
          <p:nvPr/>
        </p:nvPicPr>
        <p:blipFill>
          <a:blip r:embed="rId2"/>
          <a:stretch/>
        </p:blipFill>
        <p:spPr>
          <a:xfrm>
            <a:off x="0" y="214200"/>
            <a:ext cx="1905120" cy="2038320"/>
          </a:xfrm>
          <a:prstGeom prst="rect">
            <a:avLst/>
          </a:prstGeom>
          <a:ln w="0">
            <a:noFill/>
          </a:ln>
        </p:spPr>
      </p:pic>
      <p:pic>
        <p:nvPicPr>
          <p:cNvPr id="226" name="i-main-pic" descr="Картинка 10 из 3790"/>
          <p:cNvPicPr/>
          <p:nvPr/>
        </p:nvPicPr>
        <p:blipFill>
          <a:blip r:embed="rId3"/>
          <a:stretch/>
        </p:blipFill>
        <p:spPr>
          <a:xfrm>
            <a:off x="6286680" y="142920"/>
            <a:ext cx="2490480" cy="3173400"/>
          </a:xfrm>
          <a:prstGeom prst="rect">
            <a:avLst/>
          </a:prstGeom>
          <a:ln w="0">
            <a:noFill/>
          </a:ln>
        </p:spPr>
      </p:pic>
      <p:pic>
        <p:nvPicPr>
          <p:cNvPr id="227" name="i-main-pic" descr="Картинка 102 из 3790"/>
          <p:cNvPicPr/>
          <p:nvPr/>
        </p:nvPicPr>
        <p:blipFill>
          <a:blip r:embed="rId4"/>
          <a:stretch/>
        </p:blipFill>
        <p:spPr>
          <a:xfrm>
            <a:off x="3500280" y="3286080"/>
            <a:ext cx="4434120" cy="3327480"/>
          </a:xfrm>
          <a:prstGeom prst="rect">
            <a:avLst/>
          </a:prstGeom>
          <a:ln w="0">
            <a:noFill/>
          </a:ln>
        </p:spPr>
      </p:pic>
      <p:pic>
        <p:nvPicPr>
          <p:cNvPr id="228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4929120" y="0"/>
            <a:ext cx="250056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57720" y="357120"/>
            <a:ext cx="27432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Москва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480" y="2214720"/>
            <a:ext cx="3857400" cy="43574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ецко-фашистское командование особое значение придавало захвату Москвы. Оно считало, что с падением столицы СССР сопротивление Красной Армии будет сломлено и война закончится победой Германии. Для захвата Москвы была разработана специальная операция под кодовым название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Тайфун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зультате контрнаступления враг был отброшен к западу на 80-250 километров. Эта победа развеяла миф о непобедимости немецко-фашистской армии, положила начало коренному перевороту в ходе войны, сплотила народы нашей страны.</a:t>
            </a: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72240" y="1676160"/>
            <a:ext cx="11145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Герб города Москвы"/>
          <p:cNvPicPr/>
          <p:nvPr/>
        </p:nvPicPr>
        <p:blipFill>
          <a:blip r:embed="rId1"/>
          <a:stretch/>
        </p:blipFill>
        <p:spPr>
          <a:xfrm>
            <a:off x="357120" y="142920"/>
            <a:ext cx="1905120" cy="2143080"/>
          </a:xfrm>
          <a:prstGeom prst="rect">
            <a:avLst/>
          </a:prstGeom>
          <a:ln w="0">
            <a:noFill/>
          </a:ln>
        </p:spPr>
      </p:pic>
      <p:pic>
        <p:nvPicPr>
          <p:cNvPr id="233" name="i-main-pic" descr="Картинка 45 из 3790"/>
          <p:cNvPicPr/>
          <p:nvPr/>
        </p:nvPicPr>
        <p:blipFill>
          <a:blip r:embed="rId2"/>
          <a:stretch/>
        </p:blipFill>
        <p:spPr>
          <a:xfrm>
            <a:off x="4214880" y="2286000"/>
            <a:ext cx="4500360" cy="3871800"/>
          </a:xfrm>
          <a:prstGeom prst="rect">
            <a:avLst/>
          </a:prstGeom>
          <a:ln w="0">
            <a:noFill/>
          </a:ln>
        </p:spPr>
      </p:pic>
      <p:pic>
        <p:nvPicPr>
          <p:cNvPr id="234" name="i-main-pic" descr="Картинка 30 из 789"/>
          <p:cNvPicPr/>
          <p:nvPr/>
        </p:nvPicPr>
        <p:blipFill>
          <a:blip r:embed="rId3"/>
          <a:stretch/>
        </p:blipFill>
        <p:spPr>
          <a:xfrm>
            <a:off x="6715080" y="128592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00240" y="356760"/>
            <a:ext cx="27432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Одесса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642760"/>
            <a:ext cx="2743200" cy="36054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 время Великой Отечественной войны Одесса оборонялась 73 дня начиная с 5 августа 1941 года.  38 тысяч жителей Одессы переселились в одесские катакомбы и встали на защиту своего города. 10 апреля 1944 г. советские войска освободили Одессу.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 мая 1965 го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городу Одессе было присвоено звание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“Города-героя”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143920" y="1676160"/>
            <a:ext cx="54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Герб города Одессы"/>
          <p:cNvPicPr/>
          <p:nvPr/>
        </p:nvPicPr>
        <p:blipFill>
          <a:blip r:embed="rId1"/>
          <a:stretch/>
        </p:blipFill>
        <p:spPr>
          <a:xfrm>
            <a:off x="571680" y="142920"/>
            <a:ext cx="2028600" cy="2533680"/>
          </a:xfrm>
          <a:prstGeom prst="rect">
            <a:avLst/>
          </a:prstGeom>
          <a:ln w="0">
            <a:noFill/>
          </a:ln>
        </p:spPr>
      </p:pic>
      <p:pic>
        <p:nvPicPr>
          <p:cNvPr id="239" name="i-main-pic" descr="Картинка 8 из 789"/>
          <p:cNvPicPr/>
          <p:nvPr/>
        </p:nvPicPr>
        <p:blipFill>
          <a:blip r:embed="rId2"/>
          <a:stretch/>
        </p:blipFill>
        <p:spPr>
          <a:xfrm>
            <a:off x="4572000" y="1000080"/>
            <a:ext cx="4219560" cy="2960640"/>
          </a:xfrm>
          <a:prstGeom prst="rect">
            <a:avLst/>
          </a:prstGeom>
          <a:ln w="0">
            <a:noFill/>
          </a:ln>
        </p:spPr>
      </p:pic>
      <p:pic>
        <p:nvPicPr>
          <p:cNvPr id="240" name="i-main-pic" descr="Картинка 0 из 553"/>
          <p:cNvPicPr/>
          <p:nvPr/>
        </p:nvPicPr>
        <p:blipFill>
          <a:blip r:embed="rId3"/>
          <a:stretch/>
        </p:blipFill>
        <p:spPr>
          <a:xfrm>
            <a:off x="3571920" y="3714840"/>
            <a:ext cx="4143240" cy="2809800"/>
          </a:xfrm>
          <a:prstGeom prst="rect">
            <a:avLst/>
          </a:prstGeom>
          <a:ln w="0">
            <a:noFill/>
          </a:ln>
        </p:spPr>
      </p:pic>
      <p:pic>
        <p:nvPicPr>
          <p:cNvPr id="241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6715080" y="314316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42800" y="357120"/>
            <a:ext cx="34448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46b86"/>
                </a:solidFill>
                <a:latin typeface="Calibri"/>
              </a:rPr>
              <a:t>Севастополь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57280"/>
            <a:ext cx="3143160" cy="45007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Во время Великой отечественной войны город прославился очередной героической обороной начавшееся 30 октября 1941 г., которая продолжалась 250 дней и вошла в военную историю как образец длительной активной обороны оставшейся в глубоком тылу противника. Особенно ожесточенные бои велись на участке около Сапун-горы. 7 мая 1944 г. советские войска героическим штурмом овладели Сапун-горой, где противник создал несколько ярусов траншей, многочисленные пулеметные и артиллерийские огневые точк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786800" y="1676520"/>
            <a:ext cx="900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" descr="Герб города Севастополя"/>
          <p:cNvPicPr/>
          <p:nvPr/>
        </p:nvPicPr>
        <p:blipFill>
          <a:blip r:embed="rId2"/>
          <a:stretch/>
        </p:blipFill>
        <p:spPr>
          <a:xfrm>
            <a:off x="642960" y="28584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246" name="i-main-pic" descr="Картинка 13 из 3790"/>
          <p:cNvPicPr/>
          <p:nvPr/>
        </p:nvPicPr>
        <p:blipFill>
          <a:blip r:embed="rId3"/>
          <a:stretch/>
        </p:blipFill>
        <p:spPr>
          <a:xfrm>
            <a:off x="4786200" y="2000160"/>
            <a:ext cx="3357720" cy="4286520"/>
          </a:xfrm>
          <a:prstGeom prst="rect">
            <a:avLst/>
          </a:prstGeom>
          <a:ln w="0">
            <a:noFill/>
          </a:ln>
        </p:spPr>
      </p:pic>
      <p:pic>
        <p:nvPicPr>
          <p:cNvPr id="247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7000920" y="107172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4:37Z</dcterms:created>
  <dc:creator>Ярослав</dc:creator>
  <dc:description/>
  <dc:language>en-US</dc:language>
  <cp:lastModifiedBy>kab11</cp:lastModifiedBy>
  <dcterms:modified xsi:type="dcterms:W3CDTF">2009-05-08T03:20:44Z</dcterms:modified>
  <cp:revision>46</cp:revision>
  <dc:subject/>
  <dc:title>Города - Герои</dc:title>
</cp:coreProperties>
</file>