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E57-7794-4D7E-A680-B2F22474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ECA-83FB-4DC2-ACB7-A10E892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669-CC0A-45F4-9393-1C78F619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5E5-6ECC-4FEA-A7F8-0D7EA71B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B21-EC6E-45C9-8A5A-4660ACA2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8F3A-736D-45C1-8C22-925F194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9D3E-5980-4C44-A918-0B294F84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9F35-575D-4BE3-A5C8-4DC4D65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B81-657D-4765-A3F4-62B3CD05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A3F8-44AF-4AEE-ABA2-0D074EAA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7D03-2A81-4E95-9D86-F6BB542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05A-B860-45B5-A4B3-BB138AD0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C1C4-DF7C-494E-A7D2-6FDB977A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52E-A770-45FE-9DCA-3F0B5A6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EAE2-E5E2-48D7-B56B-101498C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FFED-6080-4857-94ED-5946B09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F226-02BE-410B-92C7-865870EA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3C7E-E993-460B-AA4B-5BC3AA41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60C4-3678-4539-8BF6-F95ED45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E565-3491-4D0B-9665-364C0CC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CA76-A5E9-4F5D-B565-96894D3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E863-D7D3-4A20-9E86-13AC9F6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663-8F5F-461F-8610-0CBC566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30E7-D370-476A-9165-6D4C2F4F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5FF2-E2B4-4EB2-BC51-A07D6A4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C9BA-89E3-4257-8603-21279E1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0024-76BA-428B-A007-3A43819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CEE8-B7E3-4024-95BA-EAB327A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0767-1DC9-4C42-A390-55CD6037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CA37-4C74-4F0A-906F-631D8F26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919D-467F-4B26-AFA3-09DF745F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0705-A8FA-4BE9-A290-3B0343E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A10C-F9C6-47EC-89DC-A703C9E4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32-173A-4E7B-AF15-BE44848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86FA-13C8-4DD7-9F24-FF7E829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5515-9CC5-4A2C-803E-983A7572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7B23-D6BD-4862-B08F-42D8DDE7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5307-409A-426C-97AF-3C56371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BC885-44AC-4C05-8B18-87834FC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754D-7EC7-4323-A6EB-2986BB1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F94B-D565-487F-95E5-BB7398F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C868-C3EE-4C24-BC85-222894C6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F0D6-F8E9-4ADD-9DC1-C9365104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EB0-DFC9-4254-95A0-F3D63B1B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EA1-1404-4872-A6EA-75C3D82A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B28-CC1D-443E-B657-8356024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6A1-73FF-4254-B77F-86767530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772-BEB3-4588-8AFF-5E1F0665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C96-5866-43E3-94BA-A39A1F94B2D8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F7A-C0AC-4726-A150-780B8AB2DB95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224E-BC3B-4940-B7F8-D049F33A9F26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BC8A-A790-403B-9603-696DE5DC9FF5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glory.rin.ru/cgi-bin/article.pl?id=307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0520" y="706320"/>
            <a:ext cx="9205920" cy="256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Города - Герои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i-main-pic" descr="Картинка 30 из 789"/>
          <p:cNvPicPr/>
          <p:nvPr/>
        </p:nvPicPr>
        <p:blipFill>
          <a:blip r:embed="rId2"/>
          <a:stretch/>
        </p:blipFill>
        <p:spPr>
          <a:xfrm>
            <a:off x="285840" y="3071880"/>
            <a:ext cx="38862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00240" y="428760"/>
            <a:ext cx="2743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Керчь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2285640"/>
            <a:ext cx="3457440" cy="41432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ашисты установили в Керчи жестокий оккупационный режим, проводили репрессии против населения ,действовали партизанские отряды. Фашисты проводили в Керчи жестокий террор, в городе и пригородах они уничтожили 15 тыс. советских военнопленных, погибло 14 тысяч мирных жителей и свыше 14 тысяч было увезено на принудительные работы в Германию. Злодеяния фашистов в Керчи были настолько чудовищными, что материалы о них фигурировали на Нюрнбергском процессе над главными военными преступниками фашистской Герман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9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929360" y="1676520"/>
            <a:ext cx="757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2" descr="Герб города Керчь"/>
          <p:cNvPicPr/>
          <p:nvPr/>
        </p:nvPicPr>
        <p:blipFill>
          <a:blip r:embed="rId1"/>
          <a:stretch/>
        </p:blipFill>
        <p:spPr>
          <a:xfrm>
            <a:off x="642960" y="21420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252" name="i-main-pic" descr="Картинка 12 из 203"/>
          <p:cNvPicPr/>
          <p:nvPr/>
        </p:nvPicPr>
        <p:blipFill>
          <a:blip r:embed="rId2"/>
          <a:stretch/>
        </p:blipFill>
        <p:spPr>
          <a:xfrm>
            <a:off x="5072040" y="1214280"/>
            <a:ext cx="3643200" cy="2517840"/>
          </a:xfrm>
          <a:prstGeom prst="rect">
            <a:avLst/>
          </a:prstGeom>
          <a:ln w="0">
            <a:noFill/>
          </a:ln>
        </p:spPr>
      </p:pic>
      <p:pic>
        <p:nvPicPr>
          <p:cNvPr id="253" name="i-main-pic" descr="Картинка 28 из 203"/>
          <p:cNvPicPr/>
          <p:nvPr/>
        </p:nvPicPr>
        <p:blipFill>
          <a:blip r:embed="rId3"/>
          <a:stretch/>
        </p:blipFill>
        <p:spPr>
          <a:xfrm>
            <a:off x="4143240" y="3714840"/>
            <a:ext cx="4005360" cy="2862000"/>
          </a:xfrm>
          <a:prstGeom prst="rect">
            <a:avLst/>
          </a:prstGeom>
          <a:ln w="0">
            <a:noFill/>
          </a:ln>
        </p:spPr>
      </p:pic>
      <p:pic>
        <p:nvPicPr>
          <p:cNvPr id="254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6929280" y="28584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71280" y="428760"/>
            <a:ext cx="37292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46b86"/>
                </a:solidFill>
                <a:latin typeface="Calibri"/>
              </a:rPr>
              <a:t>Новороссийск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2886120" cy="4286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19 августа 1942 года начались бои за Новороссийск. Они продолжались 393 дня. Дольше оборону держал только героический Ленинград. Первые недели боев принесли горечь утрат и разочарований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225 дней длился героическая эпос Малой земли. В результате боевых действий десантной группы войск в период с 4 по 30 апреля 1943 г. было уничтожено более 20 тысяч вражеских солдат и офицеров, захвачено и уничтожено большое количество военной техник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14 сентября 1973 года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городу Новороссийску было присвоено звание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500960" y="1676520"/>
            <a:ext cx="11858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Герб города Новороссийска"/>
          <p:cNvPicPr/>
          <p:nvPr/>
        </p:nvPicPr>
        <p:blipFill>
          <a:blip r:embed="rId2"/>
          <a:stretch/>
        </p:blipFill>
        <p:spPr>
          <a:xfrm>
            <a:off x="571680" y="285840"/>
            <a:ext cx="207144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i-main-pic" descr="Картинка 162 из 3790"/>
          <p:cNvPicPr/>
          <p:nvPr/>
        </p:nvPicPr>
        <p:blipFill>
          <a:blip r:embed="rId3"/>
          <a:stretch/>
        </p:blipFill>
        <p:spPr>
          <a:xfrm>
            <a:off x="5214960" y="114300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22 из 596"/>
          <p:cNvPicPr/>
          <p:nvPr/>
        </p:nvPicPr>
        <p:blipFill>
          <a:blip r:embed="rId4"/>
          <a:stretch/>
        </p:blipFill>
        <p:spPr>
          <a:xfrm>
            <a:off x="4071960" y="3406680"/>
            <a:ext cx="278604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6929280" y="28584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71880" y="428760"/>
            <a:ext cx="2743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Минск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356920"/>
            <a:ext cx="2743200" cy="38912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С 28 июня Минск — в оккупации. За время войны погибло около 70 тыс. минчан. В 1941 и в 1944 годах город подвергался воздушным бомбардировкам. На момент занятия города Красной армией в центральных районах Минска осталось всего около 70 неразрушенных зданий. Город был освобожден войсками Красной армии 3 июля 1944 года. За мужество и героизм 600 участников минского подполья были награждены орденами и медалями. Восемь человек удостоены звания Героя Советского Союза. </a:t>
            </a: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26 июня 1974 года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Минску было присвоено звание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“Города-героя”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786800" y="1676160"/>
            <a:ext cx="900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Герб города Минска"/>
          <p:cNvPicPr/>
          <p:nvPr/>
        </p:nvPicPr>
        <p:blipFill>
          <a:blip r:embed="rId1"/>
          <a:stretch/>
        </p:blipFill>
        <p:spPr>
          <a:xfrm>
            <a:off x="785880" y="21420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266" name="i-main-pic" descr="Картинка 130 из 931"/>
          <p:cNvPicPr/>
          <p:nvPr/>
        </p:nvPicPr>
        <p:blipFill>
          <a:blip r:embed="rId2"/>
          <a:stretch/>
        </p:blipFill>
        <p:spPr>
          <a:xfrm>
            <a:off x="4500720" y="1071720"/>
            <a:ext cx="3895560" cy="2928960"/>
          </a:xfrm>
          <a:prstGeom prst="rect">
            <a:avLst/>
          </a:prstGeom>
          <a:ln w="0">
            <a:noFill/>
          </a:ln>
        </p:spPr>
      </p:pic>
      <p:pic>
        <p:nvPicPr>
          <p:cNvPr id="267" name="i-main-pic" descr="Картинка 6 из 931"/>
          <p:cNvPicPr/>
          <p:nvPr/>
        </p:nvPicPr>
        <p:blipFill>
          <a:blip r:embed="rId3"/>
          <a:stretch/>
        </p:blipFill>
        <p:spPr>
          <a:xfrm>
            <a:off x="3714840" y="3286080"/>
            <a:ext cx="2928960" cy="3376800"/>
          </a:xfrm>
          <a:prstGeom prst="rect">
            <a:avLst/>
          </a:prstGeom>
          <a:ln w="0">
            <a:noFill/>
          </a:ln>
        </p:spPr>
      </p:pic>
      <p:pic>
        <p:nvPicPr>
          <p:cNvPr id="268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7143840" y="28584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9000" y="285480"/>
            <a:ext cx="27432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Тула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571480"/>
            <a:ext cx="2743200" cy="3676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 октября 1941 г. 2-я танковая армия Гудериана возобновила наступление с целью захвата Тулы и обхода Москвы с юго-востока. Оборона города была поручена 50-й армии генерала А.Н. Ермаков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борона Тулы имела большое значение в стабилизации линии фронта на южных подступах к Москве. Она выдержала удары противника, находясь почти в полном окружении и сковала его крупные силы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7 декабря 1976 год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городу Туле было присвоено звание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71840" y="1676520"/>
            <a:ext cx="16146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Герб города Тулы"/>
          <p:cNvPicPr/>
          <p:nvPr/>
        </p:nvPicPr>
        <p:blipFill>
          <a:blip r:embed="rId1"/>
          <a:stretch/>
        </p:blipFill>
        <p:spPr>
          <a:xfrm>
            <a:off x="714240" y="214200"/>
            <a:ext cx="207180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i-main-pic" descr="Картинка 28 из 418"/>
          <p:cNvPicPr/>
          <p:nvPr/>
        </p:nvPicPr>
        <p:blipFill>
          <a:blip r:embed="rId2"/>
          <a:stretch/>
        </p:blipFill>
        <p:spPr>
          <a:xfrm>
            <a:off x="4429080" y="12142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274" name="i-main-pic" descr="Картинка 30 из 789"/>
          <p:cNvPicPr/>
          <p:nvPr/>
        </p:nvPicPr>
        <p:blipFill>
          <a:blip r:embed="rId3"/>
          <a:stretch/>
        </p:blipFill>
        <p:spPr>
          <a:xfrm>
            <a:off x="6572160" y="357120"/>
            <a:ext cx="1857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357720" y="285480"/>
            <a:ext cx="30715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Мурманск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480" y="2428920"/>
            <a:ext cx="3143160" cy="3819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ходе Великой Отечественной войны Мурманск неоднократно подвергался атакам с суши и с воздуха. Немецкие войска стремились захватить город, имеющий стратегическое значение, однако прифронтовой Мурманск более 40 месяцев сдерживал натиск врага с суши и с воздуха. После того, как город отразил наступления, враг атаковал его с воздуха, совершая в отдельные дни до 15-18 налётов и сбросив за годы войны в общей сложности 185 тысяч бомб и совершив 792 налета.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6 мая 1985 год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за выдающиеся заслуги в Великой Отечественной войне городу Мурманску присвоено звание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ород-герой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00960" y="1676520"/>
            <a:ext cx="11858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Герб города Мурманска"/>
          <p:cNvPicPr/>
          <p:nvPr/>
        </p:nvPicPr>
        <p:blipFill>
          <a:blip r:embed="rId1"/>
          <a:stretch/>
        </p:blipFill>
        <p:spPr>
          <a:xfrm>
            <a:off x="785880" y="285840"/>
            <a:ext cx="2071800" cy="2171520"/>
          </a:xfrm>
          <a:prstGeom prst="rect">
            <a:avLst/>
          </a:prstGeom>
          <a:ln w="0">
            <a:noFill/>
          </a:ln>
        </p:spPr>
      </p:pic>
      <p:pic>
        <p:nvPicPr>
          <p:cNvPr id="279" name="i-main-pic" descr="Картинка 11 из 337"/>
          <p:cNvPicPr/>
          <p:nvPr/>
        </p:nvPicPr>
        <p:blipFill>
          <a:blip r:embed="rId2"/>
          <a:stretch/>
        </p:blipFill>
        <p:spPr>
          <a:xfrm>
            <a:off x="3929040" y="1143000"/>
            <a:ext cx="2533680" cy="3357720"/>
          </a:xfrm>
          <a:prstGeom prst="rect">
            <a:avLst/>
          </a:prstGeom>
          <a:ln w="0">
            <a:noFill/>
          </a:ln>
        </p:spPr>
      </p:pic>
      <p:pic>
        <p:nvPicPr>
          <p:cNvPr id="280" name="i-main-pic" descr="Картинка 84 из 337"/>
          <p:cNvPicPr/>
          <p:nvPr/>
        </p:nvPicPr>
        <p:blipFill>
          <a:blip r:embed="rId3"/>
          <a:stretch/>
        </p:blipFill>
        <p:spPr>
          <a:xfrm>
            <a:off x="6143760" y="28576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281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6572160" y="571680"/>
            <a:ext cx="1857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16360" y="285840"/>
            <a:ext cx="34560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46b86"/>
                </a:solidFill>
                <a:latin typeface="Calibri"/>
              </a:rPr>
              <a:t>Смоленск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571480"/>
            <a:ext cx="2743200" cy="3676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 начала Великой отечественной войны Смоленск оказался на направлении главного удара немецко-фашистских войск к Москв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После ожесточенных боев в ночь на 29 июля советские войска оставили город. 2 года и 3 месяца на Смоленской земле полыхал огонь войны. 25 сентября 1943 г. советские войска освободили Смоленск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6 мая 1985 года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городу Смоленску было присвоено звание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215120" y="1676520"/>
            <a:ext cx="14716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2" descr="Герб города Смоленска"/>
          <p:cNvPicPr/>
          <p:nvPr/>
        </p:nvPicPr>
        <p:blipFill>
          <a:blip r:embed="rId2"/>
          <a:stretch/>
        </p:blipFill>
        <p:spPr>
          <a:xfrm>
            <a:off x="500040" y="28584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286" name="i-main-pic" descr="Картинка 7 из 325"/>
          <p:cNvPicPr/>
          <p:nvPr/>
        </p:nvPicPr>
        <p:blipFill>
          <a:blip r:embed="rId3"/>
          <a:stretch/>
        </p:blipFill>
        <p:spPr>
          <a:xfrm>
            <a:off x="5286240" y="1071720"/>
            <a:ext cx="2857680" cy="3427200"/>
          </a:xfrm>
          <a:prstGeom prst="rect">
            <a:avLst/>
          </a:prstGeom>
          <a:ln w="0">
            <a:noFill/>
          </a:ln>
        </p:spPr>
      </p:pic>
      <p:pic>
        <p:nvPicPr>
          <p:cNvPr id="287" name="i-main-pic" descr="Картинка 10 из 325"/>
          <p:cNvPicPr/>
          <p:nvPr/>
        </p:nvPicPr>
        <p:blipFill>
          <a:blip r:embed="rId4"/>
          <a:stretch/>
        </p:blipFill>
        <p:spPr>
          <a:xfrm>
            <a:off x="3786120" y="3857760"/>
            <a:ext cx="3643560" cy="2714400"/>
          </a:xfrm>
          <a:prstGeom prst="rect">
            <a:avLst/>
          </a:prstGeom>
          <a:ln w="0">
            <a:noFill/>
          </a:ln>
        </p:spPr>
      </p:pic>
      <p:pic>
        <p:nvPicPr>
          <p:cNvPr id="288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6858000" y="64296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560520" y="706320"/>
            <a:ext cx="9205920" cy="25671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Города - Герои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i-main-pic" descr="Картинка 30 из 789"/>
          <p:cNvPicPr/>
          <p:nvPr/>
        </p:nvPicPr>
        <p:blipFill>
          <a:blip r:embed="rId2"/>
          <a:stretch/>
        </p:blipFill>
        <p:spPr>
          <a:xfrm>
            <a:off x="285840" y="3071880"/>
            <a:ext cx="38862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115920" y="1311120"/>
            <a:ext cx="8192880" cy="1432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дет священная война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вящается городам – героям в годы Великой Отечественной вой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i-main-pic" descr="Картинка 30 из 789"/>
          <p:cNvPicPr/>
          <p:nvPr/>
        </p:nvPicPr>
        <p:blipFill>
          <a:blip r:embed="rId2"/>
          <a:stretch/>
        </p:blipFill>
        <p:spPr>
          <a:xfrm>
            <a:off x="285840" y="3786120"/>
            <a:ext cx="34290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86080" y="213840"/>
            <a:ext cx="2743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Брест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2357280"/>
            <a:ext cx="3214800" cy="4143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ночь на 22 июня 1941 года гитлеровская Германия напала на Советский Союз без объявления войны. Граница СССР была прорвана в районе Брестской крепо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2 июня в 3:15 по крепости был открыт артиллерийский огонь, заставший гарнизон врасплох. В результате были уничтожены склады, водопровод, прервана связь, нанесены крупные потери гарнизону. В 3:45 начался штур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8 мая 1965 год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Брестской крепости присвоено звание крепость-герой, с вручением ордена Ленина и медал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"Золотая Звезда"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00640" y="1676520"/>
            <a:ext cx="685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Герб города Бреста"/>
          <p:cNvPicPr/>
          <p:nvPr/>
        </p:nvPicPr>
        <p:blipFill>
          <a:blip r:embed="rId1"/>
          <a:stretch/>
        </p:blipFill>
        <p:spPr>
          <a:xfrm>
            <a:off x="357120" y="14292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i-main-pic" descr="Картинка 1 из 298"/>
          <p:cNvPicPr/>
          <p:nvPr/>
        </p:nvPicPr>
        <p:blipFill>
          <a:blip r:embed="rId2"/>
          <a:stretch/>
        </p:blipFill>
        <p:spPr>
          <a:xfrm>
            <a:off x="5500800" y="857160"/>
            <a:ext cx="2733480" cy="3500640"/>
          </a:xfrm>
          <a:prstGeom prst="rect">
            <a:avLst/>
          </a:prstGeom>
          <a:ln w="0">
            <a:noFill/>
          </a:ln>
        </p:spPr>
      </p:pic>
      <p:pic>
        <p:nvPicPr>
          <p:cNvPr id="206" name="i-main-pic" descr="Картинка 3 из 298"/>
          <p:cNvPicPr/>
          <p:nvPr/>
        </p:nvPicPr>
        <p:blipFill>
          <a:blip r:embed="rId3"/>
          <a:stretch/>
        </p:blipFill>
        <p:spPr>
          <a:xfrm>
            <a:off x="3643200" y="3905280"/>
            <a:ext cx="4005360" cy="295272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330984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b86"/>
                </a:solidFill>
                <a:latin typeface="Calibri"/>
              </a:rPr>
              <a:t>Сталинград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2743200" cy="26431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17 июля 1942 г. началась одна из величайших битв Великой Отечественной и второй мировой войны — Сталинградская битва, которая продолжалась 200 дней и ночей. Гитлеровцы стремились в кратчайший срок овладеть Сталинградом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8 мая 1965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года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Волгограду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было присвоено звание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"Города-героя"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500960" y="1676160"/>
            <a:ext cx="1185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i-main-pic" descr="Картинка 11 из 3790"/>
          <p:cNvPicPr/>
          <p:nvPr/>
        </p:nvPicPr>
        <p:blipFill>
          <a:blip r:embed="rId2"/>
          <a:stretch/>
        </p:blipFill>
        <p:spPr>
          <a:xfrm>
            <a:off x="4071960" y="50004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Герб города Волгограда"/>
          <p:cNvPicPr/>
          <p:nvPr/>
        </p:nvPicPr>
        <p:blipFill>
          <a:blip r:embed="rId3"/>
          <a:stretch/>
        </p:blipFill>
        <p:spPr>
          <a:xfrm>
            <a:off x="7000920" y="214200"/>
            <a:ext cx="1762200" cy="2071800"/>
          </a:xfrm>
          <a:prstGeom prst="rect">
            <a:avLst/>
          </a:prstGeom>
          <a:ln w="0">
            <a:noFill/>
          </a:ln>
        </p:spPr>
      </p:pic>
      <p:pic>
        <p:nvPicPr>
          <p:cNvPr id="213" name="i-main-pic" descr="Картинка 45 из 830"/>
          <p:cNvPicPr/>
          <p:nvPr/>
        </p:nvPicPr>
        <p:blipFill>
          <a:blip r:embed="rId4"/>
          <a:stretch/>
        </p:blipFill>
        <p:spPr>
          <a:xfrm>
            <a:off x="2428920" y="3691080"/>
            <a:ext cx="4643280" cy="3166920"/>
          </a:xfrm>
          <a:prstGeom prst="rect">
            <a:avLst/>
          </a:prstGeom>
          <a:ln w="0">
            <a:noFill/>
          </a:ln>
        </p:spPr>
      </p:pic>
      <p:pic>
        <p:nvPicPr>
          <p:cNvPr id="214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1857240" y="350028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9000" y="357120"/>
            <a:ext cx="27432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Киев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85880" y="2643120"/>
            <a:ext cx="274320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первый день Великой Отечественной войны немецко-фашистская авиация нанесла воздушный удар по Киеву. 6 июля 1941 года был создан штаб обороны города. Началась 72-дневная героическая оборо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 мая 1965го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за героизм, проявленный во время обороны,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иев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было присвоено звание города-героя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786800" y="1676520"/>
            <a:ext cx="9000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Герб города Киева"/>
          <p:cNvPicPr/>
          <p:nvPr/>
        </p:nvPicPr>
        <p:blipFill>
          <a:blip r:embed="rId1"/>
          <a:stretch/>
        </p:blipFill>
        <p:spPr>
          <a:xfrm>
            <a:off x="714240" y="214200"/>
            <a:ext cx="16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i-main-pic" descr="Картинка 12 из 931"/>
          <p:cNvPicPr/>
          <p:nvPr/>
        </p:nvPicPr>
        <p:blipFill>
          <a:blip r:embed="rId2"/>
          <a:stretch/>
        </p:blipFill>
        <p:spPr>
          <a:xfrm>
            <a:off x="5357880" y="1143000"/>
            <a:ext cx="2609640" cy="343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4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40006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7000920" y="64296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79280" y="142560"/>
            <a:ext cx="3313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b86"/>
                </a:solidFill>
                <a:latin typeface="Calibri"/>
              </a:rPr>
              <a:t>Ленинград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143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 20 ноября началась голодная блокада Ленинграда. Блокада города продлится до января 1944 года. 900 дней и ночей самых страшных  мгновений жизни для многих тысяч людей. За массовый героизм его защитников Ленинграду присвоено звание "Город-герой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"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929280" y="1676520"/>
            <a:ext cx="17575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Герб города Санкт-Петербурга"/>
          <p:cNvPicPr/>
          <p:nvPr/>
        </p:nvPicPr>
        <p:blipFill>
          <a:blip r:embed="rId2"/>
          <a:stretch/>
        </p:blipFill>
        <p:spPr>
          <a:xfrm>
            <a:off x="0" y="214200"/>
            <a:ext cx="1905120" cy="2038320"/>
          </a:xfrm>
          <a:prstGeom prst="rect">
            <a:avLst/>
          </a:prstGeom>
          <a:ln w="0">
            <a:noFill/>
          </a:ln>
        </p:spPr>
      </p:pic>
      <p:pic>
        <p:nvPicPr>
          <p:cNvPr id="226" name="i-main-pic" descr="Картинка 10 из 3790"/>
          <p:cNvPicPr/>
          <p:nvPr/>
        </p:nvPicPr>
        <p:blipFill>
          <a:blip r:embed="rId3"/>
          <a:stretch/>
        </p:blipFill>
        <p:spPr>
          <a:xfrm>
            <a:off x="6286680" y="142920"/>
            <a:ext cx="2490480" cy="3173400"/>
          </a:xfrm>
          <a:prstGeom prst="rect">
            <a:avLst/>
          </a:prstGeom>
          <a:ln w="0">
            <a:noFill/>
          </a:ln>
        </p:spPr>
      </p:pic>
      <p:pic>
        <p:nvPicPr>
          <p:cNvPr id="227" name="i-main-pic" descr="Картинка 102 из 3790"/>
          <p:cNvPicPr/>
          <p:nvPr/>
        </p:nvPicPr>
        <p:blipFill>
          <a:blip r:embed="rId4"/>
          <a:stretch/>
        </p:blipFill>
        <p:spPr>
          <a:xfrm>
            <a:off x="3500280" y="3286080"/>
            <a:ext cx="4434120" cy="3327480"/>
          </a:xfrm>
          <a:prstGeom prst="rect">
            <a:avLst/>
          </a:prstGeom>
          <a:ln w="0">
            <a:noFill/>
          </a:ln>
        </p:spPr>
      </p:pic>
      <p:pic>
        <p:nvPicPr>
          <p:cNvPr id="228" name="i-main-pic" descr="Картинка 30 из 789"/>
          <p:cNvPicPr/>
          <p:nvPr/>
        </p:nvPicPr>
        <p:blipFill>
          <a:blip r:embed="rId5"/>
          <a:stretch/>
        </p:blipFill>
        <p:spPr>
          <a:xfrm>
            <a:off x="4929120" y="0"/>
            <a:ext cx="25005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57720" y="357120"/>
            <a:ext cx="27432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Москва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480" y="2214720"/>
            <a:ext cx="3857400" cy="43574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ецко-фашистское командование особое значение придавало захвату Москвы. Оно считало, что с падением столицы СССР сопротивление Красной Армии будет сломлено и война закончится победой Германии. Для захвата Москвы была разработана специальная операция под кодовым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Тайфун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контрнаступления враг был отброшен к западу на 80-250 километров. Эта победа развеяла миф о непобедимости немецко-фашистской армии, положила начало коренному перевороту в ходе войны, сплотила народы нашей страны.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72240" y="1676160"/>
            <a:ext cx="11145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Герб города Москвы"/>
          <p:cNvPicPr/>
          <p:nvPr/>
        </p:nvPicPr>
        <p:blipFill>
          <a:blip r:embed="rId1"/>
          <a:stretch/>
        </p:blipFill>
        <p:spPr>
          <a:xfrm>
            <a:off x="357120" y="142920"/>
            <a:ext cx="1905120" cy="2143080"/>
          </a:xfrm>
          <a:prstGeom prst="rect">
            <a:avLst/>
          </a:prstGeom>
          <a:ln w="0">
            <a:noFill/>
          </a:ln>
        </p:spPr>
      </p:pic>
      <p:pic>
        <p:nvPicPr>
          <p:cNvPr id="233" name="i-main-pic" descr="Картинка 45 из 3790"/>
          <p:cNvPicPr/>
          <p:nvPr/>
        </p:nvPicPr>
        <p:blipFill>
          <a:blip r:embed="rId2"/>
          <a:stretch/>
        </p:blipFill>
        <p:spPr>
          <a:xfrm>
            <a:off x="4214880" y="2286000"/>
            <a:ext cx="4500360" cy="3871800"/>
          </a:xfrm>
          <a:prstGeom prst="rect">
            <a:avLst/>
          </a:prstGeom>
          <a:ln w="0">
            <a:noFill/>
          </a:ln>
        </p:spPr>
      </p:pic>
      <p:pic>
        <p:nvPicPr>
          <p:cNvPr id="234" name="i-main-pic" descr="Картинка 30 из 789"/>
          <p:cNvPicPr/>
          <p:nvPr/>
        </p:nvPicPr>
        <p:blipFill>
          <a:blip r:embed="rId3"/>
          <a:stretch/>
        </p:blipFill>
        <p:spPr>
          <a:xfrm>
            <a:off x="6715080" y="128592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00240" y="356760"/>
            <a:ext cx="27432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46b86"/>
                </a:solidFill>
                <a:latin typeface="Calibri"/>
              </a:rPr>
              <a:t>Одесса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2743200" cy="36054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 время Великой Отечественной войны Одесса оборонялась 73 дня начиная с 5 августа 1941 года.  38 тысяч жителей Одессы переселились в одесские катакомбы и встали на защиту своего города. 10 апреля 1944 г. советские войска освободили Одессу.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 мая 1965 го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городу Одессе было присвоено звание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“Города-героя”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143920" y="1676160"/>
            <a:ext cx="54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Герб города Одессы"/>
          <p:cNvPicPr/>
          <p:nvPr/>
        </p:nvPicPr>
        <p:blipFill>
          <a:blip r:embed="rId1"/>
          <a:stretch/>
        </p:blipFill>
        <p:spPr>
          <a:xfrm>
            <a:off x="571680" y="142920"/>
            <a:ext cx="2028600" cy="253368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8 из 789"/>
          <p:cNvPicPr/>
          <p:nvPr/>
        </p:nvPicPr>
        <p:blipFill>
          <a:blip r:embed="rId2"/>
          <a:stretch/>
        </p:blipFill>
        <p:spPr>
          <a:xfrm>
            <a:off x="4572000" y="1000080"/>
            <a:ext cx="4219560" cy="2960640"/>
          </a:xfrm>
          <a:prstGeom prst="rect">
            <a:avLst/>
          </a:prstGeom>
          <a:ln w="0">
            <a:noFill/>
          </a:ln>
        </p:spPr>
      </p:pic>
      <p:pic>
        <p:nvPicPr>
          <p:cNvPr id="240" name="i-main-pic" descr="Картинка 0 из 553"/>
          <p:cNvPicPr/>
          <p:nvPr/>
        </p:nvPicPr>
        <p:blipFill>
          <a:blip r:embed="rId3"/>
          <a:stretch/>
        </p:blipFill>
        <p:spPr>
          <a:xfrm>
            <a:off x="3571920" y="3714840"/>
            <a:ext cx="4143240" cy="2809800"/>
          </a:xfrm>
          <a:prstGeom prst="rect">
            <a:avLst/>
          </a:prstGeom>
          <a:ln w="0">
            <a:noFill/>
          </a:ln>
        </p:spPr>
      </p:pic>
      <p:pic>
        <p:nvPicPr>
          <p:cNvPr id="241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6715080" y="314316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34448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46b86"/>
                </a:solidFill>
                <a:latin typeface="Calibri"/>
              </a:rPr>
              <a:t>Севастополь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2357280"/>
            <a:ext cx="3143160" cy="45007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о время Великой отечественной войны город прославился очередной героической обороной начавшееся 30 октября 1941 г., которая продолжалась 250 дней и вошла в военную историю как образец длительной активной обороны оставшейся в глубоком тылу противника. Особенно ожесточенные бои велись на участке около Сапун-горы. 7 мая 1944 г. советские войска героическим штурмом овладели Сапун-горой, где противник создал несколько ярусов траншей, многочисленные пулеметные и артиллерийские огневые точк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86800" y="1676520"/>
            <a:ext cx="900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Герб города Севастополя"/>
          <p:cNvPicPr/>
          <p:nvPr/>
        </p:nvPicPr>
        <p:blipFill>
          <a:blip r:embed="rId2"/>
          <a:stretch/>
        </p:blipFill>
        <p:spPr>
          <a:xfrm>
            <a:off x="642960" y="28584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i-main-pic" descr="Картинка 13 из 3790"/>
          <p:cNvPicPr/>
          <p:nvPr/>
        </p:nvPicPr>
        <p:blipFill>
          <a:blip r:embed="rId3"/>
          <a:stretch/>
        </p:blipFill>
        <p:spPr>
          <a:xfrm>
            <a:off x="4786200" y="2000160"/>
            <a:ext cx="3357720" cy="4286520"/>
          </a:xfrm>
          <a:prstGeom prst="rect">
            <a:avLst/>
          </a:prstGeom>
          <a:ln w="0">
            <a:noFill/>
          </a:ln>
        </p:spPr>
      </p:pic>
      <p:pic>
        <p:nvPicPr>
          <p:cNvPr id="247" name="i-main-pic" descr="Картинка 30 из 789"/>
          <p:cNvPicPr/>
          <p:nvPr/>
        </p:nvPicPr>
        <p:blipFill>
          <a:blip r:embed="rId4"/>
          <a:stretch/>
        </p:blipFill>
        <p:spPr>
          <a:xfrm>
            <a:off x="7000920" y="1071720"/>
            <a:ext cx="1928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37Z</dcterms:created>
  <dc:creator>Ярослав</dc:creator>
  <dc:description/>
  <dc:language>en-US</dc:language>
  <cp:lastModifiedBy>kab11</cp:lastModifiedBy>
  <dcterms:modified xsi:type="dcterms:W3CDTF">2009-05-08T03:20:44Z</dcterms:modified>
  <cp:revision>46</cp:revision>
  <dc:subject/>
  <dc:title>Города - Герои</dc:title>
</cp:coreProperties>
</file>