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5E04-6A0B-4301-ACCA-9ED33DFD7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671C-2D4A-4DC1-9DBF-2CE7A3B53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E453-7950-4646-877C-E92525D15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2B27-B09A-4C24-970D-59D5BE0A8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B4B6-A6A9-43AE-8A4E-661DE31D0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0F7B-25F2-4630-906E-C7D333A02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F46-259B-4A6D-9179-4791E87B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EB8-CC69-40F0-8B01-AC0FE18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D39-D494-439F-B447-D76032F8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BF6-F4D3-4F66-89BF-E7885EB8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577-AA44-43B2-8A51-C4F302B6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BEE-EBC0-4CB8-82AA-9908FC04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44B-B378-4FC8-9BB9-D43DA668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CE0-8E09-4EFC-81F2-B7BEBE12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802-CEFC-4E8F-BF47-B66B3BA5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811-909D-4F75-9DBE-2063CE3F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BD7-B17B-449B-BF50-F9BD8552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ADC-2838-428E-A529-B07B8326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39E4-ABD3-4346-ABFF-C3A0E1F27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5"/>
          <p:cNvSpPr txBox="1"/>
          <p:nvPr/>
        </p:nvSpPr>
        <p:spPr>
          <a:xfrm>
            <a:off x="1835280" y="189000"/>
            <a:ext cx="540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наешь ли ты ...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1260360" y="55166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2052720" y="55166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844720" y="55166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3637080" y="55166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9800" y="5516640"/>
            <a:ext cx="6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5295240" y="551664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157800" y="55166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7095240" y="537372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324000" y="36450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э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757080" y="237168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ч'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1764720" y="148428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а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0"/>
          <p:cNvSpPr/>
          <p:nvPr/>
        </p:nvSpPr>
        <p:spPr>
          <a:xfrm>
            <a:off x="3349080" y="1484280"/>
            <a:ext cx="7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н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4933440" y="1434960"/>
            <a:ext cx="9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р'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2"/>
          <p:cNvSpPr/>
          <p:nvPr/>
        </p:nvSpPr>
        <p:spPr>
          <a:xfrm>
            <a:off x="6373080" y="1650960"/>
            <a:ext cx="78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э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7812720" y="22273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и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8101800" y="3666960"/>
            <a:ext cx="8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[й'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599760" y="3284640"/>
            <a:ext cx="83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годня  с  утра  Мишка  был    Дон  Кихотом.  Он  вскочил  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его  деревянного коня  и  вскач      понесся  по  са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му  было  невтерпежь    сразиться  со  злыми  волшебн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 убегали  от  него  проч       и  прятались  в  заросля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пивы. Он  наотмаш     рубил  крапиву, пока  не  споткну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 не  упал  навзн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811160" cy="2997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7380360" y="476280"/>
            <a:ext cx="147780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8"/>
          <p:cNvSpPr txBox="1"/>
          <p:nvPr/>
        </p:nvSpPr>
        <p:spPr>
          <a:xfrm>
            <a:off x="1979640" y="836640"/>
            <a:ext cx="496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оиграем в корректора</a:t>
            </a:r>
            <a:endParaRPr b="0" i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71000" y="2205000"/>
            <a:ext cx="50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йдите ошибки в следующем текс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090400" y="381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492360" y="4365720"/>
            <a:ext cx="216000" cy="35856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4711680" y="4746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447360" y="52149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233160" y="56437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0"/>
                            </p:stCondLst>
                            <p:childTnLst>
                              <p:par>
                                <p:cTn id="6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000"/>
                            </p:stCondLst>
                            <p:childTnLst>
                              <p:par>
                                <p:cTn id="6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1041840" y="549360"/>
            <a:ext cx="20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роверь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19120" y="1197000"/>
            <a:ext cx="376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(не)бр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чуть (не)радос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) н(е,и)куда беж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) н(е,и)когда не ви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) безбоязне(н,нн)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6) бесстраш(н,нн)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7) хорош(ё,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8) ещ(о,ё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9) досух(о,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0) влев(а,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1) (во)в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2) кое(г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3) замуж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4) сплош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291280" y="476280"/>
            <a:ext cx="231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люч к зад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Проверь себя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658400" y="1197000"/>
            <a:ext cx="407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ежно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  ничу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дос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  н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да беж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  н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гда не ви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  безбоязне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  бесстраш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  хорош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  ещ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  досух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0. влев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. во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. кое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3. заму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4. сплош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123200" y="5661000"/>
            <a:ext cx="67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вь себе оценку: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5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за 14 правильных ответов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4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за 11-13;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3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за  7-10;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2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за  4-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2"/>
          <a:stretch/>
        </p:blipFill>
        <p:spPr>
          <a:xfrm rot="2067000">
            <a:off x="7923240" y="4581360"/>
            <a:ext cx="1220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2"/>
          <a:stretch/>
        </p:blipFill>
        <p:spPr>
          <a:xfrm>
            <a:off x="1224000" y="428760"/>
            <a:ext cx="7920000" cy="5913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3"/>
          <a:stretch/>
        </p:blipFill>
        <p:spPr>
          <a:xfrm>
            <a:off x="0" y="1714680"/>
            <a:ext cx="3201840" cy="4728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3499920" y="1928880"/>
            <a:ext cx="34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одведём ит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2651040" y="2500200"/>
            <a:ext cx="585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1. О чем мы сегодня говорили на урок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2701440" y="3373560"/>
            <a:ext cx="519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3. Достигли ли мы своей цели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Подготовились к тестировани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2643120" y="2928960"/>
            <a:ext cx="521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2. Какие орфограммы  повторили?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4584960" y="4143240"/>
            <a:ext cx="3166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пражнение № 26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о словами состав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ловосоче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311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16676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9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7788240" cy="585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3"/>
          <a:stretch/>
        </p:blipFill>
        <p:spPr>
          <a:xfrm>
            <a:off x="1643040" y="128592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714680" y="2500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27400" y="200016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21496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871880" y="207180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7215120" y="2357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7072200" y="1714680"/>
            <a:ext cx="920880" cy="1319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962280" y="3357720"/>
            <a:ext cx="340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Нареч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4094280" y="3214800"/>
            <a:ext cx="471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1) повторить, обобщи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систематизировать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теме «Нареч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2) подготов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к тест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 rot="2400000">
            <a:off x="5579640" y="0"/>
            <a:ext cx="3816360" cy="2755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942520" y="40464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5640" y="1052640"/>
            <a:ext cx="13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ли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798160" y="17733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661080" y="1052640"/>
            <a:ext cx="7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73880" y="62064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еделите наречия в два столби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25360" y="1263600"/>
            <a:ext cx="572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лепо, (не)искрен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хорошо, а плохо;  вовсе (не)интерес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по-товарищески,  (не)аккурат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далеко, (не)громко, а тих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)высоко, далеко (не)ласк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"/>
          <p:cNvPicPr/>
          <p:nvPr/>
        </p:nvPicPr>
        <p:blipFill>
          <a:blip r:embed="rId3"/>
          <a:stretch/>
        </p:blipFill>
        <p:spPr>
          <a:xfrm>
            <a:off x="0" y="2922480"/>
            <a:ext cx="9144000" cy="3459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827640" y="3429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 неле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825840" y="3789360"/>
            <a:ext cx="20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неискрен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фальши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5651280" y="357336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1) не  хорошо, а пло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5648040" y="3933720"/>
            <a:ext cx="31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) вовсе  не  интер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5647320" y="429264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3) не   по-товарищ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826920" y="443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неаккура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з прилеж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826920" y="508464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 недале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5648760" y="472428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4) не  громко, а ти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825840" y="544500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)  невыс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5649840" y="515772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5) далеко не  ласк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8029800" y="3333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1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1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303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971640" y="981000"/>
            <a:ext cx="734544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то грамоте горазд, тому не проп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0" y="2627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ставьте предложения с указанными словами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343600" y="3429000"/>
            <a:ext cx="438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когда – никог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где – нигд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куда – ник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403280" y="90792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йдите строчки, в 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 слова пишутся с двумя «н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4240" y="2637000"/>
            <a:ext cx="8023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интерес…о,   искус…о,   груст…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мужестве….о,  умышле…..о,   испуга…..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вниматель…о,  присталь…о,  дружелюб…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 рассея….о,  разочарова..…о,  торжестве.…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0" y="549360"/>
            <a:ext cx="1806480" cy="3600360"/>
          </a:xfrm>
          <a:prstGeom prst="rect">
            <a:avLst/>
          </a:prstGeom>
          <a:ln w="0">
            <a:noFill/>
          </a:ln>
        </p:spPr>
      </p:pic>
      <p:sp>
        <p:nvSpPr>
          <p:cNvPr id="105" name="Line 11"/>
          <p:cNvSpPr/>
          <p:nvPr/>
        </p:nvSpPr>
        <p:spPr>
          <a:xfrm>
            <a:off x="1835280" y="4149720"/>
            <a:ext cx="640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566160" y="36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726520" y="36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703280" y="36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05800" y="5084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774400" y="5084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8203320" y="5084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1835280" y="5589720"/>
            <a:ext cx="712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987640" y="135396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уч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 лаптя не сплет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48280" y="3989520"/>
            <a:ext cx="81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шите, обозначая изученную орф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32680" y="4689360"/>
            <a:ext cx="761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вуч…, свеж…, ещ…, горяч…, зловещ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моляющ…, угрожающ…, общ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981440" y="478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492360" y="47815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478400" y="478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044040" y="4781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7931160" y="4781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2702160" y="543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127840" y="543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404400" y="5430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6" descr=""/>
          <p:cNvPicPr/>
          <p:nvPr/>
        </p:nvPicPr>
        <p:blipFill>
          <a:blip r:embed="rId2"/>
          <a:stretch/>
        </p:blipFill>
        <p:spPr>
          <a:xfrm>
            <a:off x="0" y="3716280"/>
            <a:ext cx="914400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16"/>
          <p:cNvSpPr/>
          <p:nvPr/>
        </p:nvSpPr>
        <p:spPr>
          <a:xfrm flipH="1">
            <a:off x="3714840" y="4726080"/>
            <a:ext cx="7128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9"/>
          <p:cNvSpPr/>
          <p:nvPr/>
        </p:nvSpPr>
        <p:spPr>
          <a:xfrm flipV="1">
            <a:off x="6229440" y="4654080"/>
            <a:ext cx="7128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21"/>
          <p:cNvSpPr/>
          <p:nvPr/>
        </p:nvSpPr>
        <p:spPr>
          <a:xfrm flipH="1">
            <a:off x="6660720" y="5373720"/>
            <a:ext cx="7164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0" descr=""/>
          <p:cNvPicPr/>
          <p:nvPr/>
        </p:nvPicPr>
        <p:blipFill>
          <a:blip r:embed="rId3"/>
          <a:stretch/>
        </p:blipFill>
        <p:spPr>
          <a:xfrm>
            <a:off x="555480" y="693720"/>
            <a:ext cx="2144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C:\Documents and Settings\Dem\Мои документы\Мои документы\Презентации\Румянцева\Анимашки 2\анимашки\кот6.gif"/>
          <p:cNvPicPr/>
          <p:nvPr/>
        </p:nvPicPr>
        <p:blipFill>
          <a:blip r:embed="rId2"/>
          <a:stretch/>
        </p:blipFill>
        <p:spPr>
          <a:xfrm>
            <a:off x="500040" y="571680"/>
            <a:ext cx="8215200" cy="5643360"/>
          </a:xfrm>
          <a:prstGeom prst="rect">
            <a:avLst/>
          </a:prstGeom>
          <a:ln w="0">
            <a:noFill/>
          </a:ln>
        </p:spPr>
      </p:pic>
      <p:pic>
        <p:nvPicPr>
          <p:cNvPr id="132" name="R. MAURIAT - TOCCATA.mp3" descr=""/>
          <p:cNvPicPr/>
          <p:nvPr/>
        </p:nvPicPr>
        <p:blipFill>
          <a:blip r:embed="rId3"/>
          <a:stretch/>
        </p:blipFill>
        <p:spPr>
          <a:xfrm>
            <a:off x="714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5838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Object 9"/>
          <p:cNvGraphicFramePr/>
          <p:nvPr/>
        </p:nvGraphicFramePr>
        <p:xfrm>
          <a:off x="642960" y="642960"/>
          <a:ext cx="7929720" cy="44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642960"/>
                    <a:ext cx="7929720" cy="4429080"/>
                  </a:xfrm>
                  <a:prstGeom prst="rect">
                    <a:avLst/>
                  </a:prstGeom>
                  <a:ln w="63360">
                    <a:solidFill>
                      <a:srgbClr val="8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Text Box 11"/>
          <p:cNvSpPr/>
          <p:nvPr/>
        </p:nvSpPr>
        <p:spPr>
          <a:xfrm>
            <a:off x="515160" y="5359320"/>
            <a:ext cx="824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перва подумай, потом гово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642960" y="5357880"/>
            <a:ext cx="287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928800" y="5357880"/>
            <a:ext cx="0" cy="1443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2214720" y="5357880"/>
            <a:ext cx="142560" cy="2174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2357280" y="5357880"/>
            <a:ext cx="73080" cy="2174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3492360" y="0"/>
            <a:ext cx="2232000" cy="19782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1"/>
          <p:cNvSpPr txBox="1"/>
          <p:nvPr/>
        </p:nvSpPr>
        <p:spPr>
          <a:xfrm>
            <a:off x="2627280" y="126828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дним словом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89720" y="2349360"/>
            <a:ext cx="87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Замените словосочетания наречиями, которые пишутся через дефис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330560" y="3141720"/>
            <a:ext cx="25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усском язы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330560" y="3500280"/>
            <a:ext cx="25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первую очеред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332720" y="386064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брежно, плох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1327320" y="4292640"/>
            <a:ext cx="30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кое-нибудь врем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1330200" y="46530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сем не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1332360" y="501336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жида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1332000" y="537372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нь дав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329480" y="573408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очности т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4499280" y="3141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-русск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4478400" y="349560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-пер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4478400" y="38559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е-как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4499280" y="42926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гда-нибуд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4497840" y="465300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уть-чу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4500000" y="5013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жданно-негаданно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4499640" y="5373720"/>
            <a:ext cx="22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авно-давно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4497120" y="573408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–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чь-в-точ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3:10:43Z</dcterms:created>
  <dc:creator>Dmitry</dc:creator>
  <dc:description/>
  <dc:language>en-US</dc:language>
  <cp:lastModifiedBy>SamLab.ws</cp:lastModifiedBy>
  <dcterms:modified xsi:type="dcterms:W3CDTF">2012-01-17T07:24:45Z</dcterms:modified>
  <cp:revision>148</cp:revision>
  <dc:subject/>
  <dc:title>Слайд 1</dc:title>
</cp:coreProperties>
</file>