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698-1277-46F2-A787-CB33FBE6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1FA-8317-4FA5-8E3C-EE78DB7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FDE-2EEB-4CC2-863D-69DCF218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FDB-E0BB-4EEB-A698-7E6BF377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258-4336-40D7-9F8C-ECC02FE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D47-76CC-4DEA-9EFA-2272BDD5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9F2-6834-467F-8E90-0BCAA2A5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238-B4A8-45D6-B7D4-5B3C5FDF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65F-3882-4CC3-8CC8-8CA591D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DA8-4684-4F65-9C02-0DBC7A1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421-51F8-4206-A0D1-11784F11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1FF-3346-4948-A65E-68071E2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8AF9-BF99-4C7D-AB56-25F9159AB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7152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ский халифа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760" y="4786200"/>
            <a:ext cx="39146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лочков А.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исчмст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Таблица 4" descr=""/>
          <p:cNvPicPr/>
          <p:nvPr/>
        </p:nvPicPr>
        <p:blipFill>
          <a:blip r:embed="rId2"/>
          <a:stretch/>
        </p:blipFill>
        <p:spPr>
          <a:xfrm>
            <a:off x="109440" y="5694480"/>
            <a:ext cx="298152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Аббасиды 750 – 1258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ол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несена из Дамаска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гд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л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овился всё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ее нетерпим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ных наследственны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иратов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45 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ранское войско захватило Багдад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лифы потеряли светскую вл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8 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онголы захватили Багдад и убили последнего халифа из Аббасидов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абское государство прекратило существов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406" t="0" r="2312" b="0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ура арабского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Блок-схема: процесс 4" descr=""/>
          <p:cNvPicPr/>
          <p:nvPr/>
        </p:nvPicPr>
        <p:blipFill>
          <a:blip r:embed="rId1"/>
          <a:stretch/>
        </p:blipFill>
        <p:spPr>
          <a:xfrm>
            <a:off x="1852560" y="1371600"/>
            <a:ext cx="5005440" cy="1347840"/>
          </a:xfrm>
          <a:prstGeom prst="rect">
            <a:avLst/>
          </a:prstGeom>
          <a:ln w="0">
            <a:noFill/>
          </a:ln>
        </p:spPr>
      </p:pic>
      <p:sp>
        <p:nvSpPr>
          <p:cNvPr id="91" name="Блок-схема: процесс 5"/>
          <p:cNvSpPr/>
          <p:nvPr/>
        </p:nvSpPr>
        <p:spPr>
          <a:xfrm>
            <a:off x="1214280" y="5143680"/>
            <a:ext cx="6429600" cy="8571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пространение арабесо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геометрических или растительных орнаментов)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калли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процесс 6"/>
          <p:cNvSpPr/>
          <p:nvPr/>
        </p:nvSpPr>
        <p:spPr>
          <a:xfrm>
            <a:off x="1214280" y="4357800"/>
            <a:ext cx="64296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прет изображать люд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любых живых су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процесс 7"/>
          <p:cNvSpPr/>
          <p:nvPr/>
        </p:nvSpPr>
        <p:spPr>
          <a:xfrm>
            <a:off x="1214280" y="3571920"/>
            <a:ext cx="64296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хранение и использование достижений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ичности и Древнего Вост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процесс 8"/>
          <p:cNvSpPr/>
          <p:nvPr/>
        </p:nvSpPr>
        <p:spPr>
          <a:xfrm>
            <a:off x="1214280" y="2786040"/>
            <a:ext cx="64296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четное отношение к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аимствовали в индийце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ль-Хаваризми считается основателем алгебр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н является автором книги «Аль-Джебр»(«Счет»), от названия которой происходят слова« алгебра» и «алгорит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ложи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сновы аналитической геометрии и тригон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ниге «Сокровища оптики» Альхазена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формулирова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коны о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нципы увеличительного сте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ли и объясни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явление ине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Ф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Багдаде, Дамаске и Самарканде существовали больш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агодаря сложным подсчетам и точным инструментам арабы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пределили окружность Зем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писа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сположение звезд на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Астроном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лись изготавливать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пирт, серную кисл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еред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з Китая в Европу секре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зготовления поро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жабер и Раз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ыли основателям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й средневековой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лхим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лово арабского происхожд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мины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алкоголь», «поташ», «селитра», «сод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рабского проис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м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али делать вивисекцию - вскрытия жив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отных с целью исследования функций и причин заболе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бн С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звестный в Европе как Авиценна, написал трактат «Канон медицинской науки», гд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общил опыт античных, индийских и среднеазиатских вра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здали первые аптеки и больниц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знали средства обезболивания, умели удалять аппендицит, изобрели сиропы и эликсиры для лечения болез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ед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ый арабам мир простирался от Атлантического до Тихого океана и от Экваториальной Африки к Киевско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абск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ы были самыми точн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несколько позже появился гл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орских экспедиций создали очень удобное и надежно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удно - да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спользова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имствованный у китайце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мины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адмирал», «капитан», «баржа», «муссон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рабского проис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35066" b="0"/>
          <a:stretch/>
        </p:blipFill>
        <p:spPr>
          <a:xfrm>
            <a:off x="2500200" y="1928880"/>
            <a:ext cx="4214880" cy="424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авийский полуостров и его 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3524400" y="1255680"/>
            <a:ext cx="209052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3"/>
          <a:stretch/>
        </p:blipFill>
        <p:spPr>
          <a:xfrm>
            <a:off x="6950160" y="1773360"/>
            <a:ext cx="1992240" cy="45241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4"/>
          <a:stretch/>
        </p:blipFill>
        <p:spPr>
          <a:xfrm>
            <a:off x="590400" y="1847880"/>
            <a:ext cx="1781280" cy="4449600"/>
          </a:xfrm>
          <a:prstGeom prst="rect">
            <a:avLst/>
          </a:prstGeom>
          <a:ln w="0">
            <a:noFill/>
          </a:ln>
        </p:spPr>
      </p:pic>
      <p:sp>
        <p:nvSpPr>
          <p:cNvPr id="48" name="Стрелка вниз 9"/>
          <p:cNvSpPr/>
          <p:nvPr/>
        </p:nvSpPr>
        <p:spPr>
          <a:xfrm rot="3877800">
            <a:off x="2748600" y="1423080"/>
            <a:ext cx="461880" cy="10000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10"/>
          <p:cNvSpPr/>
          <p:nvPr/>
        </p:nvSpPr>
        <p:spPr>
          <a:xfrm rot="17847600">
            <a:off x="5947560" y="13798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2571840" y="6072120"/>
            <a:ext cx="40003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кка и Ясриб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ы 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исламские верования араб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зычники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ножество б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Западе и Юго-запад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ного христиан и иуде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м в Мекк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аб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 араб. куб)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лавная арабская святын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 северную стену вмурован большой Черный Кам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круг Кааб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тавлены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дол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сех племенных бого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более 3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ммед и возникновение ис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трелка вниз 7"/>
          <p:cNvSpPr/>
          <p:nvPr/>
        </p:nvSpPr>
        <p:spPr>
          <a:xfrm>
            <a:off x="571680" y="1285920"/>
            <a:ext cx="8143560" cy="977760"/>
          </a:xfrm>
          <a:prstGeom prst="downArrow">
            <a:avLst>
              <a:gd name="adj1" fmla="val 83954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о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10 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начало проповеди Мухаммедом исла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овой рели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8"/>
          <p:cNvSpPr/>
          <p:nvPr/>
        </p:nvSpPr>
        <p:spPr>
          <a:xfrm>
            <a:off x="500040" y="3286080"/>
            <a:ext cx="8143920" cy="978120"/>
          </a:xfrm>
          <a:prstGeom prst="downArrow">
            <a:avLst>
              <a:gd name="adj1" fmla="val 81546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30 г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Мухамме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сопротивления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овладел Мекк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зрушил всех идолов вокруг Ка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9"/>
          <p:cNvSpPr/>
          <p:nvPr/>
        </p:nvSpPr>
        <p:spPr>
          <a:xfrm>
            <a:off x="500040" y="4286160"/>
            <a:ext cx="8143920" cy="978120"/>
          </a:xfrm>
          <a:prstGeom prst="downArrow">
            <a:avLst>
              <a:gd name="adj1" fmla="val 82611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инство арабов признали власть Мухаммеда и приняли ислам. Создание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0"/>
          <p:cNvSpPr/>
          <p:nvPr/>
        </p:nvSpPr>
        <p:spPr>
          <a:xfrm>
            <a:off x="571680" y="5286240"/>
            <a:ext cx="8143560" cy="978120"/>
          </a:xfrm>
          <a:prstGeom prst="downArrow">
            <a:avLst>
              <a:gd name="adj1" fmla="val 83148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32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смерть Мухамме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охоронен в Медине (Город Пророка), бывший Ясри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3"/>
          <p:cNvSpPr/>
          <p:nvPr/>
        </p:nvSpPr>
        <p:spPr>
          <a:xfrm>
            <a:off x="500040" y="2286000"/>
            <a:ext cx="8143920" cy="1000080"/>
          </a:xfrm>
          <a:prstGeom prst="downArrow">
            <a:avLst>
              <a:gd name="adj1" fmla="val 82343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22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хидж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 араб. Переселение) Мухаммед с соратниками бежит из Мекки в Ясриб – начало летоисчисления в исла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столпов исла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ертикальный свиток 7"/>
          <p:cNvSpPr/>
          <p:nvPr/>
        </p:nvSpPr>
        <p:spPr>
          <a:xfrm>
            <a:off x="0" y="1214280"/>
            <a:ext cx="2286000" cy="3143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Шах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а в единого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«нет Бога кроме Аллаха и Мухаммед пророк е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ертикальный свиток 8"/>
          <p:cNvSpPr/>
          <p:nvPr/>
        </p:nvSpPr>
        <p:spPr>
          <a:xfrm>
            <a:off x="1714680" y="1500120"/>
            <a:ext cx="235728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Салят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м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моли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5 раз в де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ом к Мек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Вертикальный свиток 9"/>
          <p:cNvSpPr/>
          <p:nvPr/>
        </p:nvSpPr>
        <p:spPr>
          <a:xfrm>
            <a:off x="5286240" y="2071800"/>
            <a:ext cx="228600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Са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пост в месяц  рамадан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каз пищи и питья до за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ертикальный свиток 10"/>
          <p:cNvSpPr/>
          <p:nvPr/>
        </p:nvSpPr>
        <p:spPr>
          <a:xfrm>
            <a:off x="3500280" y="1785960"/>
            <a:ext cx="235764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кя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раздача милосты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ертикальный свиток 11"/>
          <p:cNvSpPr/>
          <p:nvPr/>
        </p:nvSpPr>
        <p:spPr>
          <a:xfrm>
            <a:off x="7000920" y="2357280"/>
            <a:ext cx="2143080" cy="3143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Хадж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паломничество в Мек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ммед и возникновение ис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Ислам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корность)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мировая религия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, в основе которой вера в Аллах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Шари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правильный путь)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нормы, правила исл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ече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мусульманский хр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инар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высокая баш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с которой призывали мусульман к моли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Коран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священная книга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мусуль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жихад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азават) –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вященная война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с «неверны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едрес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религиоз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чебное за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улла –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лигиозный служитель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в ислам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изший с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14880" y="2016000"/>
            <a:ext cx="4929120" cy="348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ъединение арабов. Халифат при Омейядах и Аббасид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1542960"/>
            <a:ext cx="5529240" cy="10414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1285920" y="2571840"/>
            <a:ext cx="25002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бу Ба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32-63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1714680" y="3286080"/>
            <a:ext cx="250020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мар ибн Хат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34-64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2071800" y="4000680"/>
            <a:ext cx="25002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сман ибн Аф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44-65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2428920" y="4714920"/>
            <a:ext cx="25002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ли ибн Абу Тал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56-66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13" descr=""/>
          <p:cNvPicPr/>
          <p:nvPr/>
        </p:nvPicPr>
        <p:blipFill>
          <a:blip r:embed="rId3"/>
          <a:stretch/>
        </p:blipFill>
        <p:spPr>
          <a:xfrm>
            <a:off x="414360" y="2560680"/>
            <a:ext cx="1006560" cy="2968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5"/>
          <p:cNvSpPr/>
          <p:nvPr/>
        </p:nvSpPr>
        <p:spPr>
          <a:xfrm>
            <a:off x="1571760" y="54291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 — территория, контролируемая на момент смерти пророка Мухаммед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 — завоевания при Абу Бак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I — завоевания при Ома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V — завоевания при Ос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лифат при Омейядах и Аббасид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трелка вниз 3"/>
          <p:cNvSpPr/>
          <p:nvPr/>
        </p:nvSpPr>
        <p:spPr>
          <a:xfrm>
            <a:off x="285840" y="1714680"/>
            <a:ext cx="8643960" cy="785520"/>
          </a:xfrm>
          <a:prstGeom prst="downArrow">
            <a:avLst>
              <a:gd name="adj1" fmla="val 85769"/>
              <a:gd name="adj2" fmla="val 6669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61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Али убит, престол захватил Муавия из рода Оме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6"/>
          <p:cNvSpPr/>
          <p:nvPr/>
        </p:nvSpPr>
        <p:spPr>
          <a:xfrm>
            <a:off x="4786200" y="2643120"/>
            <a:ext cx="4000680" cy="3929040"/>
          </a:xfrm>
          <a:prstGeom prst="rightArrow">
            <a:avLst>
              <a:gd name="adj1" fmla="val 86898"/>
              <a:gd name="adj2" fmla="val 2405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Шии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ризнаю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аво на халифат только за потомками Али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зять Мухаммеда), священной книга –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только Ко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лево 9"/>
          <p:cNvSpPr/>
          <p:nvPr/>
        </p:nvSpPr>
        <p:spPr>
          <a:xfrm>
            <a:off x="357120" y="2714760"/>
            <a:ext cx="4000680" cy="3857400"/>
          </a:xfrm>
          <a:prstGeom prst="leftArrow">
            <a:avLst>
              <a:gd name="adj1" fmla="val 89889"/>
              <a:gd name="adj2" fmla="val 287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нни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 признают особых прав на халифат потомков Али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роме Корана священной считают Су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еяния и слова пророка Мухамм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мейяды 661 – 750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ол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несена из Мекк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ас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ое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еверная Африка до Атлантического океана, Испания, Малая Азия, Кавказ, Афганистан, Теркестан, Северная Инд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32 г. – битва при Пуать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движение арабов в Европу остановл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лам распространялся постепенн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обращённым  халифы предоставляли различные льготы, но в Халифате сохранялась широкая веротерпимость по отношению к христианам, иудеям и зороастрийц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0 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ие шиитов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ейяды свергну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5-10-13T04:55:15Z</dcterms:modified>
  <cp:revision>64</cp:revision>
  <dc:subject/>
  <dc:title>Арабский халифат</dc:title>
</cp:coreProperties>
</file>