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wmf" ContentType="image/x-wmf"/>
  <Override PartName="/ppt/media/image6.gif" ContentType="image/gif"/>
  <Override PartName="/ppt/media/image7.gif" ContentType="image/gif"/>
  <Override PartName="/ppt/media/image8.wmf" ContentType="image/x-wm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70FA-4DD5-4D1C-8279-ECFAB81B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E0E0F-A64E-4CA6-98EA-7FF51636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041D7-14D6-4FC8-9AE6-5DD6C2F7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8685-9718-4D59-92C2-8BC98960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8702-F3BD-4DB9-BCD9-451A68C8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DBAE-9019-41F4-9B64-C05707E1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229C-37C4-4A2F-9D21-C4E5CC46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D919-4AAF-4618-924E-E3259ECC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1538-CA7B-42E8-BE6C-9CAD4BCA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C498-5478-40D3-A15F-8F95C191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1FA4-1279-47D6-A857-B275882B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16B9-6A61-48DD-9315-C0356900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5022-BFAA-4E06-9AAA-13945AE1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CEA1-02B9-4AEF-B118-2E2DEC0B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C466-9BF3-4D0C-93AF-F73E5CA0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4DBC-09B8-44C0-B0FA-EAF1FCFD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F2C5-A54F-47EA-84C0-C7B0E644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5D19-245A-4575-B6A8-C19C5236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F972-3892-45AD-839E-DB1298AC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6B88-C96B-4BC0-8893-CE00867D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D601-85AB-4433-87BD-D1E02B1B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BAB5-7F69-45DB-A9AC-96AD13E2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5C77-9340-4A33-9D70-85873550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7D22-BE03-4306-8AD2-207B728F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FD8C-CEE0-43A0-BBB6-24643E635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B55C-EC38-4B37-9546-F54943E3A8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920" y="620640"/>
            <a:ext cx="73440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ГИДРОЛИЗ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109" name="Picture 5" descr="лицей 056"/>
          <p:cNvPicPr/>
          <p:nvPr/>
        </p:nvPicPr>
        <p:blipFill>
          <a:blip r:embed="rId1"/>
          <a:stretch/>
        </p:blipFill>
        <p:spPr>
          <a:xfrm>
            <a:off x="179280" y="3789360"/>
            <a:ext cx="3311640" cy="2603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лицей 023"/>
          <p:cNvPicPr/>
          <p:nvPr/>
        </p:nvPicPr>
        <p:blipFill>
          <a:blip r:embed="rId2"/>
          <a:stretch/>
        </p:blipFill>
        <p:spPr>
          <a:xfrm>
            <a:off x="5076720" y="3716280"/>
            <a:ext cx="3743280" cy="2665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484360" y="5229360"/>
            <a:ext cx="324000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Схема гидролиза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 хлорида на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Na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Na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</a:t>
            </a:r>
            <a:r>
              <a:rPr b="1" lang="ru-RU" sz="4400" spc="-1" strike="noStrike">
                <a:solidFill>
                  <a:srgbClr val="420042"/>
                </a:solidFill>
                <a:latin typeface="Bookman Old Style"/>
                <a:ea typeface="Arial"/>
              </a:rPr>
              <a:t> 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ильное основание                 сильная кислота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 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005c"/>
                </a:solidFill>
                <a:latin typeface="Bookman Old Style"/>
                <a:ea typeface="Times New Roman"/>
              </a:rPr>
              <a:t>Н е й т р а л ь н а я  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2421000"/>
            <a:ext cx="1079280" cy="79200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2421000"/>
            <a:ext cx="1224000" cy="79200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7640" y="981000"/>
            <a:ext cx="912960" cy="2173320"/>
          </a:xfrm>
          <a:prstGeom prst="flowChartMagneticDisk">
            <a:avLst/>
          </a:pr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6305400"/>
            <a:ext cx="20098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ookman Old Style"/>
              </a:rPr>
              <a:t>Механизм гидролиза хлорида на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07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  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+ O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l 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Na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</a:t>
            </a:r>
            <a:r>
              <a:rPr b="1" i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Cl</a:t>
            </a:r>
            <a:r>
              <a:rPr b="1" i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 </a:t>
            </a: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HOH      </a:t>
            </a:r>
            <a:r>
              <a:rPr b="1" i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l</a:t>
            </a:r>
            <a:r>
              <a:rPr b="1" i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i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 Na</a:t>
            </a:r>
            <a:r>
              <a:rPr b="1" i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 </a:t>
            </a:r>
            <a:r>
              <a:rPr b="1" i="1" lang="en-US" sz="3600" spc="-1" strike="noStrike" u="sng">
                <a:solidFill>
                  <a:srgbClr val="420042"/>
                </a:solidFill>
                <a:uFillTx/>
                <a:latin typeface="Bookman Old Style"/>
                <a:ea typeface="Times New Roman"/>
              </a:rPr>
              <a:t>H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Данная соль гидролизу не подверг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03280" y="1989000"/>
            <a:ext cx="79236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402920" y="2133720"/>
            <a:ext cx="79236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2924280"/>
            <a:ext cx="129708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92000" y="2997360"/>
            <a:ext cx="129708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3933720"/>
            <a:ext cx="43200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635280" y="4076640"/>
            <a:ext cx="43200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40720" y="1268280"/>
            <a:ext cx="912600" cy="2173320"/>
          </a:xfrm>
          <a:prstGeom prst="flowChartMagneticDisk">
            <a:avLst/>
          </a:pr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HM00361_"/>
          <p:cNvPicPr/>
          <p:nvPr/>
        </p:nvPicPr>
        <p:blipFill>
          <a:blip r:embed="rId1"/>
          <a:stretch/>
        </p:blipFill>
        <p:spPr>
          <a:xfrm>
            <a:off x="539640" y="5373720"/>
            <a:ext cx="1656000" cy="1290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04000" y="5229360"/>
            <a:ext cx="1871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0033"/>
                </a:solidFill>
                <a:latin typeface="Bookman Old Style"/>
              </a:rPr>
              <a:t>ГИДРОЛИЗ</a:t>
            </a:r>
            <a:r>
              <a:rPr b="0" lang="en-US" sz="4800" spc="-1" strike="noStrike">
                <a:solidFill>
                  <a:srgbClr val="660033"/>
                </a:solidFill>
                <a:latin typeface="Bookman Old Style"/>
              </a:rPr>
              <a:t>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</a:rPr>
              <a:t>это реакция обмена между некоторыми солями и водой приводящая к образованию слабого электроли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812000" y="4941720"/>
            <a:ext cx="819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42"/>
                </a:solidFill>
                <a:latin typeface="Bookman Old Style"/>
              </a:rPr>
              <a:t>Самостоятельно </a:t>
            </a:r>
            <a:br>
              <a:rPr sz="3600"/>
            </a:br>
            <a:r>
              <a:rPr b="1" lang="en-US" sz="3600" spc="-1" strike="noStrike">
                <a:solidFill>
                  <a:srgbClr val="420042"/>
                </a:solidFill>
                <a:latin typeface="Bookman Old Style"/>
              </a:rPr>
              <a:t>заполните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844640"/>
          <a:ext cx="8435880" cy="4079880"/>
        </p:xfrm>
        <a:graphic>
          <a:graphicData uri="http://schemas.openxmlformats.org/drawingml/2006/table">
            <a:tbl>
              <a:tblPr/>
              <a:tblGrid>
                <a:gridCol w="1882800"/>
                <a:gridCol w="3647880"/>
                <a:gridCol w="1247760"/>
                <a:gridCol w="1657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Название с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Уравнение гидроли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Среда раств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Окраска лакму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Карбонат ка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Нитрат железа (</a:t>
                      </a: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Хлорид ба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604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0920" y="765000"/>
          <a:ext cx="8713800" cy="5616720"/>
        </p:xfrm>
        <a:graphic>
          <a:graphicData uri="http://schemas.openxmlformats.org/drawingml/2006/table">
            <a:tbl>
              <a:tblPr/>
              <a:tblGrid>
                <a:gridCol w="1225440"/>
                <a:gridCol w="5183280"/>
                <a:gridCol w="1225440"/>
                <a:gridCol w="107964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Название с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Уравнение гидрол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Среда раств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Окраска лакму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Карбонат к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2-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OH ↔</a:t>
                      </a:r>
                      <a:r>
                        <a:rPr b="1" lang="ru-RU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HC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OH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-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K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H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O ↔  KHC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K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Щелоч 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Bookman Old Style"/>
                        </a:rPr>
                        <a:t>си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Нитрат железа (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I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Fe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2+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OH</a:t>
                      </a:r>
                      <a:r>
                        <a:rPr b="1" lang="ru-RU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 ↔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  FeOH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Fe(N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)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H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O ↔  FeOHN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HN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Bookman Old Style"/>
                        </a:rPr>
                        <a:t>крас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Хлорид ба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Ba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2+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2Cl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OH</a:t>
                      </a:r>
                      <a:r>
                        <a:rPr b="1" lang="ru-RU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↔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Ba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2+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2Cl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BaCl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O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Garamond"/>
                        </a:rPr>
                        <a:t>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бесцве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 flipH="1">
            <a:off x="4787640" y="5373720"/>
            <a:ext cx="215640" cy="358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Bookman Old Style"/>
              </a:rPr>
              <a:t>ОКРАСКА ЛАКМ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628640"/>
          <a:ext cx="8580240" cy="3678480"/>
        </p:xfrm>
        <a:graphic>
          <a:graphicData uri="http://schemas.openxmlformats.org/drawingml/2006/table">
            <a:tbl>
              <a:tblPr/>
              <a:tblGrid>
                <a:gridCol w="2881080"/>
                <a:gridCol w="1922760"/>
                <a:gridCol w="2106360"/>
                <a:gridCol w="16700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Окраска лакмусовой бума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Сре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Ио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Раствор щело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Bookman Old Style"/>
                          <a:ea typeface="Times New Roman"/>
                        </a:rPr>
                        <a:t>Синя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Щело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ОН</a:t>
                      </a:r>
                      <a:r>
                        <a:rPr b="1" lang="en-US" sz="2400" spc="-1" strike="noStrike" baseline="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Раствор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Bookman Old Style"/>
                          <a:ea typeface="Times New Roman"/>
                        </a:rPr>
                        <a:t>Крас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Кислот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Н</a:t>
                      </a:r>
                      <a:r>
                        <a:rPr b="1" lang="en-US" sz="2400" spc="-1" strike="noStrike" baseline="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Дистиллированная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Не измен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Нейтр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Н</a:t>
                      </a:r>
                      <a:r>
                        <a:rPr b="1" lang="en-US" sz="2400" spc="-1" strike="noStrike" baseline="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 = ОН</a:t>
                      </a:r>
                      <a:r>
                        <a:rPr b="1" lang="en-US" sz="2400" spc="-1" strike="noStrike" baseline="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23" descr="j0283871"/>
          <p:cNvPicPr/>
          <p:nvPr/>
        </p:nvPicPr>
        <p:blipFill>
          <a:blip r:embed="rId1"/>
          <a:stretch/>
        </p:blipFill>
        <p:spPr>
          <a:xfrm>
            <a:off x="250920" y="476280"/>
            <a:ext cx="1547640" cy="11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ookman Old Style"/>
              </a:rPr>
              <a:t>Окраска лакмуса в растворах со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хлорида алюминия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42"/>
                </a:solidFill>
                <a:latin typeface="Bookman Old Style"/>
              </a:rPr>
              <a:t>        </a:t>
            </a:r>
            <a:r>
              <a:rPr b="1" lang="en-US" sz="28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Cl</a:t>
            </a:r>
            <a:r>
              <a:rPr b="1" lang="ru-RU" sz="28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                   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карбоната нат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                        </a:t>
            </a:r>
            <a:r>
              <a:rPr b="1" lang="en-US" sz="28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</a:t>
            </a:r>
            <a:r>
              <a:rPr b="1" lang="ru-RU" sz="28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O</a:t>
            </a:r>
            <a:r>
              <a:rPr b="1" lang="ru-RU" sz="28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                               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хлорида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42"/>
                </a:solidFill>
                <a:latin typeface="Bookman Old Style"/>
              </a:rPr>
              <a:t>                                               </a:t>
            </a:r>
            <a:r>
              <a:rPr b="1" lang="en-US" sz="28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Cl</a:t>
            </a:r>
            <a:r>
              <a:rPr b="1" lang="ru-RU" sz="2800" spc="-1" strike="noStrike">
                <a:solidFill>
                  <a:srgbClr val="420042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492280"/>
            <a:ext cx="914400" cy="2171880"/>
          </a:xfrm>
          <a:prstGeom prst="flowChartMagneticDisk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3573360"/>
            <a:ext cx="914400" cy="2171880"/>
          </a:xfrm>
          <a:prstGeom prst="flowChartMagneticDisk">
            <a:avLst/>
          </a:prstGeom>
          <a:solidFill>
            <a:srgbClr val="00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4508640"/>
            <a:ext cx="912960" cy="2173320"/>
          </a:xfrm>
          <a:prstGeom prst="flowChartMagneticDisk">
            <a:avLst/>
          </a:pr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Bookman Old Style"/>
              </a:rPr>
              <a:t>«ГИДРОЛИЗ» -</a:t>
            </a:r>
            <a:br>
              <a:rPr sz="6600"/>
            </a:br>
            <a:r>
              <a:rPr b="1" i="1" lang="ru-RU" sz="6600" spc="-1" strike="noStrike">
                <a:solidFill>
                  <a:srgbClr val="420042"/>
                </a:solidFill>
                <a:latin typeface="Bookman Old Style"/>
              </a:rPr>
              <a:t>от греческого</a:t>
            </a:r>
            <a:br>
              <a:rPr sz="6600"/>
            </a:br>
            <a:r>
              <a:rPr b="1" lang="ru-RU" sz="6600" spc="-1" strike="noStrike">
                <a:solidFill>
                  <a:srgbClr val="420042"/>
                </a:solidFill>
                <a:latin typeface="Bookman Old Style"/>
              </a:rPr>
              <a:t> «гидро» - вода</a:t>
            </a:r>
            <a:br>
              <a:rPr sz="6600"/>
            </a:br>
            <a:r>
              <a:rPr b="1" lang="ru-RU" sz="6600" spc="-1" strike="noStrike">
                <a:solidFill>
                  <a:srgbClr val="420042"/>
                </a:solidFill>
                <a:latin typeface="Bookman Old Style"/>
              </a:rPr>
              <a:t>«лизис» - разлож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2" descr="BD05382_"/>
          <p:cNvPicPr/>
          <p:nvPr/>
        </p:nvPicPr>
        <p:blipFill>
          <a:blip r:embed="rId1"/>
          <a:stretch/>
        </p:blipFill>
        <p:spPr>
          <a:xfrm>
            <a:off x="7308720" y="5013360"/>
            <a:ext cx="1690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ОКРАСКА ЛАКМУСА В </a:t>
            </a: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РАСТВОРАХ С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16280"/>
          <a:ext cx="8713800" cy="4303440"/>
        </p:xfrm>
        <a:graphic>
          <a:graphicData uri="http://schemas.openxmlformats.org/drawingml/2006/table">
            <a:tbl>
              <a:tblPr/>
              <a:tblGrid>
                <a:gridCol w="2665440"/>
                <a:gridCol w="2447640"/>
                <a:gridCol w="1989360"/>
                <a:gridCol w="1611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Окраска лакмо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Сре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Ио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Хлорид алюминия   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AlCl</a:t>
                      </a:r>
                      <a:r>
                        <a:rPr b="1" lang="en-US" sz="2400" spc="-1" strike="noStrike" baseline="-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Bookman Old Style"/>
                          <a:ea typeface="Arial"/>
                        </a:rPr>
                        <a:t>Кра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Карбонат натрия  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Na</a:t>
                      </a:r>
                      <a:r>
                        <a:rPr b="1" lang="en-US" sz="2400" spc="-1" strike="noStrike" baseline="-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CO</a:t>
                      </a:r>
                      <a:r>
                        <a:rPr b="1" lang="en-US" sz="2400" spc="-1" strike="noStrike" baseline="-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Bookman Old Style"/>
                          <a:ea typeface="Arial"/>
                        </a:rPr>
                        <a:t>С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Хлорид натр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Na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f007e"/>
                          </a:solidFill>
                          <a:latin typeface="Bookman Old Style"/>
                          <a:ea typeface="Arial"/>
                        </a:rPr>
                        <a:t>Фиолетовый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885080" y="476280"/>
            <a:ext cx="8478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Схема гидролиза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хлорида алюми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                   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Cl</a:t>
            </a:r>
            <a:r>
              <a:rPr b="1" lang="ru-RU" sz="44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(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)</a:t>
            </a:r>
            <a:r>
              <a:rPr b="1" lang="ru-RU" sz="40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лабое основание 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ильная кислота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&lt;           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 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(что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ильней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того и больше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л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н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я 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708360" y="2708280"/>
            <a:ext cx="720720" cy="57636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2708280"/>
            <a:ext cx="863640" cy="57636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1700280"/>
            <a:ext cx="914400" cy="2171520"/>
          </a:xfrm>
          <a:prstGeom prst="flowChartMagneticDisk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64000" y="6021360"/>
            <a:ext cx="20098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Механизм гидролиза хлорида алюми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7249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  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+ O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Cl</a:t>
            </a:r>
            <a:r>
              <a:rPr b="1" lang="ru-RU" sz="3200" spc="-1" strike="noStrike" baseline="-25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3+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 3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3+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3Cl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HO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 OH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2-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4000" spc="-1" strike="noStrike" u="sng">
                <a:solidFill>
                  <a:srgbClr val="420042"/>
                </a:solidFill>
                <a:uFillTx/>
                <a:latin typeface="Bookman Old Style"/>
                <a:ea typeface="Times New Roman"/>
              </a:rPr>
              <a:t>H</a:t>
            </a:r>
            <a:r>
              <a:rPr b="1" lang="en-US" sz="4000" spc="-1" strike="noStrike" u="sng" baseline="30000">
                <a:solidFill>
                  <a:srgbClr val="420042"/>
                </a:solidFill>
                <a:uFillTx/>
                <a:latin typeface="Bookman Old Style"/>
                <a:ea typeface="Times New Roman"/>
              </a:rPr>
              <a:t>+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3Cl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AlCl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+ </a:t>
            </a: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H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     </a:t>
            </a: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AlOHCl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  + </a:t>
            </a: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1773360"/>
            <a:ext cx="79200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1844640"/>
            <a:ext cx="79200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637000"/>
            <a:ext cx="129672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835280" y="2781360"/>
            <a:ext cx="129672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3789360"/>
            <a:ext cx="43164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11280" y="3933720"/>
            <a:ext cx="43164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4000" y="1413000"/>
            <a:ext cx="554040" cy="1811160"/>
          </a:xfrm>
          <a:prstGeom prst="flowChartMagneticDisk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HM00361_"/>
          <p:cNvPicPr/>
          <p:nvPr/>
        </p:nvPicPr>
        <p:blipFill>
          <a:blip r:embed="rId1"/>
          <a:stretch/>
        </p:blipFill>
        <p:spPr>
          <a:xfrm>
            <a:off x="971640" y="5397480"/>
            <a:ext cx="1655640" cy="1290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437000"/>
            <a:ext cx="649080" cy="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640" y="4581360"/>
            <a:ext cx="719280" cy="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04000" y="5229360"/>
            <a:ext cx="1871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007e"/>
                </a:solidFill>
                <a:latin typeface="Bookman Old Style"/>
              </a:rPr>
              <a:t>Схема гидролиза карбоната на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Na</a:t>
            </a:r>
            <a:r>
              <a:rPr b="1" lang="ru-RU" sz="4400" spc="-1" strike="noStrike" baseline="-25000">
                <a:solidFill>
                  <a:srgbClr val="420042"/>
                </a:solidFill>
                <a:latin typeface="Bookman Old Style"/>
              </a:rPr>
              <a:t>2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CO</a:t>
            </a:r>
            <a:r>
              <a:rPr b="1" lang="ru-RU" sz="4400" spc="-1" strike="noStrike" baseline="-25000">
                <a:solidFill>
                  <a:srgbClr val="420042"/>
                </a:solidFill>
                <a:latin typeface="Bookman Old Style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Na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ru-RU" sz="4400" spc="-1" strike="noStrike" baseline="-25000">
                <a:solidFill>
                  <a:srgbClr val="420042"/>
                </a:solidFill>
                <a:latin typeface="Bookman Old Style"/>
              </a:rPr>
              <a:t>2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CO</a:t>
            </a:r>
            <a:r>
              <a:rPr b="1" lang="ru-RU" sz="4400" spc="-1" strike="noStrike" baseline="-25000">
                <a:solidFill>
                  <a:srgbClr val="420042"/>
                </a:solidFill>
                <a:latin typeface="Bookman Old Style"/>
              </a:rPr>
              <a:t>3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ильное основание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лабая  кислота</a:t>
            </a:r>
            <a:r>
              <a:rPr b="0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</a:rPr>
              <a:t>&gt;</a:t>
            </a:r>
            <a:r>
              <a:rPr b="0" lang="ru-RU" sz="3600" spc="-1" strike="noStrike">
                <a:solidFill>
                  <a:srgbClr val="420042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 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(что</a:t>
            </a:r>
            <a:r>
              <a:rPr b="0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ильней</a:t>
            </a:r>
            <a:r>
              <a:rPr b="0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того и больше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Щ е л о ч н а я   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843280" y="2708280"/>
            <a:ext cx="1079280" cy="79200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2708280"/>
            <a:ext cx="1223640" cy="72072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1557360"/>
            <a:ext cx="914400" cy="2171520"/>
          </a:xfrm>
          <a:prstGeom prst="flowChartMagneticDisk">
            <a:avLst/>
          </a:prstGeom>
          <a:solidFill>
            <a:srgbClr val="0000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92360" y="6165720"/>
            <a:ext cx="20098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e005c"/>
                </a:solidFill>
                <a:latin typeface="Bookman Old Style"/>
              </a:rPr>
              <a:t>Механизм гидролиза карбоната на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6480" y="1628280"/>
            <a:ext cx="8507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  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+ O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O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              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O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2-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2Na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CO</a:t>
            </a:r>
            <a:r>
              <a:rPr b="1" lang="en-US" sz="3200" spc="-1" strike="noStrike" baseline="-25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2-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HO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HCO</a:t>
            </a:r>
            <a:r>
              <a:rPr b="1" lang="en-US" sz="3200" spc="-1" strike="noStrike" baseline="-25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2Na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</a:t>
            </a:r>
            <a:r>
              <a:rPr b="1" lang="en-US" sz="3600" spc="-1" strike="noStrike" u="sng">
                <a:solidFill>
                  <a:srgbClr val="420042"/>
                </a:solidFill>
                <a:uFillTx/>
                <a:latin typeface="Bookman Old Style"/>
                <a:ea typeface="Times New Roman"/>
              </a:rPr>
              <a:t>OH</a:t>
            </a:r>
            <a:r>
              <a:rPr b="1" lang="en-US" sz="3600" spc="-1" strike="noStrike" u="sng" baseline="30000">
                <a:solidFill>
                  <a:srgbClr val="420042"/>
                </a:solidFill>
                <a:uFillTx/>
                <a:latin typeface="Bookman Old Style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Na</a:t>
            </a:r>
            <a:r>
              <a:rPr b="1" lang="en-US" sz="3600" spc="-1" strike="noStrike" baseline="-25000">
                <a:solidFill>
                  <a:srgbClr val="3f007e"/>
                </a:solidFill>
                <a:latin typeface="Bookman Old Style"/>
              </a:rPr>
              <a:t>2</a:t>
            </a: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CO</a:t>
            </a:r>
            <a:r>
              <a:rPr b="1" lang="en-US" sz="3600" spc="-1" strike="noStrike" baseline="-25000">
                <a:solidFill>
                  <a:srgbClr val="3f007e"/>
                </a:solidFill>
                <a:latin typeface="Bookman Old Style"/>
              </a:rPr>
              <a:t>3</a:t>
            </a: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 +H</a:t>
            </a:r>
            <a:r>
              <a:rPr b="1" lang="en-US" sz="3600" spc="-1" strike="noStrike" baseline="-25000">
                <a:solidFill>
                  <a:srgbClr val="3f007e"/>
                </a:solidFill>
                <a:latin typeface="Bookman Old Style"/>
              </a:rPr>
              <a:t>2</a:t>
            </a: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O</a:t>
            </a:r>
            <a:r>
              <a:rPr b="1" lang="ru-RU" sz="3600" spc="-1" strike="noStrike">
                <a:solidFill>
                  <a:srgbClr val="3f007e"/>
                </a:solidFill>
                <a:latin typeface="Bookman Old Style"/>
              </a:rPr>
              <a:t>    </a:t>
            </a: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NaHCO</a:t>
            </a:r>
            <a:r>
              <a:rPr b="1" lang="en-US" sz="3600" spc="-1" strike="noStrike" baseline="-25000">
                <a:solidFill>
                  <a:srgbClr val="3f007e"/>
                </a:solidFill>
                <a:latin typeface="Bookman Old Style"/>
              </a:rPr>
              <a:t>3</a:t>
            </a: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+Na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1844640"/>
            <a:ext cx="79200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547280" y="1989000"/>
            <a:ext cx="79236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2781360"/>
            <a:ext cx="129672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556000" y="2924280"/>
            <a:ext cx="129672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3860640"/>
            <a:ext cx="43200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716360" y="4005360"/>
            <a:ext cx="43200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1052640"/>
            <a:ext cx="914400" cy="2171520"/>
          </a:xfrm>
          <a:prstGeom prst="flowChartMagneticDisk">
            <a:avLst/>
          </a:prstGeom>
          <a:solidFill>
            <a:srgbClr val="0000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M00361_"/>
          <p:cNvPicPr/>
          <p:nvPr/>
        </p:nvPicPr>
        <p:blipFill>
          <a:blip r:embed="rId1"/>
          <a:stretch/>
        </p:blipFill>
        <p:spPr>
          <a:xfrm>
            <a:off x="971640" y="5397480"/>
            <a:ext cx="1655640" cy="1290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24360" y="4508640"/>
            <a:ext cx="431640" cy="0"/>
          </a:xfrm>
          <a:prstGeom prst="line">
            <a:avLst/>
          </a:prstGeom>
          <a:ln w="28440">
            <a:solidFill>
              <a:srgbClr val="3f00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924000" y="4653000"/>
            <a:ext cx="431640" cy="0"/>
          </a:xfrm>
          <a:prstGeom prst="line">
            <a:avLst/>
          </a:prstGeom>
          <a:ln w="28440">
            <a:solidFill>
              <a:srgbClr val="3f00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04000" y="5229360"/>
            <a:ext cx="1871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2:44:27Z</dcterms:created>
  <dc:creator>1</dc:creator>
  <dc:description/>
  <dc:language>en-US</dc:language>
  <cp:lastModifiedBy>Для всех</cp:lastModifiedBy>
  <dcterms:modified xsi:type="dcterms:W3CDTF">2011-01-15T16:11:15Z</dcterms:modified>
  <cp:revision>40</cp:revision>
  <dc:subject/>
  <dc:title>Томилова Наталья Владимировна</dc:title>
</cp:coreProperties>
</file>