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185F-5ACE-440B-AC5B-42F0382E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E8A2-DBCD-422F-8BE3-76747B46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726D-F176-42DA-8411-A8FCAC2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0FB5-735B-4FDE-A9A7-044EF644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CE74-6A72-4036-A554-73969EA0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6E39-8069-404F-8BD5-5C0C021F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069-64C9-41BF-B634-07E9F40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5D70-0665-4A3F-B81A-EC6E1624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1ADB-2DF4-4ABE-A803-6DF1E5D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149-C324-47D9-8EA3-1D7C22C3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CF2-70F9-4875-96AD-A7CDF64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4484-8B4F-4F8E-A2E5-10139FCB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2708-91E0-4E32-A403-5A7E257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23C-E8B6-45C0-82CF-7BC378E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4A6-B116-43E0-B674-13841C8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F55E-6C81-40C1-B8F5-2BFD8F1C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111B-F188-49DE-97EA-2EBDCFE7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369A-03BA-4F7F-981E-91B4195D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1C0A-B9F5-47BB-9474-15FA7EBA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4C61-4394-4F84-ADA6-4236205A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1820-52EC-4E29-B9C8-F1F89CFE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3147-AB79-4390-AD6B-353DE5C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95B8-369D-47D0-B4C8-4BCE8AF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1ADD-081E-421E-9125-78011B1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3A3-4085-4100-9967-0AC9D982D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138-D9DB-4533-B25B-BA99EBBD2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920" y="620640"/>
            <a:ext cx="7344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ГИДРОЛИЗ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09" name="Picture 5" descr="лицей 056"/>
          <p:cNvPicPr/>
          <p:nvPr/>
        </p:nvPicPr>
        <p:blipFill>
          <a:blip r:embed="rId1"/>
          <a:stretch/>
        </p:blipFill>
        <p:spPr>
          <a:xfrm>
            <a:off x="179280" y="3789360"/>
            <a:ext cx="331164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лицей 023"/>
          <p:cNvPicPr/>
          <p:nvPr/>
        </p:nvPicPr>
        <p:blipFill>
          <a:blip r:embed="rId2"/>
          <a:stretch/>
        </p:blipFill>
        <p:spPr>
          <a:xfrm>
            <a:off x="5076720" y="3716280"/>
            <a:ext cx="3743280" cy="2665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484360" y="5229360"/>
            <a:ext cx="32400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Схема гидролиза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 хлорида на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</a:t>
            </a:r>
            <a:r>
              <a:rPr b="1" lang="ru-RU" sz="4400" spc="-1" strike="noStrike">
                <a:solidFill>
                  <a:srgbClr val="420042"/>
                </a:solidFill>
                <a:latin typeface="Bookman Old Style"/>
                <a:ea typeface="Arial"/>
              </a:rPr>
              <a:t>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ое основание                 сильная кислота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005c"/>
                </a:solidFill>
                <a:latin typeface="Bookman Old Style"/>
                <a:ea typeface="Times New Roman"/>
              </a:rPr>
              <a:t>Н е й т р а л ь н а я 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2421000"/>
            <a:ext cx="107928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2421000"/>
            <a:ext cx="122400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981000"/>
            <a:ext cx="91296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630540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ookman Old Style"/>
              </a:rPr>
              <a:t>Механизм гидролиза хлорид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l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Na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Cl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      </a:t>
            </a:r>
            <a:r>
              <a:rPr b="1" i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i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 Na</a:t>
            </a:r>
            <a:r>
              <a:rPr b="1" i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i="1" lang="en-US" sz="36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H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Данная соль гидролизу не подверг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198900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402920" y="213372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2924280"/>
            <a:ext cx="129708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92000" y="2997360"/>
            <a:ext cx="129708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393372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35280" y="407664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0720" y="1268280"/>
            <a:ext cx="91260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HM00361_"/>
          <p:cNvPicPr/>
          <p:nvPr/>
        </p:nvPicPr>
        <p:blipFill>
          <a:blip r:embed="rId1"/>
          <a:stretch/>
        </p:blipFill>
        <p:spPr>
          <a:xfrm>
            <a:off x="539640" y="5373720"/>
            <a:ext cx="1656000" cy="12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ГИДРОЛИЗ</a:t>
            </a:r>
            <a:r>
              <a:rPr b="0" lang="en-US" sz="4800" spc="-1" strike="noStrike">
                <a:solidFill>
                  <a:srgbClr val="660033"/>
                </a:solidFill>
                <a:latin typeface="Bookman Old Style"/>
              </a:rPr>
              <a:t>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</a:rPr>
              <a:t>это реакция обмена между некоторыми солями и водой приводящая к образованию слабого электроли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12000" y="4941720"/>
            <a:ext cx="819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42"/>
                </a:solidFill>
                <a:latin typeface="Bookman Old Style"/>
              </a:rPr>
              <a:t>Самостоятельно </a:t>
            </a:r>
            <a:br>
              <a:rPr sz="3600"/>
            </a:br>
            <a:r>
              <a:rPr b="1" lang="en-US" sz="3600" spc="-1" strike="noStrike">
                <a:solidFill>
                  <a:srgbClr val="420042"/>
                </a:solidFill>
                <a:latin typeface="Bookman Old Style"/>
              </a:rPr>
              <a:t>заполните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844640"/>
          <a:ext cx="8435880" cy="4079880"/>
        </p:xfrm>
        <a:graphic>
          <a:graphicData uri="http://schemas.openxmlformats.org/drawingml/2006/table">
            <a:tbl>
              <a:tblPr/>
              <a:tblGrid>
                <a:gridCol w="1882800"/>
                <a:gridCol w="3647880"/>
                <a:gridCol w="1247760"/>
                <a:gridCol w="1657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Название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Уравнение гидроли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Среда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Окраска лакму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Карбонат к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Нитрат железа (</a:t>
                      </a: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e005c"/>
                          </a:solidFill>
                          <a:latin typeface="Bookman Old Style"/>
                        </a:rPr>
                        <a:t>Хлорид ба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60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765000"/>
          <a:ext cx="8713800" cy="5616720"/>
        </p:xfrm>
        <a:graphic>
          <a:graphicData uri="http://schemas.openxmlformats.org/drawingml/2006/table">
            <a:tbl>
              <a:tblPr/>
              <a:tblGrid>
                <a:gridCol w="1225440"/>
                <a:gridCol w="5183280"/>
                <a:gridCol w="1225440"/>
                <a:gridCol w="10796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азвание с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Уравнение гидро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Среда раств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Окраска лакм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Карбонат к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 ↔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O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K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↔  KHC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K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Щелоч 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Bookman Old Style"/>
                        </a:rPr>
                        <a:t>си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итрат железа (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I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Fe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↔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  FeO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Fe(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)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↔  FeOH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HNO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Bookman Old Style"/>
                        </a:rPr>
                        <a:t>крас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Хлорид б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Ba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2Cl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r>
                        <a:rPr b="1" lang="ru-RU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↔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Ba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2+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+ 2Cl</a:t>
                      </a:r>
                      <a:r>
                        <a:rPr b="1" lang="en-US" sz="2000" spc="-1" strike="noStrike" baseline="30000">
                          <a:solidFill>
                            <a:srgbClr val="420042"/>
                          </a:solidFill>
                          <a:latin typeface="Bookman Old Style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BaCl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 + H</a:t>
                      </a:r>
                      <a:r>
                        <a:rPr b="1" lang="en-US" sz="2000" spc="-1" strike="noStrike" baseline="-25000">
                          <a:solidFill>
                            <a:srgbClr val="420042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O </a:t>
                      </a: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Garamond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20042"/>
                          </a:solidFill>
                          <a:latin typeface="Bookman Old Style"/>
                        </a:rPr>
                        <a:t>бесцв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 flipH="1">
            <a:off x="4787640" y="5373720"/>
            <a:ext cx="215640" cy="358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Bookman Old Style"/>
              </a:rPr>
              <a:t>ОКРАСКА ЛАК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628640"/>
          <a:ext cx="8580240" cy="3678480"/>
        </p:xfrm>
        <a:graphic>
          <a:graphicData uri="http://schemas.openxmlformats.org/drawingml/2006/table">
            <a:tbl>
              <a:tblPr/>
              <a:tblGrid>
                <a:gridCol w="2881080"/>
                <a:gridCol w="1922760"/>
                <a:gridCol w="2106360"/>
                <a:gridCol w="16700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краска лакмусовой бума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Сре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Раствор 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Bookman Old Style"/>
                          <a:ea typeface="Times New Roman"/>
                        </a:rPr>
                        <a:t>Си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Щел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Раствор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Bookman Old Style"/>
                          <a:ea typeface="Times New Roman"/>
                        </a:rPr>
                        <a:t>Кра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Кислот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Дистиллированн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Arial"/>
                        </a:rPr>
                        <a:t>Не измен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ейтр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 = ОН</a:t>
                      </a:r>
                      <a:r>
                        <a:rPr b="1" lang="en-US" sz="2400" spc="-1" strike="noStrike" baseline="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23" descr="j0283871"/>
          <p:cNvPicPr/>
          <p:nvPr/>
        </p:nvPicPr>
        <p:blipFill>
          <a:blip r:embed="rId1"/>
          <a:stretch/>
        </p:blipFill>
        <p:spPr>
          <a:xfrm>
            <a:off x="250920" y="476280"/>
            <a:ext cx="1547640" cy="11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ookman Old Style"/>
              </a:rPr>
              <a:t>Окраска лакмуса в растворах со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хлорида алюмини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карбоната нат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28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                       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</a:rPr>
              <a:t>хлорида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                                              </a:t>
            </a:r>
            <a:r>
              <a:rPr b="1" lang="en-US" sz="28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Cl</a:t>
            </a:r>
            <a:r>
              <a:rPr b="1" lang="ru-RU" sz="2800" spc="-1" strike="noStrike">
                <a:solidFill>
                  <a:srgbClr val="420042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492280"/>
            <a:ext cx="914400" cy="217188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573360"/>
            <a:ext cx="914400" cy="2171880"/>
          </a:xfrm>
          <a:prstGeom prst="flowChartMagneticDisk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4508640"/>
            <a:ext cx="912960" cy="2173320"/>
          </a:xfrm>
          <a:prstGeom prst="flowChartMagneticDisk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Bookman Old Style"/>
              </a:rPr>
              <a:t>«ГИДРОЛИЗ» -</a:t>
            </a:r>
            <a:br>
              <a:rPr sz="6600"/>
            </a:br>
            <a:r>
              <a:rPr b="1" i="1" lang="ru-RU" sz="6600" spc="-1" strike="noStrike">
                <a:solidFill>
                  <a:srgbClr val="420042"/>
                </a:solidFill>
                <a:latin typeface="Bookman Old Style"/>
              </a:rPr>
              <a:t>от греческого</a:t>
            </a:r>
            <a:br>
              <a:rPr sz="6600"/>
            </a:br>
            <a:r>
              <a:rPr b="1" lang="ru-RU" sz="6600" spc="-1" strike="noStrike">
                <a:solidFill>
                  <a:srgbClr val="420042"/>
                </a:solidFill>
                <a:latin typeface="Bookman Old Style"/>
              </a:rPr>
              <a:t> «гидро» - вода</a:t>
            </a:r>
            <a:br>
              <a:rPr sz="6600"/>
            </a:br>
            <a:r>
              <a:rPr b="1" lang="ru-RU" sz="6600" spc="-1" strike="noStrike">
                <a:solidFill>
                  <a:srgbClr val="420042"/>
                </a:solidFill>
                <a:latin typeface="Bookman Old Style"/>
              </a:rPr>
              <a:t>«лизис» - разлож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2" descr="BD05382_"/>
          <p:cNvPicPr/>
          <p:nvPr/>
        </p:nvPicPr>
        <p:blipFill>
          <a:blip r:embed="rId1"/>
          <a:stretch/>
        </p:blipFill>
        <p:spPr>
          <a:xfrm>
            <a:off x="7308720" y="5013360"/>
            <a:ext cx="1690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ОКРАСКА ЛАКМУСА В 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РАСТВОРАХ С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16280"/>
          <a:ext cx="8713800" cy="4303440"/>
        </p:xfrm>
        <a:graphic>
          <a:graphicData uri="http://schemas.openxmlformats.org/drawingml/2006/table">
            <a:tbl>
              <a:tblPr/>
              <a:tblGrid>
                <a:gridCol w="2665440"/>
                <a:gridCol w="2447640"/>
                <a:gridCol w="1989360"/>
                <a:gridCol w="1611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Окраска лакмо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Сре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Хлорид алюминия  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AlCl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Bookman Old Style"/>
                          <a:ea typeface="Arial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Карбонат натрия 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Na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CO</a:t>
                      </a:r>
                      <a:r>
                        <a:rPr b="1" lang="en-US" sz="2400" spc="-1" strike="noStrike" baseline="-30000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Bookman Old Style"/>
                          <a:ea typeface="Arial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Хлорид натр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Times New Roman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f007e"/>
                          </a:solidFill>
                          <a:latin typeface="Bookman Old Style"/>
                          <a:ea typeface="Arial"/>
                        </a:rPr>
                        <a:t>Фиолетовый</a:t>
                      </a:r>
                      <a:r>
                        <a:rPr b="1" lang="en-US" sz="24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20042"/>
                          </a:solidFill>
                          <a:latin typeface="Bookman Old Style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85080" y="476280"/>
            <a:ext cx="8478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Схема гидролиза 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хлорида алюми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44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)</a:t>
            </a:r>
            <a:r>
              <a:rPr b="1" lang="ru-RU" sz="40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лабое основание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ая кислота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&lt; 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что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ей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того и больше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я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708360" y="2708280"/>
            <a:ext cx="720720" cy="57636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2708280"/>
            <a:ext cx="863640" cy="57636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1700280"/>
            <a:ext cx="914400" cy="217152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602136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Механизм гидролиза хлорида алюми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7249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Cl</a:t>
            </a:r>
            <a:r>
              <a:rPr b="1" lang="ru-RU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3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3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3+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3C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Al OH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40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H</a:t>
            </a:r>
            <a:r>
              <a:rPr b="1" lang="en-US" sz="4000" spc="-1" strike="noStrike" u="sng" baseline="30000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3Cl</a:t>
            </a:r>
            <a:r>
              <a:rPr b="1" lang="en-US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AlCl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+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  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AlOHCl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+ </a:t>
            </a:r>
            <a:r>
              <a:rPr b="1" lang="en-US" sz="3200" spc="-1" strike="noStrike">
                <a:solidFill>
                  <a:srgbClr val="660033"/>
                </a:solidFill>
                <a:latin typeface="Bookman Old Style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177336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184464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63700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35280" y="278136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3789360"/>
            <a:ext cx="43164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11280" y="3933720"/>
            <a:ext cx="43164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1413000"/>
            <a:ext cx="554040" cy="1811160"/>
          </a:xfrm>
          <a:prstGeom prst="flowChartMagneticDisk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HM00361_"/>
          <p:cNvPicPr/>
          <p:nvPr/>
        </p:nvPicPr>
        <p:blipFill>
          <a:blip r:embed="rId1"/>
          <a:stretch/>
        </p:blipFill>
        <p:spPr>
          <a:xfrm>
            <a:off x="971640" y="5397480"/>
            <a:ext cx="1655640" cy="12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437000"/>
            <a:ext cx="649080" cy="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640" y="4581360"/>
            <a:ext cx="719280" cy="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007e"/>
                </a:solidFill>
                <a:latin typeface="Bookman Old Style"/>
              </a:rPr>
              <a:t>Схема гидролиза карбонат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O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Na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420042"/>
                </a:solidFill>
                <a:latin typeface="Bookman Old Style"/>
              </a:rPr>
              <a:t>CO</a:t>
            </a:r>
            <a:r>
              <a:rPr b="1" lang="ru-RU" sz="4400" spc="-1" strike="noStrike" baseline="-25000">
                <a:solidFill>
                  <a:srgbClr val="420042"/>
                </a:solidFill>
                <a:latin typeface="Bookman Old Style"/>
              </a:rPr>
              <a:t>3</a:t>
            </a:r>
            <a:r>
              <a:rPr b="1" lang="en-US" sz="40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ое основание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лабая  кислота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&gt;</a:t>
            </a:r>
            <a:r>
              <a:rPr b="0" lang="ru-RU" sz="3600" spc="-1" strike="noStrike">
                <a:solidFill>
                  <a:srgbClr val="420042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     [</a:t>
            </a:r>
            <a:r>
              <a:rPr b="1" lang="en-US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]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Arial"/>
              </a:rPr>
              <a:t>            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(что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сильней</a:t>
            </a:r>
            <a:r>
              <a:rPr b="0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того и больше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Щ е л о ч н а я  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43280" y="2708280"/>
            <a:ext cx="1079280" cy="79200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708280"/>
            <a:ext cx="1223640" cy="720720"/>
          </a:xfrm>
          <a:prstGeom prst="line">
            <a:avLst/>
          </a:prstGeom>
          <a:ln w="3816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1557360"/>
            <a:ext cx="914400" cy="2171520"/>
          </a:xfrm>
          <a:prstGeom prst="flowChartMagneticDisk">
            <a:avLst/>
          </a:prstGeom>
          <a:solidFill>
            <a:srgbClr val="0000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92360" y="6165720"/>
            <a:ext cx="2009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e005c"/>
                </a:solidFill>
                <a:latin typeface="Bookman Old Style"/>
              </a:rPr>
              <a:t>Механизм гидролиза карбоната 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6480" y="1628280"/>
            <a:ext cx="8507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O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+ 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              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Na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</a:t>
            </a:r>
            <a:r>
              <a:rPr b="1" lang="ru-RU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2Na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CO</a:t>
            </a:r>
            <a:r>
              <a:rPr b="1" lang="en-US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2-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HOH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    HCO</a:t>
            </a:r>
            <a:r>
              <a:rPr b="1" lang="en-US" sz="3200" spc="-1" strike="noStrike" baseline="-25000">
                <a:solidFill>
                  <a:srgbClr val="420042"/>
                </a:solidFill>
                <a:latin typeface="Bookman Old Style"/>
                <a:ea typeface="Times New Roman"/>
              </a:rPr>
              <a:t>3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-</a:t>
            </a:r>
            <a:r>
              <a:rPr b="1" lang="ru-RU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+2Na</a:t>
            </a:r>
            <a:r>
              <a:rPr b="1" lang="en-US" sz="3200" spc="-1" strike="noStrike" baseline="30000">
                <a:solidFill>
                  <a:srgbClr val="420042"/>
                </a:solidFill>
                <a:latin typeface="Bookman Old Style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420042"/>
                </a:solidFill>
                <a:latin typeface="Bookman Old Style"/>
                <a:ea typeface="Times New Roman"/>
              </a:rPr>
              <a:t> +</a:t>
            </a:r>
            <a:r>
              <a:rPr b="1" lang="en-US" sz="3600" spc="-1" strike="noStrike" u="sng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OH</a:t>
            </a:r>
            <a:r>
              <a:rPr b="1" lang="en-US" sz="3600" spc="-1" strike="noStrike" u="sng" baseline="30000">
                <a:solidFill>
                  <a:srgbClr val="420042"/>
                </a:solidFill>
                <a:uFillTx/>
                <a:latin typeface="Bookman Old Style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Na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CO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3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 +H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O</a:t>
            </a:r>
            <a:r>
              <a:rPr b="1" lang="ru-RU" sz="3600" spc="-1" strike="noStrike">
                <a:solidFill>
                  <a:srgbClr val="3f007e"/>
                </a:solidFill>
                <a:latin typeface="Bookman Old Style"/>
              </a:rPr>
              <a:t>    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NaHCO</a:t>
            </a:r>
            <a:r>
              <a:rPr b="1" lang="en-US" sz="3600" spc="-1" strike="noStrike" baseline="-25000">
                <a:solidFill>
                  <a:srgbClr val="3f007e"/>
                </a:solidFill>
                <a:latin typeface="Bookman Old Style"/>
              </a:rPr>
              <a:t>3</a:t>
            </a:r>
            <a:r>
              <a:rPr b="1" lang="en-US" sz="3600" spc="-1" strike="noStrike">
                <a:solidFill>
                  <a:srgbClr val="3f007e"/>
                </a:solidFill>
                <a:latin typeface="Bookman Old Style"/>
              </a:rPr>
              <a:t>+Na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1844640"/>
            <a:ext cx="79200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47280" y="1989000"/>
            <a:ext cx="79236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278136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56000" y="2924280"/>
            <a:ext cx="1296720" cy="0"/>
          </a:xfrm>
          <a:prstGeom prst="line">
            <a:avLst/>
          </a:prstGeom>
          <a:ln w="1908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386064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16360" y="4005360"/>
            <a:ext cx="432000" cy="0"/>
          </a:xfrm>
          <a:prstGeom prst="line">
            <a:avLst/>
          </a:prstGeom>
          <a:ln w="28440">
            <a:solidFill>
              <a:srgbClr val="4200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1052640"/>
            <a:ext cx="914400" cy="2171520"/>
          </a:xfrm>
          <a:prstGeom prst="flowChartMagneticDisk">
            <a:avLst/>
          </a:prstGeom>
          <a:solidFill>
            <a:srgbClr val="0000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M00361_"/>
          <p:cNvPicPr/>
          <p:nvPr/>
        </p:nvPicPr>
        <p:blipFill>
          <a:blip r:embed="rId1"/>
          <a:stretch/>
        </p:blipFill>
        <p:spPr>
          <a:xfrm>
            <a:off x="971640" y="5397480"/>
            <a:ext cx="1655640" cy="1290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24360" y="4508640"/>
            <a:ext cx="431640" cy="0"/>
          </a:xfrm>
          <a:prstGeom prst="line">
            <a:avLst/>
          </a:prstGeom>
          <a:ln w="28440">
            <a:solidFill>
              <a:srgbClr val="3f00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24000" y="4653000"/>
            <a:ext cx="431640" cy="0"/>
          </a:xfrm>
          <a:prstGeom prst="line">
            <a:avLst/>
          </a:prstGeom>
          <a:ln w="28440">
            <a:solidFill>
              <a:srgbClr val="3f00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04000" y="5229360"/>
            <a:ext cx="1871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2:44:27Z</dcterms:created>
  <dc:creator>1</dc:creator>
  <dc:description/>
  <dc:language>en-US</dc:language>
  <cp:lastModifiedBy>Для всех</cp:lastModifiedBy>
  <dcterms:modified xsi:type="dcterms:W3CDTF">2011-01-15T16:11:15Z</dcterms:modified>
  <cp:revision>40</cp:revision>
  <dc:subject/>
  <dc:title>Томилова Наталья Владимировна</dc:title>
</cp:coreProperties>
</file>