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9D5-C1B4-4762-BBEE-D08A2EC5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AB4-4772-468B-AD8C-EEE39EFF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C44-5039-42D5-9105-D662317F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293-A5DF-40A7-9B50-B28C6270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CD44-D148-4A5D-B909-012C9D5D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E898-4111-4960-A76B-1AF80696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9E2F-C42D-4246-8F73-03C5004B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1BA1-2987-489A-A228-6CF14D07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B3A8-7FD5-457A-9DED-87F07F0A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82D5-BCAC-4344-98D7-E8A94403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5F7B-1253-48B2-B0A4-3671B23F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3AF-F0FC-4D3C-8742-2F153ED0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1D02-6099-4C84-AF62-0F724311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12B1-7FFF-463B-92C1-7E17B796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9F5A-4E4A-4CBB-84D1-E639ECCD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1702-7E21-4AB4-8B94-33712DA5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DF29-C4C1-4308-97BB-D93CA412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6F5-2F4F-4924-90DC-80F9FC9C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045-D106-4C2D-A57B-DE96CBBA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A85-4301-4E59-B9F9-270181EE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33D-CB3D-4546-B392-A3816F28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68F-2E5C-4358-99AF-44C23646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EC25-3FF9-4B04-9813-27C3085B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D75-3267-4F20-A61E-A97EB531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D986-DE16-4A4F-98EB-C3C04489B7A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3366ff"/>
                </a:solidFill>
                <a:latin typeface="Arial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400" spc="-1" strike="noStrike">
                  <a:solidFill>
                    <a:srgbClr val="3366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FD2C-3EB4-4BEC-8B5F-6EBB4C2379C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66ff"/>
                </a:solidFill>
                <a:latin typeface="Arial"/>
              </a:rPr>
              <a:t>Гимна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ССР художественная гимнастика как ви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рта возникла и сформировалась в 40-е гг. 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984г. – олимпийский вид спорта. Д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давнего времени, исключительно женск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спорта, однако с конца 20-го век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лагодаря усилиям японских гимнастов, ста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ься соревнования и межд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ужчина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art1"/>
          <p:cNvPicPr/>
          <p:nvPr/>
        </p:nvPicPr>
        <p:blipFill>
          <a:blip r:embed="rId1"/>
          <a:stretch/>
        </p:blipFill>
        <p:spPr>
          <a:xfrm>
            <a:off x="5364000" y="4581360"/>
            <a:ext cx="3257640" cy="20671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Термин «гимнастика» родился в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открывшейся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 1934 году «Высш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школе художественного движения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Ленинградского государственно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института физической культуры и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П.Ф.Лесгафт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i?id=48406111&amp;tov=3"/>
          <p:cNvPicPr/>
          <p:nvPr/>
        </p:nvPicPr>
        <p:blipFill>
          <a:blip r:embed="rId2"/>
          <a:stretch/>
        </p:blipFill>
        <p:spPr>
          <a:xfrm>
            <a:off x="5580000" y="4581360"/>
            <a:ext cx="1656000" cy="22766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Правила.</a:t>
            </a:r>
            <a:br>
              <a:rPr sz="4400"/>
            </a:b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Соревнования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жнения в художественно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имнастике выполняются не на снарядах, а с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нарядами. Оценки выставляются за выпол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жнений с каждым снарядом, но медали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а распределяются по сумме всех набр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чков. Оценка производится по трем критер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за сложность, артистичность и техник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. В личном зачете гимнаст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ют упражнения с 4 снарядами из 5 п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оему выбор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Упражнен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 время выполнения упражнений гимнастки должн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ть всю площадь ковра. В работе со снаряд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лжны участвовать обе руки. Снаряды должны постоян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ходиться в движении, в противном случае начисля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трафные очки. Упражнения должны длиться 57-9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кунд. За каждую просроченную (меньше или болш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казанного промежутка) секунду начисляется 0,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трафных очка. Каждая гимнастка обязана закончи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е так, чтобы касаться снаряда какой-либ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астью тела и одновременнно с окончанием музыки. 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емя выполнения упражнений тренеру запреща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говаривать со спортсменкой, судьями или музыкан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Судейство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и группы судей оценивают различ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лементы упражнения. Техническое жю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ивает уровень сложности. Художественн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юри оценивает композицию только 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ртистической точки зрения. Судьи следят 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еографией исполнения, выбором снарядов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вижениями тела, оригинальностью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стерством. Они также оцениваю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узыкальный аккомпанемент. Исполнительск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юри оценивает степень совершенства влад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нарядами, выразительность, виртуозность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ошиб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Подсчет оч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 индивидуальных соревновниях техническое и артистическое жюри производят оценку по 5-бальной системе, исполнительское - по 10-бальной. В групповых соревнованиях: техническое жюри - по 4-бальной, артистическое - 6-бальной, и исполнительское - по 10-бальной. Сопоставление оценок в индивидуальных и групповых соревнованиях отличается. В основном, очки, зачисленные 3-мя жюри складываются для вывода окончательной оценки. Минимальная градация в индивидуальных соревнованиях 10, в групповых -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За что же снимаются балл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оценке исполнения 0.05 оч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мается за незначитель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соответствия и нарушение точност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,1 очка - за небольшие ошибки, 0,2 – 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е, 0,3 - за грубые. Такж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маются очки за выход за преде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ощадки и потерю контроля на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арядом. Нарушением также являю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эстетичные элементы во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н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перь таким видом спорта ка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имнастика могут заниматься люб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елающий. 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более гибки - де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вои первые шаг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удожествен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имнастике даю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ксималь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в возрасте 3-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т, вед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м ребенка наиболе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л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развитию как быстрот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ижений, так 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ибкости, и отлично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ордина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авными качествами гимнаста являются сила воли, невероятная выносливость – ведь выдержать многочасовые тренировки способен не каждый, и, конечно же, пластик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5" descr="Увеличить картинку"/>
          <p:cNvPicPr/>
          <p:nvPr/>
        </p:nvPicPr>
        <p:blipFill>
          <a:blip r:embed="rId2"/>
          <a:stretch/>
        </p:blipFill>
        <p:spPr>
          <a:xfrm>
            <a:off x="6659640" y="3645000"/>
            <a:ext cx="1871640" cy="321300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Гимнастика детя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ает очен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ногое -  это и чувство ритма, 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стичность, и умение двигаться  - вс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не перечислишь. Существует множе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кол гимнаст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тех, кто хоч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владеть гимнастикой 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ом уровне, а такж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ножество секций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гимнаст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ител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Что же такое гимнаст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Гимнастика — вид спорт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ыполнение под музыку различ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гимнастических и танцевальных упражнен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без предмета, а также с предметом (скакалк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бруч, мяч, булавы, лента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2"/>
          <p:cNvPicPr/>
          <p:nvPr/>
        </p:nvPicPr>
        <p:blipFill>
          <a:blip r:embed="rId1"/>
          <a:stretch/>
        </p:blipFill>
        <p:spPr>
          <a:xfrm>
            <a:off x="2916360" y="3860640"/>
            <a:ext cx="5333760" cy="273060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ое место в гимнастик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нимают такие виды искусства, ка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нец и музыка. Музыкально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провождение развива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узыкальный слух, чувство ритма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 движений 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узыко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ства гимнастики соответствуют анатомо-физиологическим и психологическим особенностям женского организма. Они доступны при любом возрасте и конституции тела. Гимнастика подразделяется на основную, прикладную и художественную гимнастику со спортивной направленностью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Квалиф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лимпийских играх примут участие 84 гимнастки.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упп по 6 участниц и 24 индивидуальных участни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мнастки квалифицируются по странам, а 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дивидуально. 10 лучших стран по результат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мпионата мира в Осаке в 1999 году выставляют по дв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мнастки для личного первенства. Следующие 9 стран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1. Международная федерация гимнаст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ставляет еще 5 участницам "wild-card" - по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мнастке от Африки, Америки, Азии, Европы и Океании.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упп отбираются по результатам Чемпионата мира и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учают "wild-card"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зидентом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cc"/>
                </a:solidFill>
                <a:uFillTx/>
                <a:latin typeface="Verdana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мнастики избрана Ирина Винер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4" descr="233145383"/>
          <p:cNvPicPr/>
          <p:nvPr/>
        </p:nvPicPr>
        <p:blipFill>
          <a:blip r:embed="rId1"/>
          <a:stretch/>
        </p:blipFill>
        <p:spPr>
          <a:xfrm>
            <a:off x="2340000" y="2637000"/>
            <a:ext cx="4103640" cy="309708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Чемпионат России 2009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Verdana"/>
              </a:rPr>
              <a:t>    </a:t>
            </a:r>
            <a:r>
              <a:rPr b="1" lang="ru-RU" sz="1600" spc="-1" strike="noStrike" u="sng">
                <a:solidFill>
                  <a:srgbClr val="0033cc"/>
                </a:solidFill>
                <a:uFillTx/>
                <a:latin typeface="Verdana"/>
              </a:rPr>
              <a:t>Чемпионат России. Результаты. Мужчин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3.03.200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лимпийский чемпион Николай Крюков победил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 брусьях на чемпионате России по спортивн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имнастике в Брянск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емпионат России. РЕЗУЛЬТАТЫ. Женщин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3.03.2009 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сения Семенова завоевала два "золота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емпионата России по спортивной гимнастике – 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русьях и в вольных упражнен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емпионат России. РЕЗУЛЬТАТЫ. Мужчин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3.03.2009 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Юрий Рязанов из Владимира стал чемпионом России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льных упражнениях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Вечная памя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ртемьев Владимир Иванови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д. 1960, Курск.Мастер спор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ого класса. "Динамо"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нск, Белоруссия.Облада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бка СССР в многоборье (1982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пион СССР в упражнениях 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е (1982), брусьях (1983), серебря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зер в упражнениях на коне (1983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4" descr="Артемьев Владимир Иванович"/>
          <p:cNvPicPr/>
          <p:nvPr/>
        </p:nvPicPr>
        <p:blipFill>
          <a:blip r:embed="rId1"/>
          <a:stretch/>
        </p:blipFill>
        <p:spPr>
          <a:xfrm>
            <a:off x="7451640" y="2060640"/>
            <a:ext cx="1297080" cy="19447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Антипас Дросида Александ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. 04.03.1917, Кострома.Мастер спор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"Крылья Советов", Москва.Чемпион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ССР в вольных упражнениях (1939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945), в упражнениях на переклади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1947), серебряный призер в опорных прыжк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1943), в упражнениях на бревне (1947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русьях (1946), вольных упражнениях (1943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946, 1947), бронзовый призер в многоборь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1950), в опорных прыжках (1945), в воль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жнениях (1944, 1948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4" descr="Антипас Дросида Александровна"/>
          <p:cNvPicPr/>
          <p:nvPr/>
        </p:nvPicPr>
        <p:blipFill>
          <a:blip r:embed="rId1"/>
          <a:stretch/>
        </p:blipFill>
        <p:spPr>
          <a:xfrm>
            <a:off x="7380360" y="1268280"/>
            <a:ext cx="1512720" cy="20163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Снаряд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пражнения выполняются 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имнастическом ковре площадью 1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в.м, окруженном дополнительн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ощадью для страховки. Е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ограничения д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нарядов, но они незначительн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Скакалк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какалка сделана из пеньки и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обного материала, не име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ой длины, потому чт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лина зависит от роста гимнас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Обруч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уч изготовлен из дерева и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стика, внутренний диаметр 80-9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м. Обруч должен весить не мене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00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Мя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яч должен быть изготовлен из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ины или мягкого пласти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иаметр мяча 18-20 см, вес – н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нее 400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Arial"/>
              </a:rPr>
              <a:t>Лент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нта длиной 7 м изготавливается 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тласа или подобного материала. О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епится к цилиндрической палоч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0-60 см дли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4" descr="896919457"/>
          <p:cNvPicPr/>
          <p:nvPr/>
        </p:nvPicPr>
        <p:blipFill>
          <a:blip r:embed="rId1"/>
          <a:stretch/>
        </p:blipFill>
        <p:spPr>
          <a:xfrm>
            <a:off x="4932360" y="35733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Булав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ся две бутылочн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ы булавы равной длины (40-50 см), 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зкой части заканчивающиеся небольши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руглением. Изготавливаются 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рева или пластика. Вес каждой – 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150 г. Имеют широкую часть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ло, узкую - шейка, и кругл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конечник - головка (максималь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аметр - 30 мм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ff"/>
                </a:solidFill>
                <a:latin typeface="Arial"/>
              </a:rPr>
              <a:t>Когда же появилась гимнаст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рмин "гимнастика" появилс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мерно в V в. до н. э. в Древн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реции и означал комплекс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зических упражнений дл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зовательных, военных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здоровительных целе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5" descr="1168359003_bicherova"/>
          <p:cNvPicPr/>
          <p:nvPr/>
        </p:nvPicPr>
        <p:blipFill>
          <a:blip r:embed="rId2"/>
          <a:stretch/>
        </p:blipFill>
        <p:spPr>
          <a:xfrm>
            <a:off x="6804000" y="2924280"/>
            <a:ext cx="2089080" cy="36734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05:09:18Z</dcterms:created>
  <dc:creator>*</dc:creator>
  <dc:description/>
  <dc:language>en-US</dc:language>
  <cp:lastModifiedBy>123</cp:lastModifiedBy>
  <dcterms:modified xsi:type="dcterms:W3CDTF">2015-10-13T09:47:58Z</dcterms:modified>
  <cp:revision>7</cp:revision>
  <dc:subject/>
  <dc:title>Гимнастика</dc:title>
</cp:coreProperties>
</file>