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8C6-B6C3-4378-B210-5E5B3CCB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08E-DB3E-49BB-9D32-433DD3DD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8AA-997F-419C-A935-5FA36AF3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D7C-6B7F-4DDC-9149-FA04725B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6B9D-FE83-4742-942C-72F219B4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5C03-B3C7-4E7B-B9ED-FBC67FBA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978C-C3A8-4C77-A6B4-D08BF5F1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3A42-FEC0-4489-BA29-D27EDF6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BE83-F82B-42AB-8389-151926AC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91F6-8270-4048-812E-1F5DDAF0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08FB-38FC-43AC-97CE-A98D4DA9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380-600A-45D9-8E9E-F83001FA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3754-5684-480D-9F76-209EDBD7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265B-A0E5-45D4-9EA2-CB9B16FC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C30D-C69E-4D35-AF8E-F0165640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7E2A-B5A5-468F-B7E3-5CC96828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7203-4C93-4C49-985F-4F90D51C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3A2-C031-40C2-AA7F-B03C7EF2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04F-45B1-41F7-9FC5-20EB4279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0C0-5660-4F1C-A4E6-92930D5F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192-E803-457A-A013-8B45D237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9F8-296A-48AC-8C03-EE6AA491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2C6-CC43-47CA-87CF-B1E33F0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D64-E525-4D4D-A369-1ACF8B2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72A4-05C9-4288-AAC3-4621530CD72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B7B5-892E-4ACD-BC4A-7D4BBAC7A1F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66ff"/>
                </a:solidFill>
                <a:latin typeface="Arial"/>
              </a:rPr>
              <a:t>Гимна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ССР художественная гимнастика как ви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рта возникла и сформировалась в 40-е гг.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84г. – олимпийский вид спорта. Д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давнего времени, исключительно женск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спорта, однако с конца 20-го век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лагодаря усилиям японских гимнастов, ста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ся соревнования и межд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жчин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art1"/>
          <p:cNvPicPr/>
          <p:nvPr/>
        </p:nvPicPr>
        <p:blipFill>
          <a:blip r:embed="rId1"/>
          <a:stretch/>
        </p:blipFill>
        <p:spPr>
          <a:xfrm>
            <a:off x="5364000" y="4581360"/>
            <a:ext cx="3257640" cy="20671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Термин «гимнастика» родился в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ткрывшейся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 1934 году «Высш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школе художественного движен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Ленинградского государственн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института физической культуры и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П.Ф.Лесгафт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i?id=48406111&amp;tov=3"/>
          <p:cNvPicPr/>
          <p:nvPr/>
        </p:nvPicPr>
        <p:blipFill>
          <a:blip r:embed="rId2"/>
          <a:stretch/>
        </p:blipFill>
        <p:spPr>
          <a:xfrm>
            <a:off x="5580000" y="4581360"/>
            <a:ext cx="1656000" cy="2276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Правила.</a:t>
            </a:r>
            <a:br>
              <a:rPr sz="4400"/>
            </a:b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оревнования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я в художественн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имнастике выполняются не на снарядах, а с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арядами. Оценки выставляются за выпол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й с каждым снарядом, но медал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а распределяются по сумме всех набр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чков. Оценка производится по трем критер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за сложность, артистичность и техник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. В личном зачете гимнаст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ют упражнения с 4 снарядами из 5 п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ему выбор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Упражн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 время выполнения упражнений гимнастки должн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ть всю площадь ковра. В работе со снаряд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жны участвовать обе руки. Снаряды должны постоян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ходиться в движении, в противном случае начисля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трафные очки. Упражнения должны длиться 57-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кунд. За каждую просроченную (меньше или болш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казанного промежутка) секунду начисляется 0,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трафных очка. Каждая гимнастка обязана закончи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е так, чтобы касаться снаряда какой-либ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астью тела и одновременнно с окончанием музыки. 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емя выполнения упражнений тренеру запреща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говаривать со спортсменкой, судьями или музыкан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удейств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и группы судей оценивают различ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лементы упражнения. Техническое жю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вает уровень сложности. Художественн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юри оценивает композицию только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ртистической точки зрения. Судьи следят 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еографией исполнения, выбором снарядов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вижениями тела, оригинальностью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стерством. Они также оцениваю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зыкальный аккомпанемент. Исполнитель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юри оценивает степень совершенства влад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арядами, выразительность, виртуозность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Подсчет оч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 индивидуальных соревновниях техническое и артистическое жюри производят оценку по 5-бальной системе, исполнительское - по 10-бальной. В групповых соревнованиях: техническое жюри - по 4-бальной, артистическое - 6-бальной, и исполнительское - по 10-бальной. Сопоставление оценок в индивидуальных и групповых соревнованиях отличается. В основном, очки, зачисленные 3-мя жюри складываются для вывода окончательной оценки. Минимальная градация в индивидуальных соревнованиях 10, в групповых -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За что же снимаются бал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ценке исполнения 0.05 оч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мается за незначите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соответствия и нарушение точност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,1 очка - за небольшие ошибки, 0,2 – 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е, 0,3 - за грубые. Такж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маются очки за выход за преде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ощадки и потерю контроля на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арядом. Нарушением также являю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эстетичные элементы во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н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таким видом спорта ка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мнастика могут заниматься люб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елающий. 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более гибки - де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ои первые шаг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удожествен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мнастике даю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ксима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в возрасте 3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т, вед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м ребенка наиболе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л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развитию как быстрот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жений, так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бкости, и отлично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ордин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авными качествами гимнаста являются сила воли, невероятная выносливость – ведь выдержать многочасовые тренировки способен не каждый, и, конечно же, пласти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Увеличить картинку"/>
          <p:cNvPicPr/>
          <p:nvPr/>
        </p:nvPicPr>
        <p:blipFill>
          <a:blip r:embed="rId2"/>
          <a:stretch/>
        </p:blipFill>
        <p:spPr>
          <a:xfrm>
            <a:off x="6659640" y="3645000"/>
            <a:ext cx="1871640" cy="32130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мнастика детя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ает очен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огое -  это и чувство ритма,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стичность, и умение двигаться  - вс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не перечислишь. Существует множ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кол гимнаст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тех, кто хоч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владеть гимнастикой 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ом уровне, а такж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ожество секций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мнаст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ител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Что же такое гимнаст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имнастика — вид спор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полнение под музыку различ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имнастических и танцевальных упражнен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без предмета, а также с предметом (скакалк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руч, мяч, булавы, лента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2"/>
          <p:cNvPicPr/>
          <p:nvPr/>
        </p:nvPicPr>
        <p:blipFill>
          <a:blip r:embed="rId1"/>
          <a:stretch/>
        </p:blipFill>
        <p:spPr>
          <a:xfrm>
            <a:off x="2916360" y="3860640"/>
            <a:ext cx="5333760" cy="27306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ое место в гимнастик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нимают такие виды искусства, к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нец и музыка. Музыкально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провождение развива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узыкальный слух, чувство ритма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 движений 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узыко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ства гимнастики соответствуют анатомо-физиологическим и психологическим особенностям женского организма. Они доступны при любом возрасте и конституции тела. Гимнастика подразделяется на основную, прикладную и художественную гимнастику со спортивной направленностью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Квал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лимпийских играх примут участие 84 гимнастки.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 по 6 участниц и 24 индивидуальных участн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и квалифицируются по странам, а 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видуально. 10 лучших стран по результат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мпионата мира в Осаке в 1999 году выставляют по д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и для личного первенства. Следующие 9 стран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1. Международная федерация гимнас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яет еще 5 участницам "wild-card" - по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е от Африки, Америки, Азии, Европы и Океании.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 отбираются по результатам Чемпионата мира и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ают "wild-card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зидентом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cc"/>
                </a:solidFill>
                <a:uFillTx/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мнастики избрана Ирина Винер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233145383"/>
          <p:cNvPicPr/>
          <p:nvPr/>
        </p:nvPicPr>
        <p:blipFill>
          <a:blip r:embed="rId1"/>
          <a:stretch/>
        </p:blipFill>
        <p:spPr>
          <a:xfrm>
            <a:off x="2340000" y="2637000"/>
            <a:ext cx="4103640" cy="30970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Чемпионат России 2009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Verdana"/>
              </a:rPr>
              <a:t>    </a:t>
            </a:r>
            <a:r>
              <a:rPr b="1" lang="ru-RU" sz="1600" spc="-1" strike="noStrike" u="sng">
                <a:solidFill>
                  <a:srgbClr val="0033cc"/>
                </a:solidFill>
                <a:uFillTx/>
                <a:latin typeface="Verdana"/>
              </a:rPr>
              <a:t>Чемпионат России. Результаты. Мужчин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лимпийский чемпион Николай Крюков победил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брусьях на чемпионате России по спортив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имнастике в Брянск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 России. РЕЗУЛЬТАТЫ. Женщин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сения Семенова завоевала два "золот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а России по спортивной гимнастике – 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русьях и в вольных упражнен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 России. РЕЗУЛЬТАТЫ. Мужчин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Юрий Рязанов из Владимира стал чемпионом России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льных упражнениях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Вечная памя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ртемьев Владимир Иванови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д. 1960, Курск.Мастер спо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го класса. "Динамо"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нск, Белоруссия.Облада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бка СССР в многоборье (1982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пион СССР в упражнениях 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е (1982), брусьях (1983), серебря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зер в упражнениях на коне (1983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4" descr="Артемьев Владимир Иванович"/>
          <p:cNvPicPr/>
          <p:nvPr/>
        </p:nvPicPr>
        <p:blipFill>
          <a:blip r:embed="rId1"/>
          <a:stretch/>
        </p:blipFill>
        <p:spPr>
          <a:xfrm>
            <a:off x="7451640" y="2060640"/>
            <a:ext cx="1297080" cy="1944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Антипас Дросид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. 04.03.1917, Кострома.Мастер спор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"Крылья Советов", Москва.Чемпио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ССР в вольных упражнениях (1939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45), в упражнениях на переклади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47), серебряный призер в опорных прыжк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43), в упражнениях на бревне (1947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усьях (1946), вольных упражнениях (1943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46, 1947), бронзовый призер в многоборь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50), в опорных прыжках (1945), в воль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ях (1944, 194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4" descr="Антипас Дросида Александровна"/>
          <p:cNvPicPr/>
          <p:nvPr/>
        </p:nvPicPr>
        <p:blipFill>
          <a:blip r:embed="rId1"/>
          <a:stretch/>
        </p:blipFill>
        <p:spPr>
          <a:xfrm>
            <a:off x="7380360" y="1268280"/>
            <a:ext cx="1512720" cy="2016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наряд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пражнения выполняются 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имнастическом ковре площадью 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в.м, окруженном дополнитель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ощадью для страховки. Е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ограничения д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нарядов, но они незначительн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какал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акалка сделана из пеньки и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обного материала, не име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ой длины, потому ч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ина зависит от роста гимнас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Обруч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уч изготовлен из дерева и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стика, внутренний диаметр 80-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м. Обруч должен весить не мене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00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Мя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яч должен быть изготовлен и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ины или мягкого пласт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иаметр мяча 18-20 см, вес – н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нее 400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Лен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нта длиной 7 м изготавливается 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тласа или подобного материала. О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епится к цилиндрической палоч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0-60 см дли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896919457"/>
          <p:cNvPicPr/>
          <p:nvPr/>
        </p:nvPicPr>
        <p:blipFill>
          <a:blip r:embed="rId1"/>
          <a:stretch/>
        </p:blipFill>
        <p:spPr>
          <a:xfrm>
            <a:off x="4932360" y="3573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Булав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ся две бутылочн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ы булавы равной длины (40-50 см),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зкой части заканчивающиеся небольши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руглением. Изготавливаются 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рева или пластика. Вес каждой – 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150 г. Имеют широкую часть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ло, узкую - шейка, и кругл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конечник - головка (максима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метр - 30 мм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ff"/>
                </a:solidFill>
                <a:latin typeface="Arial"/>
              </a:rPr>
              <a:t>Когда же появилась гимнаст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рмин "гимнастика" появил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рно в V в. до н. э. в Древн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реции и означал комплекс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зических упражнений дл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зовательных, военных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здоровительных целе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5" descr="1168359003_bicherova"/>
          <p:cNvPicPr/>
          <p:nvPr/>
        </p:nvPicPr>
        <p:blipFill>
          <a:blip r:embed="rId2"/>
          <a:stretch/>
        </p:blipFill>
        <p:spPr>
          <a:xfrm>
            <a:off x="6804000" y="2924280"/>
            <a:ext cx="2089080" cy="367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5:09:18Z</dcterms:created>
  <dc:creator>*</dc:creator>
  <dc:description/>
  <dc:language>en-US</dc:language>
  <cp:lastModifiedBy>123</cp:lastModifiedBy>
  <dcterms:modified xsi:type="dcterms:W3CDTF">2015-10-13T09:47:58Z</dcterms:modified>
  <cp:revision>7</cp:revision>
  <dc:subject/>
  <dc:title>Гимнастика</dc:title>
</cp:coreProperties>
</file>