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0FB3-16C1-480A-9BDA-95700B009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4028-07CF-47CF-A1F8-CC0767CD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4BC2-E15A-4085-96E1-E3F6C6666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615F-23EF-426E-9DAE-B6A08E26A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C3F2-BE16-4ACC-902F-B997B7395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6F5D-D02F-4170-9100-830F5695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106B-E62D-40DC-BA79-18F8CDE4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BA9B-AAA9-4636-A209-8C89E8C4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A005-0F28-4B51-A214-C7ED51FA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8C60-2DF6-4E09-A047-83600812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1748-A10D-4910-90BF-FB0DC4EE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9EEE-ABD7-4A61-98FE-B1B26AD4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A04E-7536-4725-BA6D-A2C9027D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B0DC-9EF4-45A7-8588-76AC8CAC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EEEA-C635-4293-A9BA-DB6690D9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1769-B69E-4D26-9E49-CAEDF2689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658E-7E9F-41F4-A2FA-6567B0FA6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FEFA-743A-4169-AC30-1AC89877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052A-FA51-4277-A00C-E8BC159F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4C60-37CC-4B31-BF6F-68AADCB2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2F3D-635D-4342-819F-AF846893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B26A-A562-49E4-8E39-FEEF26D5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1BEA-0BA7-4A41-9AA9-8C269556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2BFD-F39A-43EA-91D2-2E8E77E9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c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50000">
                  <a:srgbClr val="d6d6d6"/>
                </a:gs>
                <a:gs pos="100000">
                  <a:srgbClr val="cdcdc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E5E1-408F-4504-8AF8-53BC028FBF0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c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50000">
                  <a:srgbClr val="d6d6d6"/>
                </a:gs>
                <a:gs pos="100000">
                  <a:srgbClr val="cdcdc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4A2B-23AD-4319-8744-20252E09309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66ff"/>
                </a:solidFill>
                <a:latin typeface="Arial"/>
              </a:rPr>
              <a:t>Гимнас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Немного ис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СССР художественная гимнастика как вид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орта возникла и сформировалась в 40-е гг. 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984г. – олимпийский вид спорта. Д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давнего времени, исключительно женски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д спорта, однако с конца 20-го века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лагодаря усилиям японских гимнастов, стал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одиться соревнования и межд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ужчинам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4" descr="art1"/>
          <p:cNvPicPr/>
          <p:nvPr/>
        </p:nvPicPr>
        <p:blipFill>
          <a:blip r:embed="rId1"/>
          <a:stretch/>
        </p:blipFill>
        <p:spPr>
          <a:xfrm>
            <a:off x="5364000" y="4581360"/>
            <a:ext cx="3257640" cy="206712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Термин «гимнастика» родился в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открывшейся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в 1934 году «Высш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школе художественного движения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Ленинградского государственног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института физической культуры и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П.Ф.Лесгафта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i?id=48406111&amp;tov=3"/>
          <p:cNvPicPr/>
          <p:nvPr/>
        </p:nvPicPr>
        <p:blipFill>
          <a:blip r:embed="rId2"/>
          <a:stretch/>
        </p:blipFill>
        <p:spPr>
          <a:xfrm>
            <a:off x="5580000" y="4581360"/>
            <a:ext cx="1656000" cy="227664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Правила.</a:t>
            </a:r>
            <a:br>
              <a:rPr sz="4400"/>
            </a:b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Соревнования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ражнения в художественно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имнастике выполняются не на снарядах, а с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нарядами. Оценки выставляются за выпол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ражнений с каждым снарядом, но медали 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а распределяются по сумме всех набра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чков. Оценка производится по трем критерия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за сложность, артистичность и техник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ения. В личном зачете гимнаст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ют упражнения с 4 снарядами из 5 п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оему выбору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Упражнения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 время выполнения упражнений гимнастки должн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пользовать всю площадь ковра. В работе со снаряда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лжны участвовать обе руки. Снаряды должны постоян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ходиться в движении, в противном случае начисляю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штрафные очки. Упражнения должны длиться 57-9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екунд. За каждую просроченную (меньше или болш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казанного промежутка) секунду начисляется 0,0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штрафных очка. Каждая гимнастка обязана закончи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пражнение так, чтобы касаться снаряда какой-либ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астью тела и одновременнно с окончанием музыки. В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ремя выполнения упражнений тренеру запрещае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говаривать со спортсменкой, судьями или музыкант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Судейство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и группы судей оценивают различны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лементы упражнения. Техническое жюр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ценивает уровень сложности. Художественно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юри оценивает композицию только 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ртистической точки зрения. Судьи следят 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еографией исполнения, выбором снарядов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вижениями тела, оригинальностью 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стерством. Они также оцениваю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узыкальный аккомпанемент. Исполнительско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юри оценивает степень совершенства влад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нарядами, выразительность, виртуозность 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ические ошибк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66ff"/>
                </a:solidFill>
                <a:latin typeface="Arial"/>
              </a:rPr>
              <a:t>Подсчет оч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В индивидуальных соревновниях техническое и артистическое жюри производят оценку по 5-бальной системе, исполнительское - по 10-бальной. В групповых соревнованиях: техническое жюри - по 4-бальной, артистическое - 6-бальной, и исполнительское - по 10-бальной. Сопоставление оценок в индивидуальных и групповых соревнованиях отличается. В основном, очки, зачисленные 3-мя жюри складываются для вывода окончательной оценки. Минимальная градация в индивидуальных соревнованиях 10, в групповых -2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66ff"/>
                </a:solidFill>
                <a:latin typeface="Arial"/>
              </a:rPr>
              <a:t>За что же снимаются балл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оценке исполнения 0.05 очк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нимается за незначитель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соответствия и нарушение точности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0,1 очка - за небольшие ошибки, 0,2 – 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едние, 0,3 - за грубые. Такж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нимаются очки за выход за предел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ощадки и потерю контроля на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нарядом. Нарушением также являю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эстетичные элементы во врем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не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перь таким видом спорта ка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имнастика могут заниматься люб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желающий. 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более гибки - де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вои первые шаг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художественн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имнастике даю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ксималь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ультаты в возрасте 3-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ет, вед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рганизм ребенка наиболе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ле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 развитию как быстроты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вижений, так 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ибкости, и отлично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ординаци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авными качествами гимнаста являются сила воли, невероятная выносливость – ведь выдержать многочасовые тренировки способен не каждый, и, конечно же, пластика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5" descr="Увеличить картинку"/>
          <p:cNvPicPr/>
          <p:nvPr/>
        </p:nvPicPr>
        <p:blipFill>
          <a:blip r:embed="rId2"/>
          <a:stretch/>
        </p:blipFill>
        <p:spPr>
          <a:xfrm>
            <a:off x="6659640" y="3645000"/>
            <a:ext cx="1871640" cy="321300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Гимнастика детям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ает очен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ногое -  это и чувство ритма, 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стичность, и умение двигаться  - все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 не перечислишь. Существует множе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школ гимнастик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ля тех, кто хоч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владеть гимнастикой 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фессиональном уровне, а такж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ножество секций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гимнастик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л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юбител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66ff"/>
                </a:solidFill>
                <a:latin typeface="Arial"/>
              </a:rPr>
              <a:t>Что же такое гимнасти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Гимнастика — вид спорта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выполнение под музыку различных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гимнастических и танцевальных упражнени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без предмета, а также с предметом (скакалка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обруч, мяч, булавы, лента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5" descr="2"/>
          <p:cNvPicPr/>
          <p:nvPr/>
        </p:nvPicPr>
        <p:blipFill>
          <a:blip r:embed="rId1"/>
          <a:stretch/>
        </p:blipFill>
        <p:spPr>
          <a:xfrm>
            <a:off x="2916360" y="3860640"/>
            <a:ext cx="5333760" cy="273060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  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ое место в гимнастик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нимают такие виды искусства, ка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анец и музыка. Музыкально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провождение развивае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узыкальный слух, чувство ритма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гласованность движений 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узыкой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едства гимнастики соответствуют анатомо-физиологическим и психологическим особенностям женского организма. Они доступны при любом возрасте и конституции тела. Гимнастика подразделяется на основную, прикладную и художественную гимнастику со спортивной направленностью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Квалифик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Олимпийских играх примут участие 84 гимнастки. 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рупп по 6 участниц и 24 индивидуальных участни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имнастки квалифицируются по странам, а 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дивидуально. 10 лучших стран по результата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емпионата мира в Осаке в 1999 году выставляют по дв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имнастки для личного первенства. Следующие 9 стран –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 1. Международная федерация гимнасти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оставляет еще 5 участницам "wild-card" - по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имнастке от Африки, Америки, Азии, Европы и Океании. 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рупп отбираются по результатам Чемпионата мира и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учают "wild-card"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езидентом федер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33cc"/>
                </a:solidFill>
                <a:uFillTx/>
                <a:latin typeface="Verdana"/>
              </a:rPr>
              <a:t>г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мнастики избрана Ирина Винер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Picture 4" descr="233145383"/>
          <p:cNvPicPr/>
          <p:nvPr/>
        </p:nvPicPr>
        <p:blipFill>
          <a:blip r:embed="rId1"/>
          <a:stretch/>
        </p:blipFill>
        <p:spPr>
          <a:xfrm>
            <a:off x="2340000" y="2637000"/>
            <a:ext cx="4103640" cy="309708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Чемпионат России 2009го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Verdana"/>
              </a:rPr>
              <a:t>    </a:t>
            </a:r>
            <a:r>
              <a:rPr b="1" lang="ru-RU" sz="1600" spc="-1" strike="noStrike" u="sng">
                <a:solidFill>
                  <a:srgbClr val="0033cc"/>
                </a:solidFill>
                <a:uFillTx/>
                <a:latin typeface="Verdana"/>
              </a:rPr>
              <a:t>Чемпионат России. Результаты. Мужчин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3.03.2009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 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лимпийский чемпион Николай Крюков победил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а брусьях на чемпионате России по спортивно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имнастике в Брянск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Чемпионат России. РЕЗУЛЬТАТЫ. Женщины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3.03.2009 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сения Семенова завоевала два "золота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чемпионата России по спортивной гимнастике – 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брусьях и в вольных упражнен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Чемпионат России. РЕЗУЛЬТАТЫ. Мужчин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3.03.2009 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Юрий Рязанов из Владимира стал чемпионом России 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ольных упражнениях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Вечная памя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ртемьев Владимир Иванови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од. 1960, Курск.Мастер спор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ждународного класса. "Динамо"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инск, Белоруссия.Обладате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убка СССР в многоборье (1982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емпион СССР в упражнениях 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е (1982), брусьях (1983), серебряны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зер в упражнениях на коне (1983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4" descr="Артемьев Владимир Иванович"/>
          <p:cNvPicPr/>
          <p:nvPr/>
        </p:nvPicPr>
        <p:blipFill>
          <a:blip r:embed="rId1"/>
          <a:stretch/>
        </p:blipFill>
        <p:spPr>
          <a:xfrm>
            <a:off x="7451640" y="2060640"/>
            <a:ext cx="1297080" cy="194472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66ff"/>
                </a:solidFill>
                <a:latin typeface="Arial"/>
              </a:rPr>
              <a:t>Антипас Дросида Александро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од. 04.03.1917, Кострома.Мастер спорт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"Крылья Советов", Москва.Чемпион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ССР в вольных упражнениях (1939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945), в упражнениях на перекладин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1947), серебряный призер в опорных прыжк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1943), в упражнениях на бревне (1947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русьях (1946), вольных упражнениях (1943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946, 1947), бронзовый призер в многоборь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1950), в опорных прыжках (1945), в воль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ражнениях (1944, 1948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Picture 4" descr="Антипас Дросида Александровна"/>
          <p:cNvPicPr/>
          <p:nvPr/>
        </p:nvPicPr>
        <p:blipFill>
          <a:blip r:embed="rId1"/>
          <a:stretch/>
        </p:blipFill>
        <p:spPr>
          <a:xfrm>
            <a:off x="7380360" y="1268280"/>
            <a:ext cx="1512720" cy="201636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Снаряды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пражнения выполняются 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имнастическом ковре площадью 1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в.м, окруженном дополнительн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лощадью для страховки. Е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которые ограничения д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нарядов, но они незначительны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Скакалка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какалка сделана из пеньки ил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добного материала, не имее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ндартной длины, потому чт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лина зависит от роста гимнастк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Обруч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руч изготовлен из дерева ил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ластика, внутренний диаметр 80-9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м. Обруч должен весить не мене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300 г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Мя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яч должен быть изготовлен из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зины или мягкого пластик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иаметр мяча 18-20 см, вес – н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нее 400 г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Лента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ента длиной 7 м изготавливается из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тласа или подобного материала. О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епится к цилиндрической палоч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50-60 см длино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Picture 4" descr="896919457"/>
          <p:cNvPicPr/>
          <p:nvPr/>
        </p:nvPicPr>
        <p:blipFill>
          <a:blip r:embed="rId1"/>
          <a:stretch/>
        </p:blipFill>
        <p:spPr>
          <a:xfrm>
            <a:off x="4932360" y="357336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66ff"/>
                </a:solidFill>
                <a:latin typeface="Arial"/>
              </a:rPr>
              <a:t>Булав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ся две бутылочно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ы булавы равной длины (40-50 см), 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зкой части заканчивающиеся небольши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круглением. Изготавливаются 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рева или пластика. Вес каждой – н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нее 150 г. Имеют широкую часть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ло, узкую - шейка, и круглы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конечник - головка (максимальны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иаметр - 30 мм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66ff"/>
                </a:solidFill>
                <a:latin typeface="Arial"/>
              </a:rPr>
              <a:t>Когда же появилась гимнасти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рмин "гимнастика" появилс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мерно в V в. до н. э. в Древн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реции и означал комплекс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зических упражнений дл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разовательных, военных 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здоровительных целей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Picture 5" descr="1168359003_bicherova"/>
          <p:cNvPicPr/>
          <p:nvPr/>
        </p:nvPicPr>
        <p:blipFill>
          <a:blip r:embed="rId2"/>
          <a:stretch/>
        </p:blipFill>
        <p:spPr>
          <a:xfrm>
            <a:off x="6804000" y="2924280"/>
            <a:ext cx="2089080" cy="367344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05:09:18Z</dcterms:created>
  <dc:creator>*</dc:creator>
  <dc:description/>
  <dc:language>en-US</dc:language>
  <cp:lastModifiedBy>123</cp:lastModifiedBy>
  <dcterms:modified xsi:type="dcterms:W3CDTF">2015-10-13T09:47:58Z</dcterms:modified>
  <cp:revision>7</cp:revision>
  <dc:subject/>
  <dc:title>Гимнастика</dc:title>
</cp:coreProperties>
</file>