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113-9DDF-4E77-BD52-D63BEAB4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639-282A-4A94-8ED0-1F94DAB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BAA-14E3-4480-8114-FDB66B1E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F16-FD5A-4422-9935-9B8A0E8B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E85-89F4-4CC0-9996-C766673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D17-C76A-47FA-B398-1AF95B99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4635-F648-4DBE-8091-49BC195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315-0AC8-4B8D-BE06-20A252F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EB6-01BA-4FEA-9184-5E5B5D70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A78-1715-4018-B600-1340B1A9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BCB-3346-40F8-BD49-B9E84A6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E54-9F4F-41F9-A4C4-9EB8C5A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A115-2DE4-4263-A218-661E568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E873-A8D3-4D0C-AB38-22A5886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E4A-081A-4F31-9CD1-2A81F1F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341C-DB05-4E65-8B75-EC9DB395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19E-48F0-46BE-89FC-849D031C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F76-24CC-4BB5-8D3F-08BA7891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EE9-37E3-412D-976A-24A1FBF9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89B-0DC7-487B-8A90-4EFE7A8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6F8-D289-4777-BA51-214A89F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206-0774-41D4-8A1F-A49B8DB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B27-0C0F-4683-9558-8C765B7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ABD-78C6-439D-B7A5-B650C75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877-AE96-4002-8739-380966F0C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187-869F-4AA0-A87A-8DB61B98D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256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«Части речи. Имя существительно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197000"/>
          <a:ext cx="8497800" cy="5089680"/>
        </p:xfrm>
        <a:graphic>
          <a:graphicData uri="http://schemas.openxmlformats.org/drawingml/2006/table">
            <a:tbl>
              <a:tblPr/>
              <a:tblGrid>
                <a:gridCol w="1944720"/>
                <a:gridCol w="1523880"/>
                <a:gridCol w="1789200"/>
                <a:gridCol w="1677960"/>
                <a:gridCol w="15620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речи/харак-терист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грамматическое 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стоян-ные призна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акс. рол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существ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ость;вопрос (Кто? Что?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ое (Моск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ицательное (па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ушевленное (медвед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душевлё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е (к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, склоне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деж, числ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лежащее,дополне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9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ак определить род существительных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ществительные работяга, молодчина, неряха, плакса, сирота и другие могут быть  отнесены и к мужскому, и к женскому роду (существительные общего рода) Катя такая плакса. Петя такой неря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ому же правилу подчиняется и слова иноязычного происхождения- визави, протеже, инкогнит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о «кофе»- мужского ро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 «бренди», «молоко», «эсперанто» могут быть отнесены и к мужскому, и к среднему ро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 оценочного характера типа «заводишко», «ножище», «ножища» сохраняют род тех слов, от которых они образова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клоняемые наименования животных обычно мужского рода: умный пони, быстрый кенгуру, но – ядовитая цеце(так как мух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клоняемые географические названия обычно имеют тот же род, что и видовое название: прекрасный Тбилиси (город), полноводная Миссисипи (рек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пределите род существительных. Допишите правильные окончания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696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р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леди, ловк… шимпанзе, крепк… кофе, маленьк… пони, пестр… какаду, огромн… кенгуру, древн… Тбилиси, прекрасн… Сочи, полновод… Миссисипи, вкусн… эскимо, справедлив… жюри, стопроцент… алиб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3272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Что здесь не так? Объясните, в чем заключается ошиб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42920" y="1413000"/>
          <a:ext cx="7516800" cy="4924440"/>
        </p:xfrm>
        <a:graphic>
          <a:graphicData uri="http://schemas.openxmlformats.org/drawingml/2006/table">
            <a:tbl>
              <a:tblPr/>
              <a:tblGrid>
                <a:gridCol w="5757840"/>
                <a:gridCol w="175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влик рос круглой сиро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ров оказался хитрым лис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 тебя такое слабое голосиш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 него огромное ножище, сорок шестой раз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 не люблю черное коф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то животное укусило ядовитое це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ы приехали в солнечное Бату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254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Составьте словосочетания со словами так, чтобы было видно, к какому роду вы эти слова относ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3068640"/>
            <a:ext cx="76960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зави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Твой/тво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еже 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когнито 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енди 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кко 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00120" y="1143000"/>
            <a:ext cx="75009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роду относится существительное «работяга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роду относится слово Тбилис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арина такая\такой молодчина», согласуйте правильно слова в словосочета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носятся ли к мужскому роду слова : «бренди» и «кофе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Составьте предложение со словосочетаниями, выбирая правильное из предложенных вариан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нимает врач/врачи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отает секретарем/секретарш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ша кассир/кассир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а директор/директор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очка ваша/ва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твой/твоя, преподаватель/преподавательн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68709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4296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му название дано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зверю, и предме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щей вокруг полным – полн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безымянных не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все, что может видеть глаз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 нами и под нами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все, что в памяти у нас,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значено слов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чудесного и таинствен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чется за этими слов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зык, на котором мы говори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чень бог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 самостоятельных частях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б имени существительн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бщить знания о роде существительны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образование формы именительного падежа, родительного падежа мн. числа, склонение иноязычных фамил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262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Шара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ень мой находится в «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це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«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ке» найди приставку мн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ффикс мой в «тетрад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» все встреч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 же- в дневнике я и в журнал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рень извлечь из «начинки» несложн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ставка в «сосуде» хранится надежн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 в «гудении» ясно услышиш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месте на темы различные пишеш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26200" cy="56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«списке» вы мой обнаружите корен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- в «собрании» встретите вскор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слове «рассказ» вы приставку найде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целом -по мне на уроке найде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рнем с «дорогой» роднит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«сборе»приставка таит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ффикс – как в слове «дневник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ом же космос прони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чин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ас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ут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Части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19280" y="1052640"/>
          <a:ext cx="6697800" cy="5108400"/>
        </p:xfrm>
        <a:graphic>
          <a:graphicData uri="http://schemas.openxmlformats.org/drawingml/2006/table">
            <a:tbl>
              <a:tblPr/>
              <a:tblGrid>
                <a:gridCol w="3238560"/>
                <a:gridCol w="1892160"/>
                <a:gridCol w="1567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ые части ре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жебные части ре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ждо-мет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я существи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я прилагательн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глаго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местоим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дее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лова-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ою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пред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част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38:34Z</dcterms:created>
  <dc:creator>eaya</dc:creator>
  <dc:description/>
  <dc:language>en-US</dc:language>
  <cp:lastModifiedBy>км</cp:lastModifiedBy>
  <dcterms:modified xsi:type="dcterms:W3CDTF">2011-12-09T07:15:40Z</dcterms:modified>
  <cp:revision>14</cp:revision>
  <dc:subject/>
  <dc:title>Тема урока: «Части речи. Имя существительное»</dc:title>
</cp:coreProperties>
</file>