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E23-BC0D-491C-83BA-DD507D25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FB7-63BC-47B6-9AAD-469E925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76B-A7B9-4567-9B7A-BF0032FF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A6D-3486-4F0A-B881-A7D8A693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540-E0F7-48A5-8208-5077ECC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054D-5656-4547-8E36-9BFC9239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537A-B3FC-4F7F-A671-8B1AE11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6792-7C97-4607-9049-F5D45DA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D8A3-068C-48A7-8384-2D253392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6699-F8F8-4DC4-BBBF-303A9B3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6ACC-5780-4C81-B3F5-9361A31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09C-8E63-478C-8BB7-A23FE0B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5E35-7920-4BE5-9A73-A8F07AB5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957-97CC-41C3-964F-37B901F3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27D0-B2A8-41D9-BE66-3F40A507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7A35-B543-44A7-A67E-7113779B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2C6-E429-4005-A87E-458917AF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E89-33E7-4428-9167-CB5C02E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BC4-2073-425F-84DF-6C017FF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522-2D4E-47C5-A63C-97EE5FC1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FFA-369E-40E3-9D89-F8DC4F4C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C33-3725-4D03-9478-D708094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658-ADEF-408B-9532-90C79987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62F-E68E-4974-AD33-721EC75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E63-39BE-476F-A692-13913B9140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D733-7171-4F96-9AEB-1EA13758E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256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«Части речи. Имя существительно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197000"/>
          <a:ext cx="8497800" cy="5089680"/>
        </p:xfrm>
        <a:graphic>
          <a:graphicData uri="http://schemas.openxmlformats.org/drawingml/2006/table">
            <a:tbl>
              <a:tblPr/>
              <a:tblGrid>
                <a:gridCol w="1944720"/>
                <a:gridCol w="1523880"/>
                <a:gridCol w="1789200"/>
                <a:gridCol w="1677960"/>
                <a:gridCol w="15620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речи/харак-терист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грамматическое 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оя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стоян-ные призна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акс. рол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существ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ность;вопрос (Кто? Что?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ое (Моск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ицательное (пар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ушевленное (медвед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душевлё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е (кров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, склонени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, числ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лежащее,дополнени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7993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ак определить род существительных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ществительные работяга, молодчина, неряха, плакса, сирота и другие могут быть  отнесены и к мужскому, и к женскому роду (существительные общего рода) Катя такая плакса. Петя такой неря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ому же правилу подчиняется и слова иноязычного происхождения- визави, протеже, инкогнит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о «кофе»- мужского ро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 «бренди», «молоко», «эсперанто» могут быть отнесены и к мужскому, и к среднему род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 оценочного характера типа «заводишко», «ножище», «ножища» сохраняют род тех слов, от которых они образова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клоняемые наименования животных обычно мужского рода: умный пони, быстрый кенгуру, но – ядовитая цеце(так как мух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клоняемые географические названия обычно имеют тот же род, что и видовое название: прекрасный Тбилиси (город), полноводная Миссисипи (рек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пределите род существительных. Допишите правильные окончания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696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р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леди, ловк… шимпанзе, крепк… кофе, маленьк… пони, пестр… какаду, огромн… кенгуру, древн… Тбилиси, прекрасн… Сочи, полновод… Миссисипи, вкусн… эскимо, справедлив… жюри, стопроцент… алиб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63272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Что здесь не так? Объясните, в чем заключается ошиб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42920" y="1413000"/>
          <a:ext cx="7516800" cy="4924440"/>
        </p:xfrm>
        <a:graphic>
          <a:graphicData uri="http://schemas.openxmlformats.org/drawingml/2006/table">
            <a:tbl>
              <a:tblPr/>
              <a:tblGrid>
                <a:gridCol w="5757840"/>
                <a:gridCol w="175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влик рос круглой сирот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ров оказался хитрым лис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 тебя такое слабое голосиш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 него огромное ножище, сорок шестой раз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 не люблю черное коф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то животное укусило ядовитое це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ы приехали в солнечное Бату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870600" cy="254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Составьте словосочетания со словами так, чтобы было видно, к какому роду вы эти слова относ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3068640"/>
            <a:ext cx="76960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зави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Твой/тво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еже 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когнито 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ренди 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кко 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00120" y="1143000"/>
            <a:ext cx="75009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акому роду относится существительное «работяга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акому роду относится слово Тбилис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арина такая\такой молодчина», согласуйте правильно слова в словосочетан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носятся ли к мужскому роду слова : «бренди» и «кофе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Составьте предложение со словосочетаниями, выбирая правильное из предложенных вариан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нимает врач/врачи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ботает секретарем/секретарш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ша кассир/кассир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ша директор/директор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очка ваша/ва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твой/твоя, преподаватель/преподавательн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68709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42960" y="285480"/>
            <a:ext cx="769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му название дано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зверю, и предмет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щей вокруг полным – полн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безымянных не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все, что может видеть глаз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 нами и под нами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все, что в памяти у нас,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значено слов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чудесного и таинствен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ячется за этими слов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зык, на котором мы говори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чень бог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бщить знания о самостоятельных частях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бщить знания об имени существительн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бщить знания о роде существительны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образование формы именительного падежа, родительного падежа мн. числа, склонение иноязычных фамил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6262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Шара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ень мой находится в «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це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«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ке» найди приставку мн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ффикс мой в «тетрад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» все встреч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 же- в дневнике я и в журнал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рень извлечь из «начинки» несложн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ставка в «сосуде» хранится надежн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ффикс в «гудении» ясно услышиш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месте на темы различные пишеш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26200" cy="56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«списке» вы мой обнаружите корен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ффикс- в «собрании» встретите вскор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слове «рассказ» вы приставку найде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целом -по мне на уроке найде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рнем с «дорогой» роднит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«сборе»приставка таит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ффикс – как в слове «дневник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ом же космос проник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чин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аспис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путни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Части ре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19280" y="1052640"/>
          <a:ext cx="6697800" cy="5108400"/>
        </p:xfrm>
        <a:graphic>
          <a:graphicData uri="http://schemas.openxmlformats.org/drawingml/2006/table">
            <a:tbl>
              <a:tblPr/>
              <a:tblGrid>
                <a:gridCol w="3238560"/>
                <a:gridCol w="1892160"/>
                <a:gridCol w="1567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ые части ре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жебные части ре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ждо-мет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я существи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я прилага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глаго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местоим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дее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слова-со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сою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пред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част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38:34Z</dcterms:created>
  <dc:creator>eaya</dc:creator>
  <dc:description/>
  <dc:language>en-US</dc:language>
  <cp:lastModifiedBy>км</cp:lastModifiedBy>
  <dcterms:modified xsi:type="dcterms:W3CDTF">2011-12-09T07:15:40Z</dcterms:modified>
  <cp:revision>14</cp:revision>
  <dc:subject/>
  <dc:title>Тема урока: «Части речи. Имя существительное»</dc:title>
</cp:coreProperties>
</file>