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13.png" ContentType="image/png"/>
  <Override PartName="/ppt/media/image6.gif" ContentType="image/gif"/>
  <Override PartName="/ppt/media/image15.gif" ContentType="image/gif"/>
  <Override PartName="/ppt/media/image7.jpeg" ContentType="image/jpeg"/>
  <Override PartName="/ppt/media/image8.jpeg" ContentType="image/jpeg"/>
  <Override PartName="/ppt/media/image10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73126-CBDF-4B83-BE64-F8489D535F6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1BB4D-96E5-4C9A-90F7-9CA65C38840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96F3-5F5F-46AE-A27E-9F4FC995B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16AA-8F66-43D2-99C1-8274478F7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0443-0A35-42E5-915B-F9A8C3C33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2164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4792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9500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2164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94792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77F8-04A5-4D84-AEA0-C43B9F2C3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7A3D8-488C-49AC-9149-E8C426C8C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69717-ADC7-46D3-89B6-6CF2637BA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61AE8-E89D-4597-8DF8-00AF82C63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C385C-4B51-4862-8B20-9AA3EC3FF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AA399-CA98-495C-8602-9F67F6C94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72680" y="1215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9F394-64B8-4380-BE2F-4A8E7F12A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A6C38-19F3-411D-8718-5ECD0A42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EA22-D588-4E3F-B57B-CA878D39F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224EA-F362-4468-9F7C-A29F1A18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0B74C-C1C2-432B-9FB8-ABC6A8F0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DD60D-4A8A-42D7-B812-2F1850D0F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0CF7B-23AF-4523-AC0B-DF84ED260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2164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4792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9500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2164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4792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4B129-FAB8-4C02-8306-8BE5D617B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DB58-E183-4B86-9DB9-9F2D95D7C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6E90-E19C-437F-BD65-85CB432A1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7242-414B-42DC-BA06-FA58F1BAA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72680" y="1215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0451-257B-46C3-A92C-251BF8149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33F4-6DA6-4306-B007-798E846D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7134-8FCA-49F9-A177-B4886C5E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F95E-A8FD-43C1-85EC-A0C9D21A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79280" y="-387360"/>
            <a:ext cx="8892720" cy="7173360"/>
            <a:chOff x="179280" y="-387360"/>
            <a:chExt cx="8892720" cy="7173360"/>
          </a:xfrm>
        </p:grpSpPr>
        <p:grpSp>
          <p:nvGrpSpPr>
            <p:cNvPr id="1" name="Group 3"/>
            <p:cNvGrpSpPr/>
            <p:nvPr/>
          </p:nvGrpSpPr>
          <p:grpSpPr>
            <a:xfrm>
              <a:off x="179280" y="305280"/>
              <a:ext cx="8892720" cy="6480720"/>
              <a:chOff x="179280" y="305280"/>
              <a:chExt cx="8892720" cy="648072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179280" y="305280"/>
                <a:ext cx="8892720" cy="6480720"/>
              </a:xfrm>
              <a:custGeom>
                <a:avLst/>
                <a:gdLst/>
                <a:ahLst/>
                <a:rect l="l" t="t" r="r" b="b"/>
                <a:pathLst>
                  <a:path w="5526" h="3828">
                    <a:moveTo>
                      <a:pt x="684" y="3"/>
                    </a:moveTo>
                    <a:lnTo>
                      <a:pt x="708" y="2"/>
                    </a:lnTo>
                    <a:lnTo>
                      <a:pt x="5523" y="0"/>
                    </a:lnTo>
                    <a:lnTo>
                      <a:pt x="5525" y="3827"/>
                    </a:lnTo>
                    <a:lnTo>
                      <a:pt x="0" y="3827"/>
                    </a:lnTo>
                    <a:lnTo>
                      <a:pt x="7" y="577"/>
                    </a:lnTo>
                    <a:lnTo>
                      <a:pt x="9" y="544"/>
                    </a:lnTo>
                    <a:lnTo>
                      <a:pt x="14" y="516"/>
                    </a:lnTo>
                    <a:lnTo>
                      <a:pt x="22" y="490"/>
                    </a:lnTo>
                    <a:lnTo>
                      <a:pt x="35" y="470"/>
                    </a:lnTo>
                    <a:lnTo>
                      <a:pt x="51" y="456"/>
                    </a:lnTo>
                    <a:lnTo>
                      <a:pt x="64" y="446"/>
                    </a:lnTo>
                    <a:lnTo>
                      <a:pt x="594" y="52"/>
                    </a:lnTo>
                    <a:lnTo>
                      <a:pt x="630" y="26"/>
                    </a:lnTo>
                    <a:lnTo>
                      <a:pt x="654" y="9"/>
                    </a:lnTo>
                    <a:lnTo>
                      <a:pt x="684" y="3"/>
                    </a:lnTo>
                  </a:path>
                </a:pathLst>
              </a:custGeom>
              <a:solidFill>
                <a:srgbClr val="ffff99"/>
              </a:solidFill>
              <a:ln w="0">
                <a:noFill/>
              </a:ln>
              <a:effectLst>
                <a:outerShdw dist="107932" dir="2700000" blurRad="0" rotWithShape="0">
                  <a:srgbClr val="39393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" name="Group 5"/>
              <p:cNvGrpSpPr/>
              <p:nvPr/>
            </p:nvGrpSpPr>
            <p:grpSpPr>
              <a:xfrm>
                <a:off x="222480" y="335520"/>
                <a:ext cx="997200" cy="955800"/>
                <a:chOff x="222480" y="335520"/>
                <a:chExt cx="997200" cy="955800"/>
              </a:xfrm>
            </p:grpSpPr>
            <p:sp>
              <p:nvSpPr>
                <p:cNvPr id="4" name="Freeform 6"/>
                <p:cNvSpPr/>
                <p:nvPr/>
              </p:nvSpPr>
              <p:spPr>
                <a:xfrm>
                  <a:off x="235080" y="389520"/>
                  <a:ext cx="933120" cy="901800"/>
                </a:xfrm>
                <a:custGeom>
                  <a:avLst/>
                  <a:gdLst/>
                  <a:ahLst/>
                  <a:rect l="l" t="t" r="r" b="b"/>
                  <a:pathLst>
                    <a:path w="580" h="533">
                      <a:moveTo>
                        <a:pt x="154" y="440"/>
                      </a:moveTo>
                      <a:lnTo>
                        <a:pt x="323" y="493"/>
                      </a:lnTo>
                      <a:lnTo>
                        <a:pt x="372" y="517"/>
                      </a:lnTo>
                      <a:lnTo>
                        <a:pt x="411" y="532"/>
                      </a:lnTo>
                      <a:lnTo>
                        <a:pt x="411" y="497"/>
                      </a:lnTo>
                      <a:lnTo>
                        <a:pt x="415" y="440"/>
                      </a:lnTo>
                      <a:lnTo>
                        <a:pt x="425" y="395"/>
                      </a:lnTo>
                      <a:lnTo>
                        <a:pt x="441" y="326"/>
                      </a:lnTo>
                      <a:lnTo>
                        <a:pt x="457" y="276"/>
                      </a:lnTo>
                      <a:lnTo>
                        <a:pt x="474" y="240"/>
                      </a:lnTo>
                      <a:lnTo>
                        <a:pt x="488" y="190"/>
                      </a:lnTo>
                      <a:lnTo>
                        <a:pt x="504" y="149"/>
                      </a:lnTo>
                      <a:lnTo>
                        <a:pt x="525" y="102"/>
                      </a:lnTo>
                      <a:lnTo>
                        <a:pt x="579" y="0"/>
                      </a:lnTo>
                      <a:lnTo>
                        <a:pt x="28" y="398"/>
                      </a:lnTo>
                      <a:lnTo>
                        <a:pt x="0" y="420"/>
                      </a:lnTo>
                      <a:lnTo>
                        <a:pt x="90" y="423"/>
                      </a:lnTo>
                      <a:lnTo>
                        <a:pt x="154" y="440"/>
                      </a:lnTo>
                    </a:path>
                  </a:pathLst>
                </a:custGeom>
                <a:solidFill>
                  <a:srgbClr val="39393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Freeform 7"/>
                <p:cNvSpPr/>
                <p:nvPr/>
              </p:nvSpPr>
              <p:spPr>
                <a:xfrm>
                  <a:off x="222480" y="335520"/>
                  <a:ext cx="997200" cy="800640"/>
                </a:xfrm>
                <a:custGeom>
                  <a:avLst/>
                  <a:gdLst/>
                  <a:ahLst/>
                  <a:rect l="l" t="t" r="r" b="b"/>
                  <a:pathLst>
                    <a:path w="620" h="473">
                      <a:moveTo>
                        <a:pt x="0" y="472"/>
                      </a:moveTo>
                      <a:lnTo>
                        <a:pt x="15" y="445"/>
                      </a:lnTo>
                      <a:lnTo>
                        <a:pt x="61" y="411"/>
                      </a:lnTo>
                      <a:lnTo>
                        <a:pt x="619" y="0"/>
                      </a:lnTo>
                      <a:lnTo>
                        <a:pt x="466" y="153"/>
                      </a:lnTo>
                      <a:lnTo>
                        <a:pt x="366" y="315"/>
                      </a:lnTo>
                      <a:lnTo>
                        <a:pt x="301" y="467"/>
                      </a:lnTo>
                      <a:lnTo>
                        <a:pt x="222" y="435"/>
                      </a:lnTo>
                      <a:lnTo>
                        <a:pt x="132" y="413"/>
                      </a:lnTo>
                      <a:lnTo>
                        <a:pt x="76" y="420"/>
                      </a:lnTo>
                      <a:lnTo>
                        <a:pt x="30" y="432"/>
                      </a:lnTo>
                      <a:lnTo>
                        <a:pt x="0" y="472"/>
                      </a:lnTo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" name="Group 8"/>
            <p:cNvGrpSpPr/>
            <p:nvPr/>
          </p:nvGrpSpPr>
          <p:grpSpPr>
            <a:xfrm>
              <a:off x="3330360" y="-387360"/>
              <a:ext cx="2638800" cy="1053720"/>
              <a:chOff x="3330360" y="-387360"/>
              <a:chExt cx="2638800" cy="1053720"/>
            </a:xfrm>
          </p:grpSpPr>
          <p:sp>
            <p:nvSpPr>
              <p:cNvPr id="7" name="Rectangle 9"/>
              <p:cNvSpPr/>
              <p:nvPr/>
            </p:nvSpPr>
            <p:spPr>
              <a:xfrm>
                <a:off x="3330360" y="194760"/>
                <a:ext cx="2638800" cy="119880"/>
              </a:xfrm>
              <a:prstGeom prst="rect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3819600" y="137160"/>
                <a:ext cx="373680" cy="572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5040360" y="130320"/>
                <a:ext cx="373320" cy="626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4318920" y="-387360"/>
                <a:ext cx="610200" cy="62424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346280" y="-365400"/>
                <a:ext cx="553680" cy="587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4389840" y="-370440"/>
                <a:ext cx="448920" cy="138600"/>
              </a:xfrm>
              <a:custGeom>
                <a:avLst/>
                <a:gdLst/>
                <a:ahLst/>
                <a:rect l="l" t="t" r="r" b="b"/>
                <a:pathLst>
                  <a:path w="279" h="82">
                    <a:moveTo>
                      <a:pt x="278" y="65"/>
                    </a:moveTo>
                    <a:lnTo>
                      <a:pt x="271" y="49"/>
                    </a:lnTo>
                    <a:lnTo>
                      <a:pt x="254" y="32"/>
                    </a:lnTo>
                    <a:lnTo>
                      <a:pt x="232" y="20"/>
                    </a:lnTo>
                    <a:lnTo>
                      <a:pt x="203" y="7"/>
                    </a:lnTo>
                    <a:lnTo>
                      <a:pt x="168" y="0"/>
                    </a:lnTo>
                    <a:lnTo>
                      <a:pt x="127" y="0"/>
                    </a:lnTo>
                    <a:lnTo>
                      <a:pt x="95" y="3"/>
                    </a:lnTo>
                    <a:lnTo>
                      <a:pt x="63" y="14"/>
                    </a:lnTo>
                    <a:lnTo>
                      <a:pt x="41" y="29"/>
                    </a:lnTo>
                    <a:lnTo>
                      <a:pt x="21" y="43"/>
                    </a:lnTo>
                    <a:lnTo>
                      <a:pt x="5" y="62"/>
                    </a:lnTo>
                    <a:lnTo>
                      <a:pt x="0" y="71"/>
                    </a:lnTo>
                    <a:lnTo>
                      <a:pt x="1" y="81"/>
                    </a:lnTo>
                    <a:lnTo>
                      <a:pt x="14" y="62"/>
                    </a:lnTo>
                    <a:lnTo>
                      <a:pt x="28" y="51"/>
                    </a:lnTo>
                    <a:lnTo>
                      <a:pt x="55" y="33"/>
                    </a:lnTo>
                    <a:lnTo>
                      <a:pt x="78" y="23"/>
                    </a:lnTo>
                    <a:lnTo>
                      <a:pt x="105" y="14"/>
                    </a:lnTo>
                    <a:lnTo>
                      <a:pt x="131" y="11"/>
                    </a:lnTo>
                    <a:lnTo>
                      <a:pt x="147" y="11"/>
                    </a:lnTo>
                    <a:lnTo>
                      <a:pt x="167" y="13"/>
                    </a:lnTo>
                    <a:lnTo>
                      <a:pt x="186" y="14"/>
                    </a:lnTo>
                    <a:lnTo>
                      <a:pt x="206" y="20"/>
                    </a:lnTo>
                    <a:lnTo>
                      <a:pt x="239" y="35"/>
                    </a:lnTo>
                    <a:lnTo>
                      <a:pt x="255" y="49"/>
                    </a:lnTo>
                    <a:lnTo>
                      <a:pt x="278" y="6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Oval 15"/>
              <p:cNvSpPr/>
              <p:nvPr/>
            </p:nvSpPr>
            <p:spPr>
              <a:xfrm>
                <a:off x="4391280" y="-314280"/>
                <a:ext cx="465120" cy="47340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4423680" y="-285480"/>
                <a:ext cx="397440" cy="40248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3542760" y="64080"/>
                <a:ext cx="2186640" cy="602280"/>
              </a:xfrm>
              <a:custGeom>
                <a:avLst/>
                <a:gdLst/>
                <a:ahLst/>
                <a:rect l="l" t="t" r="r" b="b"/>
                <a:pathLst>
                  <a:path w="1358" h="356">
                    <a:moveTo>
                      <a:pt x="10" y="345"/>
                    </a:moveTo>
                    <a:lnTo>
                      <a:pt x="28" y="351"/>
                    </a:lnTo>
                    <a:lnTo>
                      <a:pt x="1357" y="355"/>
                    </a:lnTo>
                    <a:lnTo>
                      <a:pt x="1357" y="279"/>
                    </a:lnTo>
                    <a:lnTo>
                      <a:pt x="1351" y="248"/>
                    </a:lnTo>
                    <a:lnTo>
                      <a:pt x="1338" y="220"/>
                    </a:lnTo>
                    <a:lnTo>
                      <a:pt x="1324" y="192"/>
                    </a:lnTo>
                    <a:lnTo>
                      <a:pt x="1282" y="147"/>
                    </a:lnTo>
                    <a:lnTo>
                      <a:pt x="1214" y="119"/>
                    </a:lnTo>
                    <a:lnTo>
                      <a:pt x="1141" y="106"/>
                    </a:lnTo>
                    <a:lnTo>
                      <a:pt x="1073" y="96"/>
                    </a:lnTo>
                    <a:lnTo>
                      <a:pt x="996" y="87"/>
                    </a:lnTo>
                    <a:lnTo>
                      <a:pt x="906" y="81"/>
                    </a:lnTo>
                    <a:lnTo>
                      <a:pt x="782" y="69"/>
                    </a:lnTo>
                    <a:lnTo>
                      <a:pt x="817" y="22"/>
                    </a:lnTo>
                    <a:lnTo>
                      <a:pt x="823" y="2"/>
                    </a:lnTo>
                    <a:lnTo>
                      <a:pt x="795" y="28"/>
                    </a:lnTo>
                    <a:lnTo>
                      <a:pt x="779" y="41"/>
                    </a:lnTo>
                    <a:lnTo>
                      <a:pt x="762" y="57"/>
                    </a:lnTo>
                    <a:lnTo>
                      <a:pt x="746" y="62"/>
                    </a:lnTo>
                    <a:lnTo>
                      <a:pt x="714" y="71"/>
                    </a:lnTo>
                    <a:lnTo>
                      <a:pt x="661" y="72"/>
                    </a:lnTo>
                    <a:lnTo>
                      <a:pt x="612" y="70"/>
                    </a:lnTo>
                    <a:lnTo>
                      <a:pt x="587" y="57"/>
                    </a:lnTo>
                    <a:lnTo>
                      <a:pt x="571" y="46"/>
                    </a:lnTo>
                    <a:lnTo>
                      <a:pt x="548" y="28"/>
                    </a:lnTo>
                    <a:lnTo>
                      <a:pt x="519" y="0"/>
                    </a:lnTo>
                    <a:lnTo>
                      <a:pt x="527" y="24"/>
                    </a:lnTo>
                    <a:lnTo>
                      <a:pt x="539" y="64"/>
                    </a:lnTo>
                    <a:lnTo>
                      <a:pt x="525" y="72"/>
                    </a:lnTo>
                    <a:lnTo>
                      <a:pt x="379" y="80"/>
                    </a:lnTo>
                    <a:lnTo>
                      <a:pt x="259" y="96"/>
                    </a:lnTo>
                    <a:lnTo>
                      <a:pt x="190" y="106"/>
                    </a:lnTo>
                    <a:lnTo>
                      <a:pt x="123" y="119"/>
                    </a:lnTo>
                    <a:lnTo>
                      <a:pt x="94" y="129"/>
                    </a:lnTo>
                    <a:lnTo>
                      <a:pt x="72" y="144"/>
                    </a:lnTo>
                    <a:lnTo>
                      <a:pt x="43" y="171"/>
                    </a:lnTo>
                    <a:lnTo>
                      <a:pt x="24" y="202"/>
                    </a:lnTo>
                    <a:lnTo>
                      <a:pt x="11" y="239"/>
                    </a:lnTo>
                    <a:lnTo>
                      <a:pt x="4" y="267"/>
                    </a:lnTo>
                    <a:lnTo>
                      <a:pt x="1" y="299"/>
                    </a:lnTo>
                    <a:lnTo>
                      <a:pt x="0" y="320"/>
                    </a:lnTo>
                    <a:lnTo>
                      <a:pt x="10" y="345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592800" y="133560"/>
                <a:ext cx="862920" cy="311400"/>
              </a:xfrm>
              <a:custGeom>
                <a:avLst/>
                <a:gdLst/>
                <a:ahLst/>
                <a:rect l="l" t="t" r="r" b="b"/>
                <a:pathLst>
                  <a:path w="536" h="184">
                    <a:moveTo>
                      <a:pt x="0" y="183"/>
                    </a:moveTo>
                    <a:lnTo>
                      <a:pt x="7" y="153"/>
                    </a:lnTo>
                    <a:lnTo>
                      <a:pt x="17" y="133"/>
                    </a:lnTo>
                    <a:lnTo>
                      <a:pt x="49" y="110"/>
                    </a:lnTo>
                    <a:lnTo>
                      <a:pt x="105" y="88"/>
                    </a:lnTo>
                    <a:lnTo>
                      <a:pt x="147" y="82"/>
                    </a:lnTo>
                    <a:lnTo>
                      <a:pt x="182" y="74"/>
                    </a:lnTo>
                    <a:lnTo>
                      <a:pt x="237" y="69"/>
                    </a:lnTo>
                    <a:lnTo>
                      <a:pt x="279" y="61"/>
                    </a:lnTo>
                    <a:lnTo>
                      <a:pt x="320" y="54"/>
                    </a:lnTo>
                    <a:lnTo>
                      <a:pt x="359" y="49"/>
                    </a:lnTo>
                    <a:lnTo>
                      <a:pt x="405" y="43"/>
                    </a:lnTo>
                    <a:lnTo>
                      <a:pt x="473" y="42"/>
                    </a:lnTo>
                    <a:lnTo>
                      <a:pt x="470" y="44"/>
                    </a:lnTo>
                    <a:lnTo>
                      <a:pt x="506" y="41"/>
                    </a:lnTo>
                    <a:lnTo>
                      <a:pt x="518" y="27"/>
                    </a:lnTo>
                    <a:lnTo>
                      <a:pt x="513" y="0"/>
                    </a:lnTo>
                    <a:lnTo>
                      <a:pt x="533" y="23"/>
                    </a:lnTo>
                    <a:lnTo>
                      <a:pt x="535" y="39"/>
                    </a:lnTo>
                    <a:lnTo>
                      <a:pt x="513" y="52"/>
                    </a:lnTo>
                    <a:lnTo>
                      <a:pt x="470" y="57"/>
                    </a:lnTo>
                    <a:lnTo>
                      <a:pt x="399" y="61"/>
                    </a:lnTo>
                    <a:lnTo>
                      <a:pt x="323" y="70"/>
                    </a:lnTo>
                    <a:lnTo>
                      <a:pt x="263" y="80"/>
                    </a:lnTo>
                    <a:lnTo>
                      <a:pt x="193" y="90"/>
                    </a:lnTo>
                    <a:lnTo>
                      <a:pt x="135" y="99"/>
                    </a:lnTo>
                    <a:lnTo>
                      <a:pt x="92" y="109"/>
                    </a:lnTo>
                    <a:lnTo>
                      <a:pt x="56" y="128"/>
                    </a:lnTo>
                    <a:lnTo>
                      <a:pt x="30" y="140"/>
                    </a:lnTo>
                    <a:lnTo>
                      <a:pt x="15" y="164"/>
                    </a:lnTo>
                    <a:lnTo>
                      <a:pt x="0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3566880" y="583920"/>
                <a:ext cx="2135160" cy="67680"/>
              </a:xfrm>
              <a:custGeom>
                <a:avLst/>
                <a:gdLst/>
                <a:ahLst/>
                <a:rect l="l" t="t" r="r" b="b"/>
                <a:pathLst>
                  <a:path w="1326" h="40">
                    <a:moveTo>
                      <a:pt x="6" y="0"/>
                    </a:moveTo>
                    <a:lnTo>
                      <a:pt x="0" y="10"/>
                    </a:lnTo>
                    <a:lnTo>
                      <a:pt x="6" y="25"/>
                    </a:lnTo>
                    <a:lnTo>
                      <a:pt x="17" y="30"/>
                    </a:lnTo>
                    <a:lnTo>
                      <a:pt x="36" y="36"/>
                    </a:lnTo>
                    <a:lnTo>
                      <a:pt x="114" y="37"/>
                    </a:lnTo>
                    <a:lnTo>
                      <a:pt x="275" y="38"/>
                    </a:lnTo>
                    <a:lnTo>
                      <a:pt x="381" y="36"/>
                    </a:lnTo>
                    <a:lnTo>
                      <a:pt x="415" y="37"/>
                    </a:lnTo>
                    <a:lnTo>
                      <a:pt x="438" y="37"/>
                    </a:lnTo>
                    <a:lnTo>
                      <a:pt x="474" y="38"/>
                    </a:lnTo>
                    <a:lnTo>
                      <a:pt x="480" y="38"/>
                    </a:lnTo>
                    <a:lnTo>
                      <a:pt x="545" y="38"/>
                    </a:lnTo>
                    <a:lnTo>
                      <a:pt x="578" y="38"/>
                    </a:lnTo>
                    <a:lnTo>
                      <a:pt x="598" y="37"/>
                    </a:lnTo>
                    <a:lnTo>
                      <a:pt x="686" y="36"/>
                    </a:lnTo>
                    <a:lnTo>
                      <a:pt x="691" y="36"/>
                    </a:lnTo>
                    <a:lnTo>
                      <a:pt x="724" y="36"/>
                    </a:lnTo>
                    <a:lnTo>
                      <a:pt x="777" y="38"/>
                    </a:lnTo>
                    <a:lnTo>
                      <a:pt x="819" y="38"/>
                    </a:lnTo>
                    <a:lnTo>
                      <a:pt x="825" y="38"/>
                    </a:lnTo>
                    <a:lnTo>
                      <a:pt x="859" y="39"/>
                    </a:lnTo>
                    <a:lnTo>
                      <a:pt x="882" y="37"/>
                    </a:lnTo>
                    <a:lnTo>
                      <a:pt x="888" y="38"/>
                    </a:lnTo>
                    <a:lnTo>
                      <a:pt x="957" y="37"/>
                    </a:lnTo>
                    <a:lnTo>
                      <a:pt x="962" y="36"/>
                    </a:lnTo>
                    <a:lnTo>
                      <a:pt x="980" y="37"/>
                    </a:lnTo>
                    <a:lnTo>
                      <a:pt x="1004" y="38"/>
                    </a:lnTo>
                    <a:lnTo>
                      <a:pt x="1011" y="38"/>
                    </a:lnTo>
                    <a:lnTo>
                      <a:pt x="1045" y="37"/>
                    </a:lnTo>
                    <a:lnTo>
                      <a:pt x="1066" y="36"/>
                    </a:lnTo>
                    <a:lnTo>
                      <a:pt x="1072" y="36"/>
                    </a:lnTo>
                    <a:lnTo>
                      <a:pt x="1091" y="36"/>
                    </a:lnTo>
                    <a:lnTo>
                      <a:pt x="1119" y="36"/>
                    </a:lnTo>
                    <a:lnTo>
                      <a:pt x="1126" y="36"/>
                    </a:lnTo>
                    <a:lnTo>
                      <a:pt x="1145" y="37"/>
                    </a:lnTo>
                    <a:lnTo>
                      <a:pt x="1165" y="38"/>
                    </a:lnTo>
                    <a:lnTo>
                      <a:pt x="1171" y="38"/>
                    </a:lnTo>
                    <a:lnTo>
                      <a:pt x="1214" y="36"/>
                    </a:lnTo>
                    <a:lnTo>
                      <a:pt x="1233" y="37"/>
                    </a:lnTo>
                    <a:lnTo>
                      <a:pt x="1252" y="38"/>
                    </a:lnTo>
                    <a:lnTo>
                      <a:pt x="1257" y="37"/>
                    </a:lnTo>
                    <a:lnTo>
                      <a:pt x="1309" y="37"/>
                    </a:lnTo>
                    <a:lnTo>
                      <a:pt x="1325" y="32"/>
                    </a:lnTo>
                    <a:lnTo>
                      <a:pt x="1298" y="22"/>
                    </a:lnTo>
                    <a:lnTo>
                      <a:pt x="1291" y="22"/>
                    </a:lnTo>
                    <a:lnTo>
                      <a:pt x="1267" y="20"/>
                    </a:lnTo>
                    <a:lnTo>
                      <a:pt x="1271" y="22"/>
                    </a:lnTo>
                    <a:lnTo>
                      <a:pt x="1256" y="24"/>
                    </a:lnTo>
                    <a:lnTo>
                      <a:pt x="1249" y="23"/>
                    </a:lnTo>
                    <a:lnTo>
                      <a:pt x="1087" y="15"/>
                    </a:lnTo>
                    <a:lnTo>
                      <a:pt x="1081" y="15"/>
                    </a:lnTo>
                    <a:lnTo>
                      <a:pt x="1038" y="15"/>
                    </a:lnTo>
                    <a:lnTo>
                      <a:pt x="1015" y="17"/>
                    </a:lnTo>
                    <a:lnTo>
                      <a:pt x="978" y="19"/>
                    </a:lnTo>
                    <a:lnTo>
                      <a:pt x="943" y="21"/>
                    </a:lnTo>
                    <a:lnTo>
                      <a:pt x="904" y="21"/>
                    </a:lnTo>
                    <a:lnTo>
                      <a:pt x="874" y="20"/>
                    </a:lnTo>
                    <a:lnTo>
                      <a:pt x="869" y="20"/>
                    </a:lnTo>
                    <a:lnTo>
                      <a:pt x="819" y="18"/>
                    </a:lnTo>
                    <a:lnTo>
                      <a:pt x="752" y="18"/>
                    </a:lnTo>
                    <a:lnTo>
                      <a:pt x="732" y="19"/>
                    </a:lnTo>
                    <a:lnTo>
                      <a:pt x="709" y="20"/>
                    </a:lnTo>
                    <a:lnTo>
                      <a:pt x="683" y="20"/>
                    </a:lnTo>
                    <a:lnTo>
                      <a:pt x="678" y="20"/>
                    </a:lnTo>
                    <a:lnTo>
                      <a:pt x="655" y="21"/>
                    </a:lnTo>
                    <a:lnTo>
                      <a:pt x="610" y="22"/>
                    </a:lnTo>
                    <a:lnTo>
                      <a:pt x="605" y="22"/>
                    </a:lnTo>
                    <a:lnTo>
                      <a:pt x="584" y="22"/>
                    </a:lnTo>
                    <a:lnTo>
                      <a:pt x="553" y="20"/>
                    </a:lnTo>
                    <a:lnTo>
                      <a:pt x="530" y="19"/>
                    </a:lnTo>
                    <a:lnTo>
                      <a:pt x="524" y="19"/>
                    </a:lnTo>
                    <a:lnTo>
                      <a:pt x="496" y="17"/>
                    </a:lnTo>
                    <a:lnTo>
                      <a:pt x="462" y="17"/>
                    </a:lnTo>
                    <a:lnTo>
                      <a:pt x="457" y="17"/>
                    </a:lnTo>
                    <a:lnTo>
                      <a:pt x="436" y="18"/>
                    </a:lnTo>
                    <a:lnTo>
                      <a:pt x="404" y="20"/>
                    </a:lnTo>
                    <a:lnTo>
                      <a:pt x="378" y="21"/>
                    </a:lnTo>
                    <a:lnTo>
                      <a:pt x="373" y="21"/>
                    </a:lnTo>
                    <a:lnTo>
                      <a:pt x="340" y="23"/>
                    </a:lnTo>
                    <a:lnTo>
                      <a:pt x="335" y="23"/>
                    </a:lnTo>
                    <a:lnTo>
                      <a:pt x="302" y="24"/>
                    </a:lnTo>
                    <a:lnTo>
                      <a:pt x="283" y="24"/>
                    </a:lnTo>
                    <a:lnTo>
                      <a:pt x="258" y="22"/>
                    </a:lnTo>
                    <a:lnTo>
                      <a:pt x="239" y="20"/>
                    </a:lnTo>
                    <a:lnTo>
                      <a:pt x="205" y="20"/>
                    </a:lnTo>
                    <a:lnTo>
                      <a:pt x="179" y="21"/>
                    </a:lnTo>
                    <a:lnTo>
                      <a:pt x="147" y="23"/>
                    </a:lnTo>
                    <a:lnTo>
                      <a:pt x="141" y="23"/>
                    </a:lnTo>
                    <a:lnTo>
                      <a:pt x="133" y="23"/>
                    </a:lnTo>
                    <a:lnTo>
                      <a:pt x="99" y="21"/>
                    </a:lnTo>
                    <a:lnTo>
                      <a:pt x="82" y="20"/>
                    </a:lnTo>
                    <a:lnTo>
                      <a:pt x="59" y="19"/>
                    </a:lnTo>
                    <a:lnTo>
                      <a:pt x="53" y="19"/>
                    </a:lnTo>
                    <a:lnTo>
                      <a:pt x="48" y="19"/>
                    </a:lnTo>
                    <a:lnTo>
                      <a:pt x="38" y="2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3591000" y="132120"/>
                <a:ext cx="2093400" cy="379080"/>
              </a:xfrm>
              <a:custGeom>
                <a:avLst/>
                <a:gdLst/>
                <a:ahLst/>
                <a:rect l="l" t="t" r="r" b="b"/>
                <a:pathLst>
                  <a:path w="1300" h="224">
                    <a:moveTo>
                      <a:pt x="97" y="143"/>
                    </a:moveTo>
                    <a:lnTo>
                      <a:pt x="73" y="142"/>
                    </a:lnTo>
                    <a:lnTo>
                      <a:pt x="54" y="157"/>
                    </a:lnTo>
                    <a:lnTo>
                      <a:pt x="40" y="164"/>
                    </a:lnTo>
                    <a:lnTo>
                      <a:pt x="18" y="174"/>
                    </a:lnTo>
                    <a:lnTo>
                      <a:pt x="5" y="178"/>
                    </a:lnTo>
                    <a:lnTo>
                      <a:pt x="0" y="190"/>
                    </a:lnTo>
                    <a:lnTo>
                      <a:pt x="11" y="203"/>
                    </a:lnTo>
                    <a:lnTo>
                      <a:pt x="26" y="218"/>
                    </a:lnTo>
                    <a:lnTo>
                      <a:pt x="54" y="212"/>
                    </a:lnTo>
                    <a:lnTo>
                      <a:pt x="100" y="210"/>
                    </a:lnTo>
                    <a:lnTo>
                      <a:pt x="172" y="215"/>
                    </a:lnTo>
                    <a:lnTo>
                      <a:pt x="322" y="218"/>
                    </a:lnTo>
                    <a:lnTo>
                      <a:pt x="420" y="210"/>
                    </a:lnTo>
                    <a:lnTo>
                      <a:pt x="452" y="215"/>
                    </a:lnTo>
                    <a:lnTo>
                      <a:pt x="473" y="213"/>
                    </a:lnTo>
                    <a:lnTo>
                      <a:pt x="506" y="218"/>
                    </a:lnTo>
                    <a:lnTo>
                      <a:pt x="512" y="218"/>
                    </a:lnTo>
                    <a:lnTo>
                      <a:pt x="573" y="219"/>
                    </a:lnTo>
                    <a:lnTo>
                      <a:pt x="603" y="218"/>
                    </a:lnTo>
                    <a:lnTo>
                      <a:pt x="621" y="213"/>
                    </a:lnTo>
                    <a:lnTo>
                      <a:pt x="703" y="210"/>
                    </a:lnTo>
                    <a:lnTo>
                      <a:pt x="708" y="210"/>
                    </a:lnTo>
                    <a:lnTo>
                      <a:pt x="738" y="210"/>
                    </a:lnTo>
                    <a:lnTo>
                      <a:pt x="788" y="218"/>
                    </a:lnTo>
                    <a:lnTo>
                      <a:pt x="827" y="219"/>
                    </a:lnTo>
                    <a:lnTo>
                      <a:pt x="832" y="219"/>
                    </a:lnTo>
                    <a:lnTo>
                      <a:pt x="864" y="223"/>
                    </a:lnTo>
                    <a:lnTo>
                      <a:pt x="885" y="215"/>
                    </a:lnTo>
                    <a:lnTo>
                      <a:pt x="891" y="218"/>
                    </a:lnTo>
                    <a:lnTo>
                      <a:pt x="955" y="213"/>
                    </a:lnTo>
                    <a:lnTo>
                      <a:pt x="960" y="210"/>
                    </a:lnTo>
                    <a:lnTo>
                      <a:pt x="976" y="215"/>
                    </a:lnTo>
                    <a:lnTo>
                      <a:pt x="999" y="218"/>
                    </a:lnTo>
                    <a:lnTo>
                      <a:pt x="1005" y="218"/>
                    </a:lnTo>
                    <a:lnTo>
                      <a:pt x="1037" y="213"/>
                    </a:lnTo>
                    <a:lnTo>
                      <a:pt x="1056" y="210"/>
                    </a:lnTo>
                    <a:lnTo>
                      <a:pt x="1062" y="210"/>
                    </a:lnTo>
                    <a:lnTo>
                      <a:pt x="1079" y="210"/>
                    </a:lnTo>
                    <a:lnTo>
                      <a:pt x="1105" y="210"/>
                    </a:lnTo>
                    <a:lnTo>
                      <a:pt x="1111" y="209"/>
                    </a:lnTo>
                    <a:lnTo>
                      <a:pt x="1129" y="215"/>
                    </a:lnTo>
                    <a:lnTo>
                      <a:pt x="1148" y="219"/>
                    </a:lnTo>
                    <a:lnTo>
                      <a:pt x="1154" y="219"/>
                    </a:lnTo>
                    <a:lnTo>
                      <a:pt x="1193" y="210"/>
                    </a:lnTo>
                    <a:lnTo>
                      <a:pt x="1211" y="213"/>
                    </a:lnTo>
                    <a:lnTo>
                      <a:pt x="1229" y="218"/>
                    </a:lnTo>
                    <a:lnTo>
                      <a:pt x="1233" y="215"/>
                    </a:lnTo>
                    <a:lnTo>
                      <a:pt x="1282" y="213"/>
                    </a:lnTo>
                    <a:lnTo>
                      <a:pt x="1299" y="212"/>
                    </a:lnTo>
                    <a:lnTo>
                      <a:pt x="1296" y="187"/>
                    </a:lnTo>
                    <a:lnTo>
                      <a:pt x="1283" y="169"/>
                    </a:lnTo>
                    <a:lnTo>
                      <a:pt x="1268" y="155"/>
                    </a:lnTo>
                    <a:lnTo>
                      <a:pt x="1246" y="140"/>
                    </a:lnTo>
                    <a:lnTo>
                      <a:pt x="1232" y="146"/>
                    </a:lnTo>
                    <a:lnTo>
                      <a:pt x="1226" y="145"/>
                    </a:lnTo>
                    <a:lnTo>
                      <a:pt x="1158" y="132"/>
                    </a:lnTo>
                    <a:lnTo>
                      <a:pt x="1119" y="117"/>
                    </a:lnTo>
                    <a:lnTo>
                      <a:pt x="1076" y="103"/>
                    </a:lnTo>
                    <a:lnTo>
                      <a:pt x="1070" y="103"/>
                    </a:lnTo>
                    <a:lnTo>
                      <a:pt x="1030" y="103"/>
                    </a:lnTo>
                    <a:lnTo>
                      <a:pt x="1008" y="113"/>
                    </a:lnTo>
                    <a:lnTo>
                      <a:pt x="974" y="122"/>
                    </a:lnTo>
                    <a:lnTo>
                      <a:pt x="942" y="132"/>
                    </a:lnTo>
                    <a:lnTo>
                      <a:pt x="905" y="131"/>
                    </a:lnTo>
                    <a:lnTo>
                      <a:pt x="878" y="126"/>
                    </a:lnTo>
                    <a:lnTo>
                      <a:pt x="873" y="126"/>
                    </a:lnTo>
                    <a:lnTo>
                      <a:pt x="827" y="117"/>
                    </a:lnTo>
                    <a:lnTo>
                      <a:pt x="787" y="103"/>
                    </a:lnTo>
                    <a:lnTo>
                      <a:pt x="761" y="99"/>
                    </a:lnTo>
                    <a:lnTo>
                      <a:pt x="743" y="85"/>
                    </a:lnTo>
                    <a:lnTo>
                      <a:pt x="721" y="80"/>
                    </a:lnTo>
                    <a:lnTo>
                      <a:pt x="702" y="67"/>
                    </a:lnTo>
                    <a:lnTo>
                      <a:pt x="695" y="38"/>
                    </a:lnTo>
                    <a:lnTo>
                      <a:pt x="718" y="16"/>
                    </a:lnTo>
                    <a:lnTo>
                      <a:pt x="687" y="25"/>
                    </a:lnTo>
                    <a:lnTo>
                      <a:pt x="645" y="24"/>
                    </a:lnTo>
                    <a:lnTo>
                      <a:pt x="614" y="25"/>
                    </a:lnTo>
                    <a:lnTo>
                      <a:pt x="575" y="16"/>
                    </a:lnTo>
                    <a:lnTo>
                      <a:pt x="537" y="0"/>
                    </a:lnTo>
                    <a:lnTo>
                      <a:pt x="566" y="29"/>
                    </a:lnTo>
                    <a:lnTo>
                      <a:pt x="575" y="51"/>
                    </a:lnTo>
                    <a:lnTo>
                      <a:pt x="573" y="68"/>
                    </a:lnTo>
                    <a:lnTo>
                      <a:pt x="560" y="87"/>
                    </a:lnTo>
                    <a:lnTo>
                      <a:pt x="531" y="97"/>
                    </a:lnTo>
                    <a:lnTo>
                      <a:pt x="503" y="96"/>
                    </a:lnTo>
                    <a:lnTo>
                      <a:pt x="477" y="100"/>
                    </a:lnTo>
                    <a:lnTo>
                      <a:pt x="451" y="106"/>
                    </a:lnTo>
                    <a:lnTo>
                      <a:pt x="413" y="122"/>
                    </a:lnTo>
                    <a:lnTo>
                      <a:pt x="389" y="129"/>
                    </a:lnTo>
                    <a:lnTo>
                      <a:pt x="361" y="119"/>
                    </a:lnTo>
                    <a:lnTo>
                      <a:pt x="331" y="122"/>
                    </a:lnTo>
                    <a:lnTo>
                      <a:pt x="306" y="135"/>
                    </a:lnTo>
                    <a:lnTo>
                      <a:pt x="288" y="128"/>
                    </a:lnTo>
                    <a:lnTo>
                      <a:pt x="261" y="134"/>
                    </a:lnTo>
                    <a:lnTo>
                      <a:pt x="233" y="131"/>
                    </a:lnTo>
                    <a:lnTo>
                      <a:pt x="203" y="142"/>
                    </a:lnTo>
                    <a:lnTo>
                      <a:pt x="197" y="142"/>
                    </a:lnTo>
                    <a:lnTo>
                      <a:pt x="187" y="140"/>
                    </a:lnTo>
                    <a:lnTo>
                      <a:pt x="158" y="132"/>
                    </a:lnTo>
                    <a:lnTo>
                      <a:pt x="143" y="126"/>
                    </a:lnTo>
                    <a:lnTo>
                      <a:pt x="118" y="134"/>
                    </a:lnTo>
                    <a:lnTo>
                      <a:pt x="97" y="143"/>
                    </a:lnTo>
                  </a:path>
                </a:pathLst>
              </a:cu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4748760" y="137160"/>
                <a:ext cx="900000" cy="311040"/>
              </a:xfrm>
              <a:custGeom>
                <a:avLst/>
                <a:gdLst/>
                <a:ahLst/>
                <a:rect l="l" t="t" r="r" b="b"/>
                <a:pathLst>
                  <a:path w="559" h="184">
                    <a:moveTo>
                      <a:pt x="558" y="183"/>
                    </a:moveTo>
                    <a:lnTo>
                      <a:pt x="550" y="153"/>
                    </a:lnTo>
                    <a:lnTo>
                      <a:pt x="539" y="133"/>
                    </a:lnTo>
                    <a:lnTo>
                      <a:pt x="505" y="111"/>
                    </a:lnTo>
                    <a:lnTo>
                      <a:pt x="447" y="88"/>
                    </a:lnTo>
                    <a:lnTo>
                      <a:pt x="404" y="81"/>
                    </a:lnTo>
                    <a:lnTo>
                      <a:pt x="367" y="74"/>
                    </a:lnTo>
                    <a:lnTo>
                      <a:pt x="310" y="69"/>
                    </a:lnTo>
                    <a:lnTo>
                      <a:pt x="265" y="60"/>
                    </a:lnTo>
                    <a:lnTo>
                      <a:pt x="224" y="54"/>
                    </a:lnTo>
                    <a:lnTo>
                      <a:pt x="182" y="49"/>
                    </a:lnTo>
                    <a:lnTo>
                      <a:pt x="134" y="43"/>
                    </a:lnTo>
                    <a:lnTo>
                      <a:pt x="64" y="42"/>
                    </a:lnTo>
                    <a:lnTo>
                      <a:pt x="66" y="44"/>
                    </a:lnTo>
                    <a:lnTo>
                      <a:pt x="29" y="41"/>
                    </a:lnTo>
                    <a:lnTo>
                      <a:pt x="17" y="27"/>
                    </a:lnTo>
                    <a:lnTo>
                      <a:pt x="21" y="0"/>
                    </a:lnTo>
                    <a:lnTo>
                      <a:pt x="1" y="24"/>
                    </a:lnTo>
                    <a:lnTo>
                      <a:pt x="0" y="40"/>
                    </a:lnTo>
                    <a:lnTo>
                      <a:pt x="21" y="52"/>
                    </a:lnTo>
                    <a:lnTo>
                      <a:pt x="66" y="57"/>
                    </a:lnTo>
                    <a:lnTo>
                      <a:pt x="140" y="60"/>
                    </a:lnTo>
                    <a:lnTo>
                      <a:pt x="220" y="70"/>
                    </a:lnTo>
                    <a:lnTo>
                      <a:pt x="283" y="80"/>
                    </a:lnTo>
                    <a:lnTo>
                      <a:pt x="356" y="90"/>
                    </a:lnTo>
                    <a:lnTo>
                      <a:pt x="417" y="100"/>
                    </a:lnTo>
                    <a:lnTo>
                      <a:pt x="461" y="109"/>
                    </a:lnTo>
                    <a:lnTo>
                      <a:pt x="498" y="128"/>
                    </a:lnTo>
                    <a:lnTo>
                      <a:pt x="525" y="140"/>
                    </a:lnTo>
                    <a:lnTo>
                      <a:pt x="541" y="164"/>
                    </a:lnTo>
                    <a:lnTo>
                      <a:pt x="558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507960" y="6067080"/>
            <a:ext cx="238752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048120" y="6067080"/>
            <a:ext cx="32256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413040" y="6067440"/>
            <a:ext cx="2133720" cy="51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Freeform 27"/>
          <p:cNvSpPr/>
          <p:nvPr/>
        </p:nvSpPr>
        <p:spPr>
          <a:xfrm>
            <a:off x="3654360" y="2257560"/>
            <a:ext cx="2048040" cy="90360"/>
          </a:xfrm>
          <a:custGeom>
            <a:avLst/>
            <a:gdLst/>
            <a:ahLst/>
            <a:rect l="l" t="t" r="r" b="b"/>
            <a:pathLst>
              <a:path w="1290" h="57">
                <a:moveTo>
                  <a:pt x="10" y="0"/>
                </a:moveTo>
                <a:lnTo>
                  <a:pt x="0" y="19"/>
                </a:lnTo>
                <a:lnTo>
                  <a:pt x="2" y="40"/>
                </a:lnTo>
                <a:lnTo>
                  <a:pt x="28" y="50"/>
                </a:lnTo>
                <a:lnTo>
                  <a:pt x="148" y="53"/>
                </a:lnTo>
                <a:lnTo>
                  <a:pt x="297" y="53"/>
                </a:lnTo>
                <a:lnTo>
                  <a:pt x="468" y="53"/>
                </a:lnTo>
                <a:lnTo>
                  <a:pt x="667" y="53"/>
                </a:lnTo>
                <a:lnTo>
                  <a:pt x="830" y="53"/>
                </a:lnTo>
                <a:lnTo>
                  <a:pt x="993" y="55"/>
                </a:lnTo>
                <a:lnTo>
                  <a:pt x="1139" y="53"/>
                </a:lnTo>
                <a:lnTo>
                  <a:pt x="1226" y="56"/>
                </a:lnTo>
                <a:lnTo>
                  <a:pt x="1279" y="47"/>
                </a:lnTo>
                <a:lnTo>
                  <a:pt x="1289" y="25"/>
                </a:lnTo>
                <a:lnTo>
                  <a:pt x="1275" y="14"/>
                </a:lnTo>
                <a:lnTo>
                  <a:pt x="1274" y="27"/>
                </a:lnTo>
                <a:lnTo>
                  <a:pt x="1261" y="35"/>
                </a:lnTo>
                <a:lnTo>
                  <a:pt x="1236" y="38"/>
                </a:lnTo>
                <a:lnTo>
                  <a:pt x="1196" y="40"/>
                </a:lnTo>
                <a:lnTo>
                  <a:pt x="1121" y="40"/>
                </a:lnTo>
                <a:lnTo>
                  <a:pt x="973" y="40"/>
                </a:lnTo>
                <a:lnTo>
                  <a:pt x="844" y="40"/>
                </a:lnTo>
                <a:lnTo>
                  <a:pt x="712" y="38"/>
                </a:lnTo>
                <a:lnTo>
                  <a:pt x="584" y="40"/>
                </a:lnTo>
                <a:lnTo>
                  <a:pt x="432" y="42"/>
                </a:lnTo>
                <a:lnTo>
                  <a:pt x="315" y="43"/>
                </a:lnTo>
                <a:lnTo>
                  <a:pt x="226" y="40"/>
                </a:lnTo>
                <a:lnTo>
                  <a:pt x="141" y="42"/>
                </a:lnTo>
                <a:lnTo>
                  <a:pt x="78" y="40"/>
                </a:lnTo>
                <a:lnTo>
                  <a:pt x="41" y="40"/>
                </a:lnTo>
                <a:lnTo>
                  <a:pt x="20" y="35"/>
                </a:lnTo>
                <a:lnTo>
                  <a:pt x="14" y="22"/>
                </a:lnTo>
                <a:lnTo>
                  <a:pt x="10" y="4"/>
                </a:lnTo>
                <a:lnTo>
                  <a:pt x="5" y="5"/>
                </a:lnTo>
                <a:lnTo>
                  <a:pt x="7" y="6"/>
                </a:lnTo>
                <a:lnTo>
                  <a:pt x="10" y="0"/>
                </a:lnTo>
                <a:lnTo>
                  <a:pt x="10" y="4"/>
                </a:lnTo>
                <a:lnTo>
                  <a:pt x="9" y="6"/>
                </a:lnTo>
                <a:lnTo>
                  <a:pt x="10" y="0"/>
                </a:lnTo>
                <a:lnTo>
                  <a:pt x="10" y="4"/>
                </a:lnTo>
                <a:lnTo>
                  <a:pt x="9" y="7"/>
                </a:lnTo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204840" y="0"/>
            <a:ext cx="8781840" cy="6753240"/>
            <a:chOff x="204840" y="0"/>
            <a:chExt cx="8781840" cy="6753240"/>
          </a:xfrm>
        </p:grpSpPr>
        <p:sp>
          <p:nvSpPr>
            <p:cNvPr id="63" name="Freeform 3"/>
            <p:cNvSpPr/>
            <p:nvPr/>
          </p:nvSpPr>
          <p:spPr>
            <a:xfrm>
              <a:off x="204840" y="652320"/>
              <a:ext cx="8781840" cy="6100920"/>
            </a:xfrm>
            <a:custGeom>
              <a:avLst/>
              <a:gdLst/>
              <a:ahLst/>
              <a:rect l="l" t="t" r="r" b="b"/>
              <a:pathLst>
                <a:path w="5532" h="3843">
                  <a:moveTo>
                    <a:pt x="674" y="2"/>
                  </a:moveTo>
                  <a:lnTo>
                    <a:pt x="5531" y="0"/>
                  </a:lnTo>
                  <a:lnTo>
                    <a:pt x="5531" y="3832"/>
                  </a:lnTo>
                  <a:lnTo>
                    <a:pt x="0" y="3842"/>
                  </a:lnTo>
                  <a:lnTo>
                    <a:pt x="6" y="580"/>
                  </a:lnTo>
                  <a:lnTo>
                    <a:pt x="14" y="547"/>
                  </a:lnTo>
                  <a:lnTo>
                    <a:pt x="25" y="504"/>
                  </a:lnTo>
                  <a:lnTo>
                    <a:pt x="36" y="473"/>
                  </a:lnTo>
                  <a:lnTo>
                    <a:pt x="51" y="458"/>
                  </a:lnTo>
                  <a:lnTo>
                    <a:pt x="64" y="448"/>
                  </a:lnTo>
                  <a:lnTo>
                    <a:pt x="656" y="5"/>
                  </a:lnTo>
                  <a:lnTo>
                    <a:pt x="674" y="2"/>
                  </a:lnTo>
                </a:path>
              </a:pathLst>
            </a:custGeom>
            <a:solidFill>
              <a:srgbClr val="ffff99"/>
            </a:solidFill>
            <a:ln w="0">
              <a:noFill/>
            </a:ln>
            <a:effectLst>
              <a:outerShdw dist="107932" dir="2700000" blurRad="0" rotWithShape="0">
                <a:srgbClr val="39393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Group 4"/>
            <p:cNvGrpSpPr/>
            <p:nvPr/>
          </p:nvGrpSpPr>
          <p:grpSpPr>
            <a:xfrm>
              <a:off x="3300480" y="0"/>
              <a:ext cx="2603520" cy="988920"/>
              <a:chOff x="3300480" y="0"/>
              <a:chExt cx="2603520" cy="988920"/>
            </a:xfrm>
          </p:grpSpPr>
          <p:sp>
            <p:nvSpPr>
              <p:cNvPr id="65" name="Rectangle 5"/>
              <p:cNvSpPr/>
              <p:nvPr/>
            </p:nvSpPr>
            <p:spPr>
              <a:xfrm>
                <a:off x="3300480" y="546120"/>
                <a:ext cx="2603520" cy="11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f5f5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Rectangle 6"/>
              <p:cNvSpPr/>
              <p:nvPr/>
            </p:nvSpPr>
            <p:spPr>
              <a:xfrm>
                <a:off x="3782880" y="493560"/>
                <a:ext cx="368280" cy="52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Rectangle 7"/>
              <p:cNvSpPr/>
              <p:nvPr/>
            </p:nvSpPr>
            <p:spPr>
              <a:xfrm>
                <a:off x="4975200" y="507960"/>
                <a:ext cx="368280" cy="50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Oval 8"/>
              <p:cNvSpPr/>
              <p:nvPr/>
            </p:nvSpPr>
            <p:spPr>
              <a:xfrm>
                <a:off x="4275000" y="0"/>
                <a:ext cx="601920" cy="587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Oval 9"/>
              <p:cNvSpPr/>
              <p:nvPr/>
            </p:nvSpPr>
            <p:spPr>
              <a:xfrm>
                <a:off x="4303800" y="20520"/>
                <a:ext cx="546120" cy="55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10"/>
              <p:cNvSpPr/>
              <p:nvPr/>
            </p:nvSpPr>
            <p:spPr>
              <a:xfrm>
                <a:off x="4344840" y="15840"/>
                <a:ext cx="443160" cy="130320"/>
              </a:xfrm>
              <a:custGeom>
                <a:avLst/>
                <a:gdLst/>
                <a:ahLst/>
                <a:rect l="l" t="t" r="r" b="b"/>
                <a:pathLst>
                  <a:path w="279" h="82">
                    <a:moveTo>
                      <a:pt x="278" y="65"/>
                    </a:moveTo>
                    <a:lnTo>
                      <a:pt x="271" y="49"/>
                    </a:lnTo>
                    <a:lnTo>
                      <a:pt x="254" y="32"/>
                    </a:lnTo>
                    <a:lnTo>
                      <a:pt x="232" y="20"/>
                    </a:lnTo>
                    <a:lnTo>
                      <a:pt x="203" y="7"/>
                    </a:lnTo>
                    <a:lnTo>
                      <a:pt x="168" y="0"/>
                    </a:lnTo>
                    <a:lnTo>
                      <a:pt x="127" y="0"/>
                    </a:lnTo>
                    <a:lnTo>
                      <a:pt x="95" y="3"/>
                    </a:lnTo>
                    <a:lnTo>
                      <a:pt x="63" y="14"/>
                    </a:lnTo>
                    <a:lnTo>
                      <a:pt x="41" y="29"/>
                    </a:lnTo>
                    <a:lnTo>
                      <a:pt x="21" y="43"/>
                    </a:lnTo>
                    <a:lnTo>
                      <a:pt x="5" y="62"/>
                    </a:lnTo>
                    <a:lnTo>
                      <a:pt x="0" y="71"/>
                    </a:lnTo>
                    <a:lnTo>
                      <a:pt x="1" y="81"/>
                    </a:lnTo>
                    <a:lnTo>
                      <a:pt x="14" y="62"/>
                    </a:lnTo>
                    <a:lnTo>
                      <a:pt x="28" y="51"/>
                    </a:lnTo>
                    <a:lnTo>
                      <a:pt x="55" y="33"/>
                    </a:lnTo>
                    <a:lnTo>
                      <a:pt x="78" y="23"/>
                    </a:lnTo>
                    <a:lnTo>
                      <a:pt x="105" y="14"/>
                    </a:lnTo>
                    <a:lnTo>
                      <a:pt x="131" y="11"/>
                    </a:lnTo>
                    <a:lnTo>
                      <a:pt x="147" y="11"/>
                    </a:lnTo>
                    <a:lnTo>
                      <a:pt x="167" y="13"/>
                    </a:lnTo>
                    <a:lnTo>
                      <a:pt x="186" y="14"/>
                    </a:lnTo>
                    <a:lnTo>
                      <a:pt x="206" y="20"/>
                    </a:lnTo>
                    <a:lnTo>
                      <a:pt x="239" y="35"/>
                    </a:lnTo>
                    <a:lnTo>
                      <a:pt x="255" y="49"/>
                    </a:lnTo>
                    <a:lnTo>
                      <a:pt x="278" y="6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Oval 11"/>
              <p:cNvSpPr/>
              <p:nvPr/>
            </p:nvSpPr>
            <p:spPr>
              <a:xfrm>
                <a:off x="4346640" y="68400"/>
                <a:ext cx="458640" cy="44604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Oval 12"/>
              <p:cNvSpPr/>
              <p:nvPr/>
            </p:nvSpPr>
            <p:spPr>
              <a:xfrm>
                <a:off x="4378320" y="95400"/>
                <a:ext cx="392040" cy="37764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3"/>
              <p:cNvSpPr/>
              <p:nvPr/>
            </p:nvSpPr>
            <p:spPr>
              <a:xfrm>
                <a:off x="3510000" y="423720"/>
                <a:ext cx="2155680" cy="565200"/>
              </a:xfrm>
              <a:custGeom>
                <a:avLst/>
                <a:gdLst/>
                <a:ahLst/>
                <a:rect l="l" t="t" r="r" b="b"/>
                <a:pathLst>
                  <a:path w="1358" h="356">
                    <a:moveTo>
                      <a:pt x="10" y="345"/>
                    </a:moveTo>
                    <a:lnTo>
                      <a:pt x="28" y="351"/>
                    </a:lnTo>
                    <a:lnTo>
                      <a:pt x="1357" y="355"/>
                    </a:lnTo>
                    <a:lnTo>
                      <a:pt x="1357" y="279"/>
                    </a:lnTo>
                    <a:lnTo>
                      <a:pt x="1351" y="248"/>
                    </a:lnTo>
                    <a:lnTo>
                      <a:pt x="1338" y="220"/>
                    </a:lnTo>
                    <a:lnTo>
                      <a:pt x="1324" y="192"/>
                    </a:lnTo>
                    <a:lnTo>
                      <a:pt x="1282" y="147"/>
                    </a:lnTo>
                    <a:lnTo>
                      <a:pt x="1214" y="119"/>
                    </a:lnTo>
                    <a:lnTo>
                      <a:pt x="1141" y="106"/>
                    </a:lnTo>
                    <a:lnTo>
                      <a:pt x="1073" y="96"/>
                    </a:lnTo>
                    <a:lnTo>
                      <a:pt x="996" y="87"/>
                    </a:lnTo>
                    <a:lnTo>
                      <a:pt x="906" y="81"/>
                    </a:lnTo>
                    <a:lnTo>
                      <a:pt x="782" y="69"/>
                    </a:lnTo>
                    <a:lnTo>
                      <a:pt x="817" y="22"/>
                    </a:lnTo>
                    <a:lnTo>
                      <a:pt x="823" y="2"/>
                    </a:lnTo>
                    <a:lnTo>
                      <a:pt x="795" y="28"/>
                    </a:lnTo>
                    <a:lnTo>
                      <a:pt x="779" y="41"/>
                    </a:lnTo>
                    <a:lnTo>
                      <a:pt x="762" y="57"/>
                    </a:lnTo>
                    <a:lnTo>
                      <a:pt x="746" y="62"/>
                    </a:lnTo>
                    <a:lnTo>
                      <a:pt x="714" y="71"/>
                    </a:lnTo>
                    <a:lnTo>
                      <a:pt x="661" y="72"/>
                    </a:lnTo>
                    <a:lnTo>
                      <a:pt x="612" y="70"/>
                    </a:lnTo>
                    <a:lnTo>
                      <a:pt x="587" y="57"/>
                    </a:lnTo>
                    <a:lnTo>
                      <a:pt x="571" y="46"/>
                    </a:lnTo>
                    <a:lnTo>
                      <a:pt x="548" y="28"/>
                    </a:lnTo>
                    <a:lnTo>
                      <a:pt x="519" y="0"/>
                    </a:lnTo>
                    <a:lnTo>
                      <a:pt x="527" y="24"/>
                    </a:lnTo>
                    <a:lnTo>
                      <a:pt x="539" y="64"/>
                    </a:lnTo>
                    <a:lnTo>
                      <a:pt x="525" y="72"/>
                    </a:lnTo>
                    <a:lnTo>
                      <a:pt x="379" y="80"/>
                    </a:lnTo>
                    <a:lnTo>
                      <a:pt x="259" y="96"/>
                    </a:lnTo>
                    <a:lnTo>
                      <a:pt x="190" y="106"/>
                    </a:lnTo>
                    <a:lnTo>
                      <a:pt x="123" y="119"/>
                    </a:lnTo>
                    <a:lnTo>
                      <a:pt x="94" y="129"/>
                    </a:lnTo>
                    <a:lnTo>
                      <a:pt x="72" y="144"/>
                    </a:lnTo>
                    <a:lnTo>
                      <a:pt x="43" y="171"/>
                    </a:lnTo>
                    <a:lnTo>
                      <a:pt x="24" y="202"/>
                    </a:lnTo>
                    <a:lnTo>
                      <a:pt x="11" y="239"/>
                    </a:lnTo>
                    <a:lnTo>
                      <a:pt x="4" y="267"/>
                    </a:lnTo>
                    <a:lnTo>
                      <a:pt x="1" y="299"/>
                    </a:lnTo>
                    <a:lnTo>
                      <a:pt x="0" y="320"/>
                    </a:lnTo>
                    <a:lnTo>
                      <a:pt x="10" y="345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4"/>
              <p:cNvSpPr/>
              <p:nvPr/>
            </p:nvSpPr>
            <p:spPr>
              <a:xfrm>
                <a:off x="3559320" y="488880"/>
                <a:ext cx="850680" cy="292320"/>
              </a:xfrm>
              <a:custGeom>
                <a:avLst/>
                <a:gdLst/>
                <a:ahLst/>
                <a:rect l="l" t="t" r="r" b="b"/>
                <a:pathLst>
                  <a:path w="536" h="184">
                    <a:moveTo>
                      <a:pt x="0" y="183"/>
                    </a:moveTo>
                    <a:lnTo>
                      <a:pt x="7" y="153"/>
                    </a:lnTo>
                    <a:lnTo>
                      <a:pt x="17" y="133"/>
                    </a:lnTo>
                    <a:lnTo>
                      <a:pt x="49" y="110"/>
                    </a:lnTo>
                    <a:lnTo>
                      <a:pt x="105" y="88"/>
                    </a:lnTo>
                    <a:lnTo>
                      <a:pt x="147" y="82"/>
                    </a:lnTo>
                    <a:lnTo>
                      <a:pt x="182" y="74"/>
                    </a:lnTo>
                    <a:lnTo>
                      <a:pt x="237" y="69"/>
                    </a:lnTo>
                    <a:lnTo>
                      <a:pt x="279" y="61"/>
                    </a:lnTo>
                    <a:lnTo>
                      <a:pt x="320" y="54"/>
                    </a:lnTo>
                    <a:lnTo>
                      <a:pt x="359" y="49"/>
                    </a:lnTo>
                    <a:lnTo>
                      <a:pt x="405" y="43"/>
                    </a:lnTo>
                    <a:lnTo>
                      <a:pt x="473" y="42"/>
                    </a:lnTo>
                    <a:lnTo>
                      <a:pt x="470" y="44"/>
                    </a:lnTo>
                    <a:lnTo>
                      <a:pt x="506" y="41"/>
                    </a:lnTo>
                    <a:lnTo>
                      <a:pt x="518" y="27"/>
                    </a:lnTo>
                    <a:lnTo>
                      <a:pt x="513" y="0"/>
                    </a:lnTo>
                    <a:lnTo>
                      <a:pt x="533" y="23"/>
                    </a:lnTo>
                    <a:lnTo>
                      <a:pt x="535" y="39"/>
                    </a:lnTo>
                    <a:lnTo>
                      <a:pt x="513" y="52"/>
                    </a:lnTo>
                    <a:lnTo>
                      <a:pt x="470" y="57"/>
                    </a:lnTo>
                    <a:lnTo>
                      <a:pt x="399" y="61"/>
                    </a:lnTo>
                    <a:lnTo>
                      <a:pt x="323" y="70"/>
                    </a:lnTo>
                    <a:lnTo>
                      <a:pt x="263" y="80"/>
                    </a:lnTo>
                    <a:lnTo>
                      <a:pt x="193" y="90"/>
                    </a:lnTo>
                    <a:lnTo>
                      <a:pt x="135" y="99"/>
                    </a:lnTo>
                    <a:lnTo>
                      <a:pt x="92" y="109"/>
                    </a:lnTo>
                    <a:lnTo>
                      <a:pt x="56" y="128"/>
                    </a:lnTo>
                    <a:lnTo>
                      <a:pt x="30" y="140"/>
                    </a:lnTo>
                    <a:lnTo>
                      <a:pt x="15" y="164"/>
                    </a:lnTo>
                    <a:lnTo>
                      <a:pt x="0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5"/>
              <p:cNvSpPr/>
              <p:nvPr/>
            </p:nvSpPr>
            <p:spPr>
              <a:xfrm>
                <a:off x="3533760" y="911160"/>
                <a:ext cx="2104920" cy="63720"/>
              </a:xfrm>
              <a:custGeom>
                <a:avLst/>
                <a:gdLst/>
                <a:ahLst/>
                <a:rect l="l" t="t" r="r" b="b"/>
                <a:pathLst>
                  <a:path w="1326" h="40">
                    <a:moveTo>
                      <a:pt x="6" y="0"/>
                    </a:moveTo>
                    <a:lnTo>
                      <a:pt x="0" y="10"/>
                    </a:lnTo>
                    <a:lnTo>
                      <a:pt x="6" y="25"/>
                    </a:lnTo>
                    <a:lnTo>
                      <a:pt x="17" y="30"/>
                    </a:lnTo>
                    <a:lnTo>
                      <a:pt x="36" y="36"/>
                    </a:lnTo>
                    <a:lnTo>
                      <a:pt x="114" y="37"/>
                    </a:lnTo>
                    <a:lnTo>
                      <a:pt x="275" y="38"/>
                    </a:lnTo>
                    <a:lnTo>
                      <a:pt x="381" y="36"/>
                    </a:lnTo>
                    <a:lnTo>
                      <a:pt x="415" y="37"/>
                    </a:lnTo>
                    <a:lnTo>
                      <a:pt x="438" y="37"/>
                    </a:lnTo>
                    <a:lnTo>
                      <a:pt x="474" y="38"/>
                    </a:lnTo>
                    <a:lnTo>
                      <a:pt x="480" y="38"/>
                    </a:lnTo>
                    <a:lnTo>
                      <a:pt x="545" y="38"/>
                    </a:lnTo>
                    <a:lnTo>
                      <a:pt x="578" y="38"/>
                    </a:lnTo>
                    <a:lnTo>
                      <a:pt x="598" y="37"/>
                    </a:lnTo>
                    <a:lnTo>
                      <a:pt x="686" y="36"/>
                    </a:lnTo>
                    <a:lnTo>
                      <a:pt x="691" y="36"/>
                    </a:lnTo>
                    <a:lnTo>
                      <a:pt x="724" y="36"/>
                    </a:lnTo>
                    <a:lnTo>
                      <a:pt x="777" y="38"/>
                    </a:lnTo>
                    <a:lnTo>
                      <a:pt x="819" y="38"/>
                    </a:lnTo>
                    <a:lnTo>
                      <a:pt x="825" y="38"/>
                    </a:lnTo>
                    <a:lnTo>
                      <a:pt x="859" y="39"/>
                    </a:lnTo>
                    <a:lnTo>
                      <a:pt x="882" y="37"/>
                    </a:lnTo>
                    <a:lnTo>
                      <a:pt x="888" y="38"/>
                    </a:lnTo>
                    <a:lnTo>
                      <a:pt x="957" y="37"/>
                    </a:lnTo>
                    <a:lnTo>
                      <a:pt x="962" y="36"/>
                    </a:lnTo>
                    <a:lnTo>
                      <a:pt x="980" y="37"/>
                    </a:lnTo>
                    <a:lnTo>
                      <a:pt x="1004" y="38"/>
                    </a:lnTo>
                    <a:lnTo>
                      <a:pt x="1011" y="38"/>
                    </a:lnTo>
                    <a:lnTo>
                      <a:pt x="1045" y="37"/>
                    </a:lnTo>
                    <a:lnTo>
                      <a:pt x="1066" y="36"/>
                    </a:lnTo>
                    <a:lnTo>
                      <a:pt x="1072" y="36"/>
                    </a:lnTo>
                    <a:lnTo>
                      <a:pt x="1091" y="36"/>
                    </a:lnTo>
                    <a:lnTo>
                      <a:pt x="1119" y="36"/>
                    </a:lnTo>
                    <a:lnTo>
                      <a:pt x="1126" y="36"/>
                    </a:lnTo>
                    <a:lnTo>
                      <a:pt x="1145" y="37"/>
                    </a:lnTo>
                    <a:lnTo>
                      <a:pt x="1165" y="38"/>
                    </a:lnTo>
                    <a:lnTo>
                      <a:pt x="1171" y="38"/>
                    </a:lnTo>
                    <a:lnTo>
                      <a:pt x="1214" y="36"/>
                    </a:lnTo>
                    <a:lnTo>
                      <a:pt x="1233" y="37"/>
                    </a:lnTo>
                    <a:lnTo>
                      <a:pt x="1252" y="38"/>
                    </a:lnTo>
                    <a:lnTo>
                      <a:pt x="1257" y="37"/>
                    </a:lnTo>
                    <a:lnTo>
                      <a:pt x="1309" y="37"/>
                    </a:lnTo>
                    <a:lnTo>
                      <a:pt x="1325" y="32"/>
                    </a:lnTo>
                    <a:lnTo>
                      <a:pt x="1298" y="22"/>
                    </a:lnTo>
                    <a:lnTo>
                      <a:pt x="1291" y="22"/>
                    </a:lnTo>
                    <a:lnTo>
                      <a:pt x="1267" y="20"/>
                    </a:lnTo>
                    <a:lnTo>
                      <a:pt x="1271" y="22"/>
                    </a:lnTo>
                    <a:lnTo>
                      <a:pt x="1256" y="24"/>
                    </a:lnTo>
                    <a:lnTo>
                      <a:pt x="1249" y="23"/>
                    </a:lnTo>
                    <a:lnTo>
                      <a:pt x="1087" y="15"/>
                    </a:lnTo>
                    <a:lnTo>
                      <a:pt x="1081" y="15"/>
                    </a:lnTo>
                    <a:lnTo>
                      <a:pt x="1038" y="15"/>
                    </a:lnTo>
                    <a:lnTo>
                      <a:pt x="1015" y="17"/>
                    </a:lnTo>
                    <a:lnTo>
                      <a:pt x="978" y="19"/>
                    </a:lnTo>
                    <a:lnTo>
                      <a:pt x="943" y="21"/>
                    </a:lnTo>
                    <a:lnTo>
                      <a:pt x="904" y="21"/>
                    </a:lnTo>
                    <a:lnTo>
                      <a:pt x="874" y="20"/>
                    </a:lnTo>
                    <a:lnTo>
                      <a:pt x="869" y="20"/>
                    </a:lnTo>
                    <a:lnTo>
                      <a:pt x="819" y="18"/>
                    </a:lnTo>
                    <a:lnTo>
                      <a:pt x="752" y="18"/>
                    </a:lnTo>
                    <a:lnTo>
                      <a:pt x="732" y="19"/>
                    </a:lnTo>
                    <a:lnTo>
                      <a:pt x="709" y="20"/>
                    </a:lnTo>
                    <a:lnTo>
                      <a:pt x="683" y="20"/>
                    </a:lnTo>
                    <a:lnTo>
                      <a:pt x="678" y="20"/>
                    </a:lnTo>
                    <a:lnTo>
                      <a:pt x="655" y="21"/>
                    </a:lnTo>
                    <a:lnTo>
                      <a:pt x="610" y="22"/>
                    </a:lnTo>
                    <a:lnTo>
                      <a:pt x="605" y="22"/>
                    </a:lnTo>
                    <a:lnTo>
                      <a:pt x="584" y="22"/>
                    </a:lnTo>
                    <a:lnTo>
                      <a:pt x="553" y="20"/>
                    </a:lnTo>
                    <a:lnTo>
                      <a:pt x="530" y="19"/>
                    </a:lnTo>
                    <a:lnTo>
                      <a:pt x="524" y="19"/>
                    </a:lnTo>
                    <a:lnTo>
                      <a:pt x="496" y="17"/>
                    </a:lnTo>
                    <a:lnTo>
                      <a:pt x="462" y="17"/>
                    </a:lnTo>
                    <a:lnTo>
                      <a:pt x="457" y="17"/>
                    </a:lnTo>
                    <a:lnTo>
                      <a:pt x="436" y="18"/>
                    </a:lnTo>
                    <a:lnTo>
                      <a:pt x="404" y="20"/>
                    </a:lnTo>
                    <a:lnTo>
                      <a:pt x="378" y="21"/>
                    </a:lnTo>
                    <a:lnTo>
                      <a:pt x="373" y="21"/>
                    </a:lnTo>
                    <a:lnTo>
                      <a:pt x="340" y="23"/>
                    </a:lnTo>
                    <a:lnTo>
                      <a:pt x="335" y="23"/>
                    </a:lnTo>
                    <a:lnTo>
                      <a:pt x="302" y="24"/>
                    </a:lnTo>
                    <a:lnTo>
                      <a:pt x="283" y="24"/>
                    </a:lnTo>
                    <a:lnTo>
                      <a:pt x="258" y="22"/>
                    </a:lnTo>
                    <a:lnTo>
                      <a:pt x="239" y="20"/>
                    </a:lnTo>
                    <a:lnTo>
                      <a:pt x="205" y="20"/>
                    </a:lnTo>
                    <a:lnTo>
                      <a:pt x="179" y="21"/>
                    </a:lnTo>
                    <a:lnTo>
                      <a:pt x="147" y="23"/>
                    </a:lnTo>
                    <a:lnTo>
                      <a:pt x="141" y="23"/>
                    </a:lnTo>
                    <a:lnTo>
                      <a:pt x="133" y="23"/>
                    </a:lnTo>
                    <a:lnTo>
                      <a:pt x="99" y="21"/>
                    </a:lnTo>
                    <a:lnTo>
                      <a:pt x="82" y="20"/>
                    </a:lnTo>
                    <a:lnTo>
                      <a:pt x="59" y="19"/>
                    </a:lnTo>
                    <a:lnTo>
                      <a:pt x="53" y="19"/>
                    </a:lnTo>
                    <a:lnTo>
                      <a:pt x="48" y="19"/>
                    </a:lnTo>
                    <a:lnTo>
                      <a:pt x="38" y="2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6"/>
              <p:cNvSpPr/>
              <p:nvPr/>
            </p:nvSpPr>
            <p:spPr>
              <a:xfrm>
                <a:off x="3557520" y="487440"/>
                <a:ext cx="2063880" cy="355680"/>
              </a:xfrm>
              <a:custGeom>
                <a:avLst/>
                <a:gdLst/>
                <a:ahLst/>
                <a:rect l="l" t="t" r="r" b="b"/>
                <a:pathLst>
                  <a:path w="1300" h="224">
                    <a:moveTo>
                      <a:pt x="97" y="143"/>
                    </a:moveTo>
                    <a:lnTo>
                      <a:pt x="73" y="142"/>
                    </a:lnTo>
                    <a:lnTo>
                      <a:pt x="54" y="157"/>
                    </a:lnTo>
                    <a:lnTo>
                      <a:pt x="40" y="164"/>
                    </a:lnTo>
                    <a:lnTo>
                      <a:pt x="18" y="174"/>
                    </a:lnTo>
                    <a:lnTo>
                      <a:pt x="5" y="178"/>
                    </a:lnTo>
                    <a:lnTo>
                      <a:pt x="0" y="190"/>
                    </a:lnTo>
                    <a:lnTo>
                      <a:pt x="11" y="203"/>
                    </a:lnTo>
                    <a:lnTo>
                      <a:pt x="26" y="218"/>
                    </a:lnTo>
                    <a:lnTo>
                      <a:pt x="54" y="212"/>
                    </a:lnTo>
                    <a:lnTo>
                      <a:pt x="100" y="210"/>
                    </a:lnTo>
                    <a:lnTo>
                      <a:pt x="172" y="215"/>
                    </a:lnTo>
                    <a:lnTo>
                      <a:pt x="322" y="218"/>
                    </a:lnTo>
                    <a:lnTo>
                      <a:pt x="420" y="210"/>
                    </a:lnTo>
                    <a:lnTo>
                      <a:pt x="452" y="215"/>
                    </a:lnTo>
                    <a:lnTo>
                      <a:pt x="473" y="213"/>
                    </a:lnTo>
                    <a:lnTo>
                      <a:pt x="506" y="218"/>
                    </a:lnTo>
                    <a:lnTo>
                      <a:pt x="512" y="218"/>
                    </a:lnTo>
                    <a:lnTo>
                      <a:pt x="573" y="219"/>
                    </a:lnTo>
                    <a:lnTo>
                      <a:pt x="603" y="218"/>
                    </a:lnTo>
                    <a:lnTo>
                      <a:pt x="621" y="213"/>
                    </a:lnTo>
                    <a:lnTo>
                      <a:pt x="703" y="210"/>
                    </a:lnTo>
                    <a:lnTo>
                      <a:pt x="708" y="210"/>
                    </a:lnTo>
                    <a:lnTo>
                      <a:pt x="738" y="210"/>
                    </a:lnTo>
                    <a:lnTo>
                      <a:pt x="788" y="218"/>
                    </a:lnTo>
                    <a:lnTo>
                      <a:pt x="827" y="219"/>
                    </a:lnTo>
                    <a:lnTo>
                      <a:pt x="832" y="219"/>
                    </a:lnTo>
                    <a:lnTo>
                      <a:pt x="864" y="223"/>
                    </a:lnTo>
                    <a:lnTo>
                      <a:pt x="885" y="215"/>
                    </a:lnTo>
                    <a:lnTo>
                      <a:pt x="891" y="218"/>
                    </a:lnTo>
                    <a:lnTo>
                      <a:pt x="955" y="213"/>
                    </a:lnTo>
                    <a:lnTo>
                      <a:pt x="960" y="210"/>
                    </a:lnTo>
                    <a:lnTo>
                      <a:pt x="976" y="215"/>
                    </a:lnTo>
                    <a:lnTo>
                      <a:pt x="999" y="218"/>
                    </a:lnTo>
                    <a:lnTo>
                      <a:pt x="1005" y="218"/>
                    </a:lnTo>
                    <a:lnTo>
                      <a:pt x="1037" y="213"/>
                    </a:lnTo>
                    <a:lnTo>
                      <a:pt x="1056" y="210"/>
                    </a:lnTo>
                    <a:lnTo>
                      <a:pt x="1062" y="210"/>
                    </a:lnTo>
                    <a:lnTo>
                      <a:pt x="1079" y="210"/>
                    </a:lnTo>
                    <a:lnTo>
                      <a:pt x="1105" y="210"/>
                    </a:lnTo>
                    <a:lnTo>
                      <a:pt x="1111" y="209"/>
                    </a:lnTo>
                    <a:lnTo>
                      <a:pt x="1129" y="215"/>
                    </a:lnTo>
                    <a:lnTo>
                      <a:pt x="1148" y="219"/>
                    </a:lnTo>
                    <a:lnTo>
                      <a:pt x="1154" y="219"/>
                    </a:lnTo>
                    <a:lnTo>
                      <a:pt x="1193" y="210"/>
                    </a:lnTo>
                    <a:lnTo>
                      <a:pt x="1211" y="213"/>
                    </a:lnTo>
                    <a:lnTo>
                      <a:pt x="1229" y="218"/>
                    </a:lnTo>
                    <a:lnTo>
                      <a:pt x="1233" y="215"/>
                    </a:lnTo>
                    <a:lnTo>
                      <a:pt x="1282" y="213"/>
                    </a:lnTo>
                    <a:lnTo>
                      <a:pt x="1299" y="212"/>
                    </a:lnTo>
                    <a:lnTo>
                      <a:pt x="1296" y="187"/>
                    </a:lnTo>
                    <a:lnTo>
                      <a:pt x="1283" y="169"/>
                    </a:lnTo>
                    <a:lnTo>
                      <a:pt x="1268" y="155"/>
                    </a:lnTo>
                    <a:lnTo>
                      <a:pt x="1246" y="140"/>
                    </a:lnTo>
                    <a:lnTo>
                      <a:pt x="1232" y="146"/>
                    </a:lnTo>
                    <a:lnTo>
                      <a:pt x="1226" y="145"/>
                    </a:lnTo>
                    <a:lnTo>
                      <a:pt x="1158" y="132"/>
                    </a:lnTo>
                    <a:lnTo>
                      <a:pt x="1119" y="117"/>
                    </a:lnTo>
                    <a:lnTo>
                      <a:pt x="1076" y="103"/>
                    </a:lnTo>
                    <a:lnTo>
                      <a:pt x="1070" y="103"/>
                    </a:lnTo>
                    <a:lnTo>
                      <a:pt x="1030" y="103"/>
                    </a:lnTo>
                    <a:lnTo>
                      <a:pt x="1008" y="113"/>
                    </a:lnTo>
                    <a:lnTo>
                      <a:pt x="974" y="122"/>
                    </a:lnTo>
                    <a:lnTo>
                      <a:pt x="942" y="132"/>
                    </a:lnTo>
                    <a:lnTo>
                      <a:pt x="905" y="131"/>
                    </a:lnTo>
                    <a:lnTo>
                      <a:pt x="878" y="126"/>
                    </a:lnTo>
                    <a:lnTo>
                      <a:pt x="873" y="126"/>
                    </a:lnTo>
                    <a:lnTo>
                      <a:pt x="827" y="117"/>
                    </a:lnTo>
                    <a:lnTo>
                      <a:pt x="787" y="103"/>
                    </a:lnTo>
                    <a:lnTo>
                      <a:pt x="761" y="99"/>
                    </a:lnTo>
                    <a:lnTo>
                      <a:pt x="743" y="85"/>
                    </a:lnTo>
                    <a:lnTo>
                      <a:pt x="721" y="80"/>
                    </a:lnTo>
                    <a:lnTo>
                      <a:pt x="702" y="67"/>
                    </a:lnTo>
                    <a:lnTo>
                      <a:pt x="695" y="38"/>
                    </a:lnTo>
                    <a:lnTo>
                      <a:pt x="718" y="16"/>
                    </a:lnTo>
                    <a:lnTo>
                      <a:pt x="687" y="25"/>
                    </a:lnTo>
                    <a:lnTo>
                      <a:pt x="645" y="24"/>
                    </a:lnTo>
                    <a:lnTo>
                      <a:pt x="614" y="25"/>
                    </a:lnTo>
                    <a:lnTo>
                      <a:pt x="575" y="16"/>
                    </a:lnTo>
                    <a:lnTo>
                      <a:pt x="537" y="0"/>
                    </a:lnTo>
                    <a:lnTo>
                      <a:pt x="566" y="29"/>
                    </a:lnTo>
                    <a:lnTo>
                      <a:pt x="575" y="51"/>
                    </a:lnTo>
                    <a:lnTo>
                      <a:pt x="573" y="68"/>
                    </a:lnTo>
                    <a:lnTo>
                      <a:pt x="560" y="87"/>
                    </a:lnTo>
                    <a:lnTo>
                      <a:pt x="531" y="97"/>
                    </a:lnTo>
                    <a:lnTo>
                      <a:pt x="503" y="96"/>
                    </a:lnTo>
                    <a:lnTo>
                      <a:pt x="477" y="100"/>
                    </a:lnTo>
                    <a:lnTo>
                      <a:pt x="451" y="106"/>
                    </a:lnTo>
                    <a:lnTo>
                      <a:pt x="413" y="122"/>
                    </a:lnTo>
                    <a:lnTo>
                      <a:pt x="389" y="129"/>
                    </a:lnTo>
                    <a:lnTo>
                      <a:pt x="361" y="119"/>
                    </a:lnTo>
                    <a:lnTo>
                      <a:pt x="331" y="122"/>
                    </a:lnTo>
                    <a:lnTo>
                      <a:pt x="306" y="135"/>
                    </a:lnTo>
                    <a:lnTo>
                      <a:pt x="288" y="128"/>
                    </a:lnTo>
                    <a:lnTo>
                      <a:pt x="261" y="134"/>
                    </a:lnTo>
                    <a:lnTo>
                      <a:pt x="233" y="131"/>
                    </a:lnTo>
                    <a:lnTo>
                      <a:pt x="203" y="142"/>
                    </a:lnTo>
                    <a:lnTo>
                      <a:pt x="197" y="142"/>
                    </a:lnTo>
                    <a:lnTo>
                      <a:pt x="187" y="140"/>
                    </a:lnTo>
                    <a:lnTo>
                      <a:pt x="158" y="132"/>
                    </a:lnTo>
                    <a:lnTo>
                      <a:pt x="143" y="126"/>
                    </a:lnTo>
                    <a:lnTo>
                      <a:pt x="118" y="134"/>
                    </a:lnTo>
                    <a:lnTo>
                      <a:pt x="97" y="143"/>
                    </a:lnTo>
                  </a:path>
                </a:pathLst>
              </a:cu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7"/>
              <p:cNvSpPr/>
              <p:nvPr/>
            </p:nvSpPr>
            <p:spPr>
              <a:xfrm>
                <a:off x="4699080" y="492120"/>
                <a:ext cx="887400" cy="291960"/>
              </a:xfrm>
              <a:custGeom>
                <a:avLst/>
                <a:gdLst/>
                <a:ahLst/>
                <a:rect l="l" t="t" r="r" b="b"/>
                <a:pathLst>
                  <a:path w="559" h="184">
                    <a:moveTo>
                      <a:pt x="558" y="183"/>
                    </a:moveTo>
                    <a:lnTo>
                      <a:pt x="550" y="153"/>
                    </a:lnTo>
                    <a:lnTo>
                      <a:pt x="539" y="133"/>
                    </a:lnTo>
                    <a:lnTo>
                      <a:pt x="505" y="111"/>
                    </a:lnTo>
                    <a:lnTo>
                      <a:pt x="447" y="88"/>
                    </a:lnTo>
                    <a:lnTo>
                      <a:pt x="404" y="81"/>
                    </a:lnTo>
                    <a:lnTo>
                      <a:pt x="367" y="74"/>
                    </a:lnTo>
                    <a:lnTo>
                      <a:pt x="310" y="69"/>
                    </a:lnTo>
                    <a:lnTo>
                      <a:pt x="265" y="60"/>
                    </a:lnTo>
                    <a:lnTo>
                      <a:pt x="224" y="54"/>
                    </a:lnTo>
                    <a:lnTo>
                      <a:pt x="182" y="49"/>
                    </a:lnTo>
                    <a:lnTo>
                      <a:pt x="134" y="43"/>
                    </a:lnTo>
                    <a:lnTo>
                      <a:pt x="64" y="42"/>
                    </a:lnTo>
                    <a:lnTo>
                      <a:pt x="66" y="44"/>
                    </a:lnTo>
                    <a:lnTo>
                      <a:pt x="29" y="41"/>
                    </a:lnTo>
                    <a:lnTo>
                      <a:pt x="17" y="27"/>
                    </a:lnTo>
                    <a:lnTo>
                      <a:pt x="21" y="0"/>
                    </a:lnTo>
                    <a:lnTo>
                      <a:pt x="1" y="24"/>
                    </a:lnTo>
                    <a:lnTo>
                      <a:pt x="0" y="40"/>
                    </a:lnTo>
                    <a:lnTo>
                      <a:pt x="21" y="52"/>
                    </a:lnTo>
                    <a:lnTo>
                      <a:pt x="66" y="57"/>
                    </a:lnTo>
                    <a:lnTo>
                      <a:pt x="140" y="60"/>
                    </a:lnTo>
                    <a:lnTo>
                      <a:pt x="220" y="70"/>
                    </a:lnTo>
                    <a:lnTo>
                      <a:pt x="283" y="80"/>
                    </a:lnTo>
                    <a:lnTo>
                      <a:pt x="356" y="90"/>
                    </a:lnTo>
                    <a:lnTo>
                      <a:pt x="417" y="100"/>
                    </a:lnTo>
                    <a:lnTo>
                      <a:pt x="461" y="109"/>
                    </a:lnTo>
                    <a:lnTo>
                      <a:pt x="498" y="128"/>
                    </a:lnTo>
                    <a:lnTo>
                      <a:pt x="525" y="140"/>
                    </a:lnTo>
                    <a:lnTo>
                      <a:pt x="541" y="164"/>
                    </a:lnTo>
                    <a:lnTo>
                      <a:pt x="558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" name="Freeform 18"/>
          <p:cNvSpPr/>
          <p:nvPr/>
        </p:nvSpPr>
        <p:spPr>
          <a:xfrm>
            <a:off x="272880" y="797040"/>
            <a:ext cx="806760" cy="717480"/>
          </a:xfrm>
          <a:custGeom>
            <a:avLst/>
            <a:gdLst/>
            <a:ahLst/>
            <a:rect l="l" t="t" r="r" b="b"/>
            <a:pathLst>
              <a:path w="508" h="452">
                <a:moveTo>
                  <a:pt x="129" y="376"/>
                </a:moveTo>
                <a:lnTo>
                  <a:pt x="272" y="427"/>
                </a:lnTo>
                <a:lnTo>
                  <a:pt x="313" y="451"/>
                </a:lnTo>
                <a:lnTo>
                  <a:pt x="333" y="449"/>
                </a:lnTo>
                <a:lnTo>
                  <a:pt x="348" y="376"/>
                </a:lnTo>
                <a:lnTo>
                  <a:pt x="365" y="332"/>
                </a:lnTo>
                <a:lnTo>
                  <a:pt x="382" y="262"/>
                </a:lnTo>
                <a:lnTo>
                  <a:pt x="394" y="221"/>
                </a:lnTo>
                <a:lnTo>
                  <a:pt x="409" y="181"/>
                </a:lnTo>
                <a:lnTo>
                  <a:pt x="423" y="133"/>
                </a:lnTo>
                <a:lnTo>
                  <a:pt x="445" y="98"/>
                </a:lnTo>
                <a:lnTo>
                  <a:pt x="469" y="48"/>
                </a:lnTo>
                <a:lnTo>
                  <a:pt x="507" y="0"/>
                </a:lnTo>
                <a:lnTo>
                  <a:pt x="25" y="335"/>
                </a:lnTo>
                <a:lnTo>
                  <a:pt x="0" y="358"/>
                </a:lnTo>
                <a:lnTo>
                  <a:pt x="76" y="360"/>
                </a:lnTo>
                <a:lnTo>
                  <a:pt x="129" y="376"/>
                </a:lnTo>
              </a:path>
            </a:pathLst>
          </a:custGeom>
          <a:solidFill>
            <a:srgbClr val="39393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reeform 19"/>
          <p:cNvSpPr/>
          <p:nvPr/>
        </p:nvSpPr>
        <p:spPr>
          <a:xfrm>
            <a:off x="255600" y="654120"/>
            <a:ext cx="984240" cy="766800"/>
          </a:xfrm>
          <a:custGeom>
            <a:avLst/>
            <a:gdLst/>
            <a:ahLst/>
            <a:rect l="l" t="t" r="r" b="b"/>
            <a:pathLst>
              <a:path w="620" h="483">
                <a:moveTo>
                  <a:pt x="0" y="477"/>
                </a:moveTo>
                <a:lnTo>
                  <a:pt x="13" y="452"/>
                </a:lnTo>
                <a:lnTo>
                  <a:pt x="56" y="422"/>
                </a:lnTo>
                <a:lnTo>
                  <a:pt x="619" y="0"/>
                </a:lnTo>
                <a:lnTo>
                  <a:pt x="425" y="184"/>
                </a:lnTo>
                <a:lnTo>
                  <a:pt x="329" y="336"/>
                </a:lnTo>
                <a:lnTo>
                  <a:pt x="268" y="482"/>
                </a:lnTo>
                <a:lnTo>
                  <a:pt x="197" y="449"/>
                </a:lnTo>
                <a:lnTo>
                  <a:pt x="119" y="425"/>
                </a:lnTo>
                <a:lnTo>
                  <a:pt x="70" y="429"/>
                </a:lnTo>
                <a:lnTo>
                  <a:pt x="28" y="440"/>
                </a:lnTo>
                <a:lnTo>
                  <a:pt x="0" y="477"/>
                </a:lnTo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680760" y="6067440"/>
            <a:ext cx="230004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07880" y="6067440"/>
            <a:ext cx="312444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372360" y="6067440"/>
            <a:ext cx="231120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narod.ru/" TargetMode="External"/><Relationship Id="rId3" Type="http://schemas.openxmlformats.org/officeDocument/2006/relationships/hyperlink" Target="http://www.boom.ru/" TargetMode="Externa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uni-vologda.ru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Инструментальные средства создания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-сайт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4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аним_комп4"/>
          <p:cNvPicPr/>
          <p:nvPr/>
        </p:nvPicPr>
        <p:blipFill>
          <a:blip r:embed="rId2"/>
          <a:stretch/>
        </p:blipFill>
        <p:spPr>
          <a:xfrm>
            <a:off x="2771640" y="1989000"/>
            <a:ext cx="3306960" cy="33069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7"/>
          <p:cNvSpPr/>
          <p:nvPr/>
        </p:nvSpPr>
        <p:spPr>
          <a:xfrm>
            <a:off x="539640" y="544500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дратьева Ирина Сергеевна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еподаватель информационных дисципл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95000" y="1267920"/>
            <a:ext cx="8064360" cy="467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ли тематическим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com — коммерческий сайт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edu — образование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gov — правительство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net — сетевые службы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mil — военное дело и оборона и т. п.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95000" y="1125360"/>
            <a:ext cx="8064360" cy="481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ля просмотра web-страниц используются специальные программы, называемые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браузерам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(web browser). Они позволяют загружать из Сети для просмотра страницы с заданным адресом и переходить от документа к другому по гиперссылкам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00"/>
                </a:solidFill>
                <a:latin typeface="Times New Roman"/>
              </a:rPr>
              <a:t>2 способа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47" name="Line 5"/>
          <p:cNvSpPr/>
          <p:nvPr/>
        </p:nvSpPr>
        <p:spPr>
          <a:xfrm flipH="1">
            <a:off x="2231640" y="1341360"/>
            <a:ext cx="1260360" cy="2071800"/>
          </a:xfrm>
          <a:prstGeom prst="line">
            <a:avLst/>
          </a:prstGeom>
          <a:ln w="6048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7"/>
          <p:cNvSpPr/>
          <p:nvPr/>
        </p:nvSpPr>
        <p:spPr>
          <a:xfrm>
            <a:off x="5435640" y="1341360"/>
            <a:ext cx="1620720" cy="2021040"/>
          </a:xfrm>
          <a:prstGeom prst="line">
            <a:avLst/>
          </a:prstGeom>
          <a:ln w="6048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755640" y="3413160"/>
            <a:ext cx="2952720" cy="459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учн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5580000" y="3362400"/>
            <a:ext cx="2952720" cy="825480"/>
          </a:xfrm>
          <a:prstGeom prst="rect">
            <a:avLst/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 использованием конструкто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12" descr="Рисунок241"/>
          <p:cNvPicPr/>
          <p:nvPr/>
        </p:nvPicPr>
        <p:blipFill>
          <a:blip r:embed="rId2"/>
          <a:stretch/>
        </p:blipFill>
        <p:spPr>
          <a:xfrm>
            <a:off x="395280" y="4221000"/>
            <a:ext cx="187632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Горизонтальный свиток 4"/>
          <p:cNvSpPr/>
          <p:nvPr/>
        </p:nvSpPr>
        <p:spPr>
          <a:xfrm>
            <a:off x="214200" y="1484280"/>
            <a:ext cx="8643960" cy="2071800"/>
          </a:xfrm>
          <a:prstGeom prst="horizontalScroll">
            <a:avLst>
              <a:gd name="adj" fmla="val 12500"/>
            </a:avLst>
          </a:prstGeom>
          <a:solidFill>
            <a:srgbClr val="cbcbcb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HTML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— стандартный язык разметки документов во Всемирной паутин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Горизонтальный свиток 6"/>
          <p:cNvSpPr/>
          <p:nvPr/>
        </p:nvSpPr>
        <p:spPr>
          <a:xfrm>
            <a:off x="142920" y="3429000"/>
            <a:ext cx="8643960" cy="1928880"/>
          </a:xfrm>
          <a:prstGeom prst="horizontalScroll">
            <a:avLst>
              <a:gd name="adj" fmla="val 12500"/>
            </a:avLst>
          </a:prstGeom>
          <a:solidFill>
            <a:srgbClr val="cbcbcb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WEB-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браузер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—интерпретатор 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HTML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, отображает язык 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HTML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 в удобной для человека форм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Рисунок 8" descr="imgpreview.jpg"/>
          <p:cNvPicPr/>
          <p:nvPr/>
        </p:nvPicPr>
        <p:blipFill>
          <a:blip r:embed="rId1"/>
          <a:stretch/>
        </p:blipFill>
        <p:spPr>
          <a:xfrm>
            <a:off x="2606760" y="5829480"/>
            <a:ext cx="857160" cy="93636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9" descr="ГУГЛ.jpg"/>
          <p:cNvPicPr/>
          <p:nvPr/>
        </p:nvPicPr>
        <p:blipFill>
          <a:blip r:embed="rId2"/>
          <a:stretch/>
        </p:blipFill>
        <p:spPr>
          <a:xfrm>
            <a:off x="3892680" y="5786280"/>
            <a:ext cx="1077840" cy="100044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10" descr="МАЗИЛА.jpg"/>
          <p:cNvPicPr/>
          <p:nvPr/>
        </p:nvPicPr>
        <p:blipFill>
          <a:blip r:embed="rId3"/>
          <a:stretch/>
        </p:blipFill>
        <p:spPr>
          <a:xfrm>
            <a:off x="1249200" y="5821200"/>
            <a:ext cx="963720" cy="92880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11" descr="ЭКСЛОРЕР.jpg"/>
          <p:cNvPicPr/>
          <p:nvPr/>
        </p:nvPicPr>
        <p:blipFill>
          <a:blip r:embed="rId4"/>
          <a:srcRect l="0" t="0" r="4752" b="9530"/>
          <a:stretch/>
        </p:blipFill>
        <p:spPr>
          <a:xfrm>
            <a:off x="5216400" y="5668920"/>
            <a:ext cx="1143000" cy="108576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12" descr="САФАРИ.jpg"/>
          <p:cNvPicPr/>
          <p:nvPr/>
        </p:nvPicPr>
        <p:blipFill>
          <a:blip r:embed="rId5"/>
          <a:stretch/>
        </p:blipFill>
        <p:spPr>
          <a:xfrm>
            <a:off x="6892920" y="5613480"/>
            <a:ext cx="1036800" cy="1143000"/>
          </a:xfrm>
          <a:prstGeom prst="rect">
            <a:avLst/>
          </a:prstGeom>
          <a:ln w="0">
            <a:noFill/>
          </a:ln>
        </p:spPr>
      </p:pic>
      <p:sp>
        <p:nvSpPr>
          <p:cNvPr id="159" name="Прямоугольник 13"/>
          <p:cNvSpPr/>
          <p:nvPr/>
        </p:nvSpPr>
        <p:spPr>
          <a:xfrm>
            <a:off x="1249200" y="639720"/>
            <a:ext cx="678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онятие языка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Номер слайда 15"/>
          <p:cNvSpPr/>
          <p:nvPr/>
        </p:nvSpPr>
        <p:spPr>
          <a:xfrm>
            <a:off x="6413400" y="6067440"/>
            <a:ext cx="21337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0A466-60F8-4E52-88BE-CD8FF2F0C60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edg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560" y="9075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труктура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-документ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rcRect l="0" t="0" r="4167" b="0"/>
          <a:stretch/>
        </p:blipFill>
        <p:spPr>
          <a:xfrm>
            <a:off x="3492360" y="1557360"/>
            <a:ext cx="229248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95000" y="1125000"/>
            <a:ext cx="839772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Тег 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ag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– начальный или конечный маркеры элемента. Теги определяют границы действия элементов и отделяют элементы друг от друга. В тексте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- страницы теги заключаются в угловые скобки, а конечный тег всегда снабжается косой чертой.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95360" y="692280"/>
            <a:ext cx="8540640" cy="59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трибут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раметр или свойство элемента. Это переменная, которая имеет стандартное имя и которой может присваиваться определённый набор значений: стандартных или произвольных. Предполагается, что символьные значения атрибутов заключаются в кавычки, но некоторые броузеры позволяют не использовать кавычки. Это объясняется тем, что тип атрибута всегда известен заранее. Атрибуты располагаются внутри начального тега и отделяются друг от друга пробела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7800" y="907920"/>
            <a:ext cx="77724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РАВИЛА ЗАПИСИ ТЭГ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68360" y="170028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Тэги всегда заключаются в угловые скобки (т.е. ВСЕГДА начинается со знака «меньше»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 и оканчивается знаком «больше» </a:t>
            </a:r>
            <a:br>
              <a:rPr sz="3200"/>
            </a:br>
            <a:r>
              <a:rPr b="0" i="1" lang="ru-RU" sz="3200" spc="-1" strike="noStrike">
                <a:solidFill>
                  <a:srgbClr val="800000"/>
                </a:solidFill>
                <a:latin typeface="Times New Roman"/>
              </a:rPr>
              <a:t>Например:</a:t>
            </a: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&lt;BR&gt;</a:t>
            </a: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(новая строка, непарный тег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1098720" y="3852720"/>
            <a:ext cx="694656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69520" y="68688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ограмма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ompoz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2" descr="image02"/>
          <p:cNvPicPr/>
          <p:nvPr/>
        </p:nvPicPr>
        <p:blipFill>
          <a:blip r:embed="rId1"/>
          <a:stretch/>
        </p:blipFill>
        <p:spPr>
          <a:xfrm>
            <a:off x="179280" y="1830240"/>
            <a:ext cx="8856720" cy="49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BD21370_"/>
          <p:cNvPicPr/>
          <p:nvPr/>
        </p:nvPicPr>
        <p:blipFill>
          <a:blip r:embed="rId1"/>
          <a:stretch/>
        </p:blipFill>
        <p:spPr>
          <a:xfrm>
            <a:off x="611280" y="6524640"/>
            <a:ext cx="8280360" cy="1382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Рисунок241"/>
          <p:cNvPicPr/>
          <p:nvPr/>
        </p:nvPicPr>
        <p:blipFill>
          <a:blip r:embed="rId2"/>
          <a:stretch/>
        </p:blipFill>
        <p:spPr>
          <a:xfrm>
            <a:off x="324000" y="1557360"/>
            <a:ext cx="1876320" cy="16956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195640" y="1268280"/>
            <a:ext cx="59767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На что вы обращаете внимание, впервые оказавшись на какой-либо интернет-странице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Какие элементы оформления наиболее значимы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7" descr="Рисунок244"/>
          <p:cNvPicPr/>
          <p:nvPr/>
        </p:nvPicPr>
        <p:blipFill>
          <a:blip r:embed="rId3"/>
          <a:stretch/>
        </p:blipFill>
        <p:spPr>
          <a:xfrm>
            <a:off x="3276720" y="4005360"/>
            <a:ext cx="244764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280" y="980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Цель занят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знакомиться с инструментами, при помощи которых можно создать веб-сай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смотреть этапы создания сайтов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смотреть виды сайт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72680" y="475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Этапы создания сайта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12"/>
          <p:cNvSpPr/>
          <p:nvPr/>
        </p:nvSpPr>
        <p:spPr>
          <a:xfrm>
            <a:off x="684360" y="1341360"/>
            <a:ext cx="820872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Анализ и проектирование сай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Информационное наполнение сай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Креатив, или визуальная составляющая сай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Написание ко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Тестиров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Публикац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Раскрут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Поддержк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72680" y="475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Этапы создания сайта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4"/>
          <p:cNvSpPr/>
          <p:nvPr/>
        </p:nvSpPr>
        <p:spPr>
          <a:xfrm>
            <a:off x="684360" y="1512720"/>
            <a:ext cx="820872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Times New Roman"/>
              </a:rPr>
              <a:t>Анализ и проектирование сайта.</a:t>
            </a:r>
            <a:r>
              <a:rPr b="1" i="1" lang="ru-RU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ализ аналогичных сайтов с выделением сильных и слабых их сторон. Сайт проектируется исходя из интересов предполагаемой аудитор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Times New Roman"/>
              </a:rPr>
              <a:t>Информационное наполнение сайта (контент).</a:t>
            </a:r>
            <a:r>
              <a:rPr b="1" i="1" lang="ru-RU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влекает потенциальных пользователей. Информация должна быть интересна для целевой аудитории и качественно оформлен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72680" y="475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Этапы создания сайта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4"/>
          <p:cNvSpPr/>
          <p:nvPr/>
        </p:nvSpPr>
        <p:spPr>
          <a:xfrm>
            <a:off x="644400" y="1916280"/>
            <a:ext cx="8209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Times New Roman"/>
              </a:rPr>
              <a:t>Креатив.</a:t>
            </a:r>
            <a:r>
              <a:rPr b="1" i="1" lang="ru-RU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ключает разработку дизайна, графических элементов, обработку графики и все, что с ней связано. Разработка всегда осуществляется на бумажном носителе, чтобы определить лучший вариант расположения типовых элементов. Т.к. страницы оформляются в едином стиле, то создается шабло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72680" y="475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Этапы создания сайта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4"/>
          <p:cNvSpPr/>
          <p:nvPr/>
        </p:nvSpPr>
        <p:spPr>
          <a:xfrm>
            <a:off x="684360" y="1512720"/>
            <a:ext cx="820872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Times New Roman"/>
              </a:rPr>
              <a:t>Тестирование.</a:t>
            </a:r>
            <a:r>
              <a:rPr b="1" i="1" lang="ru-RU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веряется удобство навигации, целостность данных, корректность ссылок и орфография: 1) альфа-версия – ошибки проверяют сами разработчики; 2) бета-версия – проверяют другие люд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Times New Roman"/>
              </a:rPr>
              <a:t>Публикация.</a:t>
            </a:r>
            <a:r>
              <a:rPr b="1" i="1" lang="ru-RU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айт размещается в Интернете. Можно воспользоваться бесплатным хостингом </a:t>
            </a:r>
            <a:r>
              <a:rPr b="0" lang="en-US" sz="2800" spc="-1" strike="noStrike" u="sng">
                <a:solidFill>
                  <a:srgbClr val="4d4d4d"/>
                </a:solidFill>
                <a:uFillTx/>
                <a:latin typeface="Times New Roman"/>
                <a:hlinkClick r:id="rId2"/>
              </a:rPr>
              <a:t>www.narod.r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 u="sng">
                <a:solidFill>
                  <a:srgbClr val="4d4d4d"/>
                </a:solidFill>
                <a:uFillTx/>
                <a:latin typeface="Times New Roman"/>
                <a:hlinkClick r:id="rId3"/>
              </a:rPr>
              <a:t>www.boom.r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ибо разместить сайт у провайдер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72680" y="475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Этапы создания сайта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4"/>
          <p:cNvSpPr/>
          <p:nvPr/>
        </p:nvSpPr>
        <p:spPr>
          <a:xfrm>
            <a:off x="684360" y="1512720"/>
            <a:ext cx="82087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Times New Roman"/>
              </a:rPr>
              <a:t>Раскрутка.</a:t>
            </a:r>
            <a:r>
              <a:rPr b="1" i="1" lang="ru-RU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кламная компания по узнаванию сайта и повышению его посещаемости – регистрация сайта в поисковых системах, обмен ссылками и.т.д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Times New Roman"/>
              </a:rPr>
              <a:t>Поддержка.</a:t>
            </a:r>
            <a:r>
              <a:rPr b="1" i="1" lang="ru-RU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тоянное обновление сайта. (не реже 1 раза в 2 недели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50440" y="907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По уровню персонификации сайты классифицируются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4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grpSp>
        <p:nvGrpSpPr>
          <p:cNvPr id="191" name="Organization Chart 7"/>
          <p:cNvGrpSpPr/>
          <p:nvPr/>
        </p:nvGrpSpPr>
        <p:grpSpPr>
          <a:xfrm>
            <a:off x="495360" y="2441520"/>
            <a:ext cx="8063640" cy="3501000"/>
            <a:chOff x="495360" y="2441520"/>
            <a:chExt cx="8063640" cy="3501000"/>
          </a:xfrm>
        </p:grpSpPr>
        <p:cxnSp>
          <p:nvCxnSpPr>
            <p:cNvPr id="192" name="_s1028"/>
            <p:cNvCxnSpPr>
              <a:stCxn id="193" idx="0"/>
              <a:endCxn id="194" idx="2"/>
            </p:cNvCxnSpPr>
            <p:nvPr/>
          </p:nvCxnSpPr>
          <p:spPr>
            <a:xfrm flipV="1" rot="16200000">
              <a:off x="5261400" y="3105720"/>
              <a:ext cx="700920" cy="2171880"/>
            </a:xfrm>
            <a:prstGeom prst="bentConnector3">
              <a:avLst>
                <a:gd name="adj1" fmla="val 162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5" name="_s1029"/>
            <p:cNvCxnSpPr>
              <a:stCxn id="196" idx="0"/>
              <a:endCxn id="194" idx="2"/>
            </p:cNvCxnSpPr>
            <p:nvPr/>
          </p:nvCxnSpPr>
          <p:spPr>
            <a:xfrm flipH="1" flipV="1" rot="5400000">
              <a:off x="3090960" y="3106080"/>
              <a:ext cx="700920" cy="2171160"/>
            </a:xfrm>
            <a:prstGeom prst="bentConnector3">
              <a:avLst>
                <a:gd name="adj1" fmla="val 162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4" name="_s1030"/>
            <p:cNvSpPr/>
            <p:nvPr/>
          </p:nvSpPr>
          <p:spPr>
            <a:xfrm>
              <a:off x="2665800" y="2441520"/>
              <a:ext cx="3721680" cy="1400400"/>
            </a:xfrm>
            <a:prstGeom prst="roundRect">
              <a:avLst>
                <a:gd name="adj" fmla="val 16667"/>
              </a:avLst>
            </a:prstGeom>
            <a:solidFill>
              <a:srgbClr val="cbcbc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Times New Roman"/>
                </a:rPr>
                <a:t>Сайты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_s1031"/>
            <p:cNvSpPr/>
            <p:nvPr/>
          </p:nvSpPr>
          <p:spPr>
            <a:xfrm>
              <a:off x="495360" y="4542120"/>
              <a:ext cx="3721680" cy="1400400"/>
            </a:xfrm>
            <a:prstGeom prst="roundRect">
              <a:avLst>
                <a:gd name="adj" fmla="val 16667"/>
              </a:avLst>
            </a:prstGeom>
            <a:solidFill>
              <a:srgbClr val="cbcbc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90000"/>
                  </a:solidFill>
                  <a:latin typeface="Times New Roman"/>
                </a:rPr>
                <a:t>Корпоративные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_s1032"/>
            <p:cNvSpPr/>
            <p:nvPr/>
          </p:nvSpPr>
          <p:spPr>
            <a:xfrm>
              <a:off x="4837320" y="4542120"/>
              <a:ext cx="3721680" cy="1400400"/>
            </a:xfrm>
            <a:prstGeom prst="roundRect">
              <a:avLst>
                <a:gd name="adj" fmla="val 16667"/>
              </a:avLst>
            </a:prstGeom>
            <a:solidFill>
              <a:srgbClr val="cbcbc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90000"/>
                  </a:solidFill>
                  <a:latin typeface="Times New Roman"/>
                </a:rPr>
                <a:t>Персональные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1692360" y="333360"/>
            <a:ext cx="5616360" cy="644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9280" y="765000"/>
            <a:ext cx="8077320" cy="71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622440" y="1628640"/>
            <a:ext cx="80136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280" y="981000"/>
            <a:ext cx="834732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Изменение цвета всех символов в теле документ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250560" y="2133360"/>
            <a:ext cx="8785080" cy="46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того, чтобы изменить цвет всех символов необходимо в открывающемся теге &l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dy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&gt; указать параметр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= “#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код цвет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пример,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&lt;body text="#336699"&gt;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означает, что все символы в документе будут сини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цвет в &lt;body&gt; не задавать, то по умолчанию он будет черны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Изменение цвета фона документ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95000" y="2491920"/>
            <a:ext cx="8064360" cy="34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Цвет фона так же устанавливается в тэге &lt;body&gt;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апример: </a:t>
            </a:r>
            <a:r>
              <a:rPr b="0" lang="ru-RU" sz="3600" spc="-1" strike="noStrike" u="sng">
                <a:solidFill>
                  <a:srgbClr val="ff0000"/>
                </a:solidFill>
                <a:uFillTx/>
                <a:latin typeface="Times New Roman"/>
              </a:rPr>
              <a:t>&lt;body bgcolor="#000000"&gt;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- устанавливает чёрный фо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Рисунок 3" descr=""/>
          <p:cNvPicPr/>
          <p:nvPr/>
        </p:nvPicPr>
        <p:blipFill>
          <a:blip r:embed="rId1"/>
          <a:stretch/>
        </p:blipFill>
        <p:spPr>
          <a:xfrm>
            <a:off x="179280" y="2060640"/>
            <a:ext cx="88203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Изменение цвета отдельных символ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95360" y="2349360"/>
            <a:ext cx="854064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ля выделения отдельных символов в тексте можно использовать тег &lt;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nt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nt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&gt;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апример: &lt;font color="#CC0000"&gt;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Добро пожаловать!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&lt;/font&gt; - окрашивает фразу «Добро пожаловать» в красный цвет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000" y="83628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Изменение размера шрифт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95360" y="1557360"/>
            <a:ext cx="8540640" cy="51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мер шрифта задаётся в теге &l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nt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nt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&gt; следующим образом при помощи параметр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z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ледующим образом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&lt;font size="+4"&gt;текст &lt;/font&gt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&lt;font size="+3"&gt;текст &lt;/font&gt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&lt;font size="+2"&gt;текст &lt;/font&gt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&lt;font size="+1"&gt;текст &lt;/font&gt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&lt;font size="+0"&gt;текст &lt;/font&gt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&lt;font size="-1"&gt;текст &lt;/font&gt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&lt;font size="-2"&gt;текст &lt;/fon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000" y="1125000"/>
            <a:ext cx="8489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Изменение начертания шрифта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95000" y="2491920"/>
            <a:ext cx="8064360" cy="34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&lt;b&gt;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Жирный текст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&lt;/b&gt;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&lt;i&gt;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Наклонный текст (курсив)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&lt;/i&gt;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&lt;u&gt; Подчеркнутый текст &lt;/u&gt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72680" y="1216080"/>
            <a:ext cx="80773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Изменение типа шрифт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&lt;font face="ARIAL"&gt; текст (шрифт Arial)&lt;/font&gt;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000" y="1052640"/>
            <a:ext cx="8077320" cy="9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ыравнивание абзац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екст по центру: </a:t>
            </a:r>
            <a:br>
              <a:rPr sz="3600"/>
            </a:b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&lt;p align="center"&gt;текст&lt;/p&gt;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екст по левому краю: </a:t>
            </a:r>
            <a:br>
              <a:rPr sz="3600"/>
            </a:b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&lt;p align="left"&gt;текст&lt;/p&gt;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екст по правому краю: </a:t>
            </a:r>
            <a:br>
              <a:rPr sz="3600"/>
            </a:b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&lt;p align="right"&gt;текст&lt;/p&gt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000" y="907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обавление картин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ля добавления картинки на страничку используют тег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&lt;img src="путь к рисунку"&gt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исунок обычно должен иметь расширение .gif, .png, 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p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81040" y="980640"/>
            <a:ext cx="8562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заимное расположение текста и картинк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10920" y="256536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ля того, чтобы изменить взаимное расположение текста и картинки на экране используют параметр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alig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95000" y="836640"/>
            <a:ext cx="8397720" cy="59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ртинк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лев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а текст справ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&lt;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mg src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="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r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ng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"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lign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="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eft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"&gt;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ртинк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прав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текст слева: </a:t>
            </a:r>
            <a:br>
              <a:rPr sz="2800"/>
            </a:b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&lt;img src="pr1.png" align="right"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ртинк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верх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по умолчанию)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&lt;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mg src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="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r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ng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"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lign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="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ottom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"&gt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кст посередине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 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&lt;img src="pr1.png" align="middle"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ртинк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низ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&lt;img src="pr1.png" align="top"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73040" y="1215720"/>
            <a:ext cx="849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ополнительные параметры тега &lt;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mg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95000" y="2441160"/>
            <a:ext cx="8397720" cy="422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mg src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="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r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ng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"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lt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="моя фотография"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араметр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alt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краткое описание картинки. Если навести курсором мыши на рисунок, и так подержать его несколько секунд, то выскочит описание картинки. В нашем случае это будет фраза - "моя фотография". Если параметр alt не задавать, описания не будет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495360" y="1773000"/>
            <a:ext cx="8324640" cy="43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&lt;img src="pr1.png" width="100"&gt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араметр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width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- ширина самой картинки (в пикселях). Если ширину не задавать специально, то по умолчанию она будет равна реальной ширине картинки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еб-дизайн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- интересное, актуальное и востребованное направление развития современных информационных технологий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495000" y="1628640"/>
            <a:ext cx="8064360" cy="431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&lt;img src="pr1.png" height="200"&gt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араметр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height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- высота самой картинки (тоже в пикселях). Так же как в случае с width высоту (height) картинки можно и не задавать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95000" y="2204640"/>
            <a:ext cx="8064360" cy="373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&lt;img src="pr1.png" border="5"&gt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араметр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border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- рамка вокруг самой картинки (в пикселях)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495360" y="836640"/>
            <a:ext cx="8540640" cy="59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ртинку можно сделать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оном документ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Это необходимо прописывать в открывающем тэге боди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&lt;body bgcolor="#000000"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background="ваш_фон.jpg"&gt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араметр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указывает на то, где лежит фоновая картинка.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араметр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bgcolor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еобходиом прописывать на тот случай, если фоновая картинка не загрузитс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000" y="83628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формление списков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95000" y="2060640"/>
            <a:ext cx="8064360" cy="388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иски задаются тегом &l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пример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&lt;li type="disk"&gt; - закрашенный кру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 typ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rcl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"&gt; - незакрашеный кру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 typ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uar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"&gt; - квадра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9280" y="907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исование лини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95000" y="1844640"/>
            <a:ext cx="8064360" cy="409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инии используются при оформлении страниц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того, чтобы добавить линию, используют тег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&lt;Hr&gt;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который не требует закрывающегося тег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результате на экране появиться такая линия:___________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95000" y="907560"/>
            <a:ext cx="8397720" cy="57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араметры рисования лини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r alig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ght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"&gt;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e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ft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сположе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линии по центру, слева или справа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Hr width="30%"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ширин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линии в процентах/пикселя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r size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="6"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олщин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линии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r NoShade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мен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ъем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Hr color="cc0000"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ве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линии, только в 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plore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оздание ссылк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&lt;a href="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уть к документу, к которому нужно перейти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"&gt;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екст ссылки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&lt;/a&gt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Спасибо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 за 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внимание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ай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000" y="2441520"/>
            <a:ext cx="8397720" cy="401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Сайт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(веб-сайт англ. website, от web — паутина, «веб» и site — «место») - это место во всемирной сети (интернете), которое имеет свой адрес, собственного хозяина и состоит из отдельных веб-страниц, которые мы видим как одно цело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77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Web-страниц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Web-страниц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является элементарной частью Всемирной Паутины (World Wide Web, www). WWW, в свою очередь, — одна из возможностей компьютерной сети Internet, связывающей компьютеры по всему миру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610920" y="1628640"/>
            <a:ext cx="7948440" cy="431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ерссылка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фрагмент текста , который является указателем на другой файл или объект. Гиперссылки необходимы для того, чтобы обеспечить возможность перехода от одного документа к другому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684000" y="184464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ждый сайт имеется свой адрес в сети, который называется иначе унифицированным адресом ресурса (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Uniform Resource Locator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URL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95000" y="1052640"/>
            <a:ext cx="8064360" cy="48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4d4d4d"/>
                </a:solidFill>
                <a:uFillTx/>
                <a:latin typeface="Times New Roman"/>
                <a:hlinkClick r:id="rId1"/>
              </a:rPr>
              <a:t>http://www.uni-vologda.ru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мен может быть географическим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ru — Россия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us — США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uk — Великобритания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ger — Германия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ua — Украина и т. п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7T08:30:50Z</dcterms:created>
  <dc:creator>Class300</dc:creator>
  <dc:description/>
  <dc:language>en-US</dc:language>
  <cp:lastModifiedBy>Ирина</cp:lastModifiedBy>
  <dcterms:modified xsi:type="dcterms:W3CDTF">2015-10-13T19:35:21Z</dcterms:modified>
  <cp:revision>45</cp:revision>
  <dc:subject/>
  <dc:title>Печать документа</dc:title>
</cp:coreProperties>
</file>