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13.png" ContentType="image/png"/>
  <Override PartName="/ppt/media/image6.gif" ContentType="image/gif"/>
  <Override PartName="/ppt/media/image15.gif" ContentType="image/gif"/>
  <Override PartName="/ppt/media/image7.jpeg" ContentType="image/jpeg"/>
  <Override PartName="/ppt/media/image8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EF70-8716-4F04-BA84-E6A9EB97BE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68D1-DABD-4C1B-B8B9-F66C554F70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2A26-4E1A-46AF-9CF8-B00AF5C3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DA16-5197-424C-A047-0AC42BBA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6B2A-BFD2-4362-92D2-00073916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AF98-53C9-416B-BE78-0844DA4B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50AF-320C-44F8-AFA5-2A9AF4E0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E926-85C4-4E84-A31F-B06EECBD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1C37-1BCA-40B2-A23A-30D52526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8D8D-8F9F-484C-8CC3-58A44039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25F1-2B78-4ABE-BF25-473DC3F9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DD3D-93CC-4269-9EDE-912B8B01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A141-DD0B-402E-98C1-E37F63D1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1332-7210-46A9-9C83-777538B7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BE7F-42D9-4F11-93D7-493A6CAE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A7EA-FB9B-4095-8138-21A18A64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2157-B557-4035-9724-BF61C2FA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5993-080D-4EEA-B440-512645AC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FF7C-4BE0-48B6-B540-42E8EE0E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836D-3B8C-49D5-A00D-0AEB244F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9B44-9B63-4E11-B313-0798CCF3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0D7E-7F2B-4AD9-A15A-BE69FF3C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BC0F-81E8-4653-BE81-88E67452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893F-0CA7-4121-B641-3DB94C5F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85CB-7356-4E32-9A0E-617D0861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B9A1-9CFD-4A4A-8601-273ACCEE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9280" y="-387360"/>
            <a:ext cx="8892720" cy="7173360"/>
            <a:chOff x="179280" y="-387360"/>
            <a:chExt cx="8892720" cy="7173360"/>
          </a:xfrm>
        </p:grpSpPr>
        <p:grpSp>
          <p:nvGrpSpPr>
            <p:cNvPr id="1" name="Group 3"/>
            <p:cNvGrpSpPr/>
            <p:nvPr/>
          </p:nvGrpSpPr>
          <p:grpSpPr>
            <a:xfrm>
              <a:off x="179280" y="305280"/>
              <a:ext cx="8892720" cy="6480720"/>
              <a:chOff x="179280" y="305280"/>
              <a:chExt cx="8892720" cy="648072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79280" y="305280"/>
                <a:ext cx="8892720" cy="6480720"/>
              </a:xfrm>
              <a:custGeom>
                <a:avLst/>
                <a:gdLst/>
                <a:ahLst/>
                <a:rect l="l" t="t" r="r" b="b"/>
                <a:pathLst>
                  <a:path w="5526" h="3828">
                    <a:moveTo>
                      <a:pt x="684" y="3"/>
                    </a:moveTo>
                    <a:lnTo>
                      <a:pt x="708" y="2"/>
                    </a:lnTo>
                    <a:lnTo>
                      <a:pt x="5523" y="0"/>
                    </a:lnTo>
                    <a:lnTo>
                      <a:pt x="5525" y="3827"/>
                    </a:lnTo>
                    <a:lnTo>
                      <a:pt x="0" y="3827"/>
                    </a:lnTo>
                    <a:lnTo>
                      <a:pt x="7" y="577"/>
                    </a:lnTo>
                    <a:lnTo>
                      <a:pt x="9" y="544"/>
                    </a:lnTo>
                    <a:lnTo>
                      <a:pt x="14" y="516"/>
                    </a:lnTo>
                    <a:lnTo>
                      <a:pt x="22" y="490"/>
                    </a:lnTo>
                    <a:lnTo>
                      <a:pt x="35" y="470"/>
                    </a:lnTo>
                    <a:lnTo>
                      <a:pt x="51" y="456"/>
                    </a:lnTo>
                    <a:lnTo>
                      <a:pt x="64" y="446"/>
                    </a:lnTo>
                    <a:lnTo>
                      <a:pt x="594" y="52"/>
                    </a:lnTo>
                    <a:lnTo>
                      <a:pt x="630" y="26"/>
                    </a:lnTo>
                    <a:lnTo>
                      <a:pt x="654" y="9"/>
                    </a:lnTo>
                    <a:lnTo>
                      <a:pt x="684" y="3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39393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222480" y="335520"/>
                <a:ext cx="997200" cy="955800"/>
                <a:chOff x="222480" y="335520"/>
                <a:chExt cx="997200" cy="95580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35080" y="389520"/>
                  <a:ext cx="933120" cy="901800"/>
                </a:xfrm>
                <a:custGeom>
                  <a:avLst/>
                  <a:gdLst/>
                  <a:ahLst/>
                  <a:rect l="l" t="t" r="r" b="b"/>
                  <a:pathLst>
                    <a:path w="580" h="533">
                      <a:moveTo>
                        <a:pt x="154" y="440"/>
                      </a:moveTo>
                      <a:lnTo>
                        <a:pt x="323" y="493"/>
                      </a:lnTo>
                      <a:lnTo>
                        <a:pt x="372" y="517"/>
                      </a:lnTo>
                      <a:lnTo>
                        <a:pt x="411" y="532"/>
                      </a:lnTo>
                      <a:lnTo>
                        <a:pt x="411" y="497"/>
                      </a:lnTo>
                      <a:lnTo>
                        <a:pt x="415" y="440"/>
                      </a:lnTo>
                      <a:lnTo>
                        <a:pt x="425" y="395"/>
                      </a:lnTo>
                      <a:lnTo>
                        <a:pt x="441" y="326"/>
                      </a:lnTo>
                      <a:lnTo>
                        <a:pt x="457" y="276"/>
                      </a:lnTo>
                      <a:lnTo>
                        <a:pt x="474" y="240"/>
                      </a:lnTo>
                      <a:lnTo>
                        <a:pt x="488" y="190"/>
                      </a:lnTo>
                      <a:lnTo>
                        <a:pt x="504" y="149"/>
                      </a:lnTo>
                      <a:lnTo>
                        <a:pt x="525" y="102"/>
                      </a:lnTo>
                      <a:lnTo>
                        <a:pt x="579" y="0"/>
                      </a:lnTo>
                      <a:lnTo>
                        <a:pt x="28" y="398"/>
                      </a:lnTo>
                      <a:lnTo>
                        <a:pt x="0" y="420"/>
                      </a:lnTo>
                      <a:lnTo>
                        <a:pt x="90" y="423"/>
                      </a:lnTo>
                      <a:lnTo>
                        <a:pt x="154" y="440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222480" y="335520"/>
                  <a:ext cx="997200" cy="800640"/>
                </a:xfrm>
                <a:custGeom>
                  <a:avLst/>
                  <a:gdLst/>
                  <a:ahLst/>
                  <a:rect l="l" t="t" r="r" b="b"/>
                  <a:pathLst>
                    <a:path w="620" h="473">
                      <a:moveTo>
                        <a:pt x="0" y="472"/>
                      </a:moveTo>
                      <a:lnTo>
                        <a:pt x="15" y="445"/>
                      </a:lnTo>
                      <a:lnTo>
                        <a:pt x="61" y="411"/>
                      </a:lnTo>
                      <a:lnTo>
                        <a:pt x="619" y="0"/>
                      </a:lnTo>
                      <a:lnTo>
                        <a:pt x="466" y="153"/>
                      </a:lnTo>
                      <a:lnTo>
                        <a:pt x="366" y="315"/>
                      </a:lnTo>
                      <a:lnTo>
                        <a:pt x="301" y="467"/>
                      </a:lnTo>
                      <a:lnTo>
                        <a:pt x="222" y="435"/>
                      </a:lnTo>
                      <a:lnTo>
                        <a:pt x="132" y="413"/>
                      </a:lnTo>
                      <a:lnTo>
                        <a:pt x="76" y="420"/>
                      </a:lnTo>
                      <a:lnTo>
                        <a:pt x="30" y="432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330360" y="-387360"/>
              <a:ext cx="2638800" cy="1053720"/>
              <a:chOff x="3330360" y="-387360"/>
              <a:chExt cx="2638800" cy="105372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330360" y="194760"/>
                <a:ext cx="2638800" cy="11988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819600" y="137160"/>
                <a:ext cx="37368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5040360" y="130320"/>
                <a:ext cx="373320" cy="62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318920" y="-387360"/>
                <a:ext cx="610200" cy="6242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346280" y="-365400"/>
                <a:ext cx="55368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389840" y="-370440"/>
                <a:ext cx="448920" cy="13860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91280" y="-314280"/>
                <a:ext cx="465120" cy="47340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423680" y="-285480"/>
                <a:ext cx="397440" cy="40248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542760" y="64080"/>
                <a:ext cx="2186640" cy="60228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92800" y="133560"/>
                <a:ext cx="862920" cy="31140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566880" y="583920"/>
                <a:ext cx="2135160" cy="6768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91000" y="132120"/>
                <a:ext cx="2093400" cy="3790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748760" y="137160"/>
                <a:ext cx="900000" cy="31104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custGeom>
            <a:avLst/>
            <a:gdLst/>
            <a:ahLst/>
            <a:rect l="l" t="t" r="r" b="b"/>
            <a:pathLst>
              <a:path w="1290" h="57">
                <a:moveTo>
                  <a:pt x="10" y="0"/>
                </a:moveTo>
                <a:lnTo>
                  <a:pt x="0" y="19"/>
                </a:lnTo>
                <a:lnTo>
                  <a:pt x="2" y="40"/>
                </a:lnTo>
                <a:lnTo>
                  <a:pt x="28" y="50"/>
                </a:lnTo>
                <a:lnTo>
                  <a:pt x="148" y="53"/>
                </a:lnTo>
                <a:lnTo>
                  <a:pt x="297" y="53"/>
                </a:lnTo>
                <a:lnTo>
                  <a:pt x="468" y="53"/>
                </a:lnTo>
                <a:lnTo>
                  <a:pt x="667" y="53"/>
                </a:lnTo>
                <a:lnTo>
                  <a:pt x="830" y="53"/>
                </a:lnTo>
                <a:lnTo>
                  <a:pt x="993" y="55"/>
                </a:lnTo>
                <a:lnTo>
                  <a:pt x="1139" y="53"/>
                </a:lnTo>
                <a:lnTo>
                  <a:pt x="1226" y="56"/>
                </a:lnTo>
                <a:lnTo>
                  <a:pt x="1279" y="47"/>
                </a:lnTo>
                <a:lnTo>
                  <a:pt x="1289" y="25"/>
                </a:lnTo>
                <a:lnTo>
                  <a:pt x="1275" y="14"/>
                </a:lnTo>
                <a:lnTo>
                  <a:pt x="1274" y="27"/>
                </a:lnTo>
                <a:lnTo>
                  <a:pt x="1261" y="35"/>
                </a:lnTo>
                <a:lnTo>
                  <a:pt x="1236" y="38"/>
                </a:lnTo>
                <a:lnTo>
                  <a:pt x="1196" y="40"/>
                </a:lnTo>
                <a:lnTo>
                  <a:pt x="1121" y="40"/>
                </a:lnTo>
                <a:lnTo>
                  <a:pt x="973" y="40"/>
                </a:lnTo>
                <a:lnTo>
                  <a:pt x="844" y="40"/>
                </a:lnTo>
                <a:lnTo>
                  <a:pt x="712" y="38"/>
                </a:lnTo>
                <a:lnTo>
                  <a:pt x="584" y="40"/>
                </a:lnTo>
                <a:lnTo>
                  <a:pt x="432" y="42"/>
                </a:lnTo>
                <a:lnTo>
                  <a:pt x="315" y="43"/>
                </a:lnTo>
                <a:lnTo>
                  <a:pt x="226" y="40"/>
                </a:lnTo>
                <a:lnTo>
                  <a:pt x="141" y="42"/>
                </a:lnTo>
                <a:lnTo>
                  <a:pt x="78" y="40"/>
                </a:lnTo>
                <a:lnTo>
                  <a:pt x="41" y="40"/>
                </a:lnTo>
                <a:lnTo>
                  <a:pt x="20" y="35"/>
                </a:lnTo>
                <a:lnTo>
                  <a:pt x="14" y="22"/>
                </a:lnTo>
                <a:lnTo>
                  <a:pt x="10" y="4"/>
                </a:lnTo>
                <a:lnTo>
                  <a:pt x="5" y="5"/>
                </a:lnTo>
                <a:lnTo>
                  <a:pt x="7" y="6"/>
                </a:lnTo>
                <a:lnTo>
                  <a:pt x="10" y="0"/>
                </a:lnTo>
                <a:lnTo>
                  <a:pt x="10" y="4"/>
                </a:lnTo>
                <a:lnTo>
                  <a:pt x="9" y="6"/>
                </a:lnTo>
                <a:lnTo>
                  <a:pt x="10" y="0"/>
                </a:lnTo>
                <a:lnTo>
                  <a:pt x="10" y="4"/>
                </a:lnTo>
                <a:lnTo>
                  <a:pt x="9" y="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custGeom>
              <a:avLst/>
              <a:gdLst/>
              <a:ahLst/>
              <a:rect l="l" t="t" r="r" b="b"/>
              <a:pathLst>
                <a:path w="5532" h="3843">
                  <a:moveTo>
                    <a:pt x="674" y="2"/>
                  </a:moveTo>
                  <a:lnTo>
                    <a:pt x="5531" y="0"/>
                  </a:lnTo>
                  <a:lnTo>
                    <a:pt x="5531" y="3832"/>
                  </a:lnTo>
                  <a:lnTo>
                    <a:pt x="0" y="3842"/>
                  </a:lnTo>
                  <a:lnTo>
                    <a:pt x="6" y="580"/>
                  </a:lnTo>
                  <a:lnTo>
                    <a:pt x="14" y="547"/>
                  </a:lnTo>
                  <a:lnTo>
                    <a:pt x="25" y="504"/>
                  </a:lnTo>
                  <a:lnTo>
                    <a:pt x="36" y="473"/>
                  </a:lnTo>
                  <a:lnTo>
                    <a:pt x="51" y="458"/>
                  </a:lnTo>
                  <a:lnTo>
                    <a:pt x="64" y="448"/>
                  </a:lnTo>
                  <a:lnTo>
                    <a:pt x="656" y="5"/>
                  </a:lnTo>
                  <a:lnTo>
                    <a:pt x="674" y="2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3939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custGeom>
            <a:avLst/>
            <a:gdLst/>
            <a:ahLst/>
            <a:rect l="l" t="t" r="r" b="b"/>
            <a:pathLst>
              <a:path w="508" h="452">
                <a:moveTo>
                  <a:pt x="129" y="376"/>
                </a:moveTo>
                <a:lnTo>
                  <a:pt x="272" y="427"/>
                </a:lnTo>
                <a:lnTo>
                  <a:pt x="313" y="451"/>
                </a:lnTo>
                <a:lnTo>
                  <a:pt x="333" y="449"/>
                </a:lnTo>
                <a:lnTo>
                  <a:pt x="348" y="376"/>
                </a:lnTo>
                <a:lnTo>
                  <a:pt x="365" y="332"/>
                </a:lnTo>
                <a:lnTo>
                  <a:pt x="382" y="262"/>
                </a:lnTo>
                <a:lnTo>
                  <a:pt x="394" y="221"/>
                </a:lnTo>
                <a:lnTo>
                  <a:pt x="409" y="181"/>
                </a:lnTo>
                <a:lnTo>
                  <a:pt x="423" y="133"/>
                </a:lnTo>
                <a:lnTo>
                  <a:pt x="445" y="98"/>
                </a:lnTo>
                <a:lnTo>
                  <a:pt x="469" y="48"/>
                </a:lnTo>
                <a:lnTo>
                  <a:pt x="507" y="0"/>
                </a:lnTo>
                <a:lnTo>
                  <a:pt x="25" y="335"/>
                </a:lnTo>
                <a:lnTo>
                  <a:pt x="0" y="358"/>
                </a:lnTo>
                <a:lnTo>
                  <a:pt x="76" y="360"/>
                </a:lnTo>
                <a:lnTo>
                  <a:pt x="129" y="376"/>
                </a:lnTo>
              </a:path>
            </a:pathLst>
          </a:cu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custGeom>
            <a:avLst/>
            <a:gdLst/>
            <a:ahLst/>
            <a:rect l="l" t="t" r="r" b="b"/>
            <a:pathLst>
              <a:path w="620" h="483">
                <a:moveTo>
                  <a:pt x="0" y="477"/>
                </a:moveTo>
                <a:lnTo>
                  <a:pt x="13" y="452"/>
                </a:lnTo>
                <a:lnTo>
                  <a:pt x="56" y="422"/>
                </a:lnTo>
                <a:lnTo>
                  <a:pt x="619" y="0"/>
                </a:lnTo>
                <a:lnTo>
                  <a:pt x="425" y="184"/>
                </a:lnTo>
                <a:lnTo>
                  <a:pt x="329" y="336"/>
                </a:lnTo>
                <a:lnTo>
                  <a:pt x="268" y="482"/>
                </a:lnTo>
                <a:lnTo>
                  <a:pt x="197" y="449"/>
                </a:lnTo>
                <a:lnTo>
                  <a:pt x="119" y="425"/>
                </a:lnTo>
                <a:lnTo>
                  <a:pt x="70" y="429"/>
                </a:lnTo>
                <a:lnTo>
                  <a:pt x="28" y="440"/>
                </a:lnTo>
                <a:lnTo>
                  <a:pt x="0" y="477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narod.ru/" TargetMode="External"/><Relationship Id="rId3" Type="http://schemas.openxmlformats.org/officeDocument/2006/relationships/hyperlink" Target="http://www.boom.ru/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uni-vologda.r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нструментальные средства создания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сай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аним_комп4"/>
          <p:cNvPicPr/>
          <p:nvPr/>
        </p:nvPicPr>
        <p:blipFill>
          <a:blip r:embed="rId2"/>
          <a:stretch/>
        </p:blipFill>
        <p:spPr>
          <a:xfrm>
            <a:off x="2771640" y="1989000"/>
            <a:ext cx="3306960" cy="33069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539640" y="5445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дратьева Ирина Сергеевна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подаватель информационных дисципл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95000" y="1267920"/>
            <a:ext cx="8064360" cy="467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тематическим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com — коммерческий сайт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edu — образовани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gov — правительств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net — сетевые службы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mil — военное дело и оборона и т. п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95000" y="1125360"/>
            <a:ext cx="8064360" cy="48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ля просмотра web-страниц используются специальные программы, называемые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раузерам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(web browser). Они позволяют загружать из Сети для просмотра страницы с заданным адресом и переходить от документа к другому по гиперссылка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Times New Roman"/>
              </a:rPr>
              <a:t>2 способ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7" name="Line 5"/>
          <p:cNvSpPr/>
          <p:nvPr/>
        </p:nvSpPr>
        <p:spPr>
          <a:xfrm flipH="1">
            <a:off x="2231640" y="1341360"/>
            <a:ext cx="1260360" cy="2071800"/>
          </a:xfrm>
          <a:prstGeom prst="line">
            <a:avLst/>
          </a:prstGeom>
          <a:ln w="6048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5435640" y="1341360"/>
            <a:ext cx="1620720" cy="2021040"/>
          </a:xfrm>
          <a:prstGeom prst="line">
            <a:avLst/>
          </a:prstGeom>
          <a:ln w="6048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755640" y="3413160"/>
            <a:ext cx="2952720" cy="459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ч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5580000" y="3362400"/>
            <a:ext cx="2952720" cy="825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использованием конструкт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12" descr="Рисунок241"/>
          <p:cNvPicPr/>
          <p:nvPr/>
        </p:nvPicPr>
        <p:blipFill>
          <a:blip r:embed="rId2"/>
          <a:stretch/>
        </p:blipFill>
        <p:spPr>
          <a:xfrm>
            <a:off x="395280" y="4221000"/>
            <a:ext cx="1876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Горизонтальный свиток 4"/>
          <p:cNvSpPr/>
          <p:nvPr/>
        </p:nvSpPr>
        <p:spPr>
          <a:xfrm>
            <a:off x="214200" y="1484280"/>
            <a:ext cx="8643960" cy="2071800"/>
          </a:xfrm>
          <a:prstGeom prst="horizontalScroll">
            <a:avLst>
              <a:gd name="adj" fmla="val 12500"/>
            </a:avLst>
          </a:prstGeom>
          <a:solidFill>
            <a:srgbClr val="cbcbc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HTML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— стандартный язык разметки документов во Всемирной паути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Горизонтальный свиток 6"/>
          <p:cNvSpPr/>
          <p:nvPr/>
        </p:nvSpPr>
        <p:spPr>
          <a:xfrm>
            <a:off x="142920" y="3429000"/>
            <a:ext cx="8643960" cy="1928880"/>
          </a:xfrm>
          <a:prstGeom prst="horizontalScroll">
            <a:avLst>
              <a:gd name="adj" fmla="val 12500"/>
            </a:avLst>
          </a:prstGeom>
          <a:solidFill>
            <a:srgbClr val="cbcbc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WEB-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браузер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—интерпретатор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HTML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, отображает язык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HTML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в удобной для человека фор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Рисунок 8" descr="imgpreview.jpg"/>
          <p:cNvPicPr/>
          <p:nvPr/>
        </p:nvPicPr>
        <p:blipFill>
          <a:blip r:embed="rId1"/>
          <a:stretch/>
        </p:blipFill>
        <p:spPr>
          <a:xfrm>
            <a:off x="2606760" y="5829480"/>
            <a:ext cx="857160" cy="9363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9" descr="ГУГЛ.jpg"/>
          <p:cNvPicPr/>
          <p:nvPr/>
        </p:nvPicPr>
        <p:blipFill>
          <a:blip r:embed="rId2"/>
          <a:stretch/>
        </p:blipFill>
        <p:spPr>
          <a:xfrm>
            <a:off x="3892680" y="5786280"/>
            <a:ext cx="1077840" cy="10004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0" descr="МАЗИЛА.jpg"/>
          <p:cNvPicPr/>
          <p:nvPr/>
        </p:nvPicPr>
        <p:blipFill>
          <a:blip r:embed="rId3"/>
          <a:stretch/>
        </p:blipFill>
        <p:spPr>
          <a:xfrm>
            <a:off x="1249200" y="5821200"/>
            <a:ext cx="963720" cy="92880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1" descr="ЭКСЛОРЕР.jpg"/>
          <p:cNvPicPr/>
          <p:nvPr/>
        </p:nvPicPr>
        <p:blipFill>
          <a:blip r:embed="rId4"/>
          <a:srcRect l="0" t="0" r="4752" b="9530"/>
          <a:stretch/>
        </p:blipFill>
        <p:spPr>
          <a:xfrm>
            <a:off x="5216400" y="5668920"/>
            <a:ext cx="1143000" cy="108576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2" descr="САФАРИ.jpg"/>
          <p:cNvPicPr/>
          <p:nvPr/>
        </p:nvPicPr>
        <p:blipFill>
          <a:blip r:embed="rId5"/>
          <a:stretch/>
        </p:blipFill>
        <p:spPr>
          <a:xfrm>
            <a:off x="6892920" y="5613480"/>
            <a:ext cx="1036800" cy="114300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13"/>
          <p:cNvSpPr/>
          <p:nvPr/>
        </p:nvSpPr>
        <p:spPr>
          <a:xfrm>
            <a:off x="1249200" y="639720"/>
            <a:ext cx="67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нятие языка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Номер слайда 15"/>
          <p:cNvSpPr/>
          <p:nvPr/>
        </p:nvSpPr>
        <p:spPr>
          <a:xfrm>
            <a:off x="641340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6B75-F49F-459E-BBB9-FF73D76F20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труктура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докумен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rcRect l="0" t="0" r="4167" b="0"/>
          <a:stretch/>
        </p:blipFill>
        <p:spPr>
          <a:xfrm>
            <a:off x="3492360" y="1557360"/>
            <a:ext cx="229248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95000" y="1125000"/>
            <a:ext cx="839772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ег 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– начальный или конечный маркеры элемента. Теги определяют границы действия элементов и отделяют элементы друг от друга. В тексте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страницы теги заключаются в угловые скобки, а конечный тег всегда снабжается косой чертой.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95360" y="692280"/>
            <a:ext cx="8540640" cy="59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трибут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аметр или свойство элемента. Это переменная, которая имеет стандартное имя и которой может присваиваться определённый набор значений: стандартных или произвольных. Предполагается, что символьные значения атрибутов заключаются в кавычки, но некоторые броузеры позволяют не использовать кавычки. Это объясняется тем, что тип атрибута всегда известен заранее. Атрибуты располагаются внутри начального тега и отделяются друг от друга пробел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7800" y="907920"/>
            <a:ext cx="77724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АВИЛА ЗАПИСИ ТЭГ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68360" y="170028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Тэги всегда заключаются в угловые скобки (т.е. ВСЕГДА начинается со знака «меньше»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и оканчивается знаком «больше» </a:t>
            </a:r>
            <a:br>
              <a:rPr sz="3200"/>
            </a:br>
            <a:r>
              <a:rPr b="0" i="1" lang="ru-RU" sz="3200" spc="-1" strike="noStrike">
                <a:solidFill>
                  <a:srgbClr val="800000"/>
                </a:solidFill>
                <a:latin typeface="Times New Roman"/>
              </a:rPr>
              <a:t>Например: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&lt;BR&gt;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(новая строка, непарный тег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098720" y="3852720"/>
            <a:ext cx="69465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69520" y="6868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грамма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ompo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2" descr="image02"/>
          <p:cNvPicPr/>
          <p:nvPr/>
        </p:nvPicPr>
        <p:blipFill>
          <a:blip r:embed="rId1"/>
          <a:stretch/>
        </p:blipFill>
        <p:spPr>
          <a:xfrm>
            <a:off x="179280" y="1830240"/>
            <a:ext cx="885672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BD21370_"/>
          <p:cNvPicPr/>
          <p:nvPr/>
        </p:nvPicPr>
        <p:blipFill>
          <a:blip r:embed="rId1"/>
          <a:stretch/>
        </p:blipFill>
        <p:spPr>
          <a:xfrm>
            <a:off x="611280" y="652464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Рисунок241"/>
          <p:cNvPicPr/>
          <p:nvPr/>
        </p:nvPicPr>
        <p:blipFill>
          <a:blip r:embed="rId2"/>
          <a:stretch/>
        </p:blipFill>
        <p:spPr>
          <a:xfrm>
            <a:off x="324000" y="1557360"/>
            <a:ext cx="1876320" cy="16956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195640" y="1268280"/>
            <a:ext cx="5976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На что вы обращаете внимание, впервые оказавшись на какой-либо интернет-страниц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Какие элементы оформления наиболее значим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7" descr="Рисунок244"/>
          <p:cNvPicPr/>
          <p:nvPr/>
        </p:nvPicPr>
        <p:blipFill>
          <a:blip r:embed="rId3"/>
          <a:stretch/>
        </p:blipFill>
        <p:spPr>
          <a:xfrm>
            <a:off x="3276720" y="4005360"/>
            <a:ext cx="24476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ель за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накомиться с инструментами, при помощи которых можно создать веб-сай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смотреть этапы создания сайт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смотреть виды сай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Этапы создания сайт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2"/>
          <p:cNvSpPr/>
          <p:nvPr/>
        </p:nvSpPr>
        <p:spPr>
          <a:xfrm>
            <a:off x="684360" y="1341360"/>
            <a:ext cx="82087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Анализ и проектирование сай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Информационное наполнение сай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Креатив, или визуальная составляющая сай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Написание к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Тестир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Публик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Раскрут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Поддержк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Этапы создания сайт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684360" y="1512720"/>
            <a:ext cx="820872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Анализ и проектирование сайта.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ализ аналогичных сайтов с выделением сильных и слабых их сторон. Сайт проектируется исходя из интересов предполагаемой аудитор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Информационное наполнение сайта (контент).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влекает потенциальных пользователей. Информация должна быть интересна для целевой аудитории и качественно оформле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Этапы создания сайт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644400" y="1916280"/>
            <a:ext cx="820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Креатив.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ключает разработку дизайна, графических элементов, обработку графики и все, что с ней связано. Разработка всегда осуществляется на бумажном носителе, чтобы определить лучший вариант расположения типовых элементов. Т.к. страницы оформляются в едином стиле, то создается шабло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Этапы создания сайт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684360" y="1512720"/>
            <a:ext cx="820872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Тестирование.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ряется удобство навигации, целостность данных, корректность ссылок и орфография: 1) альфа-версия – ошибки проверяют сами разработчики; 2) бета-версия – проверяют другие люд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Публикация.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йт размещается в Интернете. Можно воспользоваться бесплатным хостингом </a:t>
            </a:r>
            <a:r>
              <a:rPr b="0" lang="en-US" sz="2800" spc="-1" strike="noStrike" u="sng">
                <a:solidFill>
                  <a:srgbClr val="4d4d4d"/>
                </a:solidFill>
                <a:uFillTx/>
                <a:latin typeface="Times New Roman"/>
                <a:hlinkClick r:id="rId2"/>
              </a:rPr>
              <a:t>www.narod.r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4d4d4d"/>
                </a:solidFill>
                <a:uFillTx/>
                <a:latin typeface="Times New Roman"/>
                <a:hlinkClick r:id="rId3"/>
              </a:rPr>
              <a:t>www.boom.r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бо разместить сайт у провайдер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Этапы создания сайт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684360" y="1512720"/>
            <a:ext cx="8208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Раскрутка.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кламная компания по узнаванию сайта и повышению его посещаемости – регистрация сайта в поисковых системах, обмен ссылками и.т.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Поддержка.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оянное обновление сайта. (не реже 1 раза в 2 недели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50440" y="90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о уровню персонификации сайты классифицируютс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grpSp>
        <p:nvGrpSpPr>
          <p:cNvPr id="191" name="Organization Chart 7"/>
          <p:cNvGrpSpPr/>
          <p:nvPr/>
        </p:nvGrpSpPr>
        <p:grpSpPr>
          <a:xfrm>
            <a:off x="495360" y="2441520"/>
            <a:ext cx="8063640" cy="3501000"/>
            <a:chOff x="495360" y="2441520"/>
            <a:chExt cx="8063640" cy="3501000"/>
          </a:xfrm>
        </p:grpSpPr>
        <p:cxnSp>
          <p:nvCxnSpPr>
            <p:cNvPr id="192" name="_s1028"/>
            <p:cNvCxnSpPr>
              <a:stCxn id="193" idx="0"/>
              <a:endCxn id="194" idx="2"/>
            </p:cNvCxnSpPr>
            <p:nvPr/>
          </p:nvCxnSpPr>
          <p:spPr>
            <a:xfrm flipV="1" rot="16200000">
              <a:off x="5261400" y="3105720"/>
              <a:ext cx="700920" cy="2171880"/>
            </a:xfrm>
            <a:prstGeom prst="bentConnector3">
              <a:avLst>
                <a:gd name="adj1" fmla="val 162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1029"/>
            <p:cNvCxnSpPr>
              <a:stCxn id="196" idx="0"/>
              <a:endCxn id="194" idx="2"/>
            </p:cNvCxnSpPr>
            <p:nvPr/>
          </p:nvCxnSpPr>
          <p:spPr>
            <a:xfrm flipH="1" flipV="1" rot="5400000">
              <a:off x="3090960" y="3106080"/>
              <a:ext cx="700920" cy="2171160"/>
            </a:xfrm>
            <a:prstGeom prst="bentConnector3">
              <a:avLst>
                <a:gd name="adj1" fmla="val 162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4" name="_s1030"/>
            <p:cNvSpPr/>
            <p:nvPr/>
          </p:nvSpPr>
          <p:spPr>
            <a:xfrm>
              <a:off x="2665800" y="2441520"/>
              <a:ext cx="3721680" cy="1400400"/>
            </a:xfrm>
            <a:prstGeom prst="roundRect">
              <a:avLst>
                <a:gd name="adj" fmla="val 16667"/>
              </a:avLst>
            </a:prstGeom>
            <a:solidFill>
              <a:srgbClr val="cbcb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Сайты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_s1031"/>
            <p:cNvSpPr/>
            <p:nvPr/>
          </p:nvSpPr>
          <p:spPr>
            <a:xfrm>
              <a:off x="495360" y="4542120"/>
              <a:ext cx="3721680" cy="1400400"/>
            </a:xfrm>
            <a:prstGeom prst="roundRect">
              <a:avLst>
                <a:gd name="adj" fmla="val 16667"/>
              </a:avLst>
            </a:prstGeom>
            <a:solidFill>
              <a:srgbClr val="cbcb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Корпоративные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_s1032"/>
            <p:cNvSpPr/>
            <p:nvPr/>
          </p:nvSpPr>
          <p:spPr>
            <a:xfrm>
              <a:off x="4837320" y="4542120"/>
              <a:ext cx="3721680" cy="1400400"/>
            </a:xfrm>
            <a:prstGeom prst="roundRect">
              <a:avLst>
                <a:gd name="adj" fmla="val 16667"/>
              </a:avLst>
            </a:prstGeom>
            <a:solidFill>
              <a:srgbClr val="cbcb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Персональные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61636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807732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622440" y="1628640"/>
            <a:ext cx="80136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34732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зменение цвета всех символов в теле докумен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50560" y="2133360"/>
            <a:ext cx="878508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того, чтобы изменить цвет всех символов необходимо в открывающемся теге &l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d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gt; указать параметр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“#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од цве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&lt;body text="#336699"&gt;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означает, что все символы в документе будут син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цвет в &lt;body&gt; не задавать, то по умолчанию он будет черны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зменение цвета фона докумен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95000" y="2491920"/>
            <a:ext cx="8064360" cy="34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Цвет фона так же устанавливается в тэге &lt;body&gt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пример: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&lt;body bgcolor="#000000"&gt;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- устанавливает чёрный фо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3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8820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зменение цвета отдельных симво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95360" y="2349360"/>
            <a:ext cx="854064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ля выделения отдельных символов в тексте можно использовать тег &lt;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nt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nt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&gt;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пример: &lt;font color="#CC0000"&gt;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Добро пожаловать!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&lt;/font&gt; - окрашивает фразу «Добро пожаловать» в красный цве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зменение размера шриф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95360" y="15573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мер шрифта задаётся в теге &l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n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n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gt; следующим образом при помощи параметр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ледующим образ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font size="+4"&gt;текст &lt;/font&gt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font size="+3"&gt;текст &lt;/font&gt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font size="+2"&gt;текст &lt;/font&gt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font size="+1"&gt;текст &lt;/font&gt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font size="+0"&gt;текст &lt;/font&gt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font size="-1"&gt;текст &lt;/font&gt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font size="-2"&gt;текст &lt;/fon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8489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зменение начертания шрифта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95000" y="2491920"/>
            <a:ext cx="8064360" cy="34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&lt;b&gt;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Жирный текст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&lt;/b&gt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&lt;i&gt;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Наклонный текст (курсив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&lt;/i&gt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&lt;u&gt; Подчеркнутый текст &lt;/u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72680" y="1216080"/>
            <a:ext cx="80773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зменение типа шриф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&lt;font face="ARIAL"&gt; текст (шрифт Arial)&lt;/font&gt;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8077320" cy="9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равнивание абзац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кст по центру: </a:t>
            </a:r>
            <a:br>
              <a:rPr sz="3600"/>
            </a:b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&lt;p align="center"&gt;текст&lt;/p&gt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кст по левому краю: </a:t>
            </a:r>
            <a:br>
              <a:rPr sz="3600"/>
            </a:b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&lt;p align="left"&gt;текст&lt;/p&gt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кст по правому краю: </a:t>
            </a:r>
            <a:br>
              <a:rPr sz="3600"/>
            </a:b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&lt;p align="right"&gt;текст&lt;/p&gt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обавление картин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ля добавления картинки на страничку используют тег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&lt;img src="путь к рисунку"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исунок обычно должен иметь расширение .gif, .png, 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p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81040" y="980640"/>
            <a:ext cx="8562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заимное расположение текста и картин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10920" y="256536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ля того, чтобы изменить взаимное расположение текста и картинки на экране используют параметр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alig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95000" y="836640"/>
            <a:ext cx="839772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ртинк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е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а текст справ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mg src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="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r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ng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"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lign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="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eft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"&gt;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ртинк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екст слева: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&lt;img src="pr1.png" align="right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ртинк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верх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по умолчанию)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mg src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="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r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ng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"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lign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="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ottom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"&gt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кст посередин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&lt;img src="pr1.png" align="middle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ртинк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низ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&lt;img src="pr1.png" align="top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ополнительные параметры тега &lt;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g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95000" y="2441160"/>
            <a:ext cx="8397720" cy="422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mg src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="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r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ng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"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t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="моя фотография"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раметр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al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краткое описание картинки. Если навести курсором мыши на рисунок, и так подержать его несколько секунд, то выскочит описание картинки. В нашем случае это будет фраза - "моя фотография". Если параметр alt не задавать, описания не буде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95360" y="1773000"/>
            <a:ext cx="8324640" cy="43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&lt;img src="pr1.png" width="100"&gt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раметр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width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- ширина самой картинки (в пикселях). Если ширину не задавать специально, то по умолчанию она будет равна реальной ширине картинк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б-дизайн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- интересное, актуальное и востребованное направление развития современных информационных технологий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95000" y="1628640"/>
            <a:ext cx="8064360" cy="43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&lt;img src="pr1.png" height="200"&gt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раметр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- высота самой картинки (тоже в пикселях). Так же как в случае с width высоту (height) картинки можно и не задавать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95000" y="2204640"/>
            <a:ext cx="8064360" cy="37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&lt;img src="pr1.png" border="5"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раметр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border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рамка вокруг самой картинки (в пикселях)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95360" y="836640"/>
            <a:ext cx="854064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ртинку можно сделат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оном докумен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Это необходимо прописывать в открывающем тэге бод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body bgcolor="#000000"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background="ваш_фон.jpg"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раметр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казывает на то, где лежит фоновая картинка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раметр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gcolo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еобходиом прописывать на тот случай, если фоновая картинка не загрузитс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формление списк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95000" y="2060640"/>
            <a:ext cx="8064360" cy="388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иски задаются тегом &l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li type="disk"&gt; - закрашенный кру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 typ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"&gt; - незакрашеный кру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 typ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uar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"&gt; - квадра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исование лин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95000" y="1844640"/>
            <a:ext cx="8064360" cy="40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нии используются при оформлении страниц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того, чтобы добавить линию, используют тег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&lt;Hr&g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оторый не требует закрывающегося те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результате на экране появиться такая линия: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95000" y="907560"/>
            <a:ext cx="8397720" cy="57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раметры рисования лин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r alig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"&gt;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полож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линии по центру, слева или справа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Hr width="30%"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ири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линии в процентах/пиксел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r siz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"6"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лщи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лини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r NoShad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мен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ъем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Hr color="cc0000"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в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линии, только в 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plor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здание ссыл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&lt;a href="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уть к документу, к которому нужно перейт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"&gt;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кст ссылк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&lt;/a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Спасибо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за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внимание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ай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000" y="2441520"/>
            <a:ext cx="8397720" cy="401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айт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веб-сайт англ. website, от web — паутина, «веб» и site — «место») - это место во всемирной сети (интернете), которое имеет свой адрес, собственного хозяина и состоит из отдельных веб-страниц, которые мы видим как одно цело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77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Web-страниц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b-страниц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является элементарной частью Всемирной Паутины (World Wide Web, www). WWW, в свою очередь, — одна из возможностей компьютерной сети Internet, связывающей компьютеры по всему мир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10920" y="1628640"/>
            <a:ext cx="7948440" cy="43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ссылка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фрагмент текста , который является указателем на другой файл или объект. Гиперссылки необходимы для того, чтобы обеспечить возможность перехода от одного документа к другом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84000" y="184464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ждый сайт имеется свой адрес в сети, который называется иначе унифицированным адресом ресурса (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Uniform Resource Locator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95000" y="1052640"/>
            <a:ext cx="8064360" cy="48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d4d4d"/>
                </a:solidFill>
                <a:uFillTx/>
                <a:latin typeface="Times New Roman"/>
                <a:hlinkClick r:id="rId1"/>
              </a:rPr>
              <a:t>http://www.uni-vologda.ru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мен может быть географически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ru — Росс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us — США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uk — Великобритан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ger — Герман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ua — Украина и т. п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08:30:50Z</dcterms:created>
  <dc:creator>Class300</dc:creator>
  <dc:description/>
  <dc:language>en-US</dc:language>
  <cp:lastModifiedBy>Ирина</cp:lastModifiedBy>
  <dcterms:modified xsi:type="dcterms:W3CDTF">2015-10-13T19:35:21Z</dcterms:modified>
  <cp:revision>45</cp:revision>
  <dc:subject/>
  <dc:title>Печать документа</dc:title>
</cp:coreProperties>
</file>