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gif" ContentType="image/gif"/>
  <Override PartName="/ppt/media/image33.gif" ContentType="image/gif"/>
  <Override PartName="/ppt/media/image18.wmf" ContentType="image/x-wmf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8395-9117-45B2-8592-1434C85AA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F959-A132-4689-949B-14B6E219C6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FF7-0407-414A-B5C0-B2F114AE88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5DC-7CC0-4539-A2B1-0BC1D504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4B9-3455-4706-9816-BD9894A6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8E1-6264-41E2-9410-6E255C78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D99-2FB6-41C7-B09A-71D83AE0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E7F-EE1C-4670-A852-E330A5AC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23A-8CBA-4806-82BA-4401EEAE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E79-86B0-4642-85FA-D7ABFF82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73E-90C8-4CFA-842B-1B00835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13B-57B8-4FC6-8959-506D7481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1F9-5C3C-42C8-99A0-CDB672F2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C1F-0CCA-4366-94AC-8220B2B1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F1E-EC7B-49FB-9BE1-340FE210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CB2D-AB84-4195-8CAB-39909287F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7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hyperlink" Target="http://il.rsl.ru/images/193_lermontov_jpg/ill05568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feb-web.ru/feb/lermenc/Pictures/Lre304-17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dic.academic.ru/pictures/lermontov/Lre411-1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15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М. Ю. Лермонтов.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Жизнь и судьб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PLM-019-"/>
          <p:cNvPicPr/>
          <p:nvPr/>
        </p:nvPicPr>
        <p:blipFill>
          <a:blip r:embed="rId2"/>
          <a:stretch/>
        </p:blipFill>
        <p:spPr>
          <a:xfrm>
            <a:off x="3132000" y="2133720"/>
            <a:ext cx="3087720" cy="388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E:\s10.gif"/>
          <p:cNvPicPr/>
          <p:nvPr/>
        </p:nvPicPr>
        <p:blipFill>
          <a:blip r:embed="rId3"/>
          <a:stretch/>
        </p:blipFill>
        <p:spPr>
          <a:xfrm>
            <a:off x="285840" y="4429080"/>
            <a:ext cx="743040" cy="22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:\s10.gif"/>
          <p:cNvPicPr/>
          <p:nvPr/>
        </p:nvPicPr>
        <p:blipFill>
          <a:blip r:embed="rId4"/>
          <a:stretch/>
        </p:blipFill>
        <p:spPr>
          <a:xfrm>
            <a:off x="8072280" y="4429080"/>
            <a:ext cx="743040" cy="2219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3203640" y="61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14-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0920" y="1989000"/>
          <a:ext cx="447696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989000"/>
                    <a:ext cx="44769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7" descr="Крестовая гора. М.Ю. Лермонтов"/>
          <p:cNvPicPr/>
          <p:nvPr/>
        </p:nvPicPr>
        <p:blipFill>
          <a:blip r:embed="rId4"/>
          <a:stretch/>
        </p:blipFill>
        <p:spPr>
          <a:xfrm>
            <a:off x="1619280" y="260280"/>
            <a:ext cx="5950080" cy="595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835280" y="630864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сня «Молитва» на стихи М.Ю.Лермонт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Elena-i-Aleksandr-Mihaylovy-Molitva-na-stihi-MLermontova(mp3tune.net).mp3" descr=""/>
          <p:cNvPicPr/>
          <p:nvPr/>
        </p:nvPicPr>
        <p:blipFill>
          <a:blip r:embed="rId5"/>
          <a:stretch/>
        </p:blipFill>
        <p:spPr>
          <a:xfrm>
            <a:off x="8101080" y="5732640"/>
            <a:ext cx="647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66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Бородинская би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&amp;Zcy;&amp;acy;&amp;gcy;&amp;rcy;&amp;ucy;&amp;zcy;&amp;kcy;&amp;acy; &amp;kcy;&amp;acy;&amp;rcy;&amp;tcy;&amp;icy;&amp;ncy;&amp;kcy;&amp;icy;: &amp;kcy;&amp;acy;&amp;rcy;&amp;tcy;&amp;icy;&amp;ncy;&amp;acy; / 337501 - bestforce.ru"/>
          <p:cNvPicPr/>
          <p:nvPr/>
        </p:nvPicPr>
        <p:blipFill>
          <a:blip r:embed="rId2"/>
          <a:srcRect l="0" t="20733" r="0" b="0"/>
          <a:stretch/>
        </p:blipFill>
        <p:spPr>
          <a:xfrm>
            <a:off x="1116000" y="1484280"/>
            <a:ext cx="6480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ородинская би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&amp;Bcy;&amp;icy;&amp;tcy;&amp;vcy;&amp;ycy;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«Песня про купца Калашникова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http://3.bp.blogspot.com/_vYPIDwOMhm4/RymiwRaea3I/AAAAAAAAEEg/Hd5y8ruJOJU/s400/Bilibin001.jpg"/>
          <p:cNvPicPr/>
          <p:nvPr/>
        </p:nvPicPr>
        <p:blipFill>
          <a:blip r:embed="rId2"/>
          <a:stretch/>
        </p:blipFill>
        <p:spPr>
          <a:xfrm>
            <a:off x="468360" y="1628640"/>
            <a:ext cx="3382920" cy="4537080"/>
          </a:xfrm>
          <a:prstGeom prst="rect">
            <a:avLst/>
          </a:prstGeom>
          <a:ln w="0">
            <a:noFill/>
          </a:ln>
        </p:spPr>
      </p:pic>
      <p:pic>
        <p:nvPicPr>
          <p:cNvPr id="101" name="i-main-pic" descr="Картинка 23 из 4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628640"/>
            <a:ext cx="3745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03" name="i-main-pic" descr="Картинка 8 из 4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44640" y="2097000"/>
            <a:ext cx="3085920" cy="3576600"/>
          </a:xfrm>
          <a:prstGeom prst="rect">
            <a:avLst/>
          </a:prstGeom>
          <a:ln w="0">
            <a:noFill/>
          </a:ln>
        </p:spPr>
      </p:pic>
      <p:pic>
        <p:nvPicPr>
          <p:cNvPr id="104" name="i-main-pic" descr="Картинка 14 из 4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620640"/>
            <a:ext cx="3745080" cy="504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.Я убил его вольной воле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за что, про что — не скажу теб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кажу только Богу един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Вторая ссылка на Кавказ</a:t>
            </a:r>
            <a:br>
              <a:rPr sz="4000"/>
            </a:br>
            <a:br>
              <a:rPr sz="1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840 году за дуэль с сыном французского посла де Барантом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а вновь ссылают  на Кавка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E:\vid pjatigorska.jpg"/>
          <p:cNvPicPr/>
          <p:nvPr/>
        </p:nvPicPr>
        <p:blipFill>
          <a:blip r:embed="rId2"/>
          <a:stretch/>
        </p:blipFill>
        <p:spPr>
          <a:xfrm>
            <a:off x="142920" y="2643120"/>
            <a:ext cx="3357360" cy="2505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:\lerm_3.jpg"/>
          <p:cNvPicPr/>
          <p:nvPr/>
        </p:nvPicPr>
        <p:blipFill>
          <a:blip r:embed="rId3"/>
          <a:stretch/>
        </p:blipFill>
        <p:spPr>
          <a:xfrm>
            <a:off x="3714840" y="2643120"/>
            <a:ext cx="1857240" cy="248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E:\vid tiflisa.jpg"/>
          <p:cNvPicPr/>
          <p:nvPr/>
        </p:nvPicPr>
        <p:blipFill>
          <a:blip r:embed="rId4"/>
          <a:stretch/>
        </p:blipFill>
        <p:spPr>
          <a:xfrm>
            <a:off x="5857920" y="2643120"/>
            <a:ext cx="3071880" cy="24717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428760" y="5286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Вид Пяти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27860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Ю.Лермонтов в сюрт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йб-гвардии Гусарского по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варель А.И.Клюнд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6516720" y="537372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Вид Тифлис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Гибель М. Ю. Лермонтова</a:t>
            </a:r>
            <a:br>
              <a:rPr sz="4400"/>
            </a:br>
            <a:br>
              <a:rPr sz="13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15 июля 1841 году на дуэли с Н.Мартыновым                                           Михаил Юрьевич Лермонтов был убит. Похоронен на кладбище в Пятигорске, а в апреле 1842 года гроб с телом Лермонтова перезахоронен на фамильном кладбище в Тархан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" descr="35_265-1"/>
          <p:cNvPicPr/>
          <p:nvPr/>
        </p:nvPicPr>
        <p:blipFill>
          <a:blip r:embed="rId2"/>
          <a:stretch/>
        </p:blipFill>
        <p:spPr>
          <a:xfrm>
            <a:off x="2214720" y="3071880"/>
            <a:ext cx="4910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амятник на месте гибели поэ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img22"/>
          <p:cNvPicPr/>
          <p:nvPr/>
        </p:nvPicPr>
        <p:blipFill>
          <a:blip r:embed="rId2"/>
          <a:stretch/>
        </p:blipFill>
        <p:spPr>
          <a:xfrm>
            <a:off x="2843280" y="1484280"/>
            <a:ext cx="338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амятник М.Ю.Лермонтову в Тарха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img23"/>
          <p:cNvPicPr/>
          <p:nvPr/>
        </p:nvPicPr>
        <p:blipFill>
          <a:blip r:embed="rId2"/>
          <a:stretch/>
        </p:blipFill>
        <p:spPr>
          <a:xfrm>
            <a:off x="255600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SVECHKA.GIF"/>
          <p:cNvPicPr/>
          <p:nvPr/>
        </p:nvPicPr>
        <p:blipFill>
          <a:blip r:embed="rId2"/>
          <a:stretch/>
        </p:blipFill>
        <p:spPr>
          <a:xfrm>
            <a:off x="2214720" y="1928880"/>
            <a:ext cx="49291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Детские годы М. Ю. Лермонтова</a:t>
            </a:r>
            <a:br>
              <a:rPr sz="4400"/>
            </a:br>
            <a:br>
              <a:rPr sz="7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Родился в Москве в семье армейского капитана Юрия Петровича и Марии Михайловны Лермонтовых. Брак, заключенный против воли матери невесты, был неравным и несчастливым; мальчик рос в обстановке семейных несоглас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oto 6"/>
          <p:cNvPicPr/>
          <p:nvPr/>
        </p:nvPicPr>
        <p:blipFill>
          <a:blip r:embed="rId2"/>
          <a:stretch/>
        </p:blipFill>
        <p:spPr>
          <a:xfrm>
            <a:off x="735120" y="2714760"/>
            <a:ext cx="2265120" cy="322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p6"/>
          <p:cNvPicPr/>
          <p:nvPr/>
        </p:nvPicPr>
        <p:blipFill>
          <a:blip r:embed="rId3"/>
          <a:stretch/>
        </p:blipFill>
        <p:spPr>
          <a:xfrm>
            <a:off x="3286080" y="2714760"/>
            <a:ext cx="2500200" cy="319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foto 5"/>
          <p:cNvPicPr/>
          <p:nvPr/>
        </p:nvPicPr>
        <p:blipFill>
          <a:blip r:embed="rId4"/>
          <a:stretch/>
        </p:blipFill>
        <p:spPr>
          <a:xfrm>
            <a:off x="6000840" y="2714760"/>
            <a:ext cx="2463840" cy="3163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0" y="6000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            </a:t>
            </a:r>
            <a:r>
              <a:rPr b="1" i="1" lang="en-US" sz="1800" spc="-1" strike="noStrike">
                <a:solidFill>
                  <a:srgbClr val="3891a7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М.М. Лермонтова,               М. Ю. Лермонтов                Ю. П. Лермонтов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мать поэта.                            в детстве.                           отец поэта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Тарханы</a:t>
            </a:r>
            <a:br>
              <a:rPr sz="4000"/>
            </a:br>
            <a:br>
              <a:rPr sz="9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После смерти матери Лермонтова бабушка сама занялась его воспитанием, полностью отстранив отца. Детство Лермонтова прошло в имении Арсеньевой Тарханы  Пензенской губернии. Мальчик получил отличное домашнее образование, свободно владел французским и немецким языками, увлекался рисованием, музык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foto 4"/>
          <p:cNvPicPr/>
          <p:nvPr/>
        </p:nvPicPr>
        <p:blipFill>
          <a:blip r:embed="rId2"/>
          <a:stretch/>
        </p:blipFill>
        <p:spPr>
          <a:xfrm>
            <a:off x="1214280" y="3500280"/>
            <a:ext cx="1982880" cy="279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1838"/>
          <p:cNvPicPr/>
          <p:nvPr/>
        </p:nvPicPr>
        <p:blipFill>
          <a:blip r:embed="rId3"/>
          <a:stretch/>
        </p:blipFill>
        <p:spPr>
          <a:xfrm>
            <a:off x="4143240" y="3500280"/>
            <a:ext cx="3786480" cy="2835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428760" y="6357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Е. А. Арсеньева, бабушка поэта.                                    Тарх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91a7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Любимый пруд  М.Лермонт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&amp;bcy;&amp;acy;&amp;rcy;&amp;scy;&amp;kcy;&amp;icy;&amp;jcy; &amp;pcy;&amp;rcy;&amp;ucy;&amp;dcy;"/>
          <p:cNvPicPr/>
          <p:nvPr/>
        </p:nvPicPr>
        <p:blipFill>
          <a:blip r:embed="rId2"/>
          <a:stretch/>
        </p:blipFill>
        <p:spPr>
          <a:xfrm>
            <a:off x="1332000" y="1413000"/>
            <a:ext cx="6337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омната Михаила Лермонт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&amp;kcy;&amp;ocy;&amp;mcy;&amp;ncy;&amp;acy;&amp;tcy;&amp;acy; &amp;Lcy;&amp;iecy;&amp;rcy;&amp;mcy;&amp;ocy;&amp;ncy;&amp;tcy;&amp;ocy;&amp;vcy;&amp;acy;"/>
          <p:cNvPicPr/>
          <p:nvPr/>
        </p:nvPicPr>
        <p:blipFill>
          <a:blip r:embed="rId2"/>
          <a:stretch/>
        </p:blipFill>
        <p:spPr>
          <a:xfrm>
            <a:off x="1258920" y="1413000"/>
            <a:ext cx="6408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Москва</a:t>
            </a:r>
            <a:br>
              <a:rPr sz="4000"/>
            </a:br>
            <a:br>
              <a:rPr sz="7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 1827 года Лермонтов живет в Москве. Он учится в Московском благородном  пансионе, позднее  в Московском университете на нравственно-политическом, затем –               на словесном отделени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1"/>
          <p:cNvPicPr/>
          <p:nvPr/>
        </p:nvPicPr>
        <p:blipFill>
          <a:blip r:embed="rId2"/>
          <a:stretch/>
        </p:blipFill>
        <p:spPr>
          <a:xfrm>
            <a:off x="500040" y="2857680"/>
            <a:ext cx="3341880" cy="277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oskva_universitet"/>
          <p:cNvPicPr/>
          <p:nvPr/>
        </p:nvPicPr>
        <p:blipFill>
          <a:blip r:embed="rId3"/>
          <a:stretch/>
        </p:blipFill>
        <p:spPr>
          <a:xfrm>
            <a:off x="4143240" y="2857680"/>
            <a:ext cx="449100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0" y="56577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.И. Вивьен.                                           Московский университ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сква.  Красные ворота.                   Неизвестный художник. 182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тербур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85840" y="13572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ставив  университет, Лермонтов в 1832 году переезжает в Петербург и поступает в Школу гвардейских подпрапорщиков и кавалерийских юнкеров; выпущен корнетом Лейб-гвардии гусарского полка в 183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8"/>
          <p:cNvPicPr/>
          <p:nvPr/>
        </p:nvPicPr>
        <p:blipFill>
          <a:blip r:embed="rId2"/>
          <a:stretch/>
        </p:blipFill>
        <p:spPr>
          <a:xfrm>
            <a:off x="1000080" y="3071880"/>
            <a:ext cx="458784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lermontov03"/>
          <p:cNvPicPr/>
          <p:nvPr/>
        </p:nvPicPr>
        <p:blipFill>
          <a:blip r:embed="rId3"/>
          <a:stretch/>
        </p:blipFill>
        <p:spPr>
          <a:xfrm>
            <a:off x="6143760" y="3071880"/>
            <a:ext cx="1928520" cy="28242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857160" y="600084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. 1820-е гг.                   Портрет Лермонтова-ко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рвая ссылка на Кавказ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6500"/>
            </a:br>
            <a:br>
              <a:rPr sz="700"/>
            </a:br>
            <a:br>
              <a:rPr sz="7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В феврале 1837 года за стихотворение "Смерть поэта"                               М. Ю. Лермонтов был переведен в Нижегородский драгунский полк на Кавка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E:\avtoportret.jpg"/>
          <p:cNvPicPr/>
          <p:nvPr/>
        </p:nvPicPr>
        <p:blipFill>
          <a:blip r:embed="rId2"/>
          <a:stretch/>
        </p:blipFill>
        <p:spPr>
          <a:xfrm>
            <a:off x="1143000" y="2714760"/>
            <a:ext cx="2428920" cy="3108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E:\i_325.jpg"/>
          <p:cNvPicPr/>
          <p:nvPr/>
        </p:nvPicPr>
        <p:blipFill>
          <a:blip r:embed="rId3"/>
          <a:stretch/>
        </p:blipFill>
        <p:spPr>
          <a:xfrm>
            <a:off x="5214960" y="2714760"/>
            <a:ext cx="2643120" cy="3132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1071720" y="60008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.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порт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4143240" y="6000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Автограф стихотворения                                                               М. Ю. Лермонтова «Смерть поэт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авказ в жизни и творчестве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М. Ю. Лермонт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0" y="150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Кавказе были написаны многочисленные произведения, в которых поэт признаётся в своей любви Кавк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Крестовая гора. М.Ю. Лермонтов"/>
          <p:cNvPicPr/>
          <p:nvPr/>
        </p:nvPicPr>
        <p:blipFill>
          <a:blip r:embed="rId2"/>
          <a:stretch/>
        </p:blipFill>
        <p:spPr>
          <a:xfrm>
            <a:off x="500040" y="2786040"/>
            <a:ext cx="3105000" cy="3105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0"/>
          <p:cNvSpPr/>
          <p:nvPr/>
        </p:nvSpPr>
        <p:spPr>
          <a:xfrm>
            <a:off x="2571840" y="26114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 я судьбой  на  заре  моих 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южные  горы,  отторгнут  от ва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 вечно  их  помнить, там  надо быть  ра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сладкую  песню  отчизны   мо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я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младенческих летах я мать потер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мнилось, что в розовый  вечера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степь повторяла  мне  памятный  г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это люблю я вершины  тех ск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 я 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астлив  был  с вами, ущелия го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лет  пронеслось:  всё тоскую по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видел я  пару божественных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рдце  лепечет,  воспомня  тот взор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я Кавказ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42960" y="6000840"/>
            <a:ext cx="2714760" cy="642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Крестовая гор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5-10-13T06:42:41Z</dcterms:modified>
  <cp:revision>17</cp:revision>
  <dc:subject/>
  <dc:title>  М. Ю. Лермонтов. Жизнь и судьба. </dc:title>
</cp:coreProperties>
</file>