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33.gif" ContentType="image/gif"/>
  <Override PartName="/ppt/media/image18.wmf" ContentType="image/x-wmf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6D6C-9C49-4143-AB40-0C809717B1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47E-5BC7-4BB5-A6EA-2163ECC91F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A4C5-3F13-46BB-9B6C-C35C68EB6F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716-60AF-4500-8435-1F3EE48C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A99-ADC0-4582-AD60-AB0C3572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16E-A43E-46A5-BE41-FF70A486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A9-BB9B-4703-9F4E-8AE4337D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D58-4870-4B76-AD58-3215D39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1CE-CD6A-449F-8D95-CE3C4FA1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642-5F44-458E-B150-58EE335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E5D-180C-4F7A-8967-BBB51CE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6E9-A21A-42E8-B83A-6AF075FA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68C-A381-4307-BB3A-AB06590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846-9CB4-43A5-8846-777556F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8F3-DE7B-4AD5-B607-C4D009B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B18D-4D99-491F-938E-0705749DD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7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hyperlink" Target="http://il.rsl.ru/images/193_lermontov_jpg/ill05568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feb-web.ru/feb/lermenc/Pictures/Lre304-17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dic.academic.ru/pictures/lermontov/Lre411-1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15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М. Ю. Лермонтов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Жизнь и судьб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PLM-019-"/>
          <p:cNvPicPr/>
          <p:nvPr/>
        </p:nvPicPr>
        <p:blipFill>
          <a:blip r:embed="rId2"/>
          <a:stretch/>
        </p:blipFill>
        <p:spPr>
          <a:xfrm>
            <a:off x="3132000" y="2133720"/>
            <a:ext cx="3087720" cy="388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E:\s10.gif"/>
          <p:cNvPicPr/>
          <p:nvPr/>
        </p:nvPicPr>
        <p:blipFill>
          <a:blip r:embed="rId3"/>
          <a:stretch/>
        </p:blipFill>
        <p:spPr>
          <a:xfrm>
            <a:off x="285840" y="4429080"/>
            <a:ext cx="74304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:\s10.gif"/>
          <p:cNvPicPr/>
          <p:nvPr/>
        </p:nvPicPr>
        <p:blipFill>
          <a:blip r:embed="rId4"/>
          <a:stretch/>
        </p:blipFill>
        <p:spPr>
          <a:xfrm>
            <a:off x="8072280" y="4429080"/>
            <a:ext cx="7430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20364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14-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0920" y="1989000"/>
          <a:ext cx="44769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989000"/>
                    <a:ext cx="44769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7" descr="Крестовая гора. М.Ю. Лермонтов"/>
          <p:cNvPicPr/>
          <p:nvPr/>
        </p:nvPicPr>
        <p:blipFill>
          <a:blip r:embed="rId4"/>
          <a:stretch/>
        </p:blipFill>
        <p:spPr>
          <a:xfrm>
            <a:off x="1619280" y="260280"/>
            <a:ext cx="5950080" cy="595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835280" y="6308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ня «Молитва» на стихи М.Ю.Лермонт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Elena-i-Aleksandr-Mihaylovy-Molitva-na-stihi-MLermontova(mp3tune.net).mp3" descr=""/>
          <p:cNvPicPr/>
          <p:nvPr/>
        </p:nvPicPr>
        <p:blipFill>
          <a:blip r:embed="rId5"/>
          <a:stretch/>
        </p:blipFill>
        <p:spPr>
          <a:xfrm>
            <a:off x="8101080" y="5732640"/>
            <a:ext cx="647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66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Бородин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&amp;Zcy;&amp;acy;&amp;gcy;&amp;rcy;&amp;ucy;&amp;zcy;&amp;kcy;&amp;acy; &amp;kcy;&amp;acy;&amp;rcy;&amp;tcy;&amp;icy;&amp;ncy;&amp;kcy;&amp;icy;: &amp;kcy;&amp;acy;&amp;rcy;&amp;tcy;&amp;icy;&amp;ncy;&amp;acy; / 337501 - bestforce.ru"/>
          <p:cNvPicPr/>
          <p:nvPr/>
        </p:nvPicPr>
        <p:blipFill>
          <a:blip r:embed="rId2"/>
          <a:srcRect l="0" t="20733" r="0" b="0"/>
          <a:stretch/>
        </p:blipFill>
        <p:spPr>
          <a:xfrm>
            <a:off x="1116000" y="1484280"/>
            <a:ext cx="64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ородин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&amp;Bcy;&amp;icy;&amp;tcy;&amp;vcy;&amp;ycy;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«Песня про купца Калашникова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http://3.bp.blogspot.com/_vYPIDwOMhm4/RymiwRaea3I/AAAAAAAAEEg/Hd5y8ruJOJU/s400/Bilibin001.jpg"/>
          <p:cNvPicPr/>
          <p:nvPr/>
        </p:nvPicPr>
        <p:blipFill>
          <a:blip r:embed="rId2"/>
          <a:stretch/>
        </p:blipFill>
        <p:spPr>
          <a:xfrm>
            <a:off x="468360" y="1628640"/>
            <a:ext cx="3382920" cy="453708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23 из 4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28640"/>
            <a:ext cx="3745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03" name="i-main-pic" descr="Картинка 8 из 4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44640" y="2097000"/>
            <a:ext cx="3085920" cy="357660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14 из 4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620640"/>
            <a:ext cx="3745080" cy="50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Я убил его вольной воле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за что, про что — не скажу теб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ажу только Богу еди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ая ссылка на Кавказ</a:t>
            </a:r>
            <a:br>
              <a:rPr sz="4000"/>
            </a:br>
            <a:br>
              <a:rPr sz="1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840 году за дуэль с сыном французского посла де Барантом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а вновь ссылают  на Кавка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vid pjatigorska.jpg"/>
          <p:cNvPicPr/>
          <p:nvPr/>
        </p:nvPicPr>
        <p:blipFill>
          <a:blip r:embed="rId2"/>
          <a:stretch/>
        </p:blipFill>
        <p:spPr>
          <a:xfrm>
            <a:off x="142920" y="2643120"/>
            <a:ext cx="335736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:\lerm_3.jpg"/>
          <p:cNvPicPr/>
          <p:nvPr/>
        </p:nvPicPr>
        <p:blipFill>
          <a:blip r:embed="rId3"/>
          <a:stretch/>
        </p:blipFill>
        <p:spPr>
          <a:xfrm>
            <a:off x="3714840" y="2643120"/>
            <a:ext cx="1857240" cy="248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E:\vid tiflisa.jpg"/>
          <p:cNvPicPr/>
          <p:nvPr/>
        </p:nvPicPr>
        <p:blipFill>
          <a:blip r:embed="rId4"/>
          <a:stretch/>
        </p:blipFill>
        <p:spPr>
          <a:xfrm>
            <a:off x="5857920" y="2643120"/>
            <a:ext cx="3071880" cy="24717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28760" y="5286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786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Ю.Лермонтов в сюрт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йб-гвардии Гусарского п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варель А.И.Клюнд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6516720" y="5373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Вид Тифлис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Гибель М. Ю. Лермонтова</a:t>
            </a:r>
            <a:br>
              <a:rPr sz="4400"/>
            </a:br>
            <a:br>
              <a:rPr sz="13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15 июля 1841 году на дуэли с Н.Мартыновым                                           Михаил Юрьевич Лермонтов был убит. Похоронен на кладбище в Пятигорске, а в апреле 1842 года гроб с телом Лермонтова перезахоронен на фамильном кладбище в Тарха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" descr="35_265-1"/>
          <p:cNvPicPr/>
          <p:nvPr/>
        </p:nvPicPr>
        <p:blipFill>
          <a:blip r:embed="rId2"/>
          <a:stretch/>
        </p:blipFill>
        <p:spPr>
          <a:xfrm>
            <a:off x="2214720" y="3071880"/>
            <a:ext cx="4910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амятник на месте гибели поэ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img22"/>
          <p:cNvPicPr/>
          <p:nvPr/>
        </p:nvPicPr>
        <p:blipFill>
          <a:blip r:embed="rId2"/>
          <a:stretch/>
        </p:blipFill>
        <p:spPr>
          <a:xfrm>
            <a:off x="2843280" y="1484280"/>
            <a:ext cx="338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амятник М.Ю.Лермонтову в Тарха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img23"/>
          <p:cNvPicPr/>
          <p:nvPr/>
        </p:nvPicPr>
        <p:blipFill>
          <a:blip r:embed="rId2"/>
          <a:stretch/>
        </p:blipFill>
        <p:spPr>
          <a:xfrm>
            <a:off x="255600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SVECHKA.GIF"/>
          <p:cNvPicPr/>
          <p:nvPr/>
        </p:nvPicPr>
        <p:blipFill>
          <a:blip r:embed="rId2"/>
          <a:stretch/>
        </p:blipFill>
        <p:spPr>
          <a:xfrm>
            <a:off x="2214720" y="1928880"/>
            <a:ext cx="49291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етские годы М. Ю. Лермонтова</a:t>
            </a:r>
            <a:br>
              <a:rPr sz="44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Родился в Москве в семье армейского капитана Юрия Петровича и Марии Михайловны Лермонтовых. Брак, заключенный против воли матери невесты, был неравным и несчастливым; мальчик рос в обстановке семейных несогла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oto 6"/>
          <p:cNvPicPr/>
          <p:nvPr/>
        </p:nvPicPr>
        <p:blipFill>
          <a:blip r:embed="rId2"/>
          <a:stretch/>
        </p:blipFill>
        <p:spPr>
          <a:xfrm>
            <a:off x="735120" y="2714760"/>
            <a:ext cx="2265120" cy="32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p6"/>
          <p:cNvPicPr/>
          <p:nvPr/>
        </p:nvPicPr>
        <p:blipFill>
          <a:blip r:embed="rId3"/>
          <a:stretch/>
        </p:blipFill>
        <p:spPr>
          <a:xfrm>
            <a:off x="3286080" y="2714760"/>
            <a:ext cx="2500200" cy="31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oto 5"/>
          <p:cNvPicPr/>
          <p:nvPr/>
        </p:nvPicPr>
        <p:blipFill>
          <a:blip r:embed="rId4"/>
          <a:stretch/>
        </p:blipFill>
        <p:spPr>
          <a:xfrm>
            <a:off x="6000840" y="2714760"/>
            <a:ext cx="2463840" cy="316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6000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i="1" lang="en-US" sz="1800" spc="-1" strike="noStrike">
                <a:solidFill>
                  <a:srgbClr val="3891a7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.М. Лермонтова,               М. Ю. Лермонтов                Ю. П. Лермонтов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ать поэта.                            в детстве.                           отец поэта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Тарханы</a:t>
            </a:r>
            <a:br>
              <a:rPr sz="4000"/>
            </a:br>
            <a:br>
              <a:rPr sz="9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осле смерти матери Лермонтова бабушка сама занялась его воспитанием, полностью отстранив отца. Детство Лермонтова прошло в имении Арсеньевой Тарханы  Пензенской губернии. Мальчик получил отличное домашнее образование, свободно владел французским и немецким языками, увлекался рисованием, музык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oto 4"/>
          <p:cNvPicPr/>
          <p:nvPr/>
        </p:nvPicPr>
        <p:blipFill>
          <a:blip r:embed="rId2"/>
          <a:stretch/>
        </p:blipFill>
        <p:spPr>
          <a:xfrm>
            <a:off x="1214280" y="3500280"/>
            <a:ext cx="19828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38"/>
          <p:cNvPicPr/>
          <p:nvPr/>
        </p:nvPicPr>
        <p:blipFill>
          <a:blip r:embed="rId3"/>
          <a:stretch/>
        </p:blipFill>
        <p:spPr>
          <a:xfrm>
            <a:off x="4143240" y="3500280"/>
            <a:ext cx="378648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28760" y="6357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Е. А. Арсеньева, бабушка поэта.                                    Тарх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91a7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юбимый пруд  М.Лермо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&amp;bcy;&amp;acy;&amp;rcy;&amp;scy;&amp;kcy;&amp;icy;&amp;jcy; &amp;pcy;&amp;rcy;&amp;ucy;&amp;dcy;"/>
          <p:cNvPicPr/>
          <p:nvPr/>
        </p:nvPicPr>
        <p:blipFill>
          <a:blip r:embed="rId2"/>
          <a:stretch/>
        </p:blipFill>
        <p:spPr>
          <a:xfrm>
            <a:off x="1332000" y="1413000"/>
            <a:ext cx="6337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омната Михаила Лермо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&amp;kcy;&amp;ocy;&amp;mcy;&amp;ncy;&amp;acy;&amp;tcy;&amp;acy; &amp;Lcy;&amp;iecy;&amp;rcy;&amp;mcy;&amp;ocy;&amp;ncy;&amp;tcy;&amp;ocy;&amp;vcy;&amp;acy;"/>
          <p:cNvPicPr/>
          <p:nvPr/>
        </p:nvPicPr>
        <p:blipFill>
          <a:blip r:embed="rId2"/>
          <a:stretch/>
        </p:blipFill>
        <p:spPr>
          <a:xfrm>
            <a:off x="1258920" y="1413000"/>
            <a:ext cx="6408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Москва</a:t>
            </a:r>
            <a:br>
              <a:rPr sz="40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 1827 года Лермонтов живет в Москве. Он учится в Московском благородном  пансионе, позднее  в Московском университете на нравственно-политическом, затем –               на словесном отделени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27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oskva_universitet"/>
          <p:cNvPicPr/>
          <p:nvPr/>
        </p:nvPicPr>
        <p:blipFill>
          <a:blip r:embed="rId3"/>
          <a:stretch/>
        </p:blipFill>
        <p:spPr>
          <a:xfrm>
            <a:off x="4143240" y="2857680"/>
            <a:ext cx="449100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0" y="56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.И. Вивьен.                                           Москов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.  Красные ворота.                   Неизвестный художник. 18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тербур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85840" y="1357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ставив  университет, Лермонтов в 1832 году переезжает в Петербург и поступает в Школу гвардейских подпрапорщиков и кавалерийских юнкеров; выпущен корнетом Лейб-гвардии гусарского полка в 183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8"/>
          <p:cNvPicPr/>
          <p:nvPr/>
        </p:nvPicPr>
        <p:blipFill>
          <a:blip r:embed="rId2"/>
          <a:stretch/>
        </p:blipFill>
        <p:spPr>
          <a:xfrm>
            <a:off x="1000080" y="3071880"/>
            <a:ext cx="458784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lermontov03"/>
          <p:cNvPicPr/>
          <p:nvPr/>
        </p:nvPicPr>
        <p:blipFill>
          <a:blip r:embed="rId3"/>
          <a:stretch/>
        </p:blipFill>
        <p:spPr>
          <a:xfrm>
            <a:off x="6143760" y="3071880"/>
            <a:ext cx="1928520" cy="28242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857160" y="60008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. 1820-е гг.                   Портрет Лермонтова-ко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рвая ссылка на Кавказ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500"/>
            </a:br>
            <a:br>
              <a:rPr sz="7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 феврале 1837 года за стихотворение "Смерть поэта"                               М. Ю. Лермонтов был переведен в Нижегородский драгунский полк на Кав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avtoportret.jpg"/>
          <p:cNvPicPr/>
          <p:nvPr/>
        </p:nvPicPr>
        <p:blipFill>
          <a:blip r:embed="rId2"/>
          <a:stretch/>
        </p:blipFill>
        <p:spPr>
          <a:xfrm>
            <a:off x="1143000" y="2714760"/>
            <a:ext cx="2428920" cy="310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i_325.jpg"/>
          <p:cNvPicPr/>
          <p:nvPr/>
        </p:nvPicPr>
        <p:blipFill>
          <a:blip r:embed="rId3"/>
          <a:stretch/>
        </p:blipFill>
        <p:spPr>
          <a:xfrm>
            <a:off x="5214960" y="2714760"/>
            <a:ext cx="2643120" cy="3132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1071720" y="60008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.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4143240" y="6000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Автограф стихотворения                                                               М. Ю. Лермонтова «Смерть поэт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вказ в жизни и творчестве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. Ю. Лермонт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вказе были написаны многочисленные произведения, в которых поэт признаётся в своей любви Кавк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рестовая гора. М.Ю. Лермонтов"/>
          <p:cNvPicPr/>
          <p:nvPr/>
        </p:nvPicPr>
        <p:blipFill>
          <a:blip r:embed="rId2"/>
          <a:stretch/>
        </p:blipFill>
        <p:spPr>
          <a:xfrm>
            <a:off x="500040" y="278604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2571840" y="26114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 я судьбой  на  заре  моих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южные  горы,  отторгнут  от в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 вечно  их  помнить, там  надо быть  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сладкую  песню  отчизны   мо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младенческих летах я мать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нилось, что в розовый  вечера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тепь повторяла  мне  памятный  г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это люблю я вершины  тех ск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 я 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  был  с вами, ущелия г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лет  пронеслось:  всё тоскую по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видел я  пару божественных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дце  лепечет,  воспомня  тот взор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Кавказ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42960" y="6000840"/>
            <a:ext cx="2714760" cy="642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Крестовая го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5-10-13T06:42:41Z</dcterms:modified>
  <cp:revision>17</cp:revision>
  <dc:subject/>
  <dc:title>  М. Ю. Лермонтов. Жизнь и судьба. </dc:title>
</cp:coreProperties>
</file>