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10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E6B-051C-4E7C-9E7E-12D0C7878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F98-B3D9-4731-B3EF-828D57C2D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4C1-0908-44C9-AE98-6504B851D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FAE-23A4-4D76-80E1-E30BFF1D5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CC54-D571-4004-B715-835DAA837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CA4-6B7C-4CE0-AD1B-6FFB73D62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668A-65AD-427E-9D88-E7963F857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8064-A7D0-432F-AB2F-C192952E0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E7D-D789-4C1E-BE66-964108252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DF3B-F38D-4ACE-9C9A-86E63E4C1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889B-DDBC-40CA-BB48-3901E80B3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0E11-943A-400D-969B-AEFD0CBFC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258-9A9E-4F0C-BC10-B2F34DED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644-AB78-4078-BA0F-77BECB21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202-9F49-4D9F-AD35-F5B12EAC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AC0-F042-448A-8FF6-F0E6ED1E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78A-4584-41CA-84E6-5C3824C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F32-FDA4-4386-9C7E-D506DAC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739-7991-4A97-B645-2D5A5C8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DA3-2190-4256-B819-E527480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9B7-8BDF-4B87-BC42-17C86377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301-44E9-413E-877E-1168D66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305-BB43-4B22-B90D-0119F63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D81-7ADB-44FF-B812-B0FCCAE8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62B-D233-4495-B111-AEB417F11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310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У лицей №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71640" y="836640"/>
            <a:ext cx="71294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Формирование негативного отношения к курению учащихся 5-9 клас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4508640"/>
            <a:ext cx="518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льга Николаевна Триф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я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655640" cy="160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651640" y="609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 Black"/>
              </a:rPr>
              <a:t>Воздействие вредных веществ вызыв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1. Ухудшение деятельности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ы-раздражители вызывают сужение бронхиальных труб, что является причиной кашля и ухудшения деятельности легких. А смолы и слизь накапливающиеся в легких??? А рак легких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2. Учащенный пульс и высокое кровяное д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тин является причиной учащенного пульса, что затрудняет работу сердца и повышает кровяное давление. Частота пульса увеличивается более чем на 2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3. Сердечно-сосудист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тин вызывает сужение кровеносных сосудов. Из-за этого сокращается приток крови к пальцам рук и ног, и температура кожного покрова падает на 5°. Сердечная мышца не получает необходимого количества живительного кислорода и у человека развиваются различные сердечно-сосудистые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c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Анкетирование школьников  5 - 9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692280"/>
          <a:ext cx="8426520" cy="5892840"/>
        </p:xfrm>
        <a:graphic>
          <a:graphicData uri="http://schemas.openxmlformats.org/drawingml/2006/table">
            <a:tbl>
              <a:tblPr/>
              <a:tblGrid>
                <a:gridCol w="719280"/>
                <a:gridCol w="2305080"/>
                <a:gridCol w="1079280"/>
                <a:gridCol w="793800"/>
                <a:gridCol w="2306520"/>
                <a:gridCol w="1222560"/>
              </a:tblGrid>
              <a:tr h="4302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шь ли ты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только раз попробов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итаешь ли ты, ку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безобидной привыч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вредной привыч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зависим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болезн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) затрудняюсь ответ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да, то, как часто, ты, куриш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кажды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изре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ят ли твои родите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только па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только ма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оба куря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оба не куря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го возраста, ты, начал(а)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ранее 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с 7 до 9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с 9 до 12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с 12 до 15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старше 15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ты знаешь о последствиях употреб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ак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акие заболевания могут возникнуть)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ние лёгких, сердечная недостато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ты закурил(а) впервы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желание казаться взрослы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просто попробовать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быть как все мои товарищ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с горя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желание успокоить нерв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) снять стресс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) чтобы похуде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ел(а) бы ты, бросить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способы борьбы с курением  мог(ла) бы ты предложить сам(а)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ьные жвачки,  пласты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жидаемый результа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У  учащихся  среднего звена сформировано негативное отношение к курению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333360"/>
          <a:ext cx="8229600" cy="59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курящих детей в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численности курящих детей в школе на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в спортивных соревнованиях с привлечением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й праздник «Дружно, смело, с оптимизмом – за здоровый образ жизни!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детей, занимающихся в спортивных секциях во внеурочное 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детей, занимающихся спортом на 2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во внеклассных мероприятиях школы, посвященных данной пробл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акции « Конфетка за сигаретку». Агитбригада «Мы выбираем жизнь!». Театрализованные представления, аудио- и видео  - постановки. Охват 60% учащих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Компетенции социаль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межличност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работать в международн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коммуникативность (социальное взаимодействие, социальная интерактивность, социальное одобрение, коммуникативная компетент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лу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работать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кооперации в рамках междисциплинарных команд (способность общаться со специалистами из других обла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устной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вести перегов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учитывать точки зрения и интересы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 риторики (риторические способ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ное поведение (психологическое мастер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Системно-деятельностные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 анализу и синтезу (аналитические способности; аналитическ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е знания в различны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(способность применять знания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адаптироваться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ние методами поиска нового (методическ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исциплинарные и трансдисциплинарные возможности для профессионального и социально интегрированного мышления 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е понимание переноса знания (системн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, связанные с внед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кость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Arial"/>
              </a:rPr>
              <a:t>Компетенции самоорганизации и самоуправления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фле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критике и самокритике (критическое мышление; способность формулировать критические сужд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адаптироваться в изменяющихся обстоятельствах (моби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 (самосто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брать на себя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работать концентрированно и дисциплинирова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целенаправленно организовать свою работу индивидуально или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а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216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644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533520" y="299088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  <a:ea typeface="DejaVu Sans"/>
              </a:rPr>
              <a:t>Здоровый образ жизни- альтернатива ку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56520" cy="386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571840" y="4114800"/>
            <a:ext cx="3643200" cy="217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7429680" y="1071720"/>
            <a:ext cx="15714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величение числа табакокурящих детей в школе приводит к снижению здоровья школьников и успевае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 flipH="1">
            <a:off x="7008480" y="5105520"/>
            <a:ext cx="175572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010280" y="5334120"/>
            <a:ext cx="1676520" cy="838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547640" y="765000"/>
            <a:ext cx="6048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Проблема</a:t>
            </a:r>
            <a:endParaRPr b="0" lang="en-US" sz="40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формировать у  учащихся среднего звена негативное отношение к курению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2666880" y="1295280"/>
            <a:ext cx="46418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ЦЕЛ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 flipH="1">
            <a:off x="7008480" y="5105520"/>
            <a:ext cx="175572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7010280" y="5334120"/>
            <a:ext cx="1676520" cy="838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1d3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сти анкетирование среди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-9-х классов с целью выявления отношения к проблеме  табакокурения, наличия пагубной привычки в семьях детей, возможности первичной пробы кур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проблемы употребления табака среди учащихся 5-9 классов школы, частота случаев, причины, отношение молодежи, учителей и родителей к проблеме. Методы: социологический опрос, анкетирование, составление диаграмм, граф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Изучение и анализ литературы, публикаций СМИ, в том числе городских, материалов сети  Интернет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700360" y="189000"/>
            <a:ext cx="4248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1d3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зработать и внедрить мероприятия по антиникотиновой пропаганд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формление уголка здоровья «Некурящая школа», «Дело-табак». Конкурс «Класс, свободный от курения».Тематические классные часы и воспитательские занятия по предупреждению курения. Спортивные соревнования под девизом « За духовность, спорт, здоровье!». Просмотр тематических видеофильмов. Организация лекториев, мед.обследование, приглашение нарколога и других специа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987640" y="33336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1fbc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рганизовать мониторинг для выявления сформированности негативного отношения к табакокурен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кция «Конфетка за сигаретку». Агитбригада «Мы выбираем жизнь!». Театрализованные представления, аудио- и видео –постановки. Повторный опрос учащихся и родителей по отношения к проблеме табакокурения. 5-9-й кл. Оценка результатов проекта. Семейный праздник «Дружно, смело, с оптимизмом – за здоровый образ жизн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987640" y="333360"/>
            <a:ext cx="352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cf31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685800" y="533520"/>
            <a:ext cx="79246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татистические да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0 % заядлых курильщиков умирают прежде, чем достигают 65-ти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12 человек, умерших от рака легких, 11 были курильщ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человека,  выкуривающего 20  сигарет  в день,  жизнь  сокращается  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нем на 5 лет. На 8 лет - у тех, кто выкуривает 40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курильщика в 6 раз возрастает риск смерти от острых респираторных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болеваний, эмфиземы и хронического бронх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и   курящих  смерть  от  сердечного приступа происходит в 3 раза чаще. А для тех, кто выкуривает больше одной пачки в день, риск увеличивается в 5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и,   рожденные   от   курящих   родителей,   чаще   болеют   пневмонией   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онхитом в первый год жизни. В дальнейшем чаще обращаются к врач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ще попадают в больницы и дольше там пребывают, чем дети некурящих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один час нахождения в накуренной комнате человек получает столько канцерогенов (вещества, вызывающие рак), сколько от выкуривания 15 сигарет с фильт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ждый год сотни людей умирают от болезней, связанных с курени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2" name="Text Box 3"/>
          <p:cNvSpPr/>
          <p:nvPr/>
        </p:nvSpPr>
        <p:spPr>
          <a:xfrm>
            <a:off x="609480" y="4572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9880"/>
            <a:ext cx="8458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ассивное курение принос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екурящим людям, и особенно детям гораздо больший вред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чем самому курильщ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52120" y="50288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нем курильщик тратит тысячи и миллионы рублей на сигареты каждый год. Лечение заболеваний, связанных с курением, тоже обходится недеш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1:04:38Z</dcterms:created>
  <dc:creator>user</dc:creator>
  <dc:description/>
  <dc:language>en-US</dc:language>
  <cp:lastModifiedBy> Admin</cp:lastModifiedBy>
  <dcterms:modified xsi:type="dcterms:W3CDTF">2015-10-07T15:15:52Z</dcterms:modified>
  <cp:revision>13</cp:revision>
  <dc:subject/>
  <dc:title>Слайд 1</dc:title>
</cp:coreProperties>
</file>