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8.jpeg" ContentType="image/jpeg"/>
  <Override PartName="/ppt/media/image10.png" ContentType="image/png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3D7B-5B14-4360-BF99-26544ACD9F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DD54-0EA5-46D7-B548-9B6B01F7E3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6976-8E57-4F8D-8D73-A573E1CE53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6625-48A8-4BCD-834A-4AAD507045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9B4E-C17B-42CC-A57E-F55343D9D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C7D4-4732-4721-8F3C-6AE753E194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E6EC-1063-4C6A-AB55-ECE07ADB47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E53F-59D4-4340-84B8-4EE81495F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0C10-E75F-4F3E-9A16-AB67CA9E67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D950-6308-4ACE-A97F-E05977A83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5320-77E3-4953-A078-FD7C2C5C67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6CE5-6511-40D6-B62D-E98F0ABAEB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3E2-579A-429B-9E86-2FD40D60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7ED-C3C1-467E-A4AB-D26EA47F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4BF-5040-461E-92AA-23ED78C2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BB8-4E36-4718-8ECF-EEC7C48B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7F2-A221-4E2A-96F2-780FE067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5C7-84C6-4F9D-8906-39915F61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1F1-C7E9-4C7F-8545-D47DCA6B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BD9-7C2E-4581-8A29-110B28B1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17C-986E-475F-8C8F-E7D03FE0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9C6-AB67-4DA1-AC90-1A219B17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B7A4-06D6-4C6F-8950-694CD72A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D66-60FB-430A-BDE4-EF678F3B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73FB-0DCD-47B7-9311-9E053CC67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3104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БУ лицей №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7093080" y="4653000"/>
            <a:ext cx="2050920" cy="1989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971640" y="836640"/>
            <a:ext cx="712944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Формирование негативного отношения к курению учащихся 5-9 класс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68360" y="4508640"/>
            <a:ext cx="518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льга Николаевна Трифо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я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655640" cy="1609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651640" y="6093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 Black"/>
              </a:rPr>
              <a:t>Воздействие вредных веществ вызыва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1. Ухудшение деятельности лег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зы-раздражители вызывают сужение бронхиальных труб, что является причиной кашля и ухудшения деятельности легких. А смолы и слизь накапливающиеся в легких??? А рак легких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2. Учащенный пульс и высокое кровяное д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котин является причиной учащенного пульса, что затрудняет работу сердца и повышает кровяное давление. Частота пульса увеличивается более чем на 20 ударов в мину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3. Сердечно-сосудисты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котин вызывает сужение кровеносных сосудов. Из-за этого сокращается приток крови к пальцам рук и ног, и температура кожного покрова падает на 5°. Сердечная мышца не получает необходимого количества живительного кислорода и у человека развиваются различные сердечно-сосудистые заболе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c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Анкетирование школьников  5 - 9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5280" y="692280"/>
          <a:ext cx="8426520" cy="5892840"/>
        </p:xfrm>
        <a:graphic>
          <a:graphicData uri="http://schemas.openxmlformats.org/drawingml/2006/table">
            <a:tbl>
              <a:tblPr/>
              <a:tblGrid>
                <a:gridCol w="719280"/>
                <a:gridCol w="2305080"/>
                <a:gridCol w="1079280"/>
                <a:gridCol w="793800"/>
                <a:gridCol w="2306520"/>
                <a:gridCol w="1222560"/>
              </a:tblGrid>
              <a:tr h="43020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 иссле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 иссле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ишь ли ты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д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) только раз попробов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итаешь ли ты, кур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безобидной привычк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вредной привычк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) зависим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) болезн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) затрудняюсь ответи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да, то, как часто, ты, куриш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каждый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изред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ят ли твои родители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только па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только ма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) оба куря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) оба не куря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6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какого возраста, ты, начал(а) кури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ранее 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с 7 до 9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) с 9 до 12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) с 12 до 15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) старше 15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ты знаешь о последствиях употреб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ака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акие заболевания могут возникнуть)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олевание лёгких, сердечная недостаточ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2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ему ты закурил(а) впервые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желание казаться взрослы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просто попробовать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) быть как все мои товарищи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) с горя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) желание успокоить нервы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) снять стресс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) чтобы похуде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тел(а) бы ты, бросить кури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ие способы борьбы с курением  мог(ла) бы ты предложить сам(а)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ьные жвачки,  пласты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21b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Ожидаемый результа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У  учащихся  среднего звена сформировано негативное отношение к курению.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8360" y="333360"/>
          <a:ext cx="8229600" cy="597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курящих детей в шк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ение численности курящих детей в школе на 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ое участие в спортивных соревнованиях с привлечением родите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йный праздник «Дружно, смело, с оптимизмом – за здоровый образ жизни!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детей, занимающихся в спортивных секциях во внеурочное 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числа детей, занимающихся спортом на 2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ое участие во внеклассных мероприятиях школы, посвященных данной проблем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акции « Конфетка за сигаретку». Агитбригада «Мы выбираем жизнь!». Театрализованные представления, аудио- и видео  - постановки. Охват 60% учащих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63c"/>
            </a:gs>
            <a:gs pos="100000">
              <a:srgbClr val="21b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Компетенции социального взаимо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ыки межличностн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работать в международной с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ая коммуникативность (социальное взаимодействие, социальная интерактивность, социальное одобрение, коммуникативная компетент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слуш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работать в коман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кооперации в рамках междисциплинарных команд (способность общаться со специалистами из других облас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устной презен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вести перегов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учитывать точки зрения и интересы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усство риторики (риторические способн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усное поведение (психологическое мастер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онные спосо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21b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Системно-деятельностные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к анализу и синтезу (аналитические способности; аналитическая компетенц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овые знания в различных обла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(способность применять знания на прак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адаптироваться к новым ситуа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порождать новые идеи (креативность; поддержка творч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ние методами поиска нового (методическая компетенц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исциплинарные и трансдисциплинарные возможности для профессионального и социально интегрированного мышления и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ное понимание переноса знания (системная компетенц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, связанные с внедр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кость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63c"/>
            </a:gs>
            <a:gs pos="100000">
              <a:srgbClr val="21b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Arial"/>
              </a:rPr>
              <a:t>Компетенции самоорганизации и самоуправления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ренность в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рефлек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критике и самокритике (критическое мышление; способность формулировать критические сужд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адаптироваться в изменяющихся обстоятельствах (мобиль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ая работа (самостоятель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брать на себя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работать концентрированно и дисциплинирова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целенаправленно организовать свою работу индивидуально или в коман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ициа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772400" cy="6216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324480" y="3200400"/>
            <a:ext cx="2543400" cy="190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6248520" y="533520"/>
            <a:ext cx="2476440" cy="139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533520" y="299088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304920" y="51814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 Black"/>
                <a:ea typeface="DejaVu Sans"/>
              </a:rPr>
              <a:t>Здоровый образ жизни- альтернатива кур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156520" cy="3865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2571840" y="4114800"/>
            <a:ext cx="3643200" cy="217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357120" y="392040"/>
            <a:ext cx="2214720" cy="1938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7429680" y="1071720"/>
            <a:ext cx="157140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Увеличение числа табакокурящих детей в школе приводит к снижению здоровья школьников и успеваем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2552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34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162920" y="5105520"/>
            <a:ext cx="1447560" cy="1114200"/>
          </a:xfrm>
          <a:prstGeom prst="rect">
            <a:avLst/>
          </a:prstGeom>
          <a:ln w="0">
            <a:noFill/>
          </a:ln>
        </p:spPr>
      </p:pic>
      <p:sp>
        <p:nvSpPr>
          <p:cNvPr id="58" name="Line 7"/>
          <p:cNvSpPr/>
          <p:nvPr/>
        </p:nvSpPr>
        <p:spPr>
          <a:xfrm flipH="1">
            <a:off x="7008480" y="5105520"/>
            <a:ext cx="1755720" cy="10666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010280" y="5334120"/>
            <a:ext cx="1676520" cy="838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1547640" y="765000"/>
            <a:ext cx="6048720" cy="9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16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Проблема</a:t>
            </a:r>
            <a:endParaRPr b="0" lang="en-US" sz="4000" spc="1" strike="noStrike">
              <a:ln w="316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формировать у  учащихся среднего звена негативное отношение к курению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2552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34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"/>
          <p:cNvSpPr txBox="1"/>
          <p:nvPr/>
        </p:nvSpPr>
        <p:spPr>
          <a:xfrm>
            <a:off x="2666880" y="1295280"/>
            <a:ext cx="46418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ЦЕЛЬ</a:t>
            </a:r>
            <a:endParaRPr b="1" lang="en-US" sz="1800" spc="1" strike="noStrike">
              <a:ln w="316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7162920" y="5105520"/>
            <a:ext cx="1447560" cy="1114200"/>
          </a:xfrm>
          <a:prstGeom prst="rect">
            <a:avLst/>
          </a:prstGeom>
          <a:ln w="0">
            <a:noFill/>
          </a:ln>
        </p:spPr>
      </p:pic>
      <p:sp>
        <p:nvSpPr>
          <p:cNvPr id="66" name="Line 7"/>
          <p:cNvSpPr/>
          <p:nvPr/>
        </p:nvSpPr>
        <p:spPr>
          <a:xfrm flipH="1">
            <a:off x="7008480" y="5105520"/>
            <a:ext cx="1755720" cy="10666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7010280" y="5334120"/>
            <a:ext cx="1676520" cy="838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31d3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вести анкетирование среди уча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-9-х классов с целью выявления отношения к проблеме  табакокурения, наличия пагубной привычки в семьях детей, возможности первичной пробы курения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о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проблемы употребления табака среди учащихся 5-9 классов школы, частота случаев, причины, отношение молодежи, учителей и родителей к проблеме. Методы: социологический опрос, анкетирование, составление диаграмм, граф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Изучение и анализ литературы, публикаций СМИ, в том числе городских, материалов сети  Интернет по данной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2700360" y="189000"/>
            <a:ext cx="424800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адача 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31d3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зработать и внедрить мероприятия по антиникотиновой пропаганде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роприят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Оформление уголка здоровья «Некурящая школа», «Дело-табак». Конкурс «Класс, свободный от курения».Тематические классные часы и воспитательские занятия по предупреждению курения. Спортивные соревнования под девизом « За духовность, спорт, здоровье!». Просмотр тематических видеофильмов. Организация лекториев, мед.обследование, приглашение нарколога и других специалис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2987640" y="333360"/>
            <a:ext cx="345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адача 2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1fbc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рганизовать мониторинг для выявления сформированности негативного отношения к табакокурени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роприят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кция «Конфетка за сигаретку». Агитбригада «Мы выбираем жизнь!». Театрализованные представления, аудио- и видео –постановки. Повторный опрос учащихся и родителей по отношения к проблеме табакокурения. 5-9-й кл. Оценка результатов проекта. Семейный праздник «Дружно, смело, с оптимизмом – за здоровый образ жизн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2987640" y="333360"/>
            <a:ext cx="3529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адача 3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63c"/>
            </a:gs>
            <a:gs pos="100000">
              <a:srgbClr val="cf31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685800" y="533520"/>
            <a:ext cx="7924680" cy="44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татистические дан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0 % заядлых курильщиков умирают прежде, чем достигают 65-ти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 12 человек, умерших от рака легких, 11 были курильщи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человека,  выкуривающего 20  сигарет  в день,  жизнь  сокращается  в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реднем на 5 лет. На 8 лет - у тех, кто выкуривает 40 в 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курильщика в 6 раз возрастает риск смерти от острых респираторных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болеваний, эмфиземы и хронического бронх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реди   курящих  смерть  от  сердечного приступа происходит в 3 раза чаще. А для тех, кто выкуривает больше одной пачки в день, риск увеличивается в 5 ра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ти,   рожденные   от   курящих   родителей,   чаще   болеют   пневмонией   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ронхитом в первый год жизни. В дальнейшем чаще обращаются к врачу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аще попадают в больницы и дольше там пребывают, чем дети некурящих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 один час нахождения в накуренной комнате человек получает столько канцерогенов (вещества, вызывающие рак), сколько от выкуривания 15 сигарет с фильт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ждый год сотни людей умирают от болезней, связанных с курени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2" name="Text Box 3"/>
          <p:cNvSpPr/>
          <p:nvPr/>
        </p:nvSpPr>
        <p:spPr>
          <a:xfrm>
            <a:off x="609480" y="4572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920" y="3809880"/>
            <a:ext cx="84582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ассивное курение принос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некурящим людям, и особенно детям гораздо больший вред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чем самому курильщ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52120" y="502884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реднем курильщик тратит тысячи и миллионы рублей на сигареты каждый год. Лечение заболеваний, связанных с курением, тоже обходится недеше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11:04:38Z</dcterms:created>
  <dc:creator>user</dc:creator>
  <dc:description/>
  <dc:language>en-US</dc:language>
  <cp:lastModifiedBy> Admin</cp:lastModifiedBy>
  <dcterms:modified xsi:type="dcterms:W3CDTF">2015-10-07T15:15:52Z</dcterms:modified>
  <cp:revision>13</cp:revision>
  <dc:subject/>
  <dc:title>Слайд 1</dc:title>
</cp:coreProperties>
</file>