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F76-AC37-4170-BEAF-954FA2E5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62F-0C7A-458F-866D-DEF71C1C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5B9-79A0-4010-8868-8550E706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844-BBEF-44B3-80BB-06DDF186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2170-7F5F-4EF8-80C6-AABB8A82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DAC1-A4A1-403B-99DC-D22A3127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1846-5C91-463F-A1C6-1967469C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B1E7-D847-42C9-A78B-472D5144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F7B8-9DBE-4C41-852C-A211AF5C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44B0-E1F8-4B5D-9CFA-BBD3204C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7E69-DD09-4173-ABBA-4BE46328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9D2-D54B-470A-85AD-F3388077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37B4-D860-419B-AD74-3DC32E94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0AEE-B8AC-47D3-8F1C-210C06BB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DD3B-4484-4DE8-86A5-2CA89994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EB67-FF49-4487-8EDB-BBF58CED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A105-A75E-42F0-8577-AA0D1BA2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5844-3795-479C-B0E0-C5E52BBD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614F-F20A-4CC4-82A2-C40467DE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2B6-BCE9-4A98-9440-55A40FA1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842-1E70-42CD-9AC7-831B99EA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274-D580-4218-BF63-AE758581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FA81-D6B5-4918-AFF8-3A71D4F2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77E-C34C-4334-B742-556CBAEE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39E3-791A-44A1-A2EC-1F7AEAC94C3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AA97-B85F-4FC8-A1EC-CB8F68837F8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Насекомы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секомые – класс членистоногих животных. У взрослого насекомого выделяют три части тела: голову, грудь и брюшко; от груди отходят 3 пары конечност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чел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201080" cy="504036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аранч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274160" cy="453708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трекоз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056360" cy="489600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спользованная литератур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лакат «Животные леса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удожники С. В. Зимин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. Д. Колганов и друг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Части тела насекомого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337440" cy="511344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Бабочк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775280" cy="482472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Божья коровк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056360" cy="504036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Жук-носорог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485640" y="1438200"/>
            <a:ext cx="8136000" cy="447840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узнечик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58160" cy="475308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омар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90160" cy="504036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уравьи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632720" cy="496764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ух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553440" cy="482472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9:15:02Z</dcterms:created>
  <dc:creator>User</dc:creator>
  <dc:description/>
  <dc:language>en-US</dc:language>
  <cp:lastModifiedBy>School61</cp:lastModifiedBy>
  <dcterms:modified xsi:type="dcterms:W3CDTF">2015-10-13T15:25:43Z</dcterms:modified>
  <cp:revision>72</cp:revision>
  <dc:subject/>
  <dc:title>Слайд 1</dc:title>
</cp:coreProperties>
</file>