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F26-7211-4133-B3E4-7CE6C4B9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4B1-9522-4EE9-84C0-7AA7F319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30B-7C58-4B3F-86B8-9AC2FAFF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576-6DF7-4CBE-BD6A-C6A4115C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513C-C289-45F4-9C70-9D32E0A9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CBBC-24E4-489F-8DB2-6AB7615F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9DA6-18C9-4284-ABC0-15EC8724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1C9B-13C9-4E2D-BCC0-34D22388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D2AC-0247-41AC-A874-58C81B0C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7367-53D9-4AC8-BCB6-DC0E596F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67EA-112A-4C34-9454-645C7E5F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CE8-5ECA-482D-BEF4-BBFB9CD5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421D-0F5A-4EE9-9365-5E30EA8B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3C5E-3FBB-4E6E-ADEB-D5763244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51D0-F932-47C9-B8D0-2EF84688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9DE1-4138-49B3-B5F3-C7B94368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46AF-9B79-41CB-8732-853E02AB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2BD-4953-4079-BDE7-2AB8CFFA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D00-20E9-424E-908A-6A08963F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EA2-EF61-49F4-B013-4B5CF78F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D2F-2113-4431-9738-B59172E6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A58-61F5-4935-88F7-69A7F5A5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CC3-4FF5-4B5B-B0A2-96E6FD9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DD2-8B00-4160-9732-10D4FD29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4AB7-8E80-48E9-B970-BB67E26FB8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A556-CDF8-4384-86A9-3470CA1D9A7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Насекомы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секомые – класс членистоногих животных. У взрослого насекомого выделяют три части тела: голову, грудь и брюшко; от груди отходят 3 пары конечнос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чел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01080" cy="504036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аранч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453708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екоз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пользованная литератур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кат «Животные леса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удожники С. В. Зимин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. Д. Колганов и друг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асти тела насекомого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337440" cy="511344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абочк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5280" cy="482472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ожья коровк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056360" cy="504036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Жук-носорог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85640" y="1438200"/>
            <a:ext cx="8136000" cy="44784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узнечик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58160" cy="475308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мар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90160" cy="504036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равь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496764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х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553440" cy="482472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9:15:02Z</dcterms:created>
  <dc:creator>User</dc:creator>
  <dc:description/>
  <dc:language>en-US</dc:language>
  <cp:lastModifiedBy>School61</cp:lastModifiedBy>
  <dcterms:modified xsi:type="dcterms:W3CDTF">2015-10-13T15:25:43Z</dcterms:modified>
  <cp:revision>72</cp:revision>
  <dc:subject/>
  <dc:title>Слайд 1</dc:title>
</cp:coreProperties>
</file>