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B8B-A0B9-4147-8725-E3C5099F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12-098E-45B7-B649-C4DA714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2A6-0EED-429C-AA69-E5B58167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0DB-D040-4204-81BB-B6464835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10F-2FEA-4771-8ACA-81256D6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63-3114-4DF8-BBE9-170791FB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8E6-D47E-47FE-8F92-6CBF23D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9BB-9795-4344-8739-4190673D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EEC-BCEB-43AB-8CDF-0AB3AE35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429-F4B0-4BF9-866F-82CECE1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30F-7273-4C4B-A844-77A2BC4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646-4794-4291-9E48-A8F0780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ECBA-BBAE-41B6-B1FD-B209711D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боты по приобщению детей к общепринятым нормам и правилам взаимоотношений со сверстниками и взросл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8862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положительного образа семьи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дагог-психолог Роткина В.Н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572000" cy="3396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унки детей на тему: «Я в детском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вень самооценки (социальный статус в групп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% - средн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% высок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- низкий уровень самооце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муникации со сверст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% (8) - средний уровень коммуник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% (8) – высокий уровень коммуник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 (2) – низкий уровень коммуник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оциональное взаимодействие с воспита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% (7 ) – присутствует воспитате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% (11) – отсутствует 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Благодарю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кции современной семь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 отношению к дет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жизненных ценностей и ориенти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успешной социализ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полоролевой идентиф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самосознания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когнитивной компетент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эмоциональности и стрессоустойчи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образа будущей 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ы современной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емление к материальному обеспечению вызывает отчужденность во взаимоотношениях между родителями и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 не владеют приемами общения и рефлексии что приводит к конфликтному характеру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лишняя опека или жесткая регламентация деятельности реб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достаточное внимание к физическим контактам между родителями и ребен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жду родителями  бабушками и дедушками нет согласованности в вопросах воспит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умение родителей передавать опыт культуры общения с люд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ушение прав ребенка в семь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социальное поведение родителей (алкоголизм), оказывает негативное влияние на развитие личности ребенка (устойчивая тревожнос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представляет собой многогранную систему взаимоотношений взрослых и детей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вь к до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к мате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ожденное чувство и  требуется принимать усилия для его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оложительно насыщенный образ родного дома возможно лишь в семь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 ребенок не приобретает в первые годы своей жизни опыта сопереживания, заботы о самом близком человеке вряд ли он вырастет чутким и внима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чувств ребенка: сопереживания, сочувствия, сорадования с первых лет жизни является важной педагогической задач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ирование у родителей и детей умения общаться на основе сотрудничества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ние условия для выработки у детей ценностного отношения к дому,  своей семье к матер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знаний о семье, ее родословной, об истории появления дома, быта, семейных традиций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ция общественно полезной деятельности ребенка на благо дома и родителей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мероприятия, побуждающие ребенка и родителей к творческому самовыражению,         поддержанию традиций семьи, вызывающие оказывать позитивное влияние на устройство и быт родного до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ые темы для реализации зада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7524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 котором я жив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Мой ребенок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ы и твои родители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я, родословная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удовая деятельность детей на благо дома и семь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ворческая деятельность ребенка, направленная на украшение родного дома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ейные праздники, тради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ет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го образа семь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игры (сюжетно-ролевые, конструктивные, игры-драматизации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ок, стихов пословиц и поговоро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мультфильм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разным художественным средств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мест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 участ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й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овместной деятельности,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чном вечере, викторинах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ворческих акция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дании семейного герба, древа или газет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экскурс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местная родительско - детская  творческая ак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Я – взрослый, ты – ребен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акция 1 019"/>
          <p:cNvPicPr/>
          <p:nvPr/>
        </p:nvPicPr>
        <p:blipFill>
          <a:blip r:embed="rId1"/>
          <a:stretch/>
        </p:blipFill>
        <p:spPr>
          <a:xfrm>
            <a:off x="3059280" y="1052640"/>
            <a:ext cx="295092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акция 1 023"/>
          <p:cNvPicPr/>
          <p:nvPr/>
        </p:nvPicPr>
        <p:blipFill>
          <a:blip r:embed="rId2"/>
          <a:stretch/>
        </p:blipFill>
        <p:spPr>
          <a:xfrm>
            <a:off x="6084720" y="1052640"/>
            <a:ext cx="295308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акция 1 020"/>
          <p:cNvPicPr/>
          <p:nvPr/>
        </p:nvPicPr>
        <p:blipFill>
          <a:blip r:embed="rId3"/>
          <a:stretch/>
        </p:blipFill>
        <p:spPr>
          <a:xfrm>
            <a:off x="108000" y="1052640"/>
            <a:ext cx="291636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акция 1 025"/>
          <p:cNvPicPr/>
          <p:nvPr/>
        </p:nvPicPr>
        <p:blipFill>
          <a:blip r:embed="rId4"/>
          <a:stretch/>
        </p:blipFill>
        <p:spPr>
          <a:xfrm>
            <a:off x="611280" y="3789360"/>
            <a:ext cx="3744720" cy="246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акция 1 026"/>
          <p:cNvPicPr/>
          <p:nvPr/>
        </p:nvPicPr>
        <p:blipFill>
          <a:blip r:embed="rId5"/>
          <a:stretch/>
        </p:blipFill>
        <p:spPr>
          <a:xfrm>
            <a:off x="4643280" y="3789360"/>
            <a:ext cx="3891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тестиров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й подготовительных гру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ективной методи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 детском саду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29:22Z</dcterms:created>
  <dc:creator>Родкин</dc:creator>
  <dc:description/>
  <dc:language>en-US</dc:language>
  <cp:lastModifiedBy>davidov.u</cp:lastModifiedBy>
  <dcterms:modified xsi:type="dcterms:W3CDTF">2015-10-13T06:19:59Z</dcterms:modified>
  <cp:revision>47</cp:revision>
  <dc:subject/>
  <dc:title>Формирование у дошкольников положительного образа семьи. </dc:title>
</cp:coreProperties>
</file>