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251-D65D-4386-B0CB-A53AED09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F81-6CAB-4B32-803C-EDCC62FA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589-E73E-47E7-94AB-92E9AA23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5DD-6A00-4047-8368-F55C4F69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728A-2E67-4CB2-B431-77CB6F91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DA39-B931-463B-81E7-03EEDF61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2830-6067-4821-9C25-23B0DF3F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A767-7F44-489E-A71C-0621321D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2F1-EF76-4F09-993E-980AC2D9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390B-11F0-4E41-9275-F15FE91D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A210-3578-4DA4-ABF2-554F2E9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AFC-DE60-4826-94A9-2DD29A97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6C6A-2D6D-4370-A2CB-F5A2C3B4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9400-B901-4358-9390-260A2CA2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D647-3228-4D37-BAA4-BB1B24B6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0B6C-87BC-4F65-B15D-399BC30C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11AD-08EE-4042-9351-96CAE701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581-2829-4668-A568-CC45D9A1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E77-7DC7-46E7-99A3-82537D93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686-513C-44DE-AD6E-BEA64C5B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430-E433-4736-8EA3-49B01A7D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514-0C34-434D-A6FA-BBE3ED68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7B4-89D8-4C08-AC39-B4BC3378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38A-D1A5-480B-816F-E35FA0C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7A0D-197F-4CA9-9787-008F38B4EEB3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6904-653A-4B01-B4ED-096BDB7E0F48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486400" y="380880"/>
            <a:ext cx="435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Monotype Corsiva"/>
              </a:rPr>
              <a:t>«В краю великих вдохновений…»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784760" y="1600200"/>
            <a:ext cx="435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e4828"/>
                </a:solidFill>
                <a:latin typeface="Arial"/>
              </a:rPr>
              <a:t>Один день с А.С.Пушкиным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784760" y="3124080"/>
            <a:ext cx="435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Музыкально – поэтические образы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81480" y="57150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Arial"/>
              </a:rPr>
              <a:t>Учебная демонстрация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icture 7" descr="Пейзаж"/>
          <p:cNvPicPr/>
          <p:nvPr/>
        </p:nvPicPr>
        <p:blipFill>
          <a:blip r:embed="rId1">
            <a:lum bright="-12000"/>
          </a:blip>
          <a:srcRect l="1603" t="1121" r="0" b="0"/>
          <a:stretch/>
        </p:blipFill>
        <p:spPr>
          <a:xfrm>
            <a:off x="1066680" y="304920"/>
            <a:ext cx="4077000" cy="655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Пушкин бюст"/>
          <p:cNvPicPr/>
          <p:nvPr/>
        </p:nvPicPr>
        <p:blipFill>
          <a:blip r:embed="rId2"/>
          <a:srcRect l="0" t="0" r="0" b="6433"/>
          <a:stretch/>
        </p:blipFill>
        <p:spPr>
          <a:xfrm>
            <a:off x="6477120" y="3886200"/>
            <a:ext cx="1622160" cy="1690560"/>
          </a:xfrm>
          <a:prstGeom prst="rect">
            <a:avLst/>
          </a:prstGeom>
          <a:ln w="0">
            <a:noFill/>
          </a:ln>
        </p:spPr>
      </p:pic>
      <p:pic>
        <p:nvPicPr>
          <p:cNvPr id="110" name="031.wav" descr=""/>
          <p:cNvPicPr/>
          <p:nvPr/>
        </p:nvPicPr>
        <p:blipFill>
          <a:blip r:embed="rId3"/>
          <a:stretch/>
        </p:blipFill>
        <p:spPr>
          <a:xfrm>
            <a:off x="-30492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279440" y="457200"/>
            <a:ext cx="74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Arial"/>
              </a:rPr>
              <a:t>Приют, сияньем муз одетый…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355760" y="990720"/>
            <a:ext cx="7483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99"/>
                </a:solidFill>
                <a:latin typeface="Arial"/>
              </a:rPr>
              <a:t>В 19 в. в дворянских семьях часто устраивали вечера домашнего музицирования. Такие вечера часто проводили соседи Пушкина по имению в Тригорском. На них звучала популярная музыка того времени: на фортепиано играли сонаты Моцарта и переложения симфоний Гайдна…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236232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Arial"/>
              </a:rPr>
              <a:t>Все Тригорское распевало на итальянскую мелодию песню «Ночь весенняя дышала», слова которой написал русский поэт Козлов. На те же стихи М,Глинка сочинил романс «Веницианская ночь»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295280" y="3886200"/>
            <a:ext cx="679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e4828"/>
                </a:solidFill>
                <a:latin typeface="Arial"/>
              </a:rPr>
              <a:t>Послушай романс М,Глинки. Какие картины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e482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ae4828"/>
                </a:solidFill>
                <a:latin typeface="Arial"/>
              </a:rPr>
              <a:t>природы он рисует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219320" y="4419720"/>
            <a:ext cx="717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ff"/>
                </a:solidFill>
                <a:latin typeface="Arial"/>
              </a:rPr>
              <a:t>Много поэтических строк А.Пушкин посвятил музе: «…являться муза стала мне», «…муза вечная со мной, хвала тебе, богиня!» и другие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181480" y="5181480"/>
            <a:ext cx="3962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e4828"/>
                </a:solidFill>
                <a:latin typeface="Arial"/>
              </a:rPr>
              <a:t>Наше путешествие хочется завершить словами современного поэта Д.Самойлова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e4828"/>
                </a:solidFill>
                <a:latin typeface="Arial"/>
              </a:rPr>
              <a:t>«Пока в России Пушкин длится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e4828"/>
                </a:solidFill>
                <a:latin typeface="Arial"/>
              </a:rPr>
              <a:t>Метелям не задуть свечу…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2" name="Picture 10" descr="C:\Documents and Settings\учитель\Мои документы\Спиридоноваоч\Музыка\муз1.jpg"/>
          <p:cNvPicPr/>
          <p:nvPr/>
        </p:nvPicPr>
        <p:blipFill>
          <a:blip r:embed="rId1"/>
          <a:stretch/>
        </p:blipFill>
        <p:spPr>
          <a:xfrm>
            <a:off x="5638680" y="2209680"/>
            <a:ext cx="3189240" cy="2306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Documents and Settings\учитель\Мои документы\Спиридоноваоч\Музыка\1.jpg"/>
          <p:cNvPicPr/>
          <p:nvPr/>
        </p:nvPicPr>
        <p:blipFill>
          <a:blip r:embed="rId2"/>
          <a:stretch/>
        </p:blipFill>
        <p:spPr>
          <a:xfrm>
            <a:off x="3124080" y="5105520"/>
            <a:ext cx="13604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09680" y="533520"/>
            <a:ext cx="6035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09142"/>
                </a:solidFill>
                <a:latin typeface="Monotype Corsiva"/>
              </a:rPr>
              <a:t>«</a:t>
            </a:r>
            <a:r>
              <a:rPr b="1" i="1" lang="ru-RU" sz="3200" spc="-1" strike="noStrike">
                <a:solidFill>
                  <a:srgbClr val="e09142"/>
                </a:solidFill>
                <a:latin typeface="Monotype Corsiva"/>
              </a:rPr>
              <a:t>Приют спокойствия, трудов и вдохновенья…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489480" y="1676520"/>
            <a:ext cx="565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e4828"/>
                </a:solidFill>
                <a:latin typeface="Arial"/>
              </a:rPr>
              <a:t>Приветствую тебя,пустынный уголок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e4828"/>
                </a:solidFill>
                <a:latin typeface="Arial"/>
              </a:rPr>
              <a:t>Приют спокойствия,трудов и вдохновенья</a:t>
            </a:r>
            <a:r>
              <a:rPr b="0" lang="ru-RU" sz="2000" spc="-1" strike="noStrike">
                <a:solidFill>
                  <a:srgbClr val="ae4828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066680" y="23623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Так назвал Александр Сергеевич Пушкин свое родовое имение – село Михайловское. Его неброская природа очаровала поэта и вдохновила на создание многих замечательных произведений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1447920" y="6216480"/>
            <a:ext cx="67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ослушай пьесу Г.Свиридова «Пастораль». Отвечает ли она настроению Пушкина в Михайловском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Picture 15" descr="C:\Documents and Settings\учитель\Мои документы\Спиридоноваоч\Музыка\михайловское.JPG"/>
          <p:cNvPicPr/>
          <p:nvPr/>
        </p:nvPicPr>
        <p:blipFill>
          <a:blip r:embed="rId1"/>
          <a:srcRect l="0" t="1049" r="0" b="0"/>
          <a:stretch/>
        </p:blipFill>
        <p:spPr>
          <a:xfrm>
            <a:off x="2971800" y="3276720"/>
            <a:ext cx="437364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7"/>
          <p:cNvSpPr/>
          <p:nvPr/>
        </p:nvSpPr>
        <p:spPr>
          <a:xfrm flipV="1">
            <a:off x="1752480" y="-3240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Monotype Corsiva"/>
              </a:rPr>
              <a:t>«Осень» в поэзии А,Пушкина и в музык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1600200" y="990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Больше всех времен года А.С. Пушкин любил осень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 flipV="1">
            <a:off x="1447920" y="1369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Унылая пора! Очей очарованье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риятна мне твоя прощальная краса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724280" y="2209680"/>
            <a:ext cx="441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ослушай, как в одной строке меняется настроение: первая ее фраза настраивает на минорный лад, тишину,покой и печаль. А вторая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ослушай пьесу П.И.Чайковского. Почему композитор назвал ее «Осенняя песнь»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одумай, близок ли характер музыки П.И. Чайковского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стихам А.С.Пушкина и картине «Осенние дожди»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В каком лоду написана пьеса? Меняется ли в ней настроение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0" name="Picture 21" descr="C:\Documents and Settings\учитель\Мои документы\Спиридоноваоч\Музыка\9.jpg"/>
          <p:cNvPicPr/>
          <p:nvPr/>
        </p:nvPicPr>
        <p:blipFill>
          <a:blip r:embed="rId1"/>
          <a:stretch/>
        </p:blipFill>
        <p:spPr>
          <a:xfrm>
            <a:off x="1295280" y="2514600"/>
            <a:ext cx="3359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8"/>
          <p:cNvSpPr/>
          <p:nvPr/>
        </p:nvSpPr>
        <p:spPr>
          <a:xfrm>
            <a:off x="1828800" y="304920"/>
            <a:ext cx="67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« Зимнее утро»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1371600" y="1981080"/>
            <a:ext cx="403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ихи А.С.Пушкина очень музыкальны. Каждая строка звучит какой-то своей, особой, удивительно прекрасной мелодией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3962520" y="3979800"/>
            <a:ext cx="51814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слушай пьесу «Зимнее утро» из «Детского альбома»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 .И .Чайковского.Какие чувства передает музыка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равни настроение стихотворения А.С.Пушкина «Зимнее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тро» и пьесы   П.И. Чайковского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ыразительно прочитай стихотворения А.С.Пушкина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«Зимнее утро» и «Зимняя дорога»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Какой музыкальный лад каждого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из них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24" descr="C:\Documents and Settings\учитель\Мои документы\Спиридоноваоч\Музыка\Зима.jpg"/>
          <p:cNvPicPr/>
          <p:nvPr/>
        </p:nvPicPr>
        <p:blipFill>
          <a:blip r:embed="rId1"/>
          <a:stretch/>
        </p:blipFill>
        <p:spPr>
          <a:xfrm>
            <a:off x="6019920" y="1676520"/>
            <a:ext cx="2266920" cy="224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C:\Documents and Settings\учитель\Мои документы\Спиридоноваоч\Музыка\2.jpg"/>
          <p:cNvPicPr/>
          <p:nvPr/>
        </p:nvPicPr>
        <p:blipFill>
          <a:blip r:embed="rId2"/>
          <a:stretch/>
        </p:blipFill>
        <p:spPr>
          <a:xfrm>
            <a:off x="1295280" y="3886200"/>
            <a:ext cx="2895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676520" y="380880"/>
            <a:ext cx="59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Monotype Corsiva"/>
              </a:rPr>
              <a:t>«Зимний вечер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447920" y="914400"/>
            <a:ext cx="71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имний день короток.Вот и вечер наступил.Эта страница посвящена музе А.С.Пушкина – его няне Арине Родионовне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1371600" y="1752480"/>
            <a:ext cx="794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Но я плоды своих мечтаний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И гармонических зате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Читаю только старой няне,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ae4828"/>
                </a:solidFill>
                <a:latin typeface="Arial"/>
              </a:rPr>
              <a:t>Подруге юности моей!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304812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«Подруга юности моей» - так называл А.С.Пушкин свою няню. Вместе они коротали долгие зимние вечера в деревне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105520" y="4114800"/>
            <a:ext cx="36734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e4828"/>
                </a:solidFill>
                <a:latin typeface="Arial"/>
              </a:rPr>
              <a:t>Послушай пьесу П.И.Чайковского «У камелька» из альбома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e4828"/>
                </a:solidFill>
                <a:latin typeface="Arial"/>
              </a:rPr>
              <a:t>«Времена года». Она поможет ощутить тепло, уют пушкинского кабинета в Михайловском, услышать</a:t>
            </a:r>
            <a:r>
              <a:rPr b="0" i="1" lang="ru-RU" sz="2000" spc="-1" strike="noStrike">
                <a:solidFill>
                  <a:srgbClr val="ae4828"/>
                </a:solidFill>
                <a:latin typeface="Arial"/>
              </a:rPr>
              <a:t> тихий говор поэта и няни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Picture 7" descr="C:\Documents and Settings\учитель\Мои документы\Спиридоноваоч\Музыка\няня.jpg"/>
          <p:cNvPicPr/>
          <p:nvPr/>
        </p:nvPicPr>
        <p:blipFill>
          <a:blip r:embed="rId1"/>
          <a:srcRect l="0" t="0" r="1949" b="2975"/>
          <a:stretch/>
        </p:blipFill>
        <p:spPr>
          <a:xfrm>
            <a:off x="6019920" y="1905120"/>
            <a:ext cx="158724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Documents and Settings\учитель\Мои документы\Спиридоноваоч\Музыка\10.jpg"/>
          <p:cNvPicPr/>
          <p:nvPr/>
        </p:nvPicPr>
        <p:blipFill>
          <a:blip r:embed="rId2"/>
          <a:stretch/>
        </p:blipFill>
        <p:spPr>
          <a:xfrm>
            <a:off x="1752480" y="4724280"/>
            <a:ext cx="274320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8"/>
          <p:cNvSpPr/>
          <p:nvPr/>
        </p:nvSpPr>
        <p:spPr>
          <a:xfrm flipV="1">
            <a:off x="1371600" y="426672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лушайся, как в мерное движение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олн вплетаются  одна за другой музыкальные темы,  как музыка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ередает и блеск звезд на небе, и плывущую по волнам бочку, и плач царицы, и даже то, как «не по  дням, а по часам растет Князь Гвидон»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29528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Monotype Corsiva"/>
              </a:rPr>
              <a:t>«Что за прелесть эти сказки!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62520" y="838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Наперсница волшебной старины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Друг вымыслов, игривых и печальных…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295280" y="144792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Дивными зимними вечерами под завывание вьюги няня рассказывала Пушкину сказки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 flipV="1">
            <a:off x="1295280" y="2055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В каждой сказке есть Чудо. Сказочное чудо стихов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А.С.Пушкина композитор Н,А,Римский – Корсаков переда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в музыке. Послушай вступление ко 2-му действию опер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«Сказка о царе Салтане»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371600" y="3200400"/>
            <a:ext cx="601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e4828"/>
                </a:solidFill>
                <a:latin typeface="Arial"/>
              </a:rPr>
              <a:t>В синем небе звезды блещут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e4828"/>
                </a:solidFill>
                <a:latin typeface="Arial"/>
              </a:rPr>
              <a:t>В синем море волны хлещут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e4828"/>
                </a:solidFill>
                <a:latin typeface="Arial"/>
              </a:rPr>
              <a:t>Туча по небу идет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ae4828"/>
                </a:solidFill>
                <a:latin typeface="Arial"/>
              </a:rPr>
              <a:t>Бочка по морю плывет…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9" name="Picture 11" descr="C:\Documents and Settings\учитель\Мои документы\Спиридоноваоч\Музыка\12.jpg"/>
          <p:cNvPicPr/>
          <p:nvPr/>
        </p:nvPicPr>
        <p:blipFill>
          <a:blip r:embed="rId1"/>
          <a:srcRect l="0" t="0" r="0" b="18265"/>
          <a:stretch/>
        </p:blipFill>
        <p:spPr>
          <a:xfrm>
            <a:off x="6019920" y="3352680"/>
            <a:ext cx="2871720" cy="1933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2514600" y="621648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Помогла ли тебе музыка почувствовать красоту сказки Пушкина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79440" y="30492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ff"/>
                </a:solidFill>
                <a:latin typeface="Monotype Corsiva"/>
              </a:rPr>
              <a:t>Три чуд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403880" y="762120"/>
            <a:ext cx="4740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Идет направо – песнь заводит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Налево – </a:t>
            </a:r>
            <a:r>
              <a:rPr b="1" i="1" lang="ru-RU" sz="2000" spc="-1" strike="noStrike">
                <a:solidFill>
                  <a:srgbClr val="9966ff"/>
                </a:solidFill>
                <a:latin typeface="Arial"/>
              </a:rPr>
              <a:t>сказку</a:t>
            </a: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 говорит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Там чудеса…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279440" y="16765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Есть в «Сказке о царе Салтане…» три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чуда.  В опере у каждого чуда есть своя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музыкальная тема – яркая картинка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написанная звуками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279440" y="2819520"/>
            <a:ext cx="4664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Первое чудо – белка. Вспомни стихи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А,Пушкина. Какую песенку поет белка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«при честном при всем народе»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Послушай музыкальную тему белки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343400" y="39625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Второе чудо – «в чешуе, как жар горя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Тридцать три богатыря»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Послушай, как композитор передает в  музыке их богатырскую поступь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219320" y="5410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Третье чудо – царевна – Лебедь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«За морем царевна есть,что не можно глаз отвесть…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Назови  знакомые тебе музыкальные инструменты, звучание которых ты услышал в трех фрагментах оперы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7" name="Picture 13" descr="C:\Documents and Settings\учитель\Мои документы\Спиридоноваоч\Музыка\13.jpg"/>
          <p:cNvPicPr/>
          <p:nvPr/>
        </p:nvPicPr>
        <p:blipFill>
          <a:blip r:embed="rId1">
            <a:lum bright="-12000"/>
          </a:blip>
          <a:srcRect l="4508" t="0" r="33810" b="0"/>
          <a:stretch/>
        </p:blipFill>
        <p:spPr>
          <a:xfrm>
            <a:off x="6248520" y="1752480"/>
            <a:ext cx="2590560" cy="2017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C:\Documents and Settings\учитель\Мои документы\Спиридоноваоч\Музыка\14.jpg"/>
          <p:cNvPicPr/>
          <p:nvPr/>
        </p:nvPicPr>
        <p:blipFill>
          <a:blip r:embed="rId2"/>
          <a:srcRect l="0" t="0" r="39115" b="10835"/>
          <a:stretch/>
        </p:blipFill>
        <p:spPr>
          <a:xfrm>
            <a:off x="1600200" y="4038480"/>
            <a:ext cx="2209680" cy="1427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C:\Documents and Settings\учитель\Мои документы\Спиридоноваоч\Музыка\14.jpg"/>
          <p:cNvPicPr/>
          <p:nvPr/>
        </p:nvPicPr>
        <p:blipFill>
          <a:blip r:embed="rId3"/>
          <a:srcRect l="60624" t="14086" r="0" b="0"/>
          <a:stretch/>
        </p:blipFill>
        <p:spPr>
          <a:xfrm>
            <a:off x="7467480" y="5105520"/>
            <a:ext cx="1627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279440" y="39672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Monotype Corsiva"/>
              </a:rPr>
              <a:t>Ярморочное гулянь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09680" y="9144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Девицы , красавицы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Душеньки, подруженьки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Разгуляйтесь, девицы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Разгуляйтесь, милые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19320" y="213372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Святогорские ярмарки славились своим многолюдьем и весельем . А.С.Пушкин любил посещать их. Какую же музыку мог слышать поэт на ярмарке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295280" y="327672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Пастушьи наигрыши под балалайку, гармонику, ансамбли ложкарей, звуки шарманки, волынки, напевы и пляски цыган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ff"/>
                </a:solidFill>
                <a:latin typeface="Arial"/>
              </a:rPr>
              <a:t>Многоголосый ярморочный табор оживал с первыми лучами солнца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295280" y="6491160"/>
            <a:ext cx="68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Звучит «Камаринская» П.И.Чайковского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Picture 14" descr="C:\Documents and Settings\учитель\Мои документы\Спиридоноваоч\Музыка\7.jpg"/>
          <p:cNvPicPr/>
          <p:nvPr/>
        </p:nvPicPr>
        <p:blipFill>
          <a:blip r:embed="rId1"/>
          <a:stretch/>
        </p:blipFill>
        <p:spPr>
          <a:xfrm>
            <a:off x="6324480" y="914400"/>
            <a:ext cx="2535480" cy="570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C:\Documents and Settings\учитель\Мои документы\Спиридоноваоч\Музыка\5.jpg"/>
          <p:cNvPicPr/>
          <p:nvPr/>
        </p:nvPicPr>
        <p:blipFill>
          <a:blip r:embed="rId2"/>
          <a:stretch/>
        </p:blipFill>
        <p:spPr>
          <a:xfrm>
            <a:off x="1828800" y="5029200"/>
            <a:ext cx="35244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95280" y="457200"/>
            <a:ext cx="72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Arial"/>
              </a:rPr>
              <a:t>Святогорский монастыр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96252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cc"/>
                </a:solidFill>
                <a:latin typeface="Arial"/>
              </a:rPr>
              <a:t>Мы рождены для вдохновенья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cc"/>
                </a:solidFill>
                <a:latin typeface="Arial"/>
              </a:rPr>
              <a:t>Для звуков сладких и молитв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95280" y="1600200"/>
            <a:ext cx="78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Из Михайловского Пушкин любил ходить в Святогорский монастырь, где была старинная звонница. Звон колоколов монастыря можно было слышать за  много верст. Отголоски звонов Святогорского монастыря звучат в опере «Борис Годунов» М.Мусоргского, сочиненной по драме Пушкин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371600" y="266688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ff"/>
                </a:solidFill>
                <a:latin typeface="Arial"/>
              </a:rPr>
              <a:t>Пушкин часто останавливался у ворот монастыря, прислушивался к пению нищих, а иногда и подпевал им…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295280" y="312408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По преданию,  в монастыре Пушкину отводилась келья, стены которой он испещрял стихами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295280" y="35812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ff"/>
                </a:solidFill>
                <a:latin typeface="Arial"/>
              </a:rPr>
              <a:t>Еще одно, последнее сказанье –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ff"/>
                </a:solidFill>
                <a:latin typeface="Arial"/>
              </a:rPr>
              <a:t>И летопись окончена моя…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143000" y="6521400"/>
            <a:ext cx="73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e4828"/>
                </a:solidFill>
                <a:latin typeface="Arial"/>
              </a:rPr>
              <a:t>Послушай вступление к опере М.Мусоргского «Борис Годунов»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Picture 11" descr="C:\Documents and Settings\учитель\Мои документы\Спиридоноваоч\Музыка\16.jpg"/>
          <p:cNvPicPr/>
          <p:nvPr/>
        </p:nvPicPr>
        <p:blipFill>
          <a:blip r:embed="rId1"/>
          <a:stretch/>
        </p:blipFill>
        <p:spPr>
          <a:xfrm>
            <a:off x="1752480" y="4114800"/>
            <a:ext cx="2895840" cy="2471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C:\Documents and Settings\учитель\Мои документы\Спиридоноваоч\Музыка\17.jpg"/>
          <p:cNvPicPr/>
          <p:nvPr/>
        </p:nvPicPr>
        <p:blipFill>
          <a:blip r:embed="rId2"/>
          <a:stretch/>
        </p:blipFill>
        <p:spPr>
          <a:xfrm>
            <a:off x="5257800" y="3809880"/>
            <a:ext cx="335268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06:23:26Z</dcterms:created>
  <dc:creator>учитель</dc:creator>
  <dc:description/>
  <dc:language>en-US</dc:language>
  <cp:lastModifiedBy>домашний</cp:lastModifiedBy>
  <dcterms:modified xsi:type="dcterms:W3CDTF">2015-10-12T22:53:30Z</dcterms:modified>
  <cp:revision>33</cp:revision>
  <dc:subject/>
  <dc:title>Презентация PowerPoint</dc:title>
</cp:coreProperties>
</file>