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D40-A792-4DD2-9E14-0F1FE771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8FF-F45A-42CD-93D1-4C348F3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5C1-015A-4515-B32C-CF34AA59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507-9625-4011-9B0D-29D2B20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7AD4-435C-44FC-897B-611A126F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923-53EE-46F1-92BA-9C23D1C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8A98-252A-447E-8528-C2C17009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6C88-138B-4E3C-8E31-45154AD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B72F-C5F1-4707-B475-841512E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5FD5-630C-4762-8354-7F7F4DBB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31BC-0F4C-4041-83A2-B1AC178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027-EE47-496E-BA24-BCDB969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527-D1A8-4D5C-99AF-EA68B3B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C09-8063-4855-A818-EDC8153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8EB-7F94-4553-BDAF-91F5373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0FA-BA56-4A9B-A8DC-8307C517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5B27-369D-47AF-AC56-6D8BC6AE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9F0-85F4-4237-9123-E7E96DC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45D-A74D-49C5-AD3A-05079913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81A-C5FE-498E-9978-838CFC41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108-FE3B-4852-B847-832F8C3D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C75-AE6F-4E02-BCB6-53F0056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634-077E-469C-83B9-88CA074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3EA-77B1-4DCA-8B32-5AA8AFD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BA9-A1DE-469C-BA0E-B657F8350007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73B-408D-4901-9667-561D2D5D2C8E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486400" y="380880"/>
            <a:ext cx="43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Monotype Corsiva"/>
              </a:rPr>
              <a:t>«В краю великих вдохновений…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84760" y="1600200"/>
            <a:ext cx="435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4828"/>
                </a:solidFill>
                <a:latin typeface="Arial"/>
              </a:rPr>
              <a:t>Один день с А.С.Пушкиным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784760" y="3124080"/>
            <a:ext cx="435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Музыкально – поэтические образы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81480" y="57150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Учебная демонстраци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7" descr="Пейзаж"/>
          <p:cNvPicPr/>
          <p:nvPr/>
        </p:nvPicPr>
        <p:blipFill>
          <a:blip r:embed="rId1">
            <a:lum bright="-12000"/>
          </a:blip>
          <a:srcRect l="1603" t="1121" r="0" b="0"/>
          <a:stretch/>
        </p:blipFill>
        <p:spPr>
          <a:xfrm>
            <a:off x="1066680" y="304920"/>
            <a:ext cx="4077000" cy="655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Пушкин бюст"/>
          <p:cNvPicPr/>
          <p:nvPr/>
        </p:nvPicPr>
        <p:blipFill>
          <a:blip r:embed="rId2"/>
          <a:srcRect l="0" t="0" r="0" b="6433"/>
          <a:stretch/>
        </p:blipFill>
        <p:spPr>
          <a:xfrm>
            <a:off x="6477120" y="3886200"/>
            <a:ext cx="1622160" cy="1690560"/>
          </a:xfrm>
          <a:prstGeom prst="rect">
            <a:avLst/>
          </a:prstGeom>
          <a:ln w="0">
            <a:noFill/>
          </a:ln>
        </p:spPr>
      </p:pic>
      <p:pic>
        <p:nvPicPr>
          <p:cNvPr id="110" name="031.wav" descr=""/>
          <p:cNvPicPr/>
          <p:nvPr/>
        </p:nvPicPr>
        <p:blipFill>
          <a:blip r:embed="rId3"/>
          <a:stretch/>
        </p:blipFill>
        <p:spPr>
          <a:xfrm>
            <a:off x="-304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279440" y="457200"/>
            <a:ext cx="74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Приют, сияньем муз одетый…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55760" y="990720"/>
            <a:ext cx="7483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Arial"/>
              </a:rPr>
              <a:t>В 19 в. в дворянских семьях часто устраивали вечера домашнего музицирования. Такие вечера часто проводили соседи Пушкина по имению в Тригорском. На них звучала популярная музыка того времени: на фортепиано играли сонаты Моцарта и переложения симфоний Гайдна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23623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Arial"/>
              </a:rPr>
              <a:t>Все Тригорское распевало на итальянскую мелодию песню «Ночь весенняя дышала», слова которой написал русский поэт Козлов. На те же стихи М,Глинка сочинил романс «Веницианская ночь»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95280" y="3886200"/>
            <a:ext cx="67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ослушай романс М,Глинки. Какие картины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рироды он рисует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19320" y="4419720"/>
            <a:ext cx="717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ff"/>
                </a:solidFill>
                <a:latin typeface="Arial"/>
              </a:rPr>
              <a:t>Много поэтических строк А.Пушкин посвятил музе: «…являться муза стала мне», «…муза вечная со мной, хвала тебе, богиня!» и другие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181480" y="5181480"/>
            <a:ext cx="396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Наше путешествие хочется завершить словами современного поэта Д.Самойлова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828"/>
                </a:solidFill>
                <a:latin typeface="Arial"/>
              </a:rPr>
              <a:t>«Пока в России Пушкин длитс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828"/>
                </a:solidFill>
                <a:latin typeface="Arial"/>
              </a:rPr>
              <a:t>Метелям не задуть свечу…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10" descr="C:\Documents and Settings\учитель\Мои документы\Спиридоноваоч\Музыка\муз1.jpg"/>
          <p:cNvPicPr/>
          <p:nvPr/>
        </p:nvPicPr>
        <p:blipFill>
          <a:blip r:embed="rId1"/>
          <a:stretch/>
        </p:blipFill>
        <p:spPr>
          <a:xfrm>
            <a:off x="5638680" y="2209680"/>
            <a:ext cx="3189240" cy="230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cuments and Settings\учитель\Мои документы\Спиридоноваоч\Музыка\1.jpg"/>
          <p:cNvPicPr/>
          <p:nvPr/>
        </p:nvPicPr>
        <p:blipFill>
          <a:blip r:embed="rId2"/>
          <a:stretch/>
        </p:blipFill>
        <p:spPr>
          <a:xfrm>
            <a:off x="3124080" y="5105520"/>
            <a:ext cx="1360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09680" y="533520"/>
            <a:ext cx="6035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09142"/>
                </a:solidFill>
                <a:latin typeface="Monotype Corsiva"/>
              </a:rPr>
              <a:t>«</a:t>
            </a:r>
            <a:r>
              <a:rPr b="1" i="1" lang="ru-RU" sz="3200" spc="-1" strike="noStrike">
                <a:solidFill>
                  <a:srgbClr val="e09142"/>
                </a:solidFill>
                <a:latin typeface="Monotype Corsiva"/>
              </a:rPr>
              <a:t>Приют спокойствия, трудов и вдохновенья…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489480" y="1676520"/>
            <a:ext cx="565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e4828"/>
                </a:solidFill>
                <a:latin typeface="Arial"/>
              </a:rPr>
              <a:t>Приветствую тебя,пустынный уголок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e4828"/>
                </a:solidFill>
                <a:latin typeface="Arial"/>
              </a:rPr>
              <a:t>Приют спокойствия,трудов и вдохновенья</a:t>
            </a:r>
            <a:r>
              <a:rPr b="0" lang="ru-RU" sz="2000" spc="-1" strike="noStrike">
                <a:solidFill>
                  <a:srgbClr val="ae4828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066680" y="23623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Так назвал Александр Сергеевич Пушкин свое родовое имение – село Михайловское. Его неброская природа очаровала поэта и вдохновила на создание многих замечательных произведений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447920" y="621648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слушай пьесу Г.Свиридова «Пастораль». Отвечает ли она настроению Пушкина в Михайловском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15" descr="C:\Documents and Settings\учитель\Мои документы\Спиридоноваоч\Музыка\михайловское.JPG"/>
          <p:cNvPicPr/>
          <p:nvPr/>
        </p:nvPicPr>
        <p:blipFill>
          <a:blip r:embed="rId1"/>
          <a:srcRect l="0" t="1049" r="0" b="0"/>
          <a:stretch/>
        </p:blipFill>
        <p:spPr>
          <a:xfrm>
            <a:off x="2971800" y="3276720"/>
            <a:ext cx="43736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 flipV="1">
            <a:off x="1752480" y="-3240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«Осень» в поэзии А,Пушкина и в музык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600200" y="990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ольше всех времен года А.С. Пушкин любил осен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 flipV="1">
            <a:off x="1447920" y="1369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Унылая пора! Очей очарованье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риятна мне твоя прощальная крас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724280" y="220968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слушай, как в одной строке меняется настроение: первая ее фраза настраивает на минорный лад, тишину,покой и печаль. А вторая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слушай пьесу П.И.Чайковского. Почему композитор назвал ее «Осенняя песнь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думай, близок ли характер музыки П.И. Чайковского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стихам А.С.Пушкина и картине «Осенние дожди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 каком лоду написана пьеса? Меняется ли в ней настроени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Picture 21" descr="C:\Documents and Settings\учитель\Мои документы\Спиридоноваоч\Музыка\9.jpg"/>
          <p:cNvPicPr/>
          <p:nvPr/>
        </p:nvPicPr>
        <p:blipFill>
          <a:blip r:embed="rId1"/>
          <a:stretch/>
        </p:blipFill>
        <p:spPr>
          <a:xfrm>
            <a:off x="1295280" y="2514600"/>
            <a:ext cx="3359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8"/>
          <p:cNvSpPr/>
          <p:nvPr/>
        </p:nvSpPr>
        <p:spPr>
          <a:xfrm>
            <a:off x="1828800" y="30492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« Зимнее утро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371600" y="198108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ихи А.С.Пушкина очень музыкальны. Каждая строка звучит какой-то своей, особой, удивительно прекрасной мелодией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3962520" y="3979800"/>
            <a:ext cx="51814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слушай пьесу «Зимнее утро» из «Детского альбома»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.И .Чайковского.Какие чувства передает музык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равни настроение стихотворения А.С.Пушкина «Зимне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тро» и пьесы   П.И. Чайковского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ыразительно прочитай стихотворения А.С.Пушкин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«Зимнее утро» и «Зимняя дорога»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Какой музыкальный лад каждого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из них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24" descr="C:\Documents and Settings\учитель\Мои документы\Спиридоноваоч\Музыка\Зима.jpg"/>
          <p:cNvPicPr/>
          <p:nvPr/>
        </p:nvPicPr>
        <p:blipFill>
          <a:blip r:embed="rId1"/>
          <a:stretch/>
        </p:blipFill>
        <p:spPr>
          <a:xfrm>
            <a:off x="6019920" y="1676520"/>
            <a:ext cx="22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C:\Documents and Settings\учитель\Мои документы\Спиридоноваоч\Музыка\2.jpg"/>
          <p:cNvPicPr/>
          <p:nvPr/>
        </p:nvPicPr>
        <p:blipFill>
          <a:blip r:embed="rId2"/>
          <a:stretch/>
        </p:blipFill>
        <p:spPr>
          <a:xfrm>
            <a:off x="1295280" y="3886200"/>
            <a:ext cx="2895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676520" y="380880"/>
            <a:ext cx="59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Monotype Corsiva"/>
              </a:rPr>
              <a:t>«Зимний вечер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47920" y="914400"/>
            <a:ext cx="71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имний день короток.Вот и вечер наступил.Эта страница посвящена музе А.С.Пушкина – его няне Арине Родионовн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1371600" y="1752480"/>
            <a:ext cx="794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Но я плоды своих мечтаний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И гармонических зате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Читаю только старой няне,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Подруге юности моей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304812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«Подруга юности моей» - так называл А.С.Пушкин свою няню. Вместе они коротали долгие зимние вечера в деревн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4114800"/>
            <a:ext cx="3673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e4828"/>
                </a:solidFill>
                <a:latin typeface="Arial"/>
              </a:rPr>
              <a:t>Послушай пьесу П.И.Чайковского «У камелька» из альбом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e4828"/>
                </a:solidFill>
                <a:latin typeface="Arial"/>
              </a:rPr>
              <a:t>«Времена года». Она поможет ощутить тепло, уют пушкинского кабинета в Михайловском, услышать</a:t>
            </a:r>
            <a:r>
              <a:rPr b="0" i="1" lang="ru-RU" sz="2000" spc="-1" strike="noStrike">
                <a:solidFill>
                  <a:srgbClr val="ae4828"/>
                </a:solidFill>
                <a:latin typeface="Arial"/>
              </a:rPr>
              <a:t> тихий говор поэта и нян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Picture 7" descr="C:\Documents and Settings\учитель\Мои документы\Спиридоноваоч\Музыка\няня.jpg"/>
          <p:cNvPicPr/>
          <p:nvPr/>
        </p:nvPicPr>
        <p:blipFill>
          <a:blip r:embed="rId1"/>
          <a:srcRect l="0" t="0" r="1949" b="2975"/>
          <a:stretch/>
        </p:blipFill>
        <p:spPr>
          <a:xfrm>
            <a:off x="6019920" y="1905120"/>
            <a:ext cx="158724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учитель\Мои документы\Спиридоноваоч\Музыка\10.jpg"/>
          <p:cNvPicPr/>
          <p:nvPr/>
        </p:nvPicPr>
        <p:blipFill>
          <a:blip r:embed="rId2"/>
          <a:stretch/>
        </p:blipFill>
        <p:spPr>
          <a:xfrm>
            <a:off x="1752480" y="4724280"/>
            <a:ext cx="27432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 flipV="1">
            <a:off x="1371600" y="426672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лушайся, как в мерное движение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лн вплетаются  одна за другой музыкальные темы,  как музыка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ередает и блеск звезд на небе, и плывущую по волнам бочку, и плач царицы, и даже то, как «не по  дням, а по часам растет Князь Гвидон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29528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Monotype Corsiva"/>
              </a:rPr>
              <a:t>«Что за прелесть эти сказки!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6252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Наперсница волшебной старин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Друг вымыслов, игривых и печальных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95280" y="14479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Дивными зимними вечерами под завывание вьюги няня рассказывала Пушкину сказк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 flipV="1">
            <a:off x="1295280" y="2055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 каждой сказке есть Чудо. Сказочное чудо стихов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А.С.Пушкина композитор Н,А,Римский – Корсаков переда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 музыке. Послушай вступление ко 2-му действию опер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«Сказка о царе Салтане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371600" y="3200400"/>
            <a:ext cx="601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В синем небе звезды блещут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В синем море волны хлещут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Туча по небу идет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Бочка по морю плывет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Picture 11" descr="C:\Documents and Settings\учитель\Мои документы\Спиридоноваоч\Музыка\12.jpg"/>
          <p:cNvPicPr/>
          <p:nvPr/>
        </p:nvPicPr>
        <p:blipFill>
          <a:blip r:embed="rId1"/>
          <a:srcRect l="0" t="0" r="0" b="18265"/>
          <a:stretch/>
        </p:blipFill>
        <p:spPr>
          <a:xfrm>
            <a:off x="6019920" y="3352680"/>
            <a:ext cx="2871720" cy="1933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2514600" y="62164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омогла ли тебе музыка почувствовать красоту сказки Пушкин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79440" y="30492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Monotype Corsiva"/>
              </a:rPr>
              <a:t>Три чуд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403880" y="762120"/>
            <a:ext cx="4740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Идет направо – песнь заводит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Налево – </a:t>
            </a:r>
            <a:r>
              <a:rPr b="1" i="1" lang="ru-RU" sz="2000" spc="-1" strike="noStrike">
                <a:solidFill>
                  <a:srgbClr val="9966ff"/>
                </a:solidFill>
                <a:latin typeface="Arial"/>
              </a:rPr>
              <a:t>сказку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говорит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Там чудеса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279440" y="16765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Есть в «Сказке о царе Салтане…» тр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чуда.  В опере у каждого чуда есть своя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музыкальная тема – яркая картинка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написанная звукам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79440" y="2819520"/>
            <a:ext cx="4664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ервое чудо – белка. Вспомни стихи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А,Пушкина. Какую песенку поет белк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«при честном при всем народе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ослушай музыкальную тему белк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343400" y="39625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Второе чудо – «в чешуе, как жар гор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Тридцать три богатыря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Послушай, как композитор передает в  музыке их богатырскую поступ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219320" y="5410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Третье чудо – царевна – Лебедь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«За морем царевна есть,что не можно глаз отвесть…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Назови  знакомые тебе музыкальные инструменты, звучание которых ты услышал в трех фрагментах оперы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Picture 13" descr="C:\Documents and Settings\учитель\Мои документы\Спиридоноваоч\Музыка\13.jpg"/>
          <p:cNvPicPr/>
          <p:nvPr/>
        </p:nvPicPr>
        <p:blipFill>
          <a:blip r:embed="rId1">
            <a:lum bright="-12000"/>
          </a:blip>
          <a:srcRect l="4508" t="0" r="33810" b="0"/>
          <a:stretch/>
        </p:blipFill>
        <p:spPr>
          <a:xfrm>
            <a:off x="6248520" y="1752480"/>
            <a:ext cx="2590560" cy="201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C:\Documents and Settings\учитель\Мои документы\Спиридоноваоч\Музыка\14.jpg"/>
          <p:cNvPicPr/>
          <p:nvPr/>
        </p:nvPicPr>
        <p:blipFill>
          <a:blip r:embed="rId2"/>
          <a:srcRect l="0" t="0" r="39115" b="10835"/>
          <a:stretch/>
        </p:blipFill>
        <p:spPr>
          <a:xfrm>
            <a:off x="1600200" y="4038480"/>
            <a:ext cx="2209680" cy="142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C:\Documents and Settings\учитель\Мои документы\Спиридоноваоч\Музыка\14.jpg"/>
          <p:cNvPicPr/>
          <p:nvPr/>
        </p:nvPicPr>
        <p:blipFill>
          <a:blip r:embed="rId3"/>
          <a:srcRect l="60624" t="14086" r="0" b="0"/>
          <a:stretch/>
        </p:blipFill>
        <p:spPr>
          <a:xfrm>
            <a:off x="7467480" y="5105520"/>
            <a:ext cx="1627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79440" y="39672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Monotype Corsiva"/>
              </a:rPr>
              <a:t>Ярморочное гулянь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09680" y="9144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Девицы , красавиц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Душеньки, подруженьки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азгуляйтесь, девиц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азгуляйтесь, милые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19320" y="21337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Святогорские ярмарки славились своим многолюдьем и весельем . А.С.Пушкин любил посещать их. Какую же музыку мог слышать поэт на ярмарк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95280" y="327672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Пастушьи наигрыши под балалайку, гармонику, ансамбли ложкарей, звуки шарманки, волынки, напевы и пляски цыган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Arial"/>
              </a:rPr>
              <a:t>Многоголосый ярморочный табор оживал с первыми лучами солнц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295280" y="6491160"/>
            <a:ext cx="68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Звучит «Камаринская» П.И.Чайковского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4" descr="C:\Documents and Settings\учитель\Мои документы\Спиридоноваоч\Музыка\7.jpg"/>
          <p:cNvPicPr/>
          <p:nvPr/>
        </p:nvPicPr>
        <p:blipFill>
          <a:blip r:embed="rId1"/>
          <a:stretch/>
        </p:blipFill>
        <p:spPr>
          <a:xfrm>
            <a:off x="6324480" y="914400"/>
            <a:ext cx="2535480" cy="570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C:\Documents and Settings\учитель\Мои документы\Спиридоноваоч\Музыка\5.jpg"/>
          <p:cNvPicPr/>
          <p:nvPr/>
        </p:nvPicPr>
        <p:blipFill>
          <a:blip r:embed="rId2"/>
          <a:stretch/>
        </p:blipFill>
        <p:spPr>
          <a:xfrm>
            <a:off x="1828800" y="5029200"/>
            <a:ext cx="3524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95280" y="4572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Святогорский монастыр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96252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Мы рождены для вдохновень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Для звуков сладких и молитв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95280" y="160020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Из Михайловского Пушкин любил ходить в Святогорский монастырь, где была старинная звонница. Звон колоколов монастыря можно было слышать за  много верст. Отголоски звонов Святогорского монастыря звучат в опере «Борис Годунов» М.Мусоргского, сочиненной по драме Пушкин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371600" y="266688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Пушкин часто останавливался у ворот монастыря, прислушивался к пению нищих, а иногда и подпевал им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295280" y="312408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По преданию,  в монастыре Пушкину отводилась келья, стены которой он испещрял стихами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295280" y="35812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Еще одно, последнее сказанье –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И летопись окончена моя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143000" y="6521400"/>
            <a:ext cx="73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ослушай вступление к опере М.Мусоргского «Борис Годунов»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Picture 11" descr="C:\Documents and Settings\учитель\Мои документы\Спиридоноваоч\Музыка\16.jpg"/>
          <p:cNvPicPr/>
          <p:nvPr/>
        </p:nvPicPr>
        <p:blipFill>
          <a:blip r:embed="rId1"/>
          <a:stretch/>
        </p:blipFill>
        <p:spPr>
          <a:xfrm>
            <a:off x="1752480" y="4114800"/>
            <a:ext cx="2895840" cy="247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C:\Documents and Settings\учитель\Мои документы\Спиридоноваоч\Музыка\17.jpg"/>
          <p:cNvPicPr/>
          <p:nvPr/>
        </p:nvPicPr>
        <p:blipFill>
          <a:blip r:embed="rId2"/>
          <a:stretch/>
        </p:blipFill>
        <p:spPr>
          <a:xfrm>
            <a:off x="5257800" y="3809880"/>
            <a:ext cx="335268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6:23:26Z</dcterms:created>
  <dc:creator>учитель</dc:creator>
  <dc:description/>
  <dc:language>en-US</dc:language>
  <cp:lastModifiedBy>домашний</cp:lastModifiedBy>
  <dcterms:modified xsi:type="dcterms:W3CDTF">2015-10-12T22:53:30Z</dcterms:modified>
  <cp:revision>33</cp:revision>
  <dc:subject/>
  <dc:title>Презентация PowerPoint</dc:title>
</cp:coreProperties>
</file>