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D4B-FB57-45C5-99E3-8B7C5396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D58-8F93-437D-8D40-01F51EF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4AB-88DA-41F9-84BC-A81F9A11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CE8-B0DD-40E4-9F76-8CCF6388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42BC-1995-4028-8B15-EC38995C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DAF-0B37-475E-AF3B-3F4F0E5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BB24-5094-4DB3-8086-3E4B8B6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3313-E9FC-4D61-AEC5-C59B793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75F-6407-4CD5-BE77-A4DD778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AC8-0877-4F45-B588-148132B0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7A3-631D-4963-BF60-29CE52B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130-A0A4-4BD8-8609-49A3096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A9D-A249-4B06-B0E7-553B077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3A34-3A44-4B8E-AE50-AED9684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EA4D-3FAE-4097-BF91-058DD2E1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603B-42A5-46B8-8AD0-C2151733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680A-04EC-4851-A759-5F6A03F4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964-8751-44FE-A697-43E504CE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1ED-6500-4277-8FD5-161FCD5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97F-36B2-45C2-8A12-314D3D10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46C-3363-4322-A058-9965C51F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9FF-609B-44D2-8519-E24F730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2EF-7BFE-4C96-AF2F-3AE2D86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63B-1594-44A6-8220-99DFD13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B38-D017-4B2B-9A18-D76B3F488C74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Федорова 102-350-8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6C09-4841-4606-BE83-66A0AEC13D7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B86E-E0C1-4909-9F23-031457D9671C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Федорова 102-350-8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7C5-AE77-4D10-B3C4-A4FE758F380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Вспомните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Что такое планета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Какую форму имеют планеты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Что такое горизонт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32BC-F28F-481F-9E15-2BA430EBAD68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7056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Тема урока: </a:t>
            </a:r>
            <a:br>
              <a:rPr sz="8000"/>
            </a:b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т плоской Земли к земному шару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3228-7282-4B6F-AD21-8435B98C1DE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241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лоская планета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125360"/>
            <a:ext cx="810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На большом открытом  пространстве мы видим обширную плоскос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7f"/>
                </a:solidFill>
                <a:latin typeface="Century Gothic"/>
              </a:rPr>
              <a:t>Горизонт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 — условная линия, ограничивающая часть поверхности Земли, которую видит наблюдатель на открытой местности или на мор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Древним людям никто не мог сказать про то, что Земля – шар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26F-881D-4993-A466-AFA2B2845B39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kak-fotografirovat.com/wp-content/uploads/2012/04/liniya-gorizonta.jpg"/>
          <p:cNvPicPr/>
          <p:nvPr/>
        </p:nvPicPr>
        <p:blipFill>
          <a:blip r:embed="rId1"/>
          <a:stretch/>
        </p:blipFill>
        <p:spPr>
          <a:xfrm>
            <a:off x="2124000" y="2708280"/>
            <a:ext cx="41767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ервый шаг к истине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39640" y="1004760"/>
            <a:ext cx="2427480" cy="250992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8D1-74F6-4DFE-AB3B-4EF9261E61A1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11280" y="565956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 истины было еще дале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первый шаг был к ней сде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04812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2459160" y="3645000"/>
            <a:ext cx="40003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Шар – это красиво!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31640" y="1413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4BF-EEE3-4A2E-B18E-29438737CEA1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492360" y="1268280"/>
            <a:ext cx="44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ифагор - первый математик, считал шар самой красивой фиг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043520" y="3068640"/>
            <a:ext cx="3951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72096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1. Лунное </a:t>
            </a:r>
            <a:br>
              <a:rPr sz="36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затмен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7388ce"/>
                </a:solidFill>
                <a:latin typeface="Palatino Linotype"/>
              </a:rPr>
              <a:t>2. Появление корабля из-за горизонт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539640" y="663480"/>
            <a:ext cx="2016360" cy="27212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5B61-9824-436E-B145-C1DE0D37633C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771640" y="378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–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азал шарооб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и на основе наблю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2592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90672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97AB-41F5-4F46-9E6D-3B17D9FFFA6D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539640" y="54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Эратосфен – уче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ервым вычисл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размеры земного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9640" y="43671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а окружно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атосфену 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969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98120" y="54165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ременные измерения окружности Земли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007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684360" y="1976400"/>
            <a:ext cx="3001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1200" y="364680"/>
            <a:ext cx="81835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388ce"/>
                </a:solidFill>
                <a:latin typeface="Palatino Linotype"/>
              </a:rPr>
              <a:t>Проверка знаний нового материала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3280" y="1483920"/>
            <a:ext cx="818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Почему люди в древности считали, что Земля плоская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 в Древней Индии представляли строение и форму Земли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то из ученых древности рассчитал размеры земного шара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ие доказательства шарообразности Земли привел Аристотель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При какой еще форме Земли возможно постепенное исчезновение корабля за горизонтом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Какое событие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XX 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ека окончательно доказало шарообразность Земли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64960" indent="-264960">
              <a:spcBef>
                <a:spcPts val="550"/>
              </a:spcBef>
              <a:buClr>
                <a:srgbClr val="7f7f7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BA2-6F21-49B7-89B1-E5A70A35DC73}" type="slidenum">
              <a:rPr b="0" lang="ru-RU" sz="1600" spc="-1" strike="noStrike">
                <a:solidFill>
                  <a:srgbClr val="2f589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5-10-12T19:00:10Z</dcterms:modified>
  <cp:revision>31</cp:revision>
  <dc:subject/>
  <dc:title>От плоской Земли к земному шару</dc:title>
</cp:coreProperties>
</file>