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3CC-C406-4227-9CD2-720A69F9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E992-82A3-4C04-BD7F-4C3BD1CB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829-52BA-44F8-BF7E-E172069D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C54-7A8F-42FD-A7DB-AB6178C8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B02E-A1F7-4E1E-BB8F-2376878B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A47C-F6DE-49C3-BEBA-57537ED2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2D70-2988-4316-895F-DDAD2914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9252-A814-4162-9E4F-9F917A02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279D-6156-4AE2-A85E-CB3D37DA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7D7A-4728-4B5F-81D5-4EBB8F13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9DDE-9C84-49B0-B42C-1B726DB4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CD87-AC59-472D-B766-0AD1224D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1856-7E08-490A-8D72-AE5FD2D8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BC0D-9AF3-4B9C-86C1-58ADB52A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B1F3-4338-43FA-8604-3D5330C8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118A-C2FA-4C9F-9230-A2FB218C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3340-F5D9-4E35-AED0-43DEB1D8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E6D-21BE-4762-816E-D41F9BA1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166F-D62D-4015-B6F1-E4E58B7D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E826-CDEE-4C66-A844-8D9C3A97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CE1-9B4C-43C5-B222-CC0BA793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9FA-2E71-469C-89C4-2ACA915C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EBAA-CD01-4506-91CF-E118C190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445-3F4A-4F8E-B6D8-C05ECA3E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603F-645D-47CF-9FBF-9E0FC9B6C8AC}" type="datetime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Федорова 102-350-8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8F66-EA5E-45BD-83FF-98C91F64E840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B72F-C576-4536-ADAD-987C4FE76AED}" type="datetime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Федорова 102-350-8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1BCC-35F7-4714-9B65-1B511630D9BF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81835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ru-RU" sz="4900" spc="-1" strike="noStrike">
                <a:solidFill>
                  <a:srgbClr val="7388ce"/>
                </a:solidFill>
                <a:latin typeface="Palatino Linotype"/>
              </a:rPr>
              <a:t>Вспомните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3280" y="177336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7f7f"/>
                </a:solidFill>
                <a:latin typeface="Century Gothic"/>
              </a:rPr>
              <a:t>Что такое планета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7f7f"/>
                </a:solidFill>
                <a:latin typeface="Century Gothic"/>
              </a:rPr>
              <a:t>Какую форму имеют планеты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7f7f"/>
                </a:solidFill>
                <a:latin typeface="Century Gothic"/>
              </a:rPr>
              <a:t>Что такое горизонт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1771-DA3F-4EC8-9B1F-B9AB7D5281C7}" type="slidenum">
              <a:rPr b="0" lang="ru-RU" sz="1600" spc="-1" strike="noStrike">
                <a:solidFill>
                  <a:srgbClr val="2f5897"/>
                </a:solidFill>
                <a:latin typeface="Arial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17056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f5897"/>
                </a:solidFill>
                <a:latin typeface="Palatino Linotype"/>
              </a:rPr>
              <a:t>Тема урока: </a:t>
            </a:r>
            <a:br>
              <a:rPr sz="8000"/>
            </a:br>
            <a:r>
              <a:rPr b="0" lang="ru-RU" sz="8000" spc="-1" strike="noStrike">
                <a:solidFill>
                  <a:srgbClr val="2f5897"/>
                </a:solidFill>
                <a:latin typeface="Palatino Linotype"/>
              </a:rPr>
              <a:t>От плоской Земли к земному шару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Номер слайда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0F54-7A94-4076-9BE3-557EA73924FF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1"/>
          <a:stretch/>
        </p:blipFill>
        <p:spPr>
          <a:xfrm>
            <a:off x="2556000" y="3141720"/>
            <a:ext cx="41241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81835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7388ce"/>
                </a:solidFill>
                <a:latin typeface="Palatino Linotype"/>
              </a:rPr>
              <a:t>Плоская планета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2920" y="1125360"/>
            <a:ext cx="8101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На большом открытом  пространстве мы видим обширную плоскость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f7f7f"/>
                </a:solidFill>
                <a:latin typeface="Century Gothic"/>
              </a:rPr>
              <a:t>Горизонт</a:t>
            </a: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 — условная линия, ограничивающая часть поверхности Земли, которую видит наблюдатель на открытой местности или на море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Древним людям никто не мог сказать про то, что Земля – шар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Номер слайда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D901-1BC4-4C6A-A1A1-DE422C269D41}" type="slidenum">
              <a:rPr b="0" lang="ru-RU" sz="1600" spc="-1" strike="noStrike">
                <a:solidFill>
                  <a:srgbClr val="2f589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http://kak-fotografirovat.com/wp-content/uploads/2012/04/liniya-gorizonta.jpg"/>
          <p:cNvPicPr/>
          <p:nvPr/>
        </p:nvPicPr>
        <p:blipFill>
          <a:blip r:embed="rId1"/>
          <a:stretch/>
        </p:blipFill>
        <p:spPr>
          <a:xfrm>
            <a:off x="2124000" y="2708280"/>
            <a:ext cx="417672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88640"/>
            <a:ext cx="81835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0" lang="ru-RU" sz="4900" spc="-1" strike="noStrike">
                <a:solidFill>
                  <a:srgbClr val="7388ce"/>
                </a:solidFill>
                <a:latin typeface="Palatino Linotype"/>
              </a:rPr>
              <a:t>Первый шаг к истине</a:t>
            </a: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539640" y="1004760"/>
            <a:ext cx="2427480" cy="250992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0EB4-9D11-46D2-96B9-F3209D634B42}" type="slidenum">
              <a:rPr b="0" lang="ru-RU" sz="1600" spc="-1" strike="noStrike">
                <a:solidFill>
                  <a:srgbClr val="2f589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611280" y="565956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 истины было еще далек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о первый шаг был к ней сде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5364000" y="1341360"/>
            <a:ext cx="3048120" cy="212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3"/>
          <a:stretch/>
        </p:blipFill>
        <p:spPr>
          <a:xfrm>
            <a:off x="2459160" y="3645000"/>
            <a:ext cx="40003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81835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7388ce"/>
                </a:solidFill>
                <a:latin typeface="Palatino Linotype"/>
              </a:rPr>
              <a:t>Шар – это красиво!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431640" y="141300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08" name="Номер слайда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CD01-1B13-44E5-9DFE-30AEF2B25391}" type="slidenum">
              <a:rPr b="0" lang="ru-RU" sz="1600" spc="-1" strike="noStrike">
                <a:solidFill>
                  <a:srgbClr val="2f589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3492360" y="1268280"/>
            <a:ext cx="44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ифагор - первый математик, считал шар самой красивой фигу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4043520" y="3068640"/>
            <a:ext cx="3951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720960"/>
            <a:ext cx="86407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r>
              <a:rPr b="0" lang="ru-RU" sz="3600" spc="-1" strike="noStrike">
                <a:solidFill>
                  <a:srgbClr val="7388ce"/>
                </a:solidFill>
                <a:latin typeface="Palatino Linotype"/>
              </a:rPr>
              <a:t>1. Лунное </a:t>
            </a:r>
            <a:br>
              <a:rPr sz="3600"/>
            </a:br>
            <a:r>
              <a:rPr b="0" lang="ru-RU" sz="3600" spc="-1" strike="noStrike">
                <a:solidFill>
                  <a:srgbClr val="7388ce"/>
                </a:solidFill>
                <a:latin typeface="Palatino Linotype"/>
              </a:rPr>
              <a:t>затмение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7388ce"/>
                </a:solidFill>
                <a:latin typeface="Palatino Linotype"/>
              </a:rPr>
              <a:t>2. Появление корабля из-за горизонта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1"/>
          <a:stretch/>
        </p:blipFill>
        <p:spPr>
          <a:xfrm>
            <a:off x="539640" y="663480"/>
            <a:ext cx="2016360" cy="2721240"/>
          </a:xfrm>
          <a:prstGeom prst="rect">
            <a:avLst/>
          </a:prstGeom>
          <a:ln w="0">
            <a:noFill/>
          </a:ln>
        </p:spPr>
      </p:pic>
      <p:sp>
        <p:nvSpPr>
          <p:cNvPr id="113" name="Номер слайда 7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51AE-D41A-4E10-8B92-726565B08927}" type="slidenum">
              <a:rPr b="0" lang="ru-RU" sz="1600" spc="-1" strike="noStrike">
                <a:solidFill>
                  <a:srgbClr val="2f589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2771640" y="37800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истотель – философ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азал шарообраз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емли на основе наблю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"/>
          <p:cNvPicPr/>
          <p:nvPr/>
        </p:nvPicPr>
        <p:blipFill>
          <a:blip r:embed="rId2"/>
          <a:stretch/>
        </p:blipFill>
        <p:spPr>
          <a:xfrm>
            <a:off x="6227640" y="1989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"/>
          <p:cNvPicPr/>
          <p:nvPr/>
        </p:nvPicPr>
        <p:blipFill>
          <a:blip r:embed="rId3"/>
          <a:stretch/>
        </p:blipFill>
        <p:spPr>
          <a:xfrm>
            <a:off x="2987640" y="4581360"/>
            <a:ext cx="25923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3906720" cy="4572000"/>
          </a:xfrm>
          <a:prstGeom prst="rect">
            <a:avLst/>
          </a:prstGeom>
          <a:ln w="0">
            <a:noFill/>
          </a:ln>
        </p:spPr>
      </p:pic>
      <p:sp>
        <p:nvSpPr>
          <p:cNvPr id="118" name="Номер слайда 6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6361-EDA8-4B5A-8028-5AC7D0C3533E}" type="slidenum">
              <a:rPr b="0" lang="ru-RU" sz="1600" spc="-1" strike="noStrike">
                <a:solidFill>
                  <a:srgbClr val="2f589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539640" y="54936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Эратосфен – уче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первым вычисл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размеры земного ш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39640" y="43671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ина окружности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ратосфену -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969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798120" y="5416560"/>
            <a:ext cx="65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временные измерения окружности Земли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0075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684360" y="1976400"/>
            <a:ext cx="300168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1200" y="364680"/>
            <a:ext cx="81835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7388ce"/>
                </a:solidFill>
                <a:latin typeface="Palatino Linotype"/>
              </a:rPr>
              <a:t>Проверка знаний нового материала</a:t>
            </a: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3280" y="1483920"/>
            <a:ext cx="8183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Почему люди в древности считали, что Земля плоская?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64960" indent="-264960"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Как в Древней Индии представляли строение и форму Земли?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64960" indent="-264960"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Кто из ученых древности рассчитал размеры земного шара?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64960" indent="-264960"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Какие доказательства шарообразности Земли привел Аристотель?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64960" indent="-264960"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При какой еще форме Земли возможно постепенное исчезновение корабля за горизонтом?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64960" indent="-264960"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Какое событие 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XX </a:t>
            </a: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века окончательно доказало шарообразность Земли?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64960" indent="-264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 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64960" indent="-264960"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1004-AB02-453F-B6FE-A066F367FA82}" type="slidenum">
              <a:rPr b="0" lang="ru-RU" sz="1600" spc="-1" strike="noStrike">
                <a:solidFill>
                  <a:srgbClr val="2f589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ex</dc:creator>
  <dc:description/>
  <dc:language>en-US</dc:language>
  <cp:lastModifiedBy>Alex</cp:lastModifiedBy>
  <dcterms:modified xsi:type="dcterms:W3CDTF">2015-10-12T19:00:10Z</dcterms:modified>
  <cp:revision>31</cp:revision>
  <dc:subject/>
  <dc:title>От плоской Земли к земному шару</dc:title>
</cp:coreProperties>
</file>