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jpeg" ContentType="image/jpeg"/>
  <Override PartName="/ppt/media/image2.png" ContentType="image/png"/>
  <Override PartName="/ppt/media/image10.wmf" ContentType="image/x-wmf"/>
  <Override PartName="/ppt/media/image31.jpeg" ContentType="image/jpeg"/>
  <Override PartName="/ppt/media/image39.png" ContentType="image/png"/>
  <Override PartName="/ppt/media/image30.png" ContentType="image/png"/>
  <Override PartName="/ppt/media/image13.wmf" ContentType="image/x-wmf"/>
  <Override PartName="/ppt/media/image5.png" ContentType="image/png"/>
  <Override PartName="/ppt/media/image28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1.png" ContentType="image/png"/>
  <Override PartName="/ppt/media/image9.wmf" ContentType="image/x-wmf"/>
  <Override PartName="/ppt/media/image42.jpeg" ContentType="image/jpeg"/>
  <Override PartName="/ppt/media/image14.png" ContentType="image/png"/>
  <Override PartName="/ppt/media/image4.jpeg" ContentType="image/jpeg"/>
  <Override PartName="/ppt/media/image40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C9A-5648-429E-BD0A-A3C25BF1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460-C499-4462-AC37-7957E3B3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DC7-A3D0-44FF-88E4-F2D57DD0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A38-FE58-4958-8051-B94F7D31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8A63-84CF-42F4-87A2-AE961807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6DC3-B3B0-4FBA-B506-3DA869FE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2FE9-9111-4984-9181-B61FD539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B293-F8A2-4B97-A894-2833CFBC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FA1C-0B96-4260-A398-35A4E963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BB21-9CD5-487E-B35C-B79E4AC6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4382-EAC7-4950-8F62-CF92F8DD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0DB-825D-44D6-8E9C-7EB415A7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0D76-6B34-4CCE-8971-4DFDC731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0B80-D506-4E43-BD81-B6D79B09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A630-9FD4-4853-B293-DB6E8DC4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0020-3D64-472F-82F4-61357AA5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0434-8B2B-476E-B419-DC331BE7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3D87C-535E-4BC0-98C9-13AEBABC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6DD76-205F-4E4E-B0A4-03AF3BEE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CE544-9667-4AEE-8A57-44536AFA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D95CD-FAE0-4BF7-8A26-26CF7FB5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A7F0-50D1-49C9-9A9D-10F74B74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B73-1AFB-486E-9FD4-DA34B91F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1CCB7-DAE7-4877-B70E-BBC344F5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5A0F3-2B8D-4BC7-95CD-D189C3DE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E9009-1EE4-462D-96EE-7E456ED2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97053-8776-44A6-80D8-5A7B7DAA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BA61-B589-4BFC-A144-428CA97E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6455-E3A1-4D4F-9AA1-D9BE0E41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9DCF-ABDB-49EB-AAA2-38800573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7C3E-7AA5-4295-B542-A61F4298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1A19E-CA73-45D3-8190-D1D3E79D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A0330-6464-47F9-9DF1-43C414F8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B1D-FF3D-4C58-9051-3FA7A998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CAEFB-9C20-48D4-A2B6-BBB3E0B7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0338-2DD2-49FA-8819-74F538B7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4BB8F-4D3E-4E05-8C80-E765CB08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F9197-58BE-4729-BD92-BF24D002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9DEB4-FC9C-4D7F-B1F3-EA21655F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7444B-08D5-4C50-BD1D-962DFA0A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89E15-08A3-47AB-B49B-29AD0D49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6B8D6-A333-47A3-9D32-4C57A2D6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2207A-1E98-46B8-AA74-EB0830AF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3F1-6AEA-44F0-AAC0-AC63D3B5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494-3F95-4728-9A86-8728176C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04E-F369-45F5-9539-53CC6ED8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5242-0C02-40DC-85B2-BCD66200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A96-BA7A-4E88-BA75-711E84F4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D8AC-BBBB-4A26-8350-236C917A602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BAFF-F969-4474-BA90-C627F545CA4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85BF-0ACC-4E33-B1CC-3057E7FD9C6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6B02-1DBD-49E6-80BB-639CCF1D437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image" Target="../media/image12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4"/>
          <p:cNvGraphicFramePr/>
          <p:nvPr/>
        </p:nvGraphicFramePr>
        <p:xfrm>
          <a:off x="785880" y="3429000"/>
          <a:ext cx="165744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3429000"/>
                    <a:ext cx="165744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5500800" y="3357720"/>
          <a:ext cx="2298600" cy="20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0800" y="3357720"/>
                    <a:ext cx="229860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2928960" y="4500720"/>
          <a:ext cx="2101680" cy="14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28960" y="4500720"/>
                    <a:ext cx="21016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8"/>
          <p:cNvGraphicFramePr/>
          <p:nvPr/>
        </p:nvGraphicFramePr>
        <p:xfrm>
          <a:off x="3286080" y="2357280"/>
          <a:ext cx="1611360" cy="178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6080" y="2357280"/>
                    <a:ext cx="16113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0"/>
          <p:cNvGraphicFramePr/>
          <p:nvPr/>
        </p:nvGraphicFramePr>
        <p:xfrm>
          <a:off x="6429240" y="2143080"/>
          <a:ext cx="2159280" cy="125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29240" y="2143080"/>
                    <a:ext cx="215928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1"/>
          <p:cNvGraphicFramePr/>
          <p:nvPr/>
        </p:nvGraphicFramePr>
        <p:xfrm>
          <a:off x="5572080" y="5715000"/>
          <a:ext cx="1727280" cy="6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72080" y="5715000"/>
                    <a:ext cx="172728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WordArt 17" descr=""/>
          <p:cNvPicPr/>
          <p:nvPr/>
        </p:nvPicPr>
        <p:blipFill>
          <a:blip r:embed="rId13"/>
          <a:stretch/>
        </p:blipFill>
        <p:spPr>
          <a:xfrm>
            <a:off x="774720" y="487440"/>
            <a:ext cx="7381800" cy="124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Object 19"/>
          <p:cNvGraphicFramePr/>
          <p:nvPr/>
        </p:nvGraphicFramePr>
        <p:xfrm>
          <a:off x="1857240" y="2357280"/>
          <a:ext cx="855720" cy="914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9" name="Object 1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57240" y="2357280"/>
                    <a:ext cx="855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олодец! Так держать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Picture 3" descr="C:\Documents and Settings\Admin\Рабочий стол\Трифонова\clap_hands_960x540.jpg"/>
          <p:cNvPicPr/>
          <p:nvPr/>
        </p:nvPicPr>
        <p:blipFill>
          <a:blip r:embed="rId1"/>
          <a:stretch/>
        </p:blipFill>
        <p:spPr>
          <a:xfrm>
            <a:off x="4143240" y="3143160"/>
            <a:ext cx="4071960" cy="2871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-12600" y="208080"/>
            <a:ext cx="9332640" cy="12967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500040" y="1928880"/>
            <a:ext cx="2565360" cy="1071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9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"/>
          <p:cNvPicPr/>
          <p:nvPr/>
        </p:nvPicPr>
        <p:blipFill>
          <a:blip r:embed="rId3"/>
          <a:stretch/>
        </p:blipFill>
        <p:spPr>
          <a:xfrm>
            <a:off x="285840" y="3357720"/>
            <a:ext cx="3278160" cy="1928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2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4"/>
          <a:stretch/>
        </p:blipFill>
        <p:spPr>
          <a:xfrm>
            <a:off x="5715000" y="1857240"/>
            <a:ext cx="2500200" cy="10652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5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"/>
          <p:cNvPicPr/>
          <p:nvPr/>
        </p:nvPicPr>
        <p:blipFill>
          <a:blip r:embed="rId5"/>
          <a:stretch/>
        </p:blipFill>
        <p:spPr>
          <a:xfrm>
            <a:off x="5715000" y="3429000"/>
            <a:ext cx="2786040" cy="11858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8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9" descr=""/>
          <p:cNvPicPr/>
          <p:nvPr/>
        </p:nvPicPr>
        <p:blipFill>
          <a:blip r:embed="rId6"/>
          <a:stretch/>
        </p:blipFill>
        <p:spPr>
          <a:xfrm>
            <a:off x="3714840" y="4857840"/>
            <a:ext cx="1982520" cy="16430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1"/>
          <p:cNvSpPr/>
          <p:nvPr/>
        </p:nvSpPr>
        <p:spPr>
          <a:xfrm>
            <a:off x="0" y="2209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C:\Documents and Settings\Admin\Рабочий стол\Трифонова\0a0910ab589b13090ad21e1016092b00.jpeg"/>
          <p:cNvPicPr/>
          <p:nvPr/>
        </p:nvPicPr>
        <p:blipFill>
          <a:blip r:embed="rId7"/>
          <a:stretch/>
        </p:blipFill>
        <p:spPr>
          <a:xfrm>
            <a:off x="6786720" y="4394160"/>
            <a:ext cx="1714320" cy="211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3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357120" y="1928880"/>
            <a:ext cx="1609920" cy="13906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2500200" y="3214800"/>
            <a:ext cx="1704960" cy="15332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9" descr=""/>
          <p:cNvPicPr/>
          <p:nvPr/>
        </p:nvPicPr>
        <p:blipFill>
          <a:blip r:embed="rId4"/>
          <a:stretch/>
        </p:blipFill>
        <p:spPr>
          <a:xfrm>
            <a:off x="4572000" y="4714920"/>
            <a:ext cx="2190600" cy="1533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1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2" descr="C:\Documents and Settings\Admin\Рабочий стол\Трифонова\67365993_zna.jpg"/>
          <p:cNvPicPr/>
          <p:nvPr/>
        </p:nvPicPr>
        <p:blipFill>
          <a:blip r:embed="rId5"/>
          <a:stretch/>
        </p:blipFill>
        <p:spPr>
          <a:xfrm>
            <a:off x="5857920" y="1951200"/>
            <a:ext cx="2786040" cy="269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611280" y="57168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шите уравне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"/>
          <p:cNvPicPr/>
          <p:nvPr/>
        </p:nvPicPr>
        <p:blipFill>
          <a:blip r:embed="rId1"/>
          <a:stretch/>
        </p:blipFill>
        <p:spPr>
          <a:xfrm>
            <a:off x="5786280" y="1500120"/>
            <a:ext cx="3181680" cy="12286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9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"/>
          <p:cNvPicPr/>
          <p:nvPr/>
        </p:nvPicPr>
        <p:blipFill>
          <a:blip r:embed="rId2"/>
          <a:stretch/>
        </p:blipFill>
        <p:spPr>
          <a:xfrm>
            <a:off x="3643200" y="3000240"/>
            <a:ext cx="3181320" cy="12290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2"/>
          <p:cNvSpPr/>
          <p:nvPr/>
        </p:nvSpPr>
        <p:spPr>
          <a:xfrm>
            <a:off x="0" y="1685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3" descr=""/>
          <p:cNvPicPr/>
          <p:nvPr/>
        </p:nvPicPr>
        <p:blipFill>
          <a:blip r:embed="rId3"/>
          <a:stretch/>
        </p:blipFill>
        <p:spPr>
          <a:xfrm>
            <a:off x="428760" y="4357800"/>
            <a:ext cx="3429000" cy="22190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5"/>
          <p:cNvSpPr/>
          <p:nvPr/>
        </p:nvSpPr>
        <p:spPr>
          <a:xfrm>
            <a:off x="0" y="267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C:\Documents and Settings\Admin\Рабочий стол\Трифонова\739066235721111296.png"/>
          <p:cNvPicPr/>
          <p:nvPr/>
        </p:nvPicPr>
        <p:blipFill>
          <a:blip r:embed="rId4"/>
          <a:stretch/>
        </p:blipFill>
        <p:spPr>
          <a:xfrm>
            <a:off x="785880" y="1500120"/>
            <a:ext cx="1353960" cy="242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етоды решения показательных уравнений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123640" y="1557360"/>
            <a:ext cx="46198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000160" y="2214720"/>
            <a:ext cx="67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етод уравнивания показа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714840" y="29289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ernhardMod BT"/>
              </a:rPr>
              <a:t>(1/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BernhardMod BT"/>
              </a:rPr>
              <a:t>2х-3,5</a:t>
            </a:r>
            <a:r>
              <a:rPr b="0" lang="ru-RU" sz="3200" spc="-1" strike="noStrike">
                <a:solidFill>
                  <a:srgbClr val="000000"/>
                </a:solidFill>
                <a:latin typeface="BernhardMod BT"/>
              </a:rPr>
              <a:t>=(1/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BernhardMod BT"/>
              </a:rPr>
              <a:t>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286160" y="3500280"/>
            <a:ext cx="20163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ernhardMod BT"/>
              </a:rPr>
              <a:t>2х-3,5=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ernhardMod BT"/>
              </a:rPr>
              <a:t>2х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BernhardMod BT"/>
              </a:rPr>
              <a:t>Х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ernhardMod BT"/>
              </a:rPr>
              <a:t>Ответ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0" descr=""/>
          <p:cNvPicPr/>
          <p:nvPr/>
        </p:nvPicPr>
        <p:blipFill>
          <a:blip r:embed="rId1"/>
          <a:stretch/>
        </p:blipFill>
        <p:spPr>
          <a:xfrm>
            <a:off x="2857680" y="1428840"/>
            <a:ext cx="2643120" cy="833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2"/>
          <p:cNvSpPr/>
          <p:nvPr/>
        </p:nvSpPr>
        <p:spPr>
          <a:xfrm>
            <a:off x="0" y="1133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3" descr="C:\Documents and Settings\Admin\Рабочий стол\Трифонова\11928-18_1.jpg"/>
          <p:cNvPicPr/>
          <p:nvPr/>
        </p:nvPicPr>
        <p:blipFill>
          <a:blip r:embed="rId2"/>
          <a:stretch/>
        </p:blipFill>
        <p:spPr>
          <a:xfrm>
            <a:off x="642960" y="3571920"/>
            <a:ext cx="2384280" cy="1714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13840" y="1988640"/>
            <a:ext cx="5797800" cy="8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Функционально – графический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етод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0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1" name="Object 13"/>
          <p:cNvGraphicFramePr/>
          <p:nvPr/>
        </p:nvGraphicFramePr>
        <p:xfrm>
          <a:off x="3780000" y="1779480"/>
          <a:ext cx="5184720" cy="47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779480"/>
                    <a:ext cx="518472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7"/>
          <p:cNvSpPr/>
          <p:nvPr/>
        </p:nvSpPr>
        <p:spPr>
          <a:xfrm>
            <a:off x="1785960" y="300024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=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у=6-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2000160" y="37861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ernhardMod BT"/>
              </a:rPr>
              <a:t>Х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755640" y="5373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Ответ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900000" y="9079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ernhardMod BT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BernhardMod B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8" descr=""/>
          <p:cNvPicPr/>
          <p:nvPr/>
        </p:nvPicPr>
        <p:blipFill>
          <a:blip r:embed="rId3"/>
          <a:stretch/>
        </p:blipFill>
        <p:spPr>
          <a:xfrm>
            <a:off x="1643040" y="1071720"/>
            <a:ext cx="1714680" cy="4935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0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785520"/>
            <a:ext cx="8388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ernhardMod BT"/>
              </a:rPr>
              <a:t>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BernhardMod BT"/>
              </a:rPr>
              <a:t>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remen Bd BT"/>
              </a:rPr>
              <a:t>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несение за скобки общего множителя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143080" y="17146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ernhardMod BT"/>
              </a:rPr>
              <a:t>Вынести за скобки 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BernhardMod BT"/>
              </a:rPr>
              <a:t>2х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857680" y="2214720"/>
            <a:ext cx="3816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ernhardMod BT"/>
              </a:rPr>
              <a:t>2х-1</a:t>
            </a: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(25+10+1)=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ernhardMod BT"/>
              </a:rPr>
              <a:t>2х-1</a:t>
            </a: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*36=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ernhardMod BT"/>
              </a:rPr>
              <a:t>2х-1</a:t>
            </a: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=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ernhardMod BT"/>
              </a:rPr>
              <a:t>2х-1</a:t>
            </a: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=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ernhardMod B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2х-1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ernhardMod BT"/>
              </a:rPr>
              <a:t>Х=1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Ответ:1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3071880" y="785880"/>
            <a:ext cx="4438440" cy="461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C:\Documents and Settings\Admin\Рабочий стол\Трифонова\schoolboy.jpg"/>
          <p:cNvPicPr/>
          <p:nvPr/>
        </p:nvPicPr>
        <p:blipFill>
          <a:blip r:embed="rId2"/>
          <a:stretch/>
        </p:blipFill>
        <p:spPr>
          <a:xfrm>
            <a:off x="6286680" y="4357800"/>
            <a:ext cx="2381040" cy="178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1071720"/>
            <a:ext cx="748836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Bremen Bd BT"/>
              </a:rPr>
              <a:t>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етод введения новой переменной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714400" y="642960"/>
            <a:ext cx="36716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ernhardMod BT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5357880" y="19288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ernhardMod BT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t; t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124000" y="1636560"/>
            <a:ext cx="374508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ernhardMod B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-8t-9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ernhardMod BT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=4-5</a:t>
            </a: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=-</a:t>
            </a: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ernhardMod B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=4+5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-1 не удовлетворяет условию уравнения </a:t>
            </a: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t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ernhardMod BT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ernhardMod BT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Ответ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"/>
          <p:cNvPicPr/>
          <p:nvPr/>
        </p:nvPicPr>
        <p:blipFill>
          <a:blip r:embed="rId1"/>
          <a:stretch/>
        </p:blipFill>
        <p:spPr>
          <a:xfrm>
            <a:off x="3357720" y="714240"/>
            <a:ext cx="2963880" cy="4622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5" descr=""/>
          <p:cNvPicPr/>
          <p:nvPr/>
        </p:nvPicPr>
        <p:blipFill>
          <a:blip r:embed="rId1"/>
          <a:stretch/>
        </p:blipFill>
        <p:spPr>
          <a:xfrm>
            <a:off x="571680" y="2928960"/>
            <a:ext cx="4838400" cy="485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4" descr=""/>
          <p:cNvPicPr/>
          <p:nvPr/>
        </p:nvPicPr>
        <p:blipFill>
          <a:blip r:embed="rId2"/>
          <a:stretch/>
        </p:blipFill>
        <p:spPr>
          <a:xfrm>
            <a:off x="3929040" y="4000680"/>
            <a:ext cx="4781520" cy="533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3" descr=""/>
          <p:cNvPicPr/>
          <p:nvPr/>
        </p:nvPicPr>
        <p:blipFill>
          <a:blip r:embed="rId3"/>
          <a:stretch/>
        </p:blipFill>
        <p:spPr>
          <a:xfrm>
            <a:off x="571680" y="4786200"/>
            <a:ext cx="3466800" cy="47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2" descr=""/>
          <p:cNvPicPr/>
          <p:nvPr/>
        </p:nvPicPr>
        <p:blipFill>
          <a:blip r:embed="rId4"/>
          <a:stretch/>
        </p:blipFill>
        <p:spPr>
          <a:xfrm>
            <a:off x="4572000" y="5715000"/>
            <a:ext cx="4086360" cy="5335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7"/>
          <p:cNvSpPr/>
          <p:nvPr/>
        </p:nvSpPr>
        <p:spPr>
          <a:xfrm>
            <a:off x="47628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47628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9"/>
          <p:cNvSpPr/>
          <p:nvPr/>
        </p:nvSpPr>
        <p:spPr>
          <a:xfrm>
            <a:off x="47628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0"/>
          <p:cNvSpPr/>
          <p:nvPr/>
        </p:nvSpPr>
        <p:spPr>
          <a:xfrm>
            <a:off x="4762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428760" y="1152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Calibri"/>
              </a:rPr>
              <a:t>Молодец! Ты добрался до самых интересных, но непростых заданий! Будь внимателен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Calibri"/>
              </a:rPr>
              <a:t>Открой методы решения следующих уравн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2" descr="C:\Documents and Settings\Admin\Рабочий стол\Трифонова\102858843_4278666_referat2.gif"/>
          <p:cNvPicPr/>
          <p:nvPr/>
        </p:nvPicPr>
        <p:blipFill>
          <a:blip r:embed="rId5"/>
          <a:stretch/>
        </p:blipFill>
        <p:spPr>
          <a:xfrm>
            <a:off x="7000920" y="2000160"/>
            <a:ext cx="1417680" cy="1857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06:05:16Z</dcterms:created>
  <dc:creator>Алексей</dc:creator>
  <dc:description/>
  <dc:language>en-US</dc:language>
  <cp:lastModifiedBy> Admin</cp:lastModifiedBy>
  <dcterms:modified xsi:type="dcterms:W3CDTF">2014-08-28T10:40:22Z</dcterms:modified>
  <cp:revision>58</cp:revision>
  <dc:subject/>
  <dc:title>Презентация не тему: «Показктельные уравнения</dc:title>
</cp:coreProperties>
</file>