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jpeg" ContentType="image/jpeg"/>
  <Override PartName="/ppt/media/image2.png" ContentType="image/png"/>
  <Override PartName="/ppt/media/image10.wmf" ContentType="image/x-wmf"/>
  <Override PartName="/ppt/media/image31.jpeg" ContentType="image/jpeg"/>
  <Override PartName="/ppt/media/image39.png" ContentType="image/png"/>
  <Override PartName="/ppt/media/image30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1.png" ContentType="image/png"/>
  <Override PartName="/ppt/media/image9.wmf" ContentType="image/x-wmf"/>
  <Override PartName="/ppt/media/image42.jpeg" ContentType="image/jpeg"/>
  <Override PartName="/ppt/media/image14.png" ContentType="image/png"/>
  <Override PartName="/ppt/media/image4.jpeg" ContentType="image/jpeg"/>
  <Override PartName="/ppt/media/image4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D05-D1A1-4840-97C1-06BD9E44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12C-3FD4-4BA8-868F-EBDAA0BE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1A9-A69E-45EF-B9E8-7BCC168C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FD2-8AA1-47D4-819D-7C8BDB43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FCC1-CF25-4750-B7EC-6C4D3CF0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1F7B-B55B-4F49-AC24-A33EB6BA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BC48-7173-4C05-AD64-2A52A26D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888C-379F-4211-BAF4-96CE98CE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35AC-21D0-4494-9A9A-EA1FAA11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C2F1-A5BC-40BC-87D8-9D1E7FD2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F84C-93E2-463B-83B8-A41F9639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4CE-F934-4B00-9804-4E986603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0AE4-DF82-4AF2-9334-57837225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9B95-280E-4F96-BD02-19958952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3491-D779-47F6-9C32-A4A4CAA9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D35D-C116-40C2-ACC1-DF62A5A9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3A48-C9A8-448E-80E6-50B9B98B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9FD7-08E4-4A04-BEB9-86A5B087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EE25-256B-4DD3-AC82-FA57F9DD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5672-9F43-49A0-BEBD-1BAA6759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6DB5-4FA4-4D27-9BF1-8DD625A5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19C4-A8E6-41F4-8B75-9AFBC38C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987-AEAC-4548-ABEC-C2E8FFEF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B44F0-83A0-4C64-AC8C-3053B77F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2AC50-0869-46BE-9C85-B906F659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2205A-8CAF-4111-B8EC-459D2724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3B9FD-0C5D-4CF4-B63F-22BE3858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FEB1-95BA-4E1C-BC6B-29D2F483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370B-0297-43E1-808D-22A14D7F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3C46-EBAB-401A-A668-D7B77B7A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3E0E-91AC-47FA-8966-2DFE106E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29D59-8F0C-41E6-93DF-42CC4E7C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9A19-F9AB-48C5-851F-8254CF3D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356-3EF6-4293-8126-50CD4F44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2BFD-8527-4395-8BDA-DE2005E8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61B7-0BC9-47D4-9A11-A57D7CD8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B17F9-0B90-4B0A-98C9-3B2C3C74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B57B5-57B6-47CB-A97A-8FBEFF79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6246-55F6-4885-8B46-76CCB85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B9B30-A899-479C-A412-141E209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858F5-8B2E-4ECE-AEFA-7704823E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F7E6-8EAC-4D82-9569-4EF2FF2E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1695F-B106-430D-845C-33B9251F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2B6-7C78-4CD6-9C63-9676D545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79D-CDE6-4280-86C8-1B9EDD8A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330-32B8-437B-A497-C29ABBE1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DB1-BCE5-400E-A077-B0E13925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96B-637E-400E-A339-3AAD2823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8635-8828-4CCB-8EB7-83922131723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5BC3-761C-4F7D-A9CF-458A47BF9A8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11EB-0568-4287-9F03-932E85E544E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3A66-BDE1-4EC2-8023-8BDC109A2C2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image" Target="../media/image1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4"/>
          <p:cNvGraphicFramePr/>
          <p:nvPr/>
        </p:nvGraphicFramePr>
        <p:xfrm>
          <a:off x="785880" y="3429000"/>
          <a:ext cx="16574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3429000"/>
                    <a:ext cx="16574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5500800" y="3357720"/>
          <a:ext cx="2298600" cy="20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0800" y="3357720"/>
                    <a:ext cx="229860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2928960" y="4500720"/>
          <a:ext cx="2101680" cy="14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8960" y="4500720"/>
                    <a:ext cx="21016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8"/>
          <p:cNvGraphicFramePr/>
          <p:nvPr/>
        </p:nvGraphicFramePr>
        <p:xfrm>
          <a:off x="3286080" y="2357280"/>
          <a:ext cx="1611360" cy="178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6080" y="2357280"/>
                    <a:ext cx="16113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0"/>
          <p:cNvGraphicFramePr/>
          <p:nvPr/>
        </p:nvGraphicFramePr>
        <p:xfrm>
          <a:off x="6429240" y="2143080"/>
          <a:ext cx="2159280" cy="125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29240" y="2143080"/>
                    <a:ext cx="215928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1"/>
          <p:cNvGraphicFramePr/>
          <p:nvPr/>
        </p:nvGraphicFramePr>
        <p:xfrm>
          <a:off x="5572080" y="5715000"/>
          <a:ext cx="1727280" cy="6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72080" y="5715000"/>
                    <a:ext cx="172728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WordArt 17" descr=""/>
          <p:cNvPicPr/>
          <p:nvPr/>
        </p:nvPicPr>
        <p:blipFill>
          <a:blip r:embed="rId13"/>
          <a:stretch/>
        </p:blipFill>
        <p:spPr>
          <a:xfrm>
            <a:off x="774720" y="487440"/>
            <a:ext cx="7381800" cy="124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Object 19"/>
          <p:cNvGraphicFramePr/>
          <p:nvPr/>
        </p:nvGraphicFramePr>
        <p:xfrm>
          <a:off x="1857240" y="2357280"/>
          <a:ext cx="855720" cy="914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57240" y="2357280"/>
                    <a:ext cx="855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лодец! Так держать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3" descr="C:\Documents and Settings\Admin\Рабочий стол\Трифонова\clap_hands_960x540.jpg"/>
          <p:cNvPicPr/>
          <p:nvPr/>
        </p:nvPicPr>
        <p:blipFill>
          <a:blip r:embed="rId1"/>
          <a:stretch/>
        </p:blipFill>
        <p:spPr>
          <a:xfrm>
            <a:off x="4143240" y="3143160"/>
            <a:ext cx="4071960" cy="2871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-12600" y="208080"/>
            <a:ext cx="9332640" cy="12967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500040" y="1928880"/>
            <a:ext cx="2565360" cy="1071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9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285840" y="3357720"/>
            <a:ext cx="3278160" cy="1928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2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4"/>
          <a:stretch/>
        </p:blipFill>
        <p:spPr>
          <a:xfrm>
            <a:off x="5715000" y="1857240"/>
            <a:ext cx="2500200" cy="1065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5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5"/>
          <a:stretch/>
        </p:blipFill>
        <p:spPr>
          <a:xfrm>
            <a:off x="5715000" y="3429000"/>
            <a:ext cx="2786040" cy="11858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8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9" descr=""/>
          <p:cNvPicPr/>
          <p:nvPr/>
        </p:nvPicPr>
        <p:blipFill>
          <a:blip r:embed="rId6"/>
          <a:stretch/>
        </p:blipFill>
        <p:spPr>
          <a:xfrm>
            <a:off x="3714840" y="4857840"/>
            <a:ext cx="1982520" cy="16430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1"/>
          <p:cNvSpPr/>
          <p:nvPr/>
        </p:nvSpPr>
        <p:spPr>
          <a:xfrm>
            <a:off x="0" y="2209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C:\Documents and Settings\Admin\Рабочий стол\Трифонова\0a0910ab589b13090ad21e1016092b00.jpeg"/>
          <p:cNvPicPr/>
          <p:nvPr/>
        </p:nvPicPr>
        <p:blipFill>
          <a:blip r:embed="rId7"/>
          <a:stretch/>
        </p:blipFill>
        <p:spPr>
          <a:xfrm>
            <a:off x="6786720" y="4394160"/>
            <a:ext cx="1714320" cy="211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3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357120" y="1928880"/>
            <a:ext cx="1609920" cy="13906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2500200" y="3214800"/>
            <a:ext cx="1704960" cy="15332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9" descr=""/>
          <p:cNvPicPr/>
          <p:nvPr/>
        </p:nvPicPr>
        <p:blipFill>
          <a:blip r:embed="rId4"/>
          <a:stretch/>
        </p:blipFill>
        <p:spPr>
          <a:xfrm>
            <a:off x="4572000" y="4714920"/>
            <a:ext cx="2190600" cy="1533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1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2" descr="C:\Documents and Settings\Admin\Рабочий стол\Трифонова\67365993_zna.jpg"/>
          <p:cNvPicPr/>
          <p:nvPr/>
        </p:nvPicPr>
        <p:blipFill>
          <a:blip r:embed="rId5"/>
          <a:stretch/>
        </p:blipFill>
        <p:spPr>
          <a:xfrm>
            <a:off x="5857920" y="1951200"/>
            <a:ext cx="2786040" cy="269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611280" y="57168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шите уравне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tretch/>
        </p:blipFill>
        <p:spPr>
          <a:xfrm>
            <a:off x="5786280" y="1500120"/>
            <a:ext cx="3181680" cy="12286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9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"/>
          <p:cNvPicPr/>
          <p:nvPr/>
        </p:nvPicPr>
        <p:blipFill>
          <a:blip r:embed="rId2"/>
          <a:stretch/>
        </p:blipFill>
        <p:spPr>
          <a:xfrm>
            <a:off x="3643200" y="3000240"/>
            <a:ext cx="3181320" cy="12290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2"/>
          <p:cNvSpPr/>
          <p:nvPr/>
        </p:nvSpPr>
        <p:spPr>
          <a:xfrm>
            <a:off x="0" y="1685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3" descr=""/>
          <p:cNvPicPr/>
          <p:nvPr/>
        </p:nvPicPr>
        <p:blipFill>
          <a:blip r:embed="rId3"/>
          <a:stretch/>
        </p:blipFill>
        <p:spPr>
          <a:xfrm>
            <a:off x="428760" y="4357800"/>
            <a:ext cx="3429000" cy="22190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5"/>
          <p:cNvSpPr/>
          <p:nvPr/>
        </p:nvSpPr>
        <p:spPr>
          <a:xfrm>
            <a:off x="0" y="267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C:\Documents and Settings\Admin\Рабочий стол\Трифонова\739066235721111296.png"/>
          <p:cNvPicPr/>
          <p:nvPr/>
        </p:nvPicPr>
        <p:blipFill>
          <a:blip r:embed="rId4"/>
          <a:stretch/>
        </p:blipFill>
        <p:spPr>
          <a:xfrm>
            <a:off x="785880" y="1500120"/>
            <a:ext cx="1353960" cy="242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етоды решения показательных уравнений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123640" y="1557360"/>
            <a:ext cx="46198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000160" y="221472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етод уравнивания показа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714840" y="29289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(1/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BernhardMod BT"/>
              </a:rPr>
              <a:t>2х-3,5</a:t>
            </a: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=(1/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BernhardMod BT"/>
              </a:rPr>
              <a:t>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286160" y="3500280"/>
            <a:ext cx="2016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2х-3,5=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2х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BernhardMod BT"/>
              </a:rPr>
              <a:t>Х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Ответ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" descr=""/>
          <p:cNvPicPr/>
          <p:nvPr/>
        </p:nvPicPr>
        <p:blipFill>
          <a:blip r:embed="rId1"/>
          <a:stretch/>
        </p:blipFill>
        <p:spPr>
          <a:xfrm>
            <a:off x="2857680" y="1428840"/>
            <a:ext cx="2643120" cy="833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2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3" descr="C:\Documents and Settings\Admin\Рабочий стол\Трифонова\11928-18_1.jpg"/>
          <p:cNvPicPr/>
          <p:nvPr/>
        </p:nvPicPr>
        <p:blipFill>
          <a:blip r:embed="rId2"/>
          <a:stretch/>
        </p:blipFill>
        <p:spPr>
          <a:xfrm>
            <a:off x="642960" y="3571920"/>
            <a:ext cx="2384280" cy="1714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13840" y="1988640"/>
            <a:ext cx="5797800" cy="8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Функционально – графический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етод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0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1" name="Object 13"/>
          <p:cNvGraphicFramePr/>
          <p:nvPr/>
        </p:nvGraphicFramePr>
        <p:xfrm>
          <a:off x="3780000" y="1779480"/>
          <a:ext cx="5184720" cy="47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779480"/>
                    <a:ext cx="518472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7"/>
          <p:cNvSpPr/>
          <p:nvPr/>
        </p:nvSpPr>
        <p:spPr>
          <a:xfrm>
            <a:off x="1785960" y="300024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=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у=6-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000160" y="37861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ernhardMod BT"/>
              </a:rPr>
              <a:t>Х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755640" y="5373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Ответ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900000" y="907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ernhardMod B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BernhardMod B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"/>
          <p:cNvPicPr/>
          <p:nvPr/>
        </p:nvPicPr>
        <p:blipFill>
          <a:blip r:embed="rId3"/>
          <a:stretch/>
        </p:blipFill>
        <p:spPr>
          <a:xfrm>
            <a:off x="1643040" y="1071720"/>
            <a:ext cx="1714680" cy="4935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0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785520"/>
            <a:ext cx="8388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ernhardMod BT"/>
              </a:rPr>
              <a:t>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BernhardMod BT"/>
              </a:rPr>
              <a:t>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remen Bd BT"/>
              </a:rPr>
              <a:t>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несение за скобки общего множител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143080" y="17146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rnhardMod BT"/>
              </a:rPr>
              <a:t>Вынести за скобки 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BernhardMod BT"/>
              </a:rPr>
              <a:t>2х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857680" y="2214720"/>
            <a:ext cx="3816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2х-1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(25+10+1)=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2х-1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*36=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2х-1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=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2х-1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=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2х-1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ernhardMod BT"/>
              </a:rPr>
              <a:t>Х=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Ответ: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3071880" y="785880"/>
            <a:ext cx="4438440" cy="461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C:\Documents and Settings\Admin\Рабочий стол\Трифонова\schoolboy.jpg"/>
          <p:cNvPicPr/>
          <p:nvPr/>
        </p:nvPicPr>
        <p:blipFill>
          <a:blip r:embed="rId2"/>
          <a:stretch/>
        </p:blipFill>
        <p:spPr>
          <a:xfrm>
            <a:off x="6286680" y="4357800"/>
            <a:ext cx="2381040" cy="178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1071720"/>
            <a:ext cx="7488360" cy="691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Bremen Bd BT"/>
              </a:rPr>
              <a:t>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етод введения новой переменной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714400" y="642960"/>
            <a:ext cx="36716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ernhardMod BT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5357880" y="19288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ernhardMod BT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t; t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124000" y="1636560"/>
            <a:ext cx="374508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ernhardMod B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-8t-9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ernhardMod BT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=4-5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=-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ernhardMod B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=4+5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-1 не удовлетворяет условию уравнения 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t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ernhardMod BT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BernhardMod BT"/>
              </a:rPr>
              <a:t>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ernhardMod BT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ernhardMod BT"/>
              </a:rPr>
              <a:t>Ответ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"/>
          <p:cNvPicPr/>
          <p:nvPr/>
        </p:nvPicPr>
        <p:blipFill>
          <a:blip r:embed="rId1"/>
          <a:stretch/>
        </p:blipFill>
        <p:spPr>
          <a:xfrm>
            <a:off x="3357720" y="714240"/>
            <a:ext cx="2963880" cy="4622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5" descr=""/>
          <p:cNvPicPr/>
          <p:nvPr/>
        </p:nvPicPr>
        <p:blipFill>
          <a:blip r:embed="rId1"/>
          <a:stretch/>
        </p:blipFill>
        <p:spPr>
          <a:xfrm>
            <a:off x="571680" y="2928960"/>
            <a:ext cx="4838400" cy="48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4" descr=""/>
          <p:cNvPicPr/>
          <p:nvPr/>
        </p:nvPicPr>
        <p:blipFill>
          <a:blip r:embed="rId2"/>
          <a:stretch/>
        </p:blipFill>
        <p:spPr>
          <a:xfrm>
            <a:off x="3929040" y="4000680"/>
            <a:ext cx="4781520" cy="533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3" descr=""/>
          <p:cNvPicPr/>
          <p:nvPr/>
        </p:nvPicPr>
        <p:blipFill>
          <a:blip r:embed="rId3"/>
          <a:stretch/>
        </p:blipFill>
        <p:spPr>
          <a:xfrm>
            <a:off x="571680" y="4786200"/>
            <a:ext cx="3466800" cy="47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2" descr=""/>
          <p:cNvPicPr/>
          <p:nvPr/>
        </p:nvPicPr>
        <p:blipFill>
          <a:blip r:embed="rId4"/>
          <a:stretch/>
        </p:blipFill>
        <p:spPr>
          <a:xfrm>
            <a:off x="4572000" y="5715000"/>
            <a:ext cx="4086360" cy="5335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47628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47628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47628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4762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428760" y="1152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Calibri"/>
              </a:rPr>
              <a:t>Молодец! Ты добрался до самых интересных, но непростых заданий! Будь внимателен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Calibri"/>
              </a:rPr>
              <a:t>Открой методы решения следующих уравн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2" descr="C:\Documents and Settings\Admin\Рабочий стол\Трифонова\102858843_4278666_referat2.gif"/>
          <p:cNvPicPr/>
          <p:nvPr/>
        </p:nvPicPr>
        <p:blipFill>
          <a:blip r:embed="rId5"/>
          <a:stretch/>
        </p:blipFill>
        <p:spPr>
          <a:xfrm>
            <a:off x="7000920" y="2000160"/>
            <a:ext cx="1417680" cy="1857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6:05:16Z</dcterms:created>
  <dc:creator>Алексей</dc:creator>
  <dc:description/>
  <dc:language>en-US</dc:language>
  <cp:lastModifiedBy> Admin</cp:lastModifiedBy>
  <dcterms:modified xsi:type="dcterms:W3CDTF">2014-08-28T10:40:22Z</dcterms:modified>
  <cp:revision>58</cp:revision>
  <dc:subject/>
  <dc:title>Презентация не тему: «Показктельные уравнения</dc:title>
</cp:coreProperties>
</file>