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2FF-7A2B-460A-9931-DDBD2D91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AFE-8651-4AC6-8200-015CDECA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492-FE62-43BA-A26F-A37DEE6A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4D6-12BD-4E82-BE0A-38EBF5D4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E42D-CF21-453D-BCB0-64F60DF2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5170-7D57-44F4-8BD1-F52865B7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E00A-9F27-4B60-81FE-8229E45E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7301-BEE0-4A82-9C8A-8C244413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C807-D792-41A2-99BA-6E478F99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5F3C-C136-44AF-9EC4-0EA6B482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885B-483F-4012-B3E8-0F442EF8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F6E-966E-441E-B993-8F774D85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552D-797B-4D9F-8725-EF8A3FFD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75B5-702F-42BA-9792-3CE37A79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C53D-414D-4301-ACC2-CBAACDB8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E94C-B74C-4242-A7F9-744A3E16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CADF-EC41-40AC-A5A2-A65FA181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15E-EDC7-4E60-9D11-A3D4A4BF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106-2EE4-4234-AB87-9E21D84E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659-3EEF-40A8-A383-40244A38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BE7-3547-4EF0-82D1-B7CA248A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D62-21EA-49AF-BA11-F0FB8FB1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5E7-DB1F-412D-9CCC-30F05D6B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263-55F0-4C00-A75C-4267A97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3868-7FD0-4503-BD3B-6C2B6478E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ED11-5FEB-43D6-89D3-4A1558EC5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692360"/>
            <a:ext cx="7989840" cy="32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овет школы- основная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форма управления качеством образования МКОУ Мамонтовской ООШ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номо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ет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провождает и обеспечивает реализацию общественного заказ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гласовывая бюджетную заявку, смету бюджетного финансирования и смету расходования средств, полученных общеобразовательным учреждением от уставной приносящей доходы деятельности и из иных внебюджетных источник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вуя в распределении выплат стимулирующего характера работникам школ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ecff"/>
                </a:solidFill>
                <a:latin typeface="Arial"/>
              </a:rPr>
              <a:t>Деятельность Совета</a:t>
            </a:r>
            <a:br>
              <a:rPr sz="3700"/>
            </a:b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разработке программ развития образования, стандартов содержания и условий обучения;  нормативов финансир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разработке программ развития сети образовательных учрежден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ринятии решений о награждении работников образования ведомственными наградами, премиями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зультаты деятельно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информированности общественности о деятельности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формление общественного заказа к образован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мотивации общественности к деятельности по улучшению шко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ние условий для участия общественности в принятии решений по ключевым вопросам развития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новление  партнерских отношений с  администрацией и педагог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деятельно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инвестиционной привлекательности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знание и повышение ответственности общественности за результаты образ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имулирование всех участников образовательного процесса на конкретные действия, направленные на повышение качества образ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объективности оценивания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ecff"/>
                </a:solidFill>
                <a:latin typeface="Arial"/>
              </a:rPr>
              <a:t>Формы общественного участия в оценке и контроле качества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щественная эксперти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убличная отче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щественное наблю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утришкольный государственно-общественный мониторинг и оценка ка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ffff"/>
                </a:solidFill>
                <a:latin typeface="Arial"/>
              </a:rPr>
              <a:t>Из опыта работы по внедрению государственно-общественной системы самоуправления в школ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Федеральный Закон РФ «Об Образовании»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Ст.3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Одним из основополагающих законодательных принципов государственной политики в области образования является государственно-общественный характер управления образовательным учреждение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Владимир Путин поручил правительству разработать единую конц…"/>
          <p:cNvPicPr/>
          <p:nvPr/>
        </p:nvPicPr>
        <p:blipFill>
          <a:blip r:embed="rId1"/>
          <a:stretch/>
        </p:blipFill>
        <p:spPr>
          <a:xfrm>
            <a:off x="179280" y="476280"/>
            <a:ext cx="3060720" cy="2376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3141720"/>
            <a:ext cx="69850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95959"/>
                </a:solidFill>
                <a:latin typeface="Arial"/>
              </a:rPr>
              <a:t>«Создаваемые в школах общественные управляющие советы должны обладать реальными возможностям и влиять на решения по ключевым вопросам в жизнедеятельности школы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Владимир Владимирович Пу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Состав Совета Школы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сновные принципы деятельности Совет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цип зако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инцип открытости и гл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инцип доступности и равнопра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инцип публич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инцип ответств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номо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91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 утверждает программу развития общеобразовательного учреждения, т.е. документа, определяющего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бразовательную полити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школы,  перспективные цели и задачи школы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тандарты каче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результатов, процесса и условий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 согласовывает локальные акты общеобразовательного учреждения, устанавливающие показатели и критерии оценки качества и результативности труда работников общеобразовательного учреждения, т.е. участвует в разработке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литики управления качество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номо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ет вносит руководителю общеобразовательного учреждения предложения в ча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материально-технического обеспечения и оснащения образовательного процесса, оборудования помещений общеобразовательного учреждения (в пределах выделяемых средст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создания в общеобразовательном учреждении необходимых условий для организации питания, медицинского обслуживания обучающих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организации промежуточной и итоговой аттестации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мероприятий по охране и укреплению здоровья обучающих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таким образом участвует в согласован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тандартов качества услов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бучения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номо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овет согласовывает ключевые параметры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образовательной программы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т.е. документа, определяющего формируемые в образовательном процессе компетентности учащихся, принципы организации образовательного процесса, используемые методы и технологии), а именно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согласовывает компонент общеобразовательного учреждения государственного стандарта общего образования и профили обуч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согласовывает годовой календарный учебный график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согласовывает введение новых методик образовательного процесса и образовательных технолог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согласовывает выбор учебников из утвержденных федеральных перечней учебников, рекомендованных (допущенных) к использованию в образовательном процесс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номо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 участвует в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ценке качества и результатив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труда работников общеобразовательного учреждения, т.е.  участвует в мониторинге 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онтроле реализации общественного заказ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 участвует в подготовке и утверждает публичный (ежегодный) доклад общеобразовательного учреждения, т.е. участвует в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нализе реализации общественного заказ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едставлении его результат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широкой обществен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4:22:52Z</dcterms:created>
  <dc:creator>-</dc:creator>
  <dc:description/>
  <dc:language>en-US</dc:language>
  <cp:lastModifiedBy>User</cp:lastModifiedBy>
  <dcterms:modified xsi:type="dcterms:W3CDTF">2014-08-25T05:16:14Z</dcterms:modified>
  <cp:revision>22</cp:revision>
  <dc:subject/>
  <dc:title>Общественное участие в управлении образованием </dc:title>
</cp:coreProperties>
</file>