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353-323D-4F6E-B78C-1885CBDC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1DA-A2A8-489A-85A0-AD74456E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208-5089-4160-973F-6C7A5FD4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678-2CC4-437A-978E-DBBE1CD3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1F20-D9F0-4139-8F89-7520213A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4502-B34F-419B-93BA-58BC0B4A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0083-AF1F-4346-8B03-419049AB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E782-77DC-49DF-89A0-6F17EAC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A891-1217-4EF7-9545-9DD14EE6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8ABD-82DA-4A4B-B762-D767DE9E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5B2D-A44C-48E5-82C3-732F0FED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309-25AC-45DE-92C0-D9FCF022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8930-33BD-4531-8977-87120E4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55B7-D665-4DE8-B4D5-55A85ADD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B2FA-02E0-4FA8-ADD4-DF93A99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EC50-4589-484F-87F6-65766EA2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72E-383D-466F-9E1B-1D1F9157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70F-876E-4419-A656-AE6BB3AF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338-FA82-4EF1-B8B7-089F4E07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446-9072-4BB2-AF27-CE6E8C2C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716-6D61-4957-B9B3-2454A537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523-7A9F-4C95-BFC6-FFFFAE17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10E-2181-4B99-8C41-E4E4259B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FDB-E0C3-4B35-AB19-A559B68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8E3C-4A41-40FF-9454-B9201FE2B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A5AF-365A-4BDD-A53F-D9C80C105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692360"/>
            <a:ext cx="7989840" cy="32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овет школы- основная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форма управления качеством образования МКОУ Мамонтовской ООШ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ет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провождает и обеспечивает реализацию общественного зака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гласовывая бюджетную заявку, смету бюджетного финансирования и смету расходования средств, полученных общеобразовательным учреждением от уставной приносящей доходы деятельности и из иных внебюджетных источник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вуя в распределении выплат стимулирующего характера работникам школ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ecff"/>
                </a:solidFill>
                <a:latin typeface="Arial"/>
              </a:rPr>
              <a:t>Деятельность Совета</a:t>
            </a:r>
            <a:br>
              <a:rPr sz="3700"/>
            </a:b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разработке программ развития образования, стандартов содержания и условий обучения;  нормативов финансир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разработке программ развития сети образовательных учрежден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инятии решений о награждении работников образования ведомственными наградами, премиями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зультаты деятель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информированности общественности о деятельности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формление общественного заказа к образова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мотивации общественности к деятельности по улучшению шко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условий для участия общественности в принятии решений по ключевым вопросам развития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новление  партнерских отношений с  администрацией и педагог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деятель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инвестиционной привлекательности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знание и повышение ответственности общественности за результаты образ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имулирование всех участников образовательного процесса на конкретные действия, направленные на повышение качества образ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объективности оценивания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ecff"/>
                </a:solidFill>
                <a:latin typeface="Arial"/>
              </a:rPr>
              <a:t>Формы общественного участия в оценке и контроле качества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щественная эксперти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убличная отче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щественное наблю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утришкольный государственно-общественный мониторинг и оценка ка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ffff"/>
                </a:solidFill>
                <a:latin typeface="Arial"/>
              </a:rPr>
              <a:t>Из опыта работы по внедрению государственно-общественной системы самоуправления в школ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Федеральный Закон РФ «Об Образовании»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Ст.3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Одним из основополагающих законодательных принципов государственной политики в области образования является государственно-общественный характер управления образовательным учреждение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Владимир Путин поручил правительству разработать единую конц…"/>
          <p:cNvPicPr/>
          <p:nvPr/>
        </p:nvPicPr>
        <p:blipFill>
          <a:blip r:embed="rId1"/>
          <a:stretch/>
        </p:blipFill>
        <p:spPr>
          <a:xfrm>
            <a:off x="179280" y="476280"/>
            <a:ext cx="3060720" cy="2376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3141720"/>
            <a:ext cx="69850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95959"/>
                </a:solidFill>
                <a:latin typeface="Arial"/>
              </a:rPr>
              <a:t>«Создаваемые в школах общественные управляющие советы должны обладать реальными возможностям и влиять на решения по ключевым вопросам в жизнедеятельности школы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Владимир Владимирович Пу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Состав Совета Школы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сновные принципы деятельности Совет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цип зако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нцип открытости и гл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нцип доступности и равнопра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нцип публич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нцип ответств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91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 утверждает программу развития общеобразовательного учреждения, т.е. документа, определяющего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бразовательную полити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школы,  перспективные цели и задачи школы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тандарты каче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результатов, процесса и условий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 согласовывает локальные акты общеобразовательного учреждения, устанавливающие показатели и критерии оценки качества и результативности труда работников общеобразовательного учреждения, т.е. участвует в разработке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литики управления качеств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ет вносит руководителю общеобразовательного учреждения предложения в ча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материально-технического обеспечения и оснащения образовательного процесса, оборудования помещений общеобразовательного учреждения (в пределах выделяемых средст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создания в общеобразовательном учреждении необходимых условий для организации питания, медицинского обслуживания обучающих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организации промежуточной и итоговой аттестации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мероприятий по охране и укреплению здоровья обучающих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таким образом участвует в согласован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тандартов качества услов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бучения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овет согласовывает ключевые параметры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образовательной программ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т.е. документа, определяющего формируемые в образовательном процессе компетентности учащихся, принципы организации образовательного процесса, используемые методы и технологии), а именно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согласовывает компонент общеобразовательного учреждения государственного стандарта общего образования и профили обуч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согласовывает годовой календарный учебный график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согласовывает введение новых методик образовательного процесса и образовательных технолог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согласовывает выбор учебников из утвержденных федеральных перечней учебников, рекомендованных (допущенных) к использованию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номо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 участвует в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ценке качества и результатив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труда работников общеобразовательного учреждения, т.е.  участвует в мониторинге 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онтроле реализации общественного зака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 участвует в подготовке и утверждает публичный (ежегодный) доклад общеобразовательного учреждения, т.е. участвует в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нализе реализации общественного зака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едставлении его результат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широкой обществен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4:22:52Z</dcterms:created>
  <dc:creator>-</dc:creator>
  <dc:description/>
  <dc:language>en-US</dc:language>
  <cp:lastModifiedBy>User</cp:lastModifiedBy>
  <dcterms:modified xsi:type="dcterms:W3CDTF">2014-08-25T05:16:14Z</dcterms:modified>
  <cp:revision>22</cp:revision>
  <dc:subject/>
  <dc:title>Общественное участие в управлении образованием </dc:title>
</cp:coreProperties>
</file>