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22D-CC87-4876-BC82-508859DA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491-D6F0-4BCD-8D91-39464E64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19E-F066-4474-B27D-E9CB418C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D86-F259-4F95-9A25-1AA391C9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3B3A-BFA1-4083-A7E7-490F2B3A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A28A-A84D-476C-9854-7819E132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D7A9-4F96-451C-A92A-3140E1CC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A76B-6EEE-4791-80DF-696ADC46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2F2A-0AEE-4C9E-86D0-5771A2A7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296B-BB6F-4649-BDBF-D7E8FEEF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D725-5DE0-41B2-89A9-0F488834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72C-0832-4743-B8EF-72DEE706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50D5-BDA1-45A4-89BB-B6370ED8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6B0C-6672-4438-B173-8E89F467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AF06-9CE6-4E77-8190-C352D736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7FDB-5DF4-49B9-9A4E-E7AC1E48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EDBC-0732-4A49-90D8-F0166488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93B-57CC-46E5-A7CF-7818BDF0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CC0-4582-464F-BA78-BE4AB56A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966-E834-4B63-8609-3F7F6748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B76-D745-42EB-AC61-AE32541A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14E-BCF0-4D2E-9C77-9D8ADCD6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1A7-4E4E-4D4C-9CF1-68578506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39B-50C5-46F5-9069-60EF20EA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60E8-BBE0-4321-BA76-FAAFD19CF20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5DBE-5E36-484C-A33B-91BBC969AB9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20140220_123742"/>
          <p:cNvPicPr/>
          <p:nvPr/>
        </p:nvPicPr>
        <p:blipFill>
          <a:blip r:embed="rId2"/>
          <a:stretch/>
        </p:blipFill>
        <p:spPr>
          <a:xfrm>
            <a:off x="0" y="-533520"/>
            <a:ext cx="10744200" cy="7391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2121 (копия) копия"/>
          <p:cNvPicPr/>
          <p:nvPr/>
        </p:nvPicPr>
        <p:blipFill>
          <a:blip r:embed="rId3"/>
          <a:stretch/>
        </p:blipFill>
        <p:spPr>
          <a:xfrm>
            <a:off x="304920" y="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5"/>
          <p:cNvSpPr/>
          <p:nvPr/>
        </p:nvSpPr>
        <p:spPr>
          <a:xfrm>
            <a:off x="1219320" y="0"/>
            <a:ext cx="8229600" cy="1752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d2d0d"/>
                </a:solidFill>
                <a:latin typeface="Times New Roman"/>
              </a:rPr>
              <a:t>Государственное бюджетное общеобразовательное учреждение </a:t>
            </a:r>
            <a:br>
              <a:rPr sz="2600"/>
            </a:br>
            <a:r>
              <a:rPr b="0" lang="en-US" sz="2600" spc="-1" strike="noStrike">
                <a:solidFill>
                  <a:srgbClr val="cd2d0d"/>
                </a:solidFill>
                <a:latin typeface="Times New Roman"/>
              </a:rPr>
              <a:t>средняя школа № 212</a:t>
            </a:r>
            <a:br>
              <a:rPr sz="2600"/>
            </a:br>
            <a:r>
              <a:rPr b="0" lang="en-US" sz="2600" spc="-1" strike="noStrike">
                <a:solidFill>
                  <a:srgbClr val="cd2d0d"/>
                </a:solidFill>
                <a:latin typeface="Times New Roman"/>
              </a:rPr>
              <a:t>Фрунзенского района Санкт-Петербург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Подзаголовок 6"/>
          <p:cNvSpPr/>
          <p:nvPr/>
        </p:nvSpPr>
        <p:spPr>
          <a:xfrm>
            <a:off x="-228600" y="5410080"/>
            <a:ext cx="9753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Формы и методы работы по защите прав ребёнка в О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0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Единый день безопасности Волонтёр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9" name="Picture 9" descr="Изображение 003"/>
          <p:cNvPicPr/>
          <p:nvPr/>
        </p:nvPicPr>
        <p:blipFill>
          <a:blip r:embed="rId2"/>
          <a:stretch/>
        </p:blipFill>
        <p:spPr>
          <a:xfrm>
            <a:off x="457200" y="17524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SDC11448"/>
          <p:cNvPicPr/>
          <p:nvPr/>
        </p:nvPicPr>
        <p:blipFill>
          <a:blip r:embed="rId3"/>
          <a:stretch/>
        </p:blipFill>
        <p:spPr>
          <a:xfrm>
            <a:off x="4800600" y="35053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Единый день безопасности Волонтёры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Picture 13" descr="ПДД3"/>
          <p:cNvPicPr/>
          <p:nvPr/>
        </p:nvPicPr>
        <p:blipFill>
          <a:blip r:embed="rId2"/>
          <a:stretch/>
        </p:blipFill>
        <p:spPr>
          <a:xfrm>
            <a:off x="228600" y="1676520"/>
            <a:ext cx="4343400" cy="3240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IMG_1843"/>
          <p:cNvPicPr/>
          <p:nvPr/>
        </p:nvPicPr>
        <p:blipFill>
          <a:blip r:embed="rId3"/>
          <a:stretch/>
        </p:blipFill>
        <p:spPr>
          <a:xfrm>
            <a:off x="4724280" y="3429000"/>
            <a:ext cx="4191120" cy="31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тудент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5" name="Picture 7" descr="7"/>
          <p:cNvPicPr/>
          <p:nvPr/>
        </p:nvPicPr>
        <p:blipFill>
          <a:blip r:embed="rId2"/>
          <a:stretch/>
        </p:blipFill>
        <p:spPr>
          <a:xfrm>
            <a:off x="838080" y="1600200"/>
            <a:ext cx="3279960" cy="217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2"/>
          <p:cNvPicPr/>
          <p:nvPr/>
        </p:nvPicPr>
        <p:blipFill>
          <a:blip r:embed="rId3"/>
          <a:stretch/>
        </p:blipFill>
        <p:spPr>
          <a:xfrm>
            <a:off x="838080" y="3886200"/>
            <a:ext cx="3281400" cy="2171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12"/>
          <p:cNvPicPr/>
          <p:nvPr/>
        </p:nvPicPr>
        <p:blipFill>
          <a:blip r:embed="rId4"/>
          <a:stretch/>
        </p:blipFill>
        <p:spPr>
          <a:xfrm>
            <a:off x="4648320" y="2362320"/>
            <a:ext cx="4038480" cy="301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8"/>
          <p:cNvSpPr/>
          <p:nvPr/>
        </p:nvSpPr>
        <p:spPr>
          <a:xfrm>
            <a:off x="609480" y="0"/>
            <a:ext cx="8169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езидентский Совет старшеклассников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Сотрудничество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1" name="Picture 9" descr="линейка безопасности"/>
          <p:cNvPicPr/>
          <p:nvPr/>
        </p:nvPicPr>
        <p:blipFill>
          <a:blip r:embed="rId2"/>
          <a:stretch/>
        </p:blipFill>
        <p:spPr>
          <a:xfrm>
            <a:off x="609480" y="1219320"/>
            <a:ext cx="8077320" cy="53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Сайт школ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9efee"/>
                </a:solidFill>
                <a:latin typeface="Arial"/>
              </a:rPr>
              <a:t>СПАСИБО за ВНИМ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66320" y="41148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циальный педагог ГБОУ №212 Поспелова Ирина Михайло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imir</cp:lastModifiedBy>
  <dcterms:modified xsi:type="dcterms:W3CDTF">2015-10-14T18:12:2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