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gif" ContentType="image/gif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8A97-7E2A-45C4-AD1D-555501B31D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8CFB-209E-45FC-ACFB-0240443255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8F5E-121F-4AF3-8848-36755F13E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56AD-2E53-4DE2-BCF2-2E755EBF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E37D-CDD9-43C9-9F31-CFA964F77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97FF-24BA-46FC-AD0B-2492AAE95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D70C-5209-40BF-B2BF-59267FEBC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F40D-1314-4609-BD6E-C4C82890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DE2B-9D82-4C59-A60B-5C1295B3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0C8C-117C-4C3F-BA48-55E25DE7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B338-3722-4941-99F6-DFEA6715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931D-79B3-44E0-A96A-EB5DD355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DB21-CF82-45D7-A1EA-CC30FD1F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1635-5715-431E-876A-260EA799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40B9-6D35-4B5D-AEF2-81F80B05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7DE4-3C73-45A8-A1B2-BFB8FDE3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0457-09BB-418D-9901-342620AA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6562-EE60-44A4-948E-792E7C321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A207-C9F3-410D-9B85-F94682E58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254690-0B13-4BDB-923B-00A50693F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E980B8-551B-4224-934B-6B8777F2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457BB9-9D0D-4C76-9539-7FD0B0E3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DF02C6-1993-4FFB-BC2B-1712A259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0F45E5-D343-49AF-80A8-A20A6248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72C2-6422-4A75-83F1-24389A7F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953226-A918-4291-853B-DAC6D86B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F2D0C3-594A-44D2-B1D7-ED62E5F0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FB3A23-59D4-4A92-984C-DD9BABD5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740CBC-3A74-4841-A23B-F7ECE5ED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9C45F8-12BD-4EB8-896D-366B5BAF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4804B4-2ED1-411D-9CBE-9AEFB1847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947793-7E0F-4B55-80E1-46AA426DD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DEB99-E0ED-48C8-B40D-209B71106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4C29E-8BFE-4A89-8ADF-98066EAA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90724-AEDE-4F97-BCB4-4C3DB3AF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2C5B-0940-4AC5-A6BE-A4EEB08C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114BB-8A14-4113-87E9-D3326689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1CBCC-0344-4BFC-855F-2C07E5AE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781F6-B71D-4198-A693-55462F04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A1356-12BB-4D52-8BDF-C7C21113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CDE72-55BB-4576-AA5F-6AD0D456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C50F2-6FB7-469E-87E2-407B15CC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9F37A-DAE3-4E7A-A9F4-4BE1C573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C04B3-1324-41D7-9F53-A194055B1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1A95E-190F-4BD6-AE28-A17FFE054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AF2288-9930-4FB6-85A7-BD99540CC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104C-E02A-4DEA-A852-3F78A8D4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34E095-8F17-466E-B551-E067B3C9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5A12FF-6BFD-410D-B1F3-00D4F5C5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828CC7-444C-4B33-A041-DDB7B25E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FE4BB5-5229-4622-B36F-881030F7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15BD85-EC01-445B-811F-2B2A083F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A9A0EF-0381-40D8-A6EF-7769A3BA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C4B017-987D-488E-8C64-3B75B8A0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413D5C-C444-4DF7-ADB3-8EC4230C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21AE49-9E3D-444F-BD4C-760ED888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E2BE1C-8114-4856-868E-27ECAFE0A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45BE-9180-4E12-8728-7A36FCDA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F5321D-1226-4D21-AA5B-3D351DBD5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8BA64C-5751-4F97-9D7A-C6F020323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4C34CB-18B5-4DA3-B053-994D153B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0F9DB2-D213-42F0-A657-487F7724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D33B94-D566-47D7-925F-F0F42E50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CB1ACE-9E4F-4A01-9E75-DDEBADB9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F18697-DDB0-4102-9B94-3A2A2E87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FFBC11-3FE7-49C3-BA66-49526F51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2C7F57-51B2-44F3-B64A-FC0B71EC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7F026D-099D-4C3D-AC43-72D17DB0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4FCF-CA7E-4D9F-980F-2C4C5FC8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85A9FF-286C-47E5-8495-E9D8EF05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FF4993-007F-487B-92BE-3C53B74DB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F9BA48-BDD6-4637-B5D9-ACD2F9441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D1C1BE-F8E4-4C09-87EB-BB1CB4140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EB4717-354E-4A04-9B09-761DFED8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01C3AC-EBAF-4896-B78C-883BCEFD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9A1A50-75E1-4CF6-B1D7-CC91D4CF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3E7C51-FB94-46CC-885B-47EC4A1B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BEB97A-0282-48B2-B7F4-9E12D828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838549-C618-40AA-BE89-1C095F11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989C-4C7A-4D74-B786-6E2285F0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CDF149-FB8C-462B-B949-0DE2E082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B0C06E-03FA-45E7-B6F8-029C02EA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3EC462-F2F8-49EA-9006-84E012AB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12B6B9-5908-4042-8B77-9C0860000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E8571A-7DD5-4274-B3A0-325E02982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8E8D-6FBC-4419-A3F0-24D0F222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0A62-250E-4DA8-8F8E-D8EA2A5C3BD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96EE-7652-4CF0-AB8B-4FAF13A1DBF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40F8-1B55-4219-8B22-AF77246D864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7A8B-B8DC-4FEB-927E-BA1981DFAD0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1A8A-3622-49FF-A870-7369F85C0F5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94FE-DECB-43E4-8BD6-64BB08681E4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18E1-B90B-41BB-8D1F-A932EF0A843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221004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ПРОЕКТ </a:t>
            </a:r>
            <a:br>
              <a:rPr sz="16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РАБ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А 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ТРОЛЬН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ИАГНОСТИЧЕСКОГО МАТЕРИАЛА ПО РАЗДЕЛАМ М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ИКИ 5 КЛ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»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190760" y="4723920"/>
            <a:ext cx="4343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ыполнена: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иковой Розалией Камильевной учителем математики МБОУ «Больше- Машляковская сош»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503280" y="129960"/>
            <a:ext cx="825984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АОУ ВПО «Казанский (Приволжский) Федеральный университет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олжский межрегиональный цент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я квалификации и профессиональной переподготовки работников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5"/>
          <p:cNvSpPr/>
          <p:nvPr/>
        </p:nvSpPr>
        <p:spPr>
          <a:xfrm>
            <a:off x="152280" y="293760"/>
            <a:ext cx="8839440" cy="104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ая из контрольных работ, кроме годовой, содержит 10 заданий и рассчитана на один ур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151920" y="1904760"/>
            <a:ext cx="84582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ая контрольная работа состоит из двух частей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овый уровен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ответствует необходимым требованиям овладения учебными умениями и навыками, отражённым в стандартах российского образова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дополнительной части относятся к двум разным уровням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ном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сколько ученик овладел знаниями на уровне авторской программ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ворческом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сколько ученик может самостоятельно применять имеющиеся у него знания в нестандартных ситуациях 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ные контрольно-диагностические материалы по математике 5 класс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чебнику Н. Я. Виленкин, В. И.  Жохов. Математика 5, 2010г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ПРООП 1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Прямоугольник 2"/>
          <p:cNvSpPr/>
          <p:nvPr/>
        </p:nvSpPr>
        <p:spPr>
          <a:xfrm>
            <a:off x="304920" y="1066680"/>
            <a:ext cx="8381880" cy="59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использовать позиционный характер записи чисел в десятичной систем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определять расположение точки на координатном луче по его координат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яем умение различать геометрические фигур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яем умение чертить координаты точки на числовом луч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яем умение записывать и читать натуральные числа в пределах 1 000 000 000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яем умение сравнивать натуральные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переходить от одной единицы измерения величины к друг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решать текстовые задач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записывать многозначные числа с применением условий к задач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решать комбинаторную задач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5"/>
          <p:cNvSpPr/>
          <p:nvPr/>
        </p:nvSpPr>
        <p:spPr>
          <a:xfrm>
            <a:off x="457200" y="0"/>
            <a:ext cx="8305920" cy="461880"/>
          </a:xfrm>
          <a:prstGeom prst="rect">
            <a:avLst/>
          </a:prstGeom>
          <a:solidFill>
            <a:srgbClr val="ffffff"/>
          </a:solidFill>
          <a:ln w="2556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-5335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Century Schoolbook"/>
              </a:rPr>
              <a:t>КОНТРОЛЬНАЯРАБОТА №1 </a:t>
            </a:r>
            <a:r>
              <a:rPr b="1" i="1" lang="ru-RU" sz="1600" spc="-1" strike="noStrike">
                <a:solidFill>
                  <a:srgbClr val="0d0d0d"/>
                </a:solidFill>
                <a:latin typeface="Century Schoolbook"/>
              </a:rPr>
              <a:t> «НАТУРАЛЬНЫЕ ЧИСЛА»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Оцени своё настроение перед началом работы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Перед и после выполнения каждого задания тоже нарисуй смайлик своего настроения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ОБЯЗАТЕЛЬНАЯ ЧАСТЬ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1400" spc="-1" strike="noStrike">
                <a:solidFill>
                  <a:srgbClr val="800080"/>
                </a:solidFill>
                <a:latin typeface="Century Schoolbook"/>
              </a:rPr>
              <a:t>1   </a:t>
            </a:r>
            <a:r>
              <a:rPr b="0" i="1" lang="ru-RU" sz="1400" spc="-1" strike="noStrike">
                <a:solidFill>
                  <a:srgbClr val="800080"/>
                </a:solidFill>
                <a:latin typeface="Century Schoolbook"/>
              </a:rPr>
              <a:t>Проверяем</a:t>
            </a:r>
            <a:r>
              <a:rPr b="0" lang="ru-RU" sz="1400" spc="-1" strike="noStrike">
                <a:solidFill>
                  <a:srgbClr val="800080"/>
                </a:solidFill>
                <a:latin typeface="Century Schoolbook"/>
              </a:rPr>
              <a:t> </a:t>
            </a:r>
            <a:r>
              <a:rPr b="0" i="1" lang="ru-RU" sz="1400" spc="-1" strike="noStrike">
                <a:solidFill>
                  <a:srgbClr val="800080"/>
                </a:solidFill>
                <a:latin typeface="Century Schoolbook"/>
              </a:rPr>
              <a:t>умение записывать и читать натуральные числа в пределах 1 000 00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Укажите число, в котором в разряде десятков тысяч стоит цифра 5.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375 413     2)56 613       3)779 452        4)567 123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400" spc="-1" strike="noStrike">
                <a:solidFill>
                  <a:srgbClr val="7030a0"/>
                </a:solidFill>
                <a:latin typeface="Century Schoolbook"/>
              </a:rPr>
              <a:t>2.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мение определять расположение точки на координатном луче по его координате</a:t>
            </a:r>
            <a:r>
              <a:rPr b="0" lang="ru-RU" sz="1400" spc="-1" strike="noStrike">
                <a:solidFill>
                  <a:srgbClr val="7030a0"/>
                </a:solidFill>
                <a:latin typeface="Century Schoolbook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ая из точек расположена левее всех на координатном луче: 1) А(4) 2) В(11) 3) С(2) 4) Д(24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Century Schoolbook"/>
              </a:rPr>
              <a:t>3.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Проверяем умение различать геометрические фигуры</a:t>
            </a:r>
            <a:r>
              <a:rPr b="0" lang="ru-RU" sz="1400" spc="-1" strike="noStrike">
                <a:solidFill>
                  <a:srgbClr val="7030a0"/>
                </a:solidFill>
                <a:latin typeface="Century Schoolbook"/>
              </a:rPr>
              <a:t> .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ую фигуру нельзя называть многоугольником.  1)Треугольник 2)Квадрат 3)Отрезок 4)Пятиугольник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Century Schoolbook"/>
              </a:rPr>
              <a:t>4.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Проверяем умение чертить координаты точки на числовом луче</a:t>
            </a:r>
            <a:r>
              <a:rPr b="0" lang="ru-RU" sz="1400" spc="-1" strike="noStrike">
                <a:solidFill>
                  <a:srgbClr val="7030a0"/>
                </a:solidFill>
                <a:latin typeface="Century Schoolbook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ертите  координатный луч, единичный отрезок  которого  равен  длине  одной  клетки  тетради. Отметьте  на  этом  луче  точки  R ( 6 ), С ( 12 ), К ( 3),  Р ( 15 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.Проверяем умение записывать и читать натуральные числа в пределах 1 000 000 000 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пишите  цифрами  число:  три  миллиарда  двести  семьдесят  миллионов  четыреста  восемь  тысяч  пятьсот  двенадцать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6. Проверяем умение сравнивать натуральные числ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равните  числа  и  запишите ответ с помощью  знака  &lt;  или  &gt;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13 765 902   и  13 675 879        б)   2 965 87    и      4 982 934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7.Умение переходить от одной единицы измерения величины к другой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зить в метрах  13км 05м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ДОПОЛНИТЕЛЬНАЯ ЧАСТЬ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lang="ru-RU" sz="1400" spc="-1" strike="noStrike">
                <a:solidFill>
                  <a:srgbClr val="7030a0"/>
                </a:solidFill>
                <a:latin typeface="Century Schoolbook"/>
              </a:rPr>
              <a:t>8.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мение решать текстовые задачи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 треугольнике  АВС  сторона  ВС  равна  73 см,  сторона  АС  на  1 дм  меньше  стороны  ВС,  а  сторона  АВ – на  11 см  больше  стороны  ВС.  Найдите  периметр  треугольника  АВС  и  выразите  его  в  дециметрах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030a0"/>
                </a:solidFill>
                <a:latin typeface="Times New Roman"/>
              </a:rPr>
              <a:t>9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мение записывать многозначные числа с применением условий к задаче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 четырехзначное  число,  которое  меньше  6987  и  оканчивается  цифрой  9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030a0"/>
                </a:solidFill>
                <a:latin typeface="Times New Roman"/>
              </a:rPr>
              <a:t>10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мение решать комбинаторную задачу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колько различных трёхзначных чисел можно составить с помощью цифр 9 и 4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entury Schoolbook"/>
              </a:rPr>
              <a:t>Оцени своё настроение  после выполнения работы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Picture 24" descr=""/>
          <p:cNvPicPr/>
          <p:nvPr/>
        </p:nvPicPr>
        <p:blipFill>
          <a:blip r:embed="rId1"/>
          <a:stretch/>
        </p:blipFill>
        <p:spPr>
          <a:xfrm>
            <a:off x="5791320" y="533520"/>
            <a:ext cx="685800" cy="5475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5" descr=""/>
          <p:cNvPicPr/>
          <p:nvPr/>
        </p:nvPicPr>
        <p:blipFill>
          <a:blip r:embed="rId2"/>
          <a:srcRect l="58070" t="17220" r="4846" b="31191"/>
          <a:stretch/>
        </p:blipFill>
        <p:spPr>
          <a:xfrm>
            <a:off x="6781680" y="533520"/>
            <a:ext cx="609840" cy="5331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7" descr=""/>
          <p:cNvPicPr/>
          <p:nvPr/>
        </p:nvPicPr>
        <p:blipFill>
          <a:blip r:embed="rId3"/>
          <a:srcRect l="9994" t="9989" r="9994" b="8002"/>
          <a:stretch/>
        </p:blipFill>
        <p:spPr>
          <a:xfrm>
            <a:off x="7923240" y="533520"/>
            <a:ext cx="519120" cy="5331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8" descr=""/>
          <p:cNvPicPr/>
          <p:nvPr/>
        </p:nvPicPr>
        <p:blipFill>
          <a:blip r:embed="rId4"/>
          <a:stretch/>
        </p:blipFill>
        <p:spPr>
          <a:xfrm>
            <a:off x="5600880" y="6454800"/>
            <a:ext cx="533160" cy="4255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9" descr=""/>
          <p:cNvPicPr/>
          <p:nvPr/>
        </p:nvPicPr>
        <p:blipFill>
          <a:blip r:embed="rId5"/>
          <a:srcRect l="58076" t="17230" r="4851" b="31180"/>
          <a:stretch/>
        </p:blipFill>
        <p:spPr>
          <a:xfrm>
            <a:off x="6550200" y="6477120"/>
            <a:ext cx="501480" cy="3808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0" descr=""/>
          <p:cNvPicPr/>
          <p:nvPr/>
        </p:nvPicPr>
        <p:blipFill>
          <a:blip r:embed="rId6"/>
          <a:srcRect l="10033" t="10033" r="10033" b="8013"/>
          <a:stretch/>
        </p:blipFill>
        <p:spPr>
          <a:xfrm>
            <a:off x="7620120" y="6405480"/>
            <a:ext cx="441360" cy="4525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0" y="76320"/>
            <a:ext cx="8991720" cy="6705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0" y="1612440"/>
            <a:ext cx="830592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-14400" y="304920"/>
            <a:ext cx="8915400" cy="1373400"/>
          </a:xfrm>
          <a:prstGeom prst="rect">
            <a:avLst/>
          </a:prstGeom>
          <a:solidFill>
            <a:srgbClr val="ffffff"/>
          </a:solidFill>
          <a:ln w="2556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соответствия общего тестового балла 5-ти балльной шка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228600" y="2362320"/>
          <a:ext cx="8686800" cy="2971800"/>
        </p:xfrm>
        <a:graphic>
          <a:graphicData uri="http://schemas.openxmlformats.org/drawingml/2006/table">
            <a:tbl>
              <a:tblPr/>
              <a:tblGrid>
                <a:gridCol w="1712880"/>
                <a:gridCol w="1744560"/>
                <a:gridCol w="1746360"/>
                <a:gridCol w="1878120"/>
                <a:gridCol w="1604880"/>
              </a:tblGrid>
              <a:tr h="198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й балл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ов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9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ов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12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ов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-14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ов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5" name="Rectangle 4"/>
          <p:cNvSpPr/>
          <p:nvPr/>
        </p:nvSpPr>
        <p:spPr>
          <a:xfrm>
            <a:off x="1278000" y="3557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914400" y="68544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За каждую контрольную работу может быть выставлено от одной до трёх отметок, в зависимости от того, сколько уровней из трёх (необходимый, программный, творческий) смог пройти учащийся. При этом обязательной является только одна отметка – за обязательную часть контрольной работы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7" name="Picture 4" descr="Рисунок17"/>
          <p:cNvPicPr/>
          <p:nvPr/>
        </p:nvPicPr>
        <p:blipFill>
          <a:blip r:embed="rId1"/>
          <a:stretch/>
        </p:blipFill>
        <p:spPr>
          <a:xfrm>
            <a:off x="6934320" y="4724280"/>
            <a:ext cx="1679400" cy="1611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solidFill>
            <a:srgbClr val="ffffff"/>
          </a:solidFill>
          <a:ln w="25560">
            <a:solidFill>
              <a:srgbClr val="7598d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ВЫВОДЫ :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920" y="91404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Я изучила основные подходы к системе оценивания образовательных достижений учащихся в соответствии с ФГОС ООО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Освоила технологию разработки учебно-познавательных и учебно-практических задач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Подготовила комплекс контрольно-измерительных материалов для оценки сформированности предметных и метапредметных результатов учащихся 5 классов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buClr>
                <a:srgbClr val="fe8637"/>
              </a:buClr>
              <a:buSzPct val="70000"/>
              <a:buFont typeface="Century Schoolbook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0" name="Picture 4" descr=""/>
          <p:cNvPicPr/>
          <p:nvPr/>
        </p:nvPicPr>
        <p:blipFill>
          <a:blip r:embed="rId1"/>
          <a:stretch/>
        </p:blipFill>
        <p:spPr>
          <a:xfrm>
            <a:off x="5791320" y="4422600"/>
            <a:ext cx="2066760" cy="2170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762120"/>
            <a:ext cx="8381880" cy="57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9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AutoShape 4"/>
          <p:cNvSpPr/>
          <p:nvPr/>
        </p:nvSpPr>
        <p:spPr>
          <a:xfrm>
            <a:off x="155520" y="-136440"/>
            <a:ext cx="2970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6" descr="http://im1-tub-ru.yandex.net/i?id=1e210ac20c688d294e3b45c5f4b15c1c&amp;n=33&amp;h=190"/>
          <p:cNvPicPr/>
          <p:nvPr/>
        </p:nvPicPr>
        <p:blipFill>
          <a:blip r:embed="rId1"/>
          <a:stretch/>
        </p:blipFill>
        <p:spPr>
          <a:xfrm>
            <a:off x="22320" y="3733920"/>
            <a:ext cx="299556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2060"/>
            </a:solidFill>
            <a:miter/>
          </a:ln>
        </p:spPr>
        <p:txBody>
          <a:bodyPr anchor="b">
            <a:no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РАЗРАБОТАТЬ КОМПЛЕКС КОНТРОЛЬНО-ДИАГНОСТИЧЕСКИХ МАТЕРИАЛОВ ДЛЯ ОСУЩЕСТВЛЕНИЯ ТЕКУЩЕЙ И ПРОМЕЖУТОЧНОЙ ОЦЕНКИ СФОРМИРОВАННОСТИ ПРЕДМЕТНЫХ И МЕТАПРЕДМЕТНЫХ РЕЗУЛЬТАТОВ У УЧАЩИХСЯ 5 КЛАССА.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Заголовок 1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Цель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206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entury Schoolbook"/>
              </a:rPr>
              <a:t>ЗАДАЧИ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Rectangle 1"/>
          <p:cNvSpPr/>
          <p:nvPr/>
        </p:nvSpPr>
        <p:spPr>
          <a:xfrm>
            <a:off x="457200" y="999000"/>
            <a:ext cx="8229600" cy="558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основные подходы к системе оценивания образовательных достижений обучающихся в соответствии с ФГОС ОО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содержание новых технологий, ориентированных на формирование личности школьника, овладение им универсальных учебных действ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рать рабочий материал для реализации проектной раб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 Подготовить комплекс контрольно-измерительных материалов для оценки  сформированности предметных и метапредметных результатов учащихся 5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76312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В основе реализации ФГОС лежит системно-деятельностный подход, который предполагает развитие личности обучающегося на основе освоения универсальных  учебных действий, познания и освоения мира, учет индивидуальных возрастных, психологических и физиологических особенностей обучающихся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Picture 4" descr="j0428113"/>
          <p:cNvPicPr/>
          <p:nvPr/>
        </p:nvPicPr>
        <p:blipFill>
          <a:blip r:embed="rId1"/>
          <a:stretch/>
        </p:blipFill>
        <p:spPr>
          <a:xfrm>
            <a:off x="6781680" y="4572000"/>
            <a:ext cx="2192400" cy="2050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09680" y="16761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ились целевые установки контроля (задания ориентированы на проверку сформированности универсальных и специфических способов действий)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илась необходимость в использовании критериального подхода при разработке заданий. Основными критериями оценивания при этом выступают планируемые результаты освоения ООО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ом диагностики выступают как достигаемые образовательные результаты, так и процесс их достижения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илась роль учителя при проведении работ (активный участник, рефлексивная позиция при анализе и коррекции, наблюдатель при проведении)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Rectangle 12"/>
          <p:cNvSpPr/>
          <p:nvPr/>
        </p:nvSpPr>
        <p:spPr>
          <a:xfrm>
            <a:off x="380880" y="152280"/>
            <a:ext cx="861084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Новизна подхода к организации мониторинга достижени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планируемых результатов освоения О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состоит в следующем</a:t>
            </a:r>
            <a:r>
              <a:rPr b="0" lang="ru-RU" sz="2400" spc="-1" strike="noStrike">
                <a:solidFill>
                  <a:srgbClr val="575f6d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575f6d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206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ОЖИДАЕМЫЕ РЕЗУЛЬТАТЫ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Прямоугольник 2"/>
          <p:cNvSpPr/>
          <p:nvPr/>
        </p:nvSpPr>
        <p:spPr>
          <a:xfrm>
            <a:off x="228600" y="1069920"/>
            <a:ext cx="8610480" cy="547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1.   Педагог знает особенности оценки сформированности образовательных результатов обучающихся в соответствии с требованиями ФГ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2.   Педагог владеет навыками разработки учебно-познавательных и учебно-практических зад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3.   Разработана система заданий для проведения промежуточной оценки предметных результатов по математ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4.   Разработаны измерительные материалы комплексной проверочной работы на межпредметной основе для оценки сформированности  метапредметных результ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предметные результаты – познавательные, регулятивные, коммуникативные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е результаты - готовность и способность обучающихся к саморазвитию, сформированность мотивации к обучению и познанию,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м - освоение обучающимися в ходе изучения учебного предмета опыта по получению нового знания, его преобразованию и применению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Заголовок 1"/>
          <p:cNvSpPr/>
          <p:nvPr/>
        </p:nvSpPr>
        <p:spPr>
          <a:xfrm>
            <a:off x="304920" y="152280"/>
            <a:ext cx="868680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330480"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Планируемые результаты освоения программы: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2060"/>
            </a:solidFill>
            <a:miter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ДЛЯ ПРОВЕДЕНИЯ МОНИТОРИНГА ДОСТИЖЕНИЯ ШКОЛЬНИКАМИ ПЛАНИРУЕМЫХ РЕЗУЛЬТАТОВ ОСВОЕНИЯ УЧЕБНЫХ ПРОГРАММ ПО МАТЕМАТИКЕ ТРЕБУЕТСЯ РАЗРАБОТАТЬ: 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152280" y="160020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76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одержание заданий для мониторинга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иагностические работы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нструкции по организации и проведен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76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ческих работ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бланки с заданиями для обучающихся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ценочные листы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ротоколы затруднений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сводная таблица результатов оценочных лис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5"/>
          <p:cNvSpPr/>
          <p:nvPr/>
        </p:nvSpPr>
        <p:spPr>
          <a:xfrm>
            <a:off x="228600" y="304920"/>
            <a:ext cx="861048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ернутое описание диагностической работы включает в себ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152280" y="1506960"/>
            <a:ext cx="8839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результатов, на получение которых они направле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умений, характеризующих достижение этого результа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ец правильного ответа (для тестов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критериев достижения планируемого результа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Розалия</dc:creator>
  <dc:description/>
  <dc:language>en-US</dc:language>
  <cp:lastModifiedBy>Розалия</cp:lastModifiedBy>
  <dcterms:modified xsi:type="dcterms:W3CDTF">2015-03-26T21:17:18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