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F79-EDBA-4817-B0F1-2EA5314E0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E9C-A834-4577-970E-B76111870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D72-DF87-4024-A7E1-91B9813E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96F-7B02-49DE-91D2-57F07FA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671-2844-46B8-A454-7171E2C8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E82-9FC7-4CAF-B245-9B610843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B1A-AC68-4D5F-BCCC-4F4D0F07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18D0-173B-4486-89A8-F79C9D6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31E-E376-405A-BA5A-F67F626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748-4534-4FC3-9B9E-7BE85C28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EEFF-6B69-49A6-8FA9-5227F553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9A2-5601-4C5B-AAF6-BC76C59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C29-F461-4B65-BE15-A37DAEF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44D-1707-4560-ABDC-91DBFDFF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290-5480-45E9-B3F7-B37BF2F3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759-D51C-478C-9056-11BD2EE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073-5E51-4BC7-84E3-73350D7C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4EA-FD7B-476C-8AD8-CE3E5768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4302-1094-45D7-8FFC-3B9FED4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548F9-37E2-4589-86CE-8EEC11D7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5DBB7-69AB-4778-9A0B-07AA1A3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2D4DE-3C8D-4AB3-99BB-CE1AD0F5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ED3A8-1DFE-4800-8839-A64258D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87EC0-B7ED-49F6-9092-4420E19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8A6-12BB-409A-AAEE-22E5B592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01AE4-2750-4D18-B8D7-170B6A2D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B4168-F328-4FB5-A2B3-7C7C924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AFA44-DD44-4C55-BEF8-4C2DFF6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4E000-EE71-443A-8CA3-AC23F0F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D96F-2179-4B98-8BE8-FB4E1F9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9481B-8C9B-4A54-9EE0-4C2C3024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BEF0C-00FB-4676-A35C-2D02C2B4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9F00-6008-409A-B4C9-47B93883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A681-80A0-42F9-91FB-6AC9B63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B029-C642-45A9-868B-5430023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11A-9AC8-413E-AB1B-6267462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CD40-4A5E-45AB-8E04-A47557E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16EC-A293-4D22-8157-18BA159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E2C4F-E4FE-4A2C-A793-4C2850A5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82B5-B813-4589-9B32-4B6BF01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97B6-B950-4BF9-9385-8FA91E9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C5DE-8CC0-4387-8354-FC5049B2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DA63-BDCA-499A-9241-D57D3975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B50C-EAEC-46A4-B714-7283E9E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9FA6-D8FF-4175-A18B-5D9AFDCD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01ABB-EF52-4378-8B02-322CAEC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8EF-3E05-45E6-B5A8-9EA3C68C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6EAA7-B7EC-4E26-9364-4AA71260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4807B-6699-42D9-8D83-F4D5748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364E9-4BF2-4A25-A4B9-2924344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B8EDD-061B-4D80-ADF8-183CD4A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4D2B2-5D95-4C95-9867-8288B25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D3B19-AA86-46E1-95B2-1F0736F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629D1-BCAE-49E6-AFF1-67B4F5AF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2CAE4-2F54-4AD9-9AB0-76DF001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FAA85-9C4C-45BE-97E9-051A5C61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36995-5C47-4025-9A9E-A9439DCB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379-B15D-4276-BDAE-0F91A33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E90B4-62CA-4AC5-B63C-E118CF01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CA192-A602-49DD-B2DE-D594B04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6F1DC-FE6A-403E-8A2B-1284A441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7BBF7-E177-4C90-8A3C-2BA5DDE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F7C3E-D599-413D-8B7F-34D8F90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AD097-B91F-4C39-9997-6EA2FF6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11EB2-BC2D-435B-83DE-3010AF0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22BC5-E080-4FFC-9C8C-AF81F1A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078FE-DF7D-465F-AA80-4D19F9D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C609F-38C4-4D80-A142-95D1BBA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CEB-133F-4100-BD75-8CFE8EA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0D65C-DCA8-4C98-B4C9-8466E66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E7C4A-A7B5-4139-B97C-5C27AF82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CAC89-A065-475E-A964-3E79012B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20428-55E6-41DE-9388-4FC08055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E6579-8571-4FA7-945F-A304BC8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4B766-BFD8-4CFA-96E4-F9B8BF90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A831B-3F20-4B7E-B15A-2ECAAFF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7C3EB-B0D9-4ABE-8BAC-15F94C5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3578C-990B-4205-AC57-3729F04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8550D-42A1-4B78-81FE-EAD8EAE0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EBF-A783-4339-9229-63B469C4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30922-E9EA-42E8-868C-29DB623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F8F48-28F0-4C98-8C95-ABB30B3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4C428-2269-4E90-A025-D8B0E0F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30FDF-FF24-490D-86F2-C59AAB76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FAD3E-F110-4413-AC33-C70FBD82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BC8-7B2D-4D63-B816-94EE3E0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5E6-BACC-423B-B390-55806599AD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166-D49E-430E-A5CD-41B1FD95CA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3DE8-CD5D-43DA-801D-29395AC792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5C6-8248-4F83-BA3E-87438FD1C0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C14-960A-478B-8E30-82AE748217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26B2-5C1A-4464-9510-7C96DAE126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584-4FB5-4C69-9F83-8C745CA4D9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ЕКТ </a:t>
            </a:r>
            <a:br>
              <a:rPr sz="16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 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РОЛЬ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ГНОСТИЧЕСКОГО МАТЕРИАЛА ПО РАЗДЕЛАМ 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ИКИ 5 К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»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190760" y="4723920"/>
            <a:ext cx="4343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иковой Розалией Камильевной учителем математики МБОУ «Больше- Машляковская сош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03280" y="129960"/>
            <a:ext cx="82598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АОУ ВПО «Казанский (Приволжский) Федеральный университ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лжский межрегиональ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валификации и профессиональной переподготовки работников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152280" y="293760"/>
            <a:ext cx="8839440" cy="10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контрольных работ, кроме годовой, содержит 10 заданий и рассчитана на один 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контрольная работа состоит из двух частей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необходимым требованиям овладения учебными умениями и навыками, отражённым в стандартах российского образ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ополнительной части относятся к двум разным уровням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колько ученик овладел знаниями на уровне авторск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колько ученик может самостоятельно применять имеющиеся у него знания в нестандартных ситуациях 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ые контрольно-диагностические материалы по математике 5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ику Н. Я. Виленкин, В. И.  Жохов. Математика 5, 2010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ОП 1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304920" y="1066680"/>
            <a:ext cx="83818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позиционный характер записи чисел в десятичной систе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расположение точки на координатном луче по его координа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различать геометрические фигу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чертить координаты точки на числовом лу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записывать и читать натуральные числа в пределах 1 000 000 000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сравнивать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ереходить от одной единицы измерения величины к друг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текстовые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писывать многозначные числа с применением условий к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комбинаторную зада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457200" y="0"/>
            <a:ext cx="830592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entury Schoolbook"/>
              </a:rPr>
              <a:t>КОНТРОЛЬНАЯРАБОТА №1 </a:t>
            </a:r>
            <a:r>
              <a:rPr b="1" i="1" lang="ru-RU" sz="1600" spc="-1" strike="noStrike">
                <a:solidFill>
                  <a:srgbClr val="0d0d0d"/>
                </a:solidFill>
                <a:latin typeface="Century Schoolbook"/>
              </a:rPr>
              <a:t> «НАТУРАЛЬНЫЕ ЧИСЛА»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Оцени своё настроение перед началом работ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еред и после выполнения каждого задания тоже нарисуй смайлик своего настроения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БЯЗАТЕЛЬНАЯ ЧАСТЬ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400" spc="-1" strike="noStrike">
                <a:solidFill>
                  <a:srgbClr val="800080"/>
                </a:solidFill>
                <a:latin typeface="Century Schoolbook"/>
              </a:rPr>
              <a:t>1   </a:t>
            </a:r>
            <a:r>
              <a:rPr b="0" i="1" lang="ru-RU" sz="1400" spc="-1" strike="noStrike">
                <a:solidFill>
                  <a:srgbClr val="800080"/>
                </a:solidFill>
                <a:latin typeface="Century Schoolbook"/>
              </a:rPr>
              <a:t>Проверяем</a:t>
            </a:r>
            <a:r>
              <a:rPr b="0" lang="ru-RU" sz="1400" spc="-1" strike="noStrike">
                <a:solidFill>
                  <a:srgbClr val="800080"/>
                </a:solidFill>
                <a:latin typeface="Century Schoolbook"/>
              </a:rPr>
              <a:t> </a:t>
            </a:r>
            <a:r>
              <a:rPr b="0" i="1" lang="ru-RU" sz="1400" spc="-1" strike="noStrike">
                <a:solidFill>
                  <a:srgbClr val="800080"/>
                </a:solidFill>
                <a:latin typeface="Century Schoolbook"/>
              </a:rPr>
              <a:t>умение записывать и читать натуральные числа в пределах 1 000 0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кажите число, в котором в разряде десятков тысяч стоит цифра 5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375 413     2)56 613       3)779 452        4)567 123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2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определять расположение точки на координатном луче по его координате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ая из точек расположена левее всех на координатном луче: 1) А(4) 2) В(11) 3) С(2) 4) Д(24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3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веряем умение различать геометрические фигуры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 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ую фигуру нельзя называть многоугольником.  1)Треугольник 2)Квадрат 3)Отрезок 4)Пятиугольник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4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веряем умение чертить координаты точки на числовом луче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 координатный луч, единичный отрезок  которого  равен  длине  одной  клетки  тетради. Отметьте  на  этом  луче  точки  R ( 6 ), С ( 12 ), К ( 3),  Р ( 15 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Проверяем умение записывать и читать натуральные числа в пределах 1 000 000 000 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шите  цифрами  число:  три  миллиарда  двести  семьдесят  миллионов  четыреста  восемь  тысяч  пятьсот  двенадцать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Проверяем умение сравнивать натуральные чис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равните  числа  и  запишите ответ с помощью  знака  &lt;  или  &gt;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13 765 902   и  13 675 879        б)   2 965 87    и      4 982 934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Умение переходить от одной единицы измерения величины к другой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ь в метрах  13км 05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ДОПОЛНИТЕЛЬНАЯ ЧАСТЬ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8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решать текстовые задач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 треугольнике  АВС  сторона  ВС  равна  73 см,  сторона  АС  на  1 дм  меньше  стороны  ВС,  а  сторона  АВ – на  11 см  больше  стороны  ВС.  Найдите  периметр  треугольника  АВС  и  выразите  его  в  дециметрах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записывать многозначные числа с применением условий к задаче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четырехзначное  число,  которое  меньше  6987  и  оканчивается  цифрой  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решать комбинаторную задач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различных трёхзначных чисел можно составить с помощью цифр 9 и 4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Оцени своё настроение  после выполнения рабо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4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685800" cy="547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5" descr=""/>
          <p:cNvPicPr/>
          <p:nvPr/>
        </p:nvPicPr>
        <p:blipFill>
          <a:blip r:embed="rId2"/>
          <a:srcRect l="58070" t="17220" r="4846" b="31191"/>
          <a:stretch/>
        </p:blipFill>
        <p:spPr>
          <a:xfrm>
            <a:off x="6781680" y="533520"/>
            <a:ext cx="609840" cy="533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7" descr=""/>
          <p:cNvPicPr/>
          <p:nvPr/>
        </p:nvPicPr>
        <p:blipFill>
          <a:blip r:embed="rId3"/>
          <a:srcRect l="9994" t="9989" r="9994" b="8002"/>
          <a:stretch/>
        </p:blipFill>
        <p:spPr>
          <a:xfrm>
            <a:off x="7923240" y="533520"/>
            <a:ext cx="519120" cy="533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8" descr=""/>
          <p:cNvPicPr/>
          <p:nvPr/>
        </p:nvPicPr>
        <p:blipFill>
          <a:blip r:embed="rId4"/>
          <a:stretch/>
        </p:blipFill>
        <p:spPr>
          <a:xfrm>
            <a:off x="5600880" y="6454800"/>
            <a:ext cx="533160" cy="425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9" descr=""/>
          <p:cNvPicPr/>
          <p:nvPr/>
        </p:nvPicPr>
        <p:blipFill>
          <a:blip r:embed="rId5"/>
          <a:srcRect l="58076" t="17230" r="4851" b="31180"/>
          <a:stretch/>
        </p:blipFill>
        <p:spPr>
          <a:xfrm>
            <a:off x="6550200" y="6477120"/>
            <a:ext cx="501480" cy="380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0" descr=""/>
          <p:cNvPicPr/>
          <p:nvPr/>
        </p:nvPicPr>
        <p:blipFill>
          <a:blip r:embed="rId6"/>
          <a:srcRect l="10033" t="10033" r="10033" b="8013"/>
          <a:stretch/>
        </p:blipFill>
        <p:spPr>
          <a:xfrm>
            <a:off x="7620120" y="6405480"/>
            <a:ext cx="441360" cy="45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70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161244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-14400" y="304920"/>
            <a:ext cx="8915400" cy="137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оответствия общего тестового балла 5-ти балльной шк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8600" y="2362320"/>
          <a:ext cx="8686800" cy="2971800"/>
        </p:xfrm>
        <a:graphic>
          <a:graphicData uri="http://schemas.openxmlformats.org/drawingml/2006/table">
            <a:tbl>
              <a:tblPr/>
              <a:tblGrid>
                <a:gridCol w="1712880"/>
                <a:gridCol w="1744560"/>
                <a:gridCol w="1746360"/>
                <a:gridCol w="1878120"/>
                <a:gridCol w="1604880"/>
              </a:tblGrid>
              <a:tr h="198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бал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1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4"/>
          <p:cNvSpPr/>
          <p:nvPr/>
        </p:nvSpPr>
        <p:spPr>
          <a:xfrm>
            <a:off x="1278000" y="3557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 каждую контрольную работу может быть выставлено от одной до трёх отметок, в зависимости от того, сколько уровней из трёх (необходимый, программный, творческий) смог пройти учащийся. При этом обязательной является только одна отметка – за обязательную часть контрольной работ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Рисунок17"/>
          <p:cNvPicPr/>
          <p:nvPr/>
        </p:nvPicPr>
        <p:blipFill>
          <a:blip r:embed="rId1"/>
          <a:stretch/>
        </p:blipFill>
        <p:spPr>
          <a:xfrm>
            <a:off x="6934320" y="4724280"/>
            <a:ext cx="1679400" cy="161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ЫВОДЫ :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Я изучила основные подходы к системе оценивания образовательных достижений учащихся в соответствии с ФГОС ООО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воила технологию разработки учебно-познавательных и учебно-практических задач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дготовила комплекс контрольно-измерительных материалов для оценки сформированности предметных и метапредметных результатов учащихся 5 классо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791320" y="4422600"/>
            <a:ext cx="2066760" cy="217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762120"/>
            <a:ext cx="838188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155520" y="-13644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im1-tub-ru.yandex.net/i?id=1e210ac20c688d294e3b45c5f4b15c1c&amp;n=33&amp;h=190"/>
          <p:cNvPicPr/>
          <p:nvPr/>
        </p:nvPicPr>
        <p:blipFill>
          <a:blip r:embed="rId1"/>
          <a:stretch/>
        </p:blipFill>
        <p:spPr>
          <a:xfrm>
            <a:off x="22320" y="3733920"/>
            <a:ext cx="29955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АЗРАБОТАТЬ КОМПЛЕКС КОНТРОЛЬНО-ДИАГНОСТИЧЕСКИХ МАТЕРИАЛОВ ДЛЯ ОСУЩЕСТВЛЕНИЯ ТЕКУЩЕЙ И ПРОМЕЖУТОЧНОЙ ОЦЕНКИ СФОРМИРОВАННОСТИ ПРЕДМЕТНЫХ И МЕТАПРЕДМЕТНЫХ РЕЗУЛЬТАТОВ У УЧАЩИХСЯ 5 КЛАССА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Заголовок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457200" y="999000"/>
            <a:ext cx="82296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новные подходы к системе оценивания образовательных достижений обучающихся в соответствии с ФГОС ОО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держание новых технологий, ориентированных на формирование личности школьника, овладение им универсальных учебных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рабочий материал для реализации проект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Подготовить комплекс контрольно-измерительных материалов для оценки  сформированности предметных и метапредметных результатов учащихся 5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основе реализации ФГОС лежит системно-деятельностный подход, который предполагает развитие личности обучающегося на основе освоения универсальных  учебных действий, познания и освоения мира, учет индивидуальных возрастных, психологических и физиологических особенностей обучающих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j0428113"/>
          <p:cNvPicPr/>
          <p:nvPr/>
        </p:nvPicPr>
        <p:blipFill>
          <a:blip r:embed="rId1"/>
          <a:stretch/>
        </p:blipFill>
        <p:spPr>
          <a:xfrm>
            <a:off x="6781680" y="4572000"/>
            <a:ext cx="219240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09680" y="16761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ись целевые установки контроля (задания ориентированы на проверку сформированности универсальных и специфических способов действи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необходимость в использовании критериального подхода при разработке заданий. Основными критериями оценивания при этом выступают планируемые результаты освоения ОО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диагностики выступают как достигаемые образовательные результаты, так и процесс их достиж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ась роль учителя при проведении работ (активный участник, рефлексивная позиция при анализе и коррекции, наблюдатель при проведении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380880" y="152280"/>
            <a:ext cx="86108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овизна подхода к организации мониторинга достиж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ируемых результатов освоения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стоит в следующем</a:t>
            </a:r>
            <a:r>
              <a:rPr b="0" lang="ru-RU" sz="2400" spc="-1" strike="noStrike">
                <a:solidFill>
                  <a:srgbClr val="575f6d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575f6d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ЖИДАЕМЫЕ РЕЗУЛЬТАТ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228600" y="1069920"/>
            <a:ext cx="8610480" cy="54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  Педагог знает особенности оценки сформированности образовательных результатов обучаю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  Педагог владеет навыками разработки учебно-познавательных и учебно-практ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  Разработана система заданий для проведения промежуточной оценки предметных результатов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  Разработаны измерительные материалы комплексной проверочной работы на межпредметной основе для оценки сформированности  метапредмет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 – познавательные, регулятивные, коммуникативны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 - готовность и способность обучающихся к саморазвитию, сформированность мотивации к обучению и познанию,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м - освоение обучающимися в ходе изучения учебного предмета опыта по получению нового знания, его преобразованию и примен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Заголовок 1"/>
          <p:cNvSpPr/>
          <p:nvPr/>
        </p:nvSpPr>
        <p:spPr>
          <a:xfrm>
            <a:off x="304920" y="152280"/>
            <a:ext cx="8686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330480"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ируемые результаты освоения программы: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ЛЯ ПРОВЕДЕНИЯ МОНИТОРИНГА ДОСТИЖЕНИЯ ШКОЛЬНИКАМИ ПЛАНИРУЕМЫХ РЕЗУЛЬТАТОВ ОСВОЕНИЯ УЧЕБНЫХ ПРОГРАММ ПО МАТЕМАТИКЕ ТРЕБУЕТСЯ РАЗРАБОТАТЬ: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6002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ржание заданий для мониторинг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агностические работ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струкции по организации и провед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х работ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ланки с заданиями для обучающихс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ценочные лист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токолы затруднени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водная таблица результатов оценочных лис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228600" y="304920"/>
            <a:ext cx="861048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ое описание диагностической работы включает в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52280" y="1506960"/>
            <a:ext cx="883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результатов, на получение которых они направл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умений, характеризующих достижение этого резуль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правильного ответа (для тест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критериев достижения планируемого результ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залия</dc:creator>
  <dc:description/>
  <dc:language>en-US</dc:language>
  <cp:lastModifiedBy>Розалия</cp:lastModifiedBy>
  <dcterms:modified xsi:type="dcterms:W3CDTF">2015-03-26T21:17:1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