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79976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569-E68E-4DD4-BD6B-4E253D84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97218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370760"/>
            <a:ext cx="97218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C718-2473-40A3-AFF7-C3B4284F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37076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37076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5CF-7154-4491-9C3A-C82CA4D7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76364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76364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37076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37076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37076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0BBC-843B-4D15-9CBB-25B35BE3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763640"/>
            <a:ext cx="97218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13E1-FFF0-472D-B38C-F4867C07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972180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04FE-4A1E-4D9B-BD27-297F9AA6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DFB-3F9A-4B5A-B403-926258C0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340-BDAA-4FA6-A86F-017AC64E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03120"/>
            <a:ext cx="9721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733-13D2-474A-801B-72F5F725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37076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9FF-A723-4221-A1EC-DD730A84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37076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7C53-464B-47A0-B01A-B226343F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370760"/>
            <a:ext cx="97218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F135-6FBE-4E92-9032-DECC11B6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763640"/>
            <a:ext cx="972180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92040" indent="-3920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51040" indent="-3272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11120" indent="-261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35280" indent="-2620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59080" indent="-2620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59080" indent="-2620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59080" indent="-2620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7008840"/>
            <a:ext cx="2521080" cy="4017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  <a:defRPr b="0" lang="en-US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7008840"/>
            <a:ext cx="3419280" cy="4017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7008840"/>
            <a:ext cx="2520720" cy="4017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  <a:defRPr b="0" lang="en-US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fld id="{0F2A75C5-DA1A-48B7-BFAE-05FD1E1AE2C7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package" Target="../embeddings/oleObject1.pptx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11160"/>
            <a:ext cx="10801440" cy="7550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48000" y="252360"/>
            <a:ext cx="56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КДОУ детский сад №1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г.Новосиби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8000" y="1692360"/>
            <a:ext cx="73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Влияние предметно-развивающей среды во второй младшей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на формирование основ безопасного поведения на дор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553080" y="4716360"/>
            <a:ext cx="3743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Подготовила воспитатель 12 групп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Иванова М.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21800" y="6589800"/>
            <a:ext cx="1721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f81bd"/>
                </a:solidFill>
                <a:latin typeface="Arial"/>
              </a:rPr>
              <a:t>2014-2015гг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0"/>
            <a:ext cx="10801440" cy="7550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36720" y="1620720"/>
            <a:ext cx="482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большие игрушки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гурки людей, животных, дорожные знаки, светоф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264360" y="2989440"/>
            <a:ext cx="4000320" cy="262872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3"/>
          <a:srcRect l="8125" t="28783" r="5390" b="20919"/>
          <a:stretch/>
        </p:blipFill>
        <p:spPr>
          <a:xfrm>
            <a:off x="5977080" y="684360"/>
            <a:ext cx="3657600" cy="158724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0"/>
            <a:ext cx="10801440" cy="7550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79640" y="1044720"/>
            <a:ext cx="460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ображение спецтранспорт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жарная машина (01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иция (02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рая помощь(0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761080" y="612720"/>
            <a:ext cx="4071960" cy="410364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0"/>
            <a:ext cx="10801440" cy="7550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52360" y="324000"/>
            <a:ext cx="424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урналы, книг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пка-раскладушка, альбом «Знаки дорожного движения», плака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теме угол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72000" y="252360"/>
            <a:ext cx="3975120" cy="298440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121440" y="5292720"/>
            <a:ext cx="2857320" cy="186696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896000" y="3492360"/>
            <a:ext cx="5003640" cy="160020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0" y="2065320"/>
            <a:ext cx="1080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84360" y="2989440"/>
          <a:ext cx="2736720" cy="205236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84360" y="2989440"/>
                    <a:ext cx="2736720" cy="2052360"/>
                  </a:xfrm>
                  <a:prstGeom prst="rect">
                    <a:avLst/>
                  </a:prstGeom>
                  <a:ln w="57240">
                    <a:solidFill>
                      <a:srgbClr val="1f497d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0"/>
            <a:ext cx="10801440" cy="7550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977080" y="4932360"/>
            <a:ext cx="388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зл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вающие иг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дактические иг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рточки для речевого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68360" y="324000"/>
            <a:ext cx="2592360" cy="238104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464000" y="755640"/>
            <a:ext cx="2689200" cy="352908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561440" y="468360"/>
            <a:ext cx="2949480" cy="199548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31640" y="2916360"/>
            <a:ext cx="3657600" cy="171432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7345440" y="2989440"/>
            <a:ext cx="3174840" cy="205740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0"/>
            <a:ext cx="10801440" cy="7550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664000" y="539640"/>
            <a:ext cx="6408720" cy="330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1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</a:t>
            </a:r>
            <a:endParaRPr b="0" lang="en-US" sz="21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1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1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имание!!!</a:t>
            </a:r>
            <a:endParaRPr b="0" lang="en-US" sz="21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11160"/>
            <a:ext cx="10801440" cy="7550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20720" y="324000"/>
            <a:ext cx="9793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ь уголка ПДД: формировать навыки безопасного поведения на дорог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и уголка ПДД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ающие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креплять знания детей о работе светофора и дорожных знак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бщать знания о правилах безопасного поведения на дорог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ширять знания детей о видах транспор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ющ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овать навык ориентирования по сигналам светофо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ть вним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вершенствовать координацию движ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ть речь и активизировать словарь де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питательны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питывать чувство сопереживания, умение применять правила безопасности на дорог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питывать у детей культуру поведения на улиц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0"/>
            <a:ext cx="10801440" cy="7550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87640" y="459000"/>
            <a:ext cx="8285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тельные обла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660066"/>
              </a:buClr>
              <a:buFont typeface="Arial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Познавательное развит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660066"/>
              </a:buClr>
              <a:buFont typeface="Arial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660066"/>
              </a:buClr>
              <a:buFont typeface="Arial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Физическое развит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660066"/>
              </a:buClr>
              <a:buFont typeface="Arial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Речев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660066"/>
              </a:buClr>
              <a:buFont typeface="Arial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660066"/>
              </a:buClr>
              <a:buFont typeface="Arial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Социально-коммуникативн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660066"/>
              </a:buClr>
              <a:buFont typeface="Arial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0"/>
            <a:ext cx="10801440" cy="755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297080" y="322560"/>
            <a:ext cx="90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Arial"/>
              </a:rPr>
              <a:t>Оборудование и материалы, которые присутствуют в нашем уголк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472000" y="1116000"/>
            <a:ext cx="4573800" cy="561672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rot="21168600">
            <a:off x="1079280" y="1260000"/>
            <a:ext cx="3598560" cy="2622600"/>
          </a:xfrm>
          <a:prstGeom prst="rect">
            <a:avLst/>
          </a:prstGeom>
          <a:ln w="7632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0"/>
            <a:ext cx="10801440" cy="755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8360" y="97164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ветофорчик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905440" y="324000"/>
            <a:ext cx="34401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0"/>
            <a:ext cx="10801440" cy="7550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36720" y="755640"/>
            <a:ext cx="46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стольный макет с изображением дор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шеходных перех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129440" y="468360"/>
            <a:ext cx="3048120" cy="2467080"/>
          </a:xfrm>
          <a:prstGeom prst="rect">
            <a:avLst/>
          </a:prstGeom>
          <a:ln w="38160">
            <a:solidFill>
              <a:srgbClr val="1f497d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rcRect l="2579" t="6722" r="5113" b="7719"/>
          <a:stretch/>
        </p:blipFill>
        <p:spPr>
          <a:xfrm>
            <a:off x="3672000" y="2413080"/>
            <a:ext cx="4114800" cy="2857320"/>
          </a:xfrm>
          <a:prstGeom prst="rect">
            <a:avLst/>
          </a:prstGeom>
          <a:ln w="381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0"/>
            <a:ext cx="10801440" cy="7550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52360" y="252360"/>
            <a:ext cx="540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стенное панно с изображением доро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шеходных переходов, светофоров, перекрестков, автостоянок, домов и дворов, а также с разнообразными видами транспортных, фигурок людей, светофорами и основными знаками дорожного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686640" y="539640"/>
            <a:ext cx="3071880" cy="612144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0"/>
            <a:ext cx="10801440" cy="7550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79640" y="1044720"/>
            <a:ext cx="3860640" cy="2895480"/>
          </a:xfrm>
          <a:prstGeom prst="rect">
            <a:avLst/>
          </a:prstGeom>
          <a:ln w="38160">
            <a:solidFill>
              <a:srgbClr val="1f497d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472000" y="324000"/>
            <a:ext cx="3576600" cy="267948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264360" y="3276720"/>
            <a:ext cx="2585880" cy="390528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0"/>
            <a:ext cx="10801440" cy="755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12720" y="396720"/>
            <a:ext cx="49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едний транспорт для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настольном мак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248000" y="2052720"/>
            <a:ext cx="5904000" cy="303984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6:22:23Z</dcterms:created>
  <dc:creator>Admin</dc:creator>
  <dc:description/>
  <dc:language>en-US</dc:language>
  <cp:lastModifiedBy>Admin</cp:lastModifiedBy>
  <dcterms:modified xsi:type="dcterms:W3CDTF">2015-10-13T16:23:55Z</dcterms:modified>
  <cp:revision>24</cp:revision>
  <dc:subject/>
  <dc:title>Слайд 0</dc:title>
</cp:coreProperties>
</file>