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780D-9BF8-49FF-870C-8B1FE8EAA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E5AB-D989-48CE-8EC3-5D566C84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0148-5F7C-4410-89AC-588033488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7173-6C4E-4FA7-B0BB-ABABA7191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5B39-59BE-411A-BABC-921FD387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FDC0-46EF-475C-B20B-FFB65798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47E1-80BC-4BD8-A503-52CCA5BA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86C5-5170-4FD9-A5CA-B548E6DE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D059-265A-4A38-AB65-597061A3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848F-B8A5-4001-B8C1-32B2AC65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1F8C-E791-4676-9B74-80BE35FF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2A7C-F1DA-4EE1-8403-E0B40C81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16f8ed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EC7A1-CEF4-4188-BE06-02DF2929E8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16f8ed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142640"/>
            <a:ext cx="8569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0253f"/>
                </a:solidFill>
                <a:latin typeface="Tahoma"/>
              </a:rPr>
              <a:t>«Профессия учителя </a:t>
            </a:r>
            <a:br>
              <a:rPr sz="6000"/>
            </a:br>
            <a:r>
              <a:rPr b="0" lang="en-US" sz="6000" spc="-1" strike="noStrike">
                <a:solidFill>
                  <a:srgbClr val="10253f"/>
                </a:solidFill>
                <a:latin typeface="Tahoma"/>
              </a:rPr>
              <a:t>в моем представлении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640" y="4076640"/>
            <a:ext cx="8353440" cy="13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ктор: Тарбеева Янина Борисовн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У СОШ № 67 г.Иркутс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16f8ed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2060"/>
                </a:solidFill>
                <a:latin typeface="바탕"/>
                <a:ea typeface="바탕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16f8ed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5264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Arial"/>
              </a:rPr>
              <a:t>«Учитель может совершить больше, нежели завоеватели 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Arial"/>
              </a:rPr>
              <a:t>государственные главы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Arial"/>
              </a:rPr>
              <a:t>Они, учителя, могут создавать новое воображение и освободить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Arial"/>
              </a:rPr>
              <a:t>скрытые силы человечеств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Arial"/>
              </a:rPr>
              <a:t>              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Arial"/>
              </a:rPr>
              <a:t>Г. Уэль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16f8ed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642160" cy="56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2060"/>
                </a:solidFill>
                <a:uFillTx/>
                <a:latin typeface="Tahoma"/>
              </a:rPr>
              <a:t>Эмпатия</a:t>
            </a:r>
            <a:r>
              <a:rPr b="0" lang="ru-RU" sz="2800" spc="-1" strike="noStrike">
                <a:solidFill>
                  <a:srgbClr val="002060"/>
                </a:solidFill>
                <a:latin typeface="Tahoma"/>
              </a:rPr>
              <a:t> - умение видеть мир глазами других, способность  сказать другим о своем понимании.</a:t>
            </a:r>
            <a:br>
              <a:rPr sz="2800"/>
            </a:br>
            <a:br>
              <a:rPr sz="2800"/>
            </a:br>
            <a:r>
              <a:rPr b="0" lang="ru-RU" sz="2800" spc="-1" strike="noStrike" u="sng">
                <a:solidFill>
                  <a:srgbClr val="002060"/>
                </a:solidFill>
                <a:uFillTx/>
                <a:latin typeface="Tahoma"/>
              </a:rPr>
              <a:t>Аутентичность</a:t>
            </a:r>
            <a:r>
              <a:rPr b="0" lang="ru-RU" sz="2800" spc="-1" strike="noStrike">
                <a:solidFill>
                  <a:srgbClr val="002060"/>
                </a:solidFill>
                <a:latin typeface="Tahoma"/>
              </a:rPr>
              <a:t> - умение быть собой, не скрываться   за масками.</a:t>
            </a:r>
            <a:br>
              <a:rPr sz="2800"/>
            </a:br>
            <a:br>
              <a:rPr sz="2800"/>
            </a:br>
            <a:r>
              <a:rPr b="0" lang="ru-RU" sz="2800" spc="-1" strike="noStrike" u="sng">
                <a:solidFill>
                  <a:srgbClr val="002060"/>
                </a:solidFill>
                <a:uFillTx/>
                <a:latin typeface="Tahoma"/>
              </a:rPr>
              <a:t>Конкретность</a:t>
            </a:r>
            <a:r>
              <a:rPr b="0" lang="ru-RU" sz="2800" spc="-1" strike="noStrike">
                <a:solidFill>
                  <a:srgbClr val="002060"/>
                </a:solidFill>
                <a:latin typeface="Tahoma"/>
              </a:rPr>
              <a:t> – отказ от общих рассуждений, умение однозначно отвечать на вопросы.</a:t>
            </a:r>
            <a:br>
              <a:rPr sz="2800"/>
            </a:br>
            <a:br>
              <a:rPr sz="2800"/>
            </a:br>
            <a:r>
              <a:rPr b="0" lang="ru-RU" sz="2800" spc="-1" strike="noStrike" u="sng">
                <a:solidFill>
                  <a:srgbClr val="002060"/>
                </a:solidFill>
                <a:uFillTx/>
                <a:latin typeface="Tahoma"/>
              </a:rPr>
              <a:t>Инициативность</a:t>
            </a:r>
            <a:r>
              <a:rPr b="0" lang="ru-RU" sz="2800" spc="-1" strike="noStrike">
                <a:solidFill>
                  <a:srgbClr val="002060"/>
                </a:solidFill>
                <a:latin typeface="Tahoma"/>
              </a:rPr>
              <a:t> – склонность к деятельной позиции, способность проявлять активность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Tahoma"/>
              </a:rPr>
              <a:t>Непосредственность, открытость, умение слушать, желание  понять и помочь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16f8ed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78920" y="10526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«Существует неверное суждение, что излишняя доброжелатель-ность портит детей: они распоясываются, за доброту платят непослушанием и не боятся наказаний…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Януш Корча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16f8ed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6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060"/>
                </a:solidFill>
                <a:latin typeface="Tahoma"/>
              </a:rPr>
              <a:t>Беспроигрышный способ установления контакта – </a:t>
            </a:r>
            <a:r>
              <a:rPr b="1" i="1" lang="en-US" sz="4800" spc="-1" strike="noStrike">
                <a:solidFill>
                  <a:srgbClr val="002060"/>
                </a:solidFill>
                <a:latin typeface="Tahoma"/>
                <a:ea typeface="바탕"/>
              </a:rPr>
              <a:t>УЛЫБАЙТЕСЬ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16f8ed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ahoma"/>
              </a:rPr>
              <a:t>Урок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– главный показатель мастерства учител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16f8ed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Составляющие успешного урок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эмоционально-психологическая подготовка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четкий сценарий деятельности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понимание целей – чему научить, что проверить, как оценить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16f8ed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УЧИТЕЛЬ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Строгий и справедливый судья детских поступков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Главный конструктор полетов детской души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Диспетчер взлетов и посадок детского воображения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Сеятель разумного доброго вечног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16f8ed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Профессионализм учителя - это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*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умение общаться без конфликтов;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* умение сотрудничать с учениками;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* умение видеть не только класс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 но и каждого ученика;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* умение вовлечь в работу всех и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непременно оценить результаты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труда каждого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22:37:40Z</dcterms:created>
  <dc:creator>Елена Александровна</dc:creator>
  <dc:description/>
  <dc:language>en-US</dc:language>
  <cp:lastModifiedBy>Анжелика</cp:lastModifiedBy>
  <dcterms:modified xsi:type="dcterms:W3CDTF">2009-02-04T02:06:48Z</dcterms:modified>
  <cp:revision>7</cp:revision>
  <dc:subject/>
  <dc:title>«Профессия учителя в моем представлении»</dc:title>
</cp:coreProperties>
</file>