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803-9B53-4AF4-BFC7-BAC75C45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1DB7-0715-4F3E-9728-BD184131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CF8E-3C55-4D6B-A5E3-CB626DDD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EB4F-1A27-4DF2-8BFA-2F25959B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DEB4-04C3-4029-923F-F68649C7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AB01-3320-496E-AA76-0046F0BB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F4FD-EB89-4220-B79C-4FCEEC33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7B6-2B09-4C76-93E8-ED05E644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80E-315D-48F3-944F-882DAA69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6146-4207-4EB1-B92E-81C21669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BAE8-C614-44BA-9A94-74F7364B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911-735F-478D-8F8F-A798EFAC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16f8ed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6EC5-41AA-4EB1-99E8-A29C59046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16f8ed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42640"/>
            <a:ext cx="8569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0253f"/>
                </a:solidFill>
                <a:latin typeface="Tahoma"/>
              </a:rPr>
              <a:t>«Профессия учителя </a:t>
            </a:r>
            <a:br>
              <a:rPr sz="6000"/>
            </a:br>
            <a:r>
              <a:rPr b="0" lang="en-US" sz="6000" spc="-1" strike="noStrike">
                <a:solidFill>
                  <a:srgbClr val="10253f"/>
                </a:solidFill>
                <a:latin typeface="Tahoma"/>
              </a:rPr>
              <a:t>в моем представлении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4076640"/>
            <a:ext cx="8353440" cy="13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тор: Тарбеева Янина Борисов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У СОШ № 67 г.Иркутс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16f8ed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바탕"/>
                <a:ea typeface="바탕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16f8ed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5264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«Учитель может совершить больше, нежели завоеватели 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государственные глав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Они, учителя, могут создавать новое воображение и освободит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скрытые силы человечеств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Г. Уэль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16f8ed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Tahoma"/>
              </a:rPr>
              <a:t>Эмпатия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 - умение видеть мир глазами других, способность  сказать другим о своем понимании.</a:t>
            </a:r>
            <a:br>
              <a:rPr sz="2800"/>
            </a:br>
            <a:br>
              <a:rPr sz="2800"/>
            </a:br>
            <a:r>
              <a:rPr b="0" lang="ru-RU" sz="2800" spc="-1" strike="noStrike" u="sng">
                <a:solidFill>
                  <a:srgbClr val="002060"/>
                </a:solidFill>
                <a:uFillTx/>
                <a:latin typeface="Tahoma"/>
              </a:rPr>
              <a:t>Аутентичность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 - умение быть собой, не скрываться   за масками.</a:t>
            </a:r>
            <a:br>
              <a:rPr sz="2800"/>
            </a:br>
            <a:br>
              <a:rPr sz="2800"/>
            </a:br>
            <a:r>
              <a:rPr b="0" lang="ru-RU" sz="2800" spc="-1" strike="noStrike" u="sng">
                <a:solidFill>
                  <a:srgbClr val="002060"/>
                </a:solidFill>
                <a:uFillTx/>
                <a:latin typeface="Tahoma"/>
              </a:rPr>
              <a:t>Конкретность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 – отказ от общих рассуждений, умение однозначно отвечать на вопросы.</a:t>
            </a:r>
            <a:br>
              <a:rPr sz="2800"/>
            </a:br>
            <a:br>
              <a:rPr sz="2800"/>
            </a:br>
            <a:r>
              <a:rPr b="0" lang="ru-RU" sz="2800" spc="-1" strike="noStrike" u="sng">
                <a:solidFill>
                  <a:srgbClr val="002060"/>
                </a:solidFill>
                <a:uFillTx/>
                <a:latin typeface="Tahoma"/>
              </a:rPr>
              <a:t>Инициативность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 – склонность к деятельной позиции, способность проявлять активность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Непосредственность, открытость, умение слушать, желание  понять и помочь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16f8ed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8920" y="1052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«Существует неверное суждение, что излишняя доброжелатель-ность портит детей: они распоясываются, за доброту платят непослушанием и не боятся наказаний…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нуш Корч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16f8ed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Tahoma"/>
              </a:rPr>
              <a:t>Беспроигрышный способ установления контакта – </a:t>
            </a:r>
            <a:r>
              <a:rPr b="1" i="1" lang="en-US" sz="4800" spc="-1" strike="noStrike">
                <a:solidFill>
                  <a:srgbClr val="002060"/>
                </a:solidFill>
                <a:latin typeface="Tahoma"/>
                <a:ea typeface="바탕"/>
              </a:rPr>
              <a:t>УЛЫБАЙТЕСЬ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16f8ed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ahoma"/>
              </a:rPr>
              <a:t>Урок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– главный показатель мастерства учител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16f8ed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Составляющие успешного уро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эмоционально-психологическая подготов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четкий сценарий деятельност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понимание целей – чему научить, что проверить, как оценить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16f8ed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УЧИТЕЛЬ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Строгий и справедливый судья детских поступков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Главный конструктор полетов детской души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Диспетчер взлетов и посадок детского воображения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Сеятель разумного доброго вечног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16f8ed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Профессионализм учителя - это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*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умение общаться без конфликтов;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* умение сотрудничать с учениками;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* умение видеть не только класс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но и каждого ученика;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* умение вовлечь в работу всех и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непременно оценить результат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труда каждого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22:37:40Z</dcterms:created>
  <dc:creator>Елена Александровна</dc:creator>
  <dc:description/>
  <dc:language>en-US</dc:language>
  <cp:lastModifiedBy>Анжелика</cp:lastModifiedBy>
  <dcterms:modified xsi:type="dcterms:W3CDTF">2009-02-04T02:06:48Z</dcterms:modified>
  <cp:revision>7</cp:revision>
  <dc:subject/>
  <dc:title>«Профессия учителя в моем представлении»</dc:title>
</cp:coreProperties>
</file>