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5CC9-0656-4C8D-8FC1-77E58230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1EF0-1BCD-4949-98B4-D815AA18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7527-8DDE-4139-ADBB-957E7AC2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8041-31C6-4760-B5D6-5EDF8029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8739-09D5-4D36-B989-B4C6ECF6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BED-51AD-4B9D-9327-82F84910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BFBB-1D73-4F8C-9CC8-37F298F4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9AF4-8806-4B83-A6FB-26D4E2C3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A648-5AC9-42AA-A790-24EF0924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091E-98BD-4CA7-8448-B0D9E675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EA51-0A25-4BBB-8FF0-3E6DB165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D42C-4BE7-4ACA-A0BC-1CC7290D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86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618B-E2EB-4532-B205-B4DA854DF816}" type="slidenum">
              <a:rPr b="0" lang="ru-RU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685800" y="380880"/>
            <a:ext cx="7315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10cdc"/>
                </a:solidFill>
                <a:latin typeface="Monotype Corsiva"/>
              </a:rPr>
              <a:t>Русское народное творчество в декоративно-прикладном искусстве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0" y="53341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60000"/>
                </a:solidFill>
                <a:latin typeface="Microsoft Sans Serif"/>
              </a:rPr>
              <a:t>Учебная демонстрация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43" name="Picture 9" descr="группа"/>
          <p:cNvPicPr/>
          <p:nvPr/>
        </p:nvPicPr>
        <p:blipFill>
          <a:blip r:embed="rId1"/>
          <a:stretch/>
        </p:blipFill>
        <p:spPr>
          <a:xfrm>
            <a:off x="4114800" y="2057400"/>
            <a:ext cx="4419720" cy="3263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1"/>
          <p:cNvSpPr/>
          <p:nvPr/>
        </p:nvSpPr>
        <p:spPr>
          <a:xfrm>
            <a:off x="304920" y="5943600"/>
            <a:ext cx="8458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45" name="205b.wav" descr=""/>
          <p:cNvPicPr/>
          <p:nvPr/>
        </p:nvPicPr>
        <p:blipFill>
          <a:blip r:embed="rId2"/>
          <a:stretch/>
        </p:blipFill>
        <p:spPr>
          <a:xfrm>
            <a:off x="-30492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990720" y="304920"/>
            <a:ext cx="73152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10cdc"/>
                </a:solidFill>
                <a:latin typeface="Monotype Corsiva"/>
              </a:rPr>
              <a:t>Дымковская</a:t>
            </a:r>
            <a:r>
              <a:rPr b="1" lang="ru-RU" sz="6000" spc="-1" strike="noStrike">
                <a:solidFill>
                  <a:srgbClr val="510cdc"/>
                </a:solidFill>
                <a:latin typeface="Monotype Corsiva"/>
              </a:rPr>
              <a:t> игрушка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33520" y="434340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60000"/>
                </a:solidFill>
                <a:latin typeface="Arial"/>
              </a:rPr>
              <a:t>Один из оригинальных вариантов русского узора мы видим на глиняных игрушках из Дымки. Различные барыни, всадники, петухи, козлики украшены красными, синими, желтыми, зелеными кругами, точками, полосками, волнистыми линиями</a:t>
            </a:r>
            <a:r>
              <a:rPr b="1" i="1" lang="ru-RU" sz="2400" spc="-1" strike="noStrike">
                <a:solidFill>
                  <a:srgbClr val="79524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4" name="Picture 7" descr="C:\Documents and Settings\учитель\Мои документы\Семенихина Н\Народное искусство\14.jpg"/>
          <p:cNvPicPr/>
          <p:nvPr/>
        </p:nvPicPr>
        <p:blipFill>
          <a:blip r:embed="rId1"/>
          <a:stretch/>
        </p:blipFill>
        <p:spPr>
          <a:xfrm>
            <a:off x="7010280" y="1676520"/>
            <a:ext cx="1758960" cy="2361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C:\Documents and Settings\учитель\Мои документы\Семенихина Н\Народное искусство\15.jpg"/>
          <p:cNvPicPr/>
          <p:nvPr/>
        </p:nvPicPr>
        <p:blipFill>
          <a:blip r:embed="rId2"/>
          <a:stretch/>
        </p:blipFill>
        <p:spPr>
          <a:xfrm>
            <a:off x="304920" y="1676520"/>
            <a:ext cx="2819160" cy="243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C:\Documents and Settings\учитель\Мои документы\Семенихина Н\Народное искусство\16.jpg"/>
          <p:cNvPicPr/>
          <p:nvPr/>
        </p:nvPicPr>
        <p:blipFill>
          <a:blip r:embed="rId3"/>
          <a:stretch/>
        </p:blipFill>
        <p:spPr>
          <a:xfrm>
            <a:off x="3581280" y="1676520"/>
            <a:ext cx="271332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04920" y="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109b1"/>
                </a:solidFill>
                <a:latin typeface="Monotype Corsiva"/>
              </a:rPr>
              <a:t>Филимоновские глиняные свистульки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80880" y="3962520"/>
            <a:ext cx="82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60000"/>
                </a:solidFill>
                <a:latin typeface="Comic Sans MS"/>
              </a:rPr>
              <a:t>Благородной простотой формы и узоров, но вместе с тем  сочной расцветкой выделяются среди прочих образцов народного декоративно-прикладного искусства филимоновские глиняные свистульки</a:t>
            </a:r>
            <a:r>
              <a:rPr b="1" i="1" lang="ru-RU" sz="2800" spc="-1" strike="noStrike">
                <a:solidFill>
                  <a:srgbClr val="56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9" name="Picture 6" descr="C:\Documents and Settings\учитель\Мои документы\Семенихина Н\Народное искусство\17.jpg"/>
          <p:cNvPicPr/>
          <p:nvPr/>
        </p:nvPicPr>
        <p:blipFill>
          <a:blip r:embed="rId1"/>
          <a:stretch/>
        </p:blipFill>
        <p:spPr>
          <a:xfrm>
            <a:off x="1295280" y="1752480"/>
            <a:ext cx="2743200" cy="2028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C:\Documents and Settings\учитель\Мои документы\Семенихина Н\Народное искусство\18.jpg"/>
          <p:cNvPicPr/>
          <p:nvPr/>
        </p:nvPicPr>
        <p:blipFill>
          <a:blip r:embed="rId2"/>
          <a:stretch/>
        </p:blipFill>
        <p:spPr>
          <a:xfrm>
            <a:off x="5410080" y="762120"/>
            <a:ext cx="27561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914400" y="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510cdc"/>
                </a:solidFill>
                <a:latin typeface="Monotype Corsiva"/>
              </a:rPr>
              <a:t>Матрешка</a:t>
            </a:r>
            <a:endParaRPr b="0" lang="en-US" sz="7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04920" y="411480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60000"/>
                </a:solidFill>
                <a:latin typeface="Arial"/>
              </a:rPr>
              <a:t>Во всем мире знают удивительное изделие - матрешку. По росписи и характеру исполнения наиболее известны семеновская (хохломская) и полховско-майданская матрешки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93" name="Picture 7" descr="C:\Documents and Settings\учитель\Мои документы\Семенихина Н\Народное искусство\матр1.jpg"/>
          <p:cNvPicPr/>
          <p:nvPr/>
        </p:nvPicPr>
        <p:blipFill>
          <a:blip r:embed="rId1"/>
          <a:srcRect l="0" t="1123" r="0" b="1123"/>
          <a:stretch/>
        </p:blipFill>
        <p:spPr>
          <a:xfrm>
            <a:off x="762120" y="1476360"/>
            <a:ext cx="3581280" cy="2449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C:\Documents and Settings\учитель\Мои документы\Семенихина Н\Народное искусство\матр2.jpg"/>
          <p:cNvPicPr/>
          <p:nvPr/>
        </p:nvPicPr>
        <p:blipFill>
          <a:blip r:embed="rId2"/>
          <a:stretch/>
        </p:blipFill>
        <p:spPr>
          <a:xfrm>
            <a:off x="5715000" y="1143000"/>
            <a:ext cx="2892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457200" y="380880"/>
            <a:ext cx="8381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Monotype Corsiva"/>
              </a:rPr>
              <a:t>На Руси издавна существовали географические центры народных промыслов – места, где сложился и развивается определенный вид декоративно-прикладного искусства, где народные мастера создают изумительные по красоте и оригинальности предметы.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96" name="Picture 5" descr="C:\Documents and Settings\учитель\Мои документы\Семенихина Н\Народное искусство\19.jpg"/>
          <p:cNvPicPr/>
          <p:nvPr/>
        </p:nvPicPr>
        <p:blipFill>
          <a:blip r:embed="rId1"/>
          <a:stretch/>
        </p:blipFill>
        <p:spPr>
          <a:xfrm>
            <a:off x="838080" y="4038480"/>
            <a:ext cx="1886040" cy="2438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:\Documents and Settings\учитель\Мои документы\Семенихина Н\Народное искусство\13.jpg"/>
          <p:cNvPicPr/>
          <p:nvPr/>
        </p:nvPicPr>
        <p:blipFill>
          <a:blip r:embed="rId2"/>
          <a:stretch/>
        </p:blipFill>
        <p:spPr>
          <a:xfrm>
            <a:off x="3657600" y="4114800"/>
            <a:ext cx="2664000" cy="2362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C:\Documents and Settings\учитель\Мои документы\Семенихина Н\Народное искусство\8.jpg"/>
          <p:cNvPicPr/>
          <p:nvPr/>
        </p:nvPicPr>
        <p:blipFill>
          <a:blip r:embed="rId3"/>
          <a:stretch/>
        </p:blipFill>
        <p:spPr>
          <a:xfrm>
            <a:off x="7086600" y="3657600"/>
            <a:ext cx="1755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04920" y="0"/>
            <a:ext cx="8229600" cy="48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Наше национальное русское декоративно-прикладное искусство исстари славится своими традициями. По разнообразию материалов, цветовой окраски и фольклорных узоров оно поистине уникально. Тут и посуда, и одежда, игрушки, пряники, резные наличники и ворота, кованые решетки, расписные платки, ювелирные украшения - всего и не счесть! На всех этих предметах традиционно есть узоры, орнаменты. Это Хохлома, Жостово, Городец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Полховский Майдан, Гжель, Палех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47" name="Picture 3" descr="C:\Documents and Settings\учитель.STATION-4\Мои документы\Санькова СД\Народное искусство\24.jpg"/>
          <p:cNvPicPr/>
          <p:nvPr/>
        </p:nvPicPr>
        <p:blipFill>
          <a:blip r:embed="rId1"/>
          <a:stretch/>
        </p:blipFill>
        <p:spPr>
          <a:xfrm>
            <a:off x="6781680" y="3962520"/>
            <a:ext cx="2057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762120" y="0"/>
            <a:ext cx="7543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0000cc"/>
                </a:solidFill>
                <a:latin typeface="Monotype Corsiva"/>
              </a:rPr>
              <a:t>Гжель</a:t>
            </a:r>
            <a:endParaRPr b="0" lang="en-US" sz="106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762120" y="1676520"/>
            <a:ext cx="8381880" cy="2181240"/>
            <a:chOff x="762120" y="1676520"/>
            <a:chExt cx="8381880" cy="2181240"/>
          </a:xfrm>
        </p:grpSpPr>
        <p:sp>
          <p:nvSpPr>
            <p:cNvPr id="50" name="Text Box 3"/>
            <p:cNvSpPr/>
            <p:nvPr/>
          </p:nvSpPr>
          <p:spPr>
            <a:xfrm>
              <a:off x="762120" y="2057400"/>
              <a:ext cx="8381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0000"/>
                  </a:solidFill>
                  <a:latin typeface="Tahoma"/>
                </a:rPr>
                <a:t>   </a:t>
              </a:r>
              <a:r>
                <a:rPr b="1" lang="ru-RU" sz="2800" spc="-1" strike="noStrike">
                  <a:solidFill>
                    <a:srgbClr val="990000"/>
                  </a:solidFill>
                  <a:latin typeface="Tahoma"/>
                </a:rPr>
                <a:t>зделия гжельских мастеров отличаются изящной формой. Гжель- это дивные, диковинные синие цветы, травы и листья на белой керамике.</a:t>
              </a:r>
              <a:endParaRPr b="0" lang="en-US" sz="28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51" name="WordArt 4"/>
            <p:cNvSpPr txBox="1"/>
            <p:nvPr/>
          </p:nvSpPr>
          <p:spPr>
            <a:xfrm>
              <a:off x="762120" y="1676520"/>
              <a:ext cx="53316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0">
                    <a:noFill/>
                  </a:ln>
                  <a:solidFill>
                    <a:srgbClr val="80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И</a:t>
              </a:r>
              <a:endParaRPr b="0" i="1" lang="en-US" sz="2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52" name="Picture 5" descr="C:\Documents and Settings\учитель.STATION-4\Мои документы\Санькова СД\Народное искусство\10.jpg"/>
          <p:cNvPicPr/>
          <p:nvPr/>
        </p:nvPicPr>
        <p:blipFill>
          <a:blip r:embed="rId1"/>
          <a:stretch/>
        </p:blipFill>
        <p:spPr>
          <a:xfrm>
            <a:off x="6172200" y="3962520"/>
            <a:ext cx="2590920" cy="2023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:\Documents and Settings\учитель.STATION-4\Мои документы\Санькова СД\Народное искусство\11.jpg"/>
          <p:cNvPicPr/>
          <p:nvPr/>
        </p:nvPicPr>
        <p:blipFill>
          <a:blip r:embed="rId2"/>
          <a:stretch/>
        </p:blipFill>
        <p:spPr>
          <a:xfrm>
            <a:off x="3657600" y="4191120"/>
            <a:ext cx="1635120" cy="2361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C:\Documents and Settings\учитель.STATION-4\Мои документы\Санькова СД\Народное искусство\12.jpg"/>
          <p:cNvPicPr/>
          <p:nvPr/>
        </p:nvPicPr>
        <p:blipFill>
          <a:blip r:embed="rId3"/>
          <a:srcRect l="0" t="0" r="0" b="938"/>
          <a:stretch/>
        </p:blipFill>
        <p:spPr>
          <a:xfrm>
            <a:off x="685800" y="4495680"/>
            <a:ext cx="2206800" cy="17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523880" y="0"/>
            <a:ext cx="640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            </a:t>
            </a: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Хохлома</a:t>
            </a:r>
            <a:endParaRPr b="0" lang="en-US" sz="96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56" name="Group 8"/>
          <p:cNvGrpSpPr/>
          <p:nvPr/>
        </p:nvGrpSpPr>
        <p:grpSpPr>
          <a:xfrm>
            <a:off x="761760" y="2971800"/>
            <a:ext cx="7391520" cy="3522960"/>
            <a:chOff x="761760" y="2971800"/>
            <a:chExt cx="7391520" cy="3522960"/>
          </a:xfrm>
        </p:grpSpPr>
        <p:sp>
          <p:nvSpPr>
            <p:cNvPr id="57" name="Text Box 3"/>
            <p:cNvSpPr/>
            <p:nvPr/>
          </p:nvSpPr>
          <p:spPr>
            <a:xfrm>
              <a:off x="914400" y="3048120"/>
              <a:ext cx="723888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463634"/>
                  </a:solidFill>
                  <a:latin typeface="Times New Roman"/>
                </a:rPr>
                <a:t>    </a:t>
              </a:r>
              <a:r>
                <a:rPr b="1" i="1" lang="ru-RU" sz="2400" spc="-1" strike="noStrike">
                  <a:solidFill>
                    <a:srgbClr val="3333cc"/>
                  </a:solidFill>
                  <a:latin typeface="Times New Roman"/>
                </a:rPr>
                <a:t>охломская роспись по дереву- один из самых знаменитых русских народных художественных промыслов, и расположен он в </a:t>
              </a:r>
              <a:r>
                <a:rPr b="1" i="1" lang="ru-RU" sz="2000" spc="-1" strike="noStrike">
                  <a:solidFill>
                    <a:srgbClr val="3333cc"/>
                  </a:solidFill>
                  <a:latin typeface="Times New Roman"/>
                </a:rPr>
                <a:t>Нижегородской</a:t>
              </a:r>
              <a:r>
                <a:rPr b="1" i="1" lang="ru-RU" sz="2400" spc="-1" strike="noStrike">
                  <a:solidFill>
                    <a:srgbClr val="3333cc"/>
                  </a:solidFill>
                  <a:latin typeface="Times New Roman"/>
                </a:rPr>
                <a:t> области. Название промысла произошло от названия села Хохлома. Выточенные предметы  из дерева, в основном посуда, после специальной обработки расписывают растительным узором, а затем покрывают лаком и закаляют в специальной печи</a:t>
              </a:r>
              <a:r>
                <a:rPr b="0" i="1" lang="ru-RU" sz="24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58" name="WordArt 4"/>
            <p:cNvSpPr txBox="1"/>
            <p:nvPr/>
          </p:nvSpPr>
          <p:spPr>
            <a:xfrm>
              <a:off x="761400" y="2971800"/>
              <a:ext cx="6094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Х</a:t>
              </a:r>
              <a:endParaRPr b="0" i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59" name="Picture 5" descr="C:\Documents and Settings\учитель.STATION-4\Мои документы\Санькова СД\Народное искусство\5.jpg"/>
          <p:cNvPicPr/>
          <p:nvPr/>
        </p:nvPicPr>
        <p:blipFill>
          <a:blip r:embed="rId1"/>
          <a:stretch/>
        </p:blipFill>
        <p:spPr>
          <a:xfrm>
            <a:off x="3505320" y="1371600"/>
            <a:ext cx="1828800" cy="181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C:\Documents and Settings\учитель.STATION-4\Мои документы\Санькова СД\Народное искусство\6.jpg"/>
          <p:cNvPicPr/>
          <p:nvPr/>
        </p:nvPicPr>
        <p:blipFill>
          <a:blip r:embed="rId2"/>
          <a:stretch/>
        </p:blipFill>
        <p:spPr>
          <a:xfrm>
            <a:off x="304920" y="457200"/>
            <a:ext cx="1981080" cy="1539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C:\Documents and Settings\учитель.STATION-4\Мои документы\Санькова СД\Народное искусство\7.jpg"/>
          <p:cNvPicPr/>
          <p:nvPr/>
        </p:nvPicPr>
        <p:blipFill>
          <a:blip r:embed="rId3"/>
          <a:stretch/>
        </p:blipFill>
        <p:spPr>
          <a:xfrm>
            <a:off x="6934320" y="457200"/>
            <a:ext cx="1790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304920" y="0"/>
            <a:ext cx="8153280" cy="3537360"/>
            <a:chOff x="304920" y="0"/>
            <a:chExt cx="8153280" cy="3537360"/>
          </a:xfrm>
        </p:grpSpPr>
        <p:sp>
          <p:nvSpPr>
            <p:cNvPr id="63" name="Text Box 2"/>
            <p:cNvSpPr/>
            <p:nvPr/>
          </p:nvSpPr>
          <p:spPr>
            <a:xfrm>
              <a:off x="533520" y="457200"/>
              <a:ext cx="792468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63634"/>
                  </a:solidFill>
                  <a:latin typeface="Times New Roman"/>
                </a:rPr>
                <a:t>   </a:t>
              </a:r>
              <a:r>
                <a:rPr b="1" i="1" lang="ru-RU" sz="2800" spc="-1" strike="noStrike">
                  <a:solidFill>
                    <a:srgbClr val="3333cc"/>
                  </a:solidFill>
                  <a:latin typeface="Times New Roman"/>
                </a:rPr>
                <a:t>ля изделий Хохломы характерно сочетание красного и черного цвета с золотистым.</a:t>
              </a:r>
              <a:r>
                <a:rPr b="1" i="1" lang="ru-RU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 </a:t>
              </a:r>
              <a:r>
                <a:rPr b="1" i="1" lang="ru-RU" sz="2800" spc="-1" strike="noStrike">
                  <a:solidFill>
                    <a:srgbClr val="3333cc"/>
                  </a:solidFill>
                  <a:latin typeface="Times New Roman"/>
                </a:rPr>
                <a:t>Золотая Хохлома - это огненные краски узоров, которые складываются из разнообразных завитков трав, цветов и ягод. Хохлома всегда роскошна, наполнена каким-то радостным светом, по-праздничному красочна</a:t>
              </a:r>
              <a:r>
                <a:rPr b="0" lang="ru-RU" sz="2400" spc="-1" strike="noStrike">
                  <a:solidFill>
                    <a:srgbClr val="463634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64" name="WordArt 3"/>
            <p:cNvSpPr txBox="1"/>
            <p:nvPr/>
          </p:nvSpPr>
          <p:spPr>
            <a:xfrm>
              <a:off x="304920" y="0"/>
              <a:ext cx="533160" cy="128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Д</a:t>
              </a:r>
              <a:endParaRPr b="1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65" name="Picture 4" descr="C:\Documents and Settings\учитель.STATION-4\Мои документы\Санькова СД\Народное искусство\5.jpg"/>
          <p:cNvPicPr/>
          <p:nvPr/>
        </p:nvPicPr>
        <p:blipFill>
          <a:blip r:embed="rId1"/>
          <a:stretch/>
        </p:blipFill>
        <p:spPr>
          <a:xfrm>
            <a:off x="2819520" y="3657600"/>
            <a:ext cx="304776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523880" y="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66"/>
                </a:solidFill>
                <a:latin typeface="Monotype Corsiva"/>
              </a:rPr>
              <a:t>Жостово</a:t>
            </a:r>
            <a:endParaRPr b="0" lang="en-US" sz="7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800600" y="419112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зображенные на них букеты цветов, фрукты выполнены мазками ярких красок на черном или цветном фоне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8" name="Picture 4" descr="C:\Documents and Settings\учитель.STATION-4\Мои документы\Санькова СД\Народное искусство\9.jpg"/>
          <p:cNvPicPr/>
          <p:nvPr/>
        </p:nvPicPr>
        <p:blipFill>
          <a:blip r:embed="rId1"/>
          <a:stretch/>
        </p:blipFill>
        <p:spPr>
          <a:xfrm>
            <a:off x="914400" y="3200400"/>
            <a:ext cx="3733920" cy="3414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1066680" y="114300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Жостовская роспись - это народный художественный промысел, получивший свое название по деревне Жоство, что в Московской области, где находится его производство.  Жостовская роспись - это декоративная живопись на металлических подносах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143000" y="0"/>
            <a:ext cx="71629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10cdc"/>
                </a:solidFill>
                <a:latin typeface="Monotype Corsiva"/>
              </a:rPr>
              <a:t>Полховский</a:t>
            </a:r>
            <a:r>
              <a:rPr b="1" lang="ru-RU" sz="5400" spc="-1" strike="noStrike">
                <a:solidFill>
                  <a:srgbClr val="510cdc"/>
                </a:solidFill>
                <a:latin typeface="Monotype Corsiva"/>
              </a:rPr>
              <a:t> Майдан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33520" y="9907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3634"/>
                </a:solidFill>
                <a:latin typeface="Arial"/>
              </a:rPr>
              <a:t>Полховско-майданские сувениры – это матрешки, грибки-коробочки, чашки для фруктов, вазы, кубышки-сахарницы и многое другое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304920" y="5791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3634"/>
                </a:solidFill>
                <a:latin typeface="Arial"/>
              </a:rPr>
              <a:t>Основным мотивом полховско-майданской росписи является цветок шиповника.</a:t>
            </a:r>
            <a:r>
              <a:rPr b="1" lang="ru-RU" sz="2400" spc="-1" strike="noStrike">
                <a:solidFill>
                  <a:srgbClr val="4636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3" name="Picture 8" descr="C:\Documents and Settings\учитель\Мои документы\Семенихина Н\Народное искусство\узор.jpg"/>
          <p:cNvPicPr/>
          <p:nvPr/>
        </p:nvPicPr>
        <p:blipFill>
          <a:blip r:embed="rId1"/>
          <a:stretch/>
        </p:blipFill>
        <p:spPr>
          <a:xfrm>
            <a:off x="2209680" y="2286000"/>
            <a:ext cx="510552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600200" y="2286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10cdc"/>
                </a:solidFill>
                <a:latin typeface="Monotype Corsiva"/>
              </a:rPr>
              <a:t>Городец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85800" y="1066680"/>
            <a:ext cx="670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60000"/>
                </a:solidFill>
                <a:latin typeface="Arial"/>
              </a:rPr>
              <a:t>Городецкая роспись первоначально возникла в городе Городец Нижегородской губернии</a:t>
            </a:r>
            <a:r>
              <a:rPr b="1" lang="ru-RU" sz="2800" spc="-1" strike="noStrike">
                <a:solidFill>
                  <a:srgbClr val="56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457200" y="495288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60000"/>
                </a:solidFill>
                <a:latin typeface="Arial"/>
              </a:rPr>
              <a:t>Это по преимуществу фантастические цветы, птицы, кони, выполненные масляными красками и украшающие прялки, посуду, кухонные доски, разного рода сувениры</a:t>
            </a:r>
            <a:r>
              <a:rPr b="1" lang="ru-RU" sz="2400" spc="-1" strike="noStrike">
                <a:solidFill>
                  <a:srgbClr val="499f5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7" name="Picture 8" descr="C:\Documents and Settings\учитель\Мои документы\Семенихина Н\Народное искусство\4.jpg"/>
          <p:cNvPicPr/>
          <p:nvPr/>
        </p:nvPicPr>
        <p:blipFill>
          <a:blip r:embed="rId1"/>
          <a:stretch/>
        </p:blipFill>
        <p:spPr>
          <a:xfrm>
            <a:off x="1676520" y="2590920"/>
            <a:ext cx="5105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533520" y="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10cdc"/>
                </a:solidFill>
                <a:latin typeface="Comic Sans MS"/>
              </a:rPr>
              <a:t>Городецкая роспись</a:t>
            </a:r>
            <a:r>
              <a:rPr b="1" i="1" lang="ru-RU" sz="2400" spc="-1" strike="noStrike">
                <a:solidFill>
                  <a:srgbClr val="560000"/>
                </a:solidFill>
                <a:latin typeface="Comic Sans MS"/>
              </a:rPr>
              <a:t>-яркая, лаконичная, ее отличают свободные мазки с белой и черной обводкой и характерный рисунок - растения, животные, разнообразные жанровые сценки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04920" y="52578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60000"/>
                </a:solidFill>
                <a:latin typeface="Comic Sans MS"/>
              </a:rPr>
              <a:t>Городецкие узоры пользуются особой популярностью, потому что они прекрасно передают</a:t>
            </a:r>
            <a:r>
              <a:rPr b="1" i="1" lang="ru-RU" sz="2800" spc="-1" strike="noStrike">
                <a:solidFill>
                  <a:srgbClr val="560000"/>
                </a:solidFill>
                <a:latin typeface="Comic Sans MS"/>
              </a:rPr>
              <a:t> все </a:t>
            </a:r>
            <a:r>
              <a:rPr b="1" i="1" lang="ru-RU" sz="2400" spc="-1" strike="noStrike">
                <a:solidFill>
                  <a:srgbClr val="560000"/>
                </a:solidFill>
                <a:latin typeface="Comic Sans MS"/>
              </a:rPr>
              <a:t>своеобразие русского орнамента.</a:t>
            </a:r>
            <a:r>
              <a:rPr b="1" lang="ru-RU" sz="2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0" name="Picture 6" descr="C:\Documents and Settings\учитель\Мои документы\Семенихина Н\Народное искусство\3.jpg"/>
          <p:cNvPicPr/>
          <p:nvPr/>
        </p:nvPicPr>
        <p:blipFill>
          <a:blip r:embed="rId1"/>
          <a:stretch/>
        </p:blipFill>
        <p:spPr>
          <a:xfrm>
            <a:off x="914400" y="1752480"/>
            <a:ext cx="3429000" cy="3303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C:\Documents and Settings\учитель\Мои документы\Семенихина Н\Народное искусство\2.jpg"/>
          <p:cNvPicPr/>
          <p:nvPr/>
        </p:nvPicPr>
        <p:blipFill>
          <a:blip r:embed="rId2"/>
          <a:stretch/>
        </p:blipFill>
        <p:spPr>
          <a:xfrm>
            <a:off x="5867280" y="1676520"/>
            <a:ext cx="23623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06:43:15Z</dcterms:created>
  <dc:creator>учитель</dc:creator>
  <dc:description/>
  <dc:language>en-US</dc:language>
  <cp:lastModifiedBy>домашний</cp:lastModifiedBy>
  <dcterms:modified xsi:type="dcterms:W3CDTF">2015-10-12T22:57:06Z</dcterms:modified>
  <cp:revision>17</cp:revision>
  <dc:subject/>
  <dc:title>Презентация PowerPoint</dc:title>
</cp:coreProperties>
</file>