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B70-1DA6-4D18-94D5-819DAAEF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4EF-0EA3-49E3-BA49-0034002E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467-7476-413C-9679-F8031BA5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76D-2FE7-4AF2-96C0-66F5CFC0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8DE3-6F3F-4D34-BE67-4021BA38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703A-8577-4E7E-9CB8-E1191468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477E-F56C-49D8-AC25-A6B66F0E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BB0A-F304-4E30-A21D-CFFA1A10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E25E-111D-46E0-B36D-B237CF09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9154-8949-4B96-BAA5-9C2538AD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2804-25D7-403F-B967-578ED31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544-8BEB-4AB3-B362-D131E996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120A-4343-43B3-A8D0-11DBD7B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3193-38CE-487A-AECF-38E0238C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8B9D-DDC6-4485-B7EE-0159D291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6BD-056E-4E68-82B1-45E0E8EE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C3EB-624D-4F8D-9615-0EBB9D68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179-8011-4F47-95AA-A8DEC4E1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3EE-81F0-48D2-8E13-7B1CC1E1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C88-D007-45D2-8EA1-5099F99F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5A5-5742-4FAC-AF3B-DF92840E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661-6AFA-4493-95F5-2479D2C3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F55-F590-4078-BC49-2E7A458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D8F-D06B-4CFC-8B55-AF12A55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B1F7-7923-4195-B588-F715AA0B2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14a58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35e66"/>
                    </a:gs>
                    <a:gs pos="5000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5E43-EC80-4207-8CB4-803266CCE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ractal-vortex.narod.ru/french_revolution/LI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70/French_Revolution-1792-8-1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4622"/>
                </a:solidFill>
                <a:latin typeface="Times New Roman"/>
              </a:rPr>
              <a:t>РОМАНТИЗМ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3644640"/>
            <a:ext cx="5717880" cy="17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ум ошибается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вства – никогда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Р. Шуман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Артур Шопенгауэ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«Мир как воля и представлени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821120" y="1700280"/>
            <a:ext cx="4322880" cy="5157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76360" y="1823760"/>
            <a:ext cx="30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рту́р Шопенга́уэ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нем. 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Arthur Schopenhaue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2 февраля 1788, Гданьс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ечь Посполитая — 21 сентября 1860, Франкфурт-на-Майне, Германский союз) 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мецкий философ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Картинка 44 из 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890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жен Делакр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189000"/>
            <a:ext cx="320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Свобода на баррикадах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21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00120" y="2565360"/>
            <a:ext cx="749160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волюци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сни Беранже, стихи Гюго, картины Делакруа, Жерико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троне Луи Филипп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акие темы и проблемы были особенно близки романтикам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ая и главная тема – разлад между человеком и средой , мечтой и действительностью. Господство чувств, страстей, стихийных сил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мантический герой, разочарованный в благах цивилизации, отвергает повседневную жизнь общества как бесцветную и прозаическую и стремится уйти от действитель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ути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бегство героя в прошлое, минувшие исторические эпохи (чаще всего в Средневековье), идеализация старины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бегство в экзотические страны, где можно отрешиться от капиталистической действительности, интерес к природе, быту, нравам, фольклору далеких стран и народов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бегство в сферу чистого вымысла, грез, духовных видений, фантастик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52400" y="-571680"/>
            <a:ext cx="7491240" cy="11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00120" y="333000"/>
            <a:ext cx="749160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щение к кульминационным, драматически острым моментам современной истор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трагической участи художника –творца в капиталистическом обществ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биографическая тема в творчестве романтик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романтической любв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дание романтического психологического портрета, выявление яркой индивидуальности, напряженной духовной жизни человека, показ особенных состояний душ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Символик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а и поток – символ вечной изменчивости, непостоянст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алка – символ человека с холодным сердцем, не способного люби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ень – символ бесчувствен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 куклы, маскарада – олицетворение фальши, двуличия, бездуховности. Прием срывания масок – показ неприглядной су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к – как созидание и разрушение мира. Отношение ко времени фаталистическое. Тема рока, фатума, судьбы – мысль о господстве непостижимых, загадочных си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Эжен Делакру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Алжирские женщины (этюд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92360" y="1177920"/>
            <a:ext cx="727236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-30240"/>
            <a:ext cx="889308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7920"/>
            <a:ext cx="8748720" cy="6870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56000" y="32616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Алжирские женщ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200480" y="0"/>
            <a:ext cx="49435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58920" y="2924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йя «Автопортр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Романтизм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дожественное направление в европейском искусстве конц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ой половин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а, возникшее в результате разочарования в итогах Великой французской революции, в идеологии Просвещения и буржуазной цивилизаци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Термин </a:t>
            </a:r>
            <a:r>
              <a:rPr b="1" i="1" lang="en-US" sz="4400" spc="-1" strike="noStrike">
                <a:solidFill>
                  <a:srgbClr val="fc4622"/>
                </a:solidFill>
                <a:latin typeface="Times New Roman"/>
              </a:rPr>
              <a:t>романтиз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е (франц.) – «воображаемый», «фантастически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е - всё необычное, таинственное, средневеково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а – противопоставлялись понятия «классический» и «романтический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1412640"/>
            <a:ext cx="74916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До свидания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E:\Documents and Settings\Ма\Мои рисунки\Живопись\Романтизм\Теодор Жерико\Жерико. Раненый кирасир. 1814.jpg"/>
          <p:cNvPicPr/>
          <p:nvPr/>
        </p:nvPicPr>
        <p:blipFill>
          <a:blip r:embed="rId1"/>
          <a:stretch/>
        </p:blipFill>
        <p:spPr>
          <a:xfrm>
            <a:off x="1476360" y="0"/>
            <a:ext cx="55515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164360" y="2421000"/>
            <a:ext cx="172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. Жери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Раненый кирасир, покидающий поле бо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Картинка 10 из 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ранцузская революция -178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вященный сою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и были направлены на предотвращение революционных движений и разгром в случае их появл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319880" cy="23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осстания и народные выступления в Европе первой трет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XIX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ек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0 – восстание в Испан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3 – французская армия вторглась в испанию и жестоко подавила революци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2781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-19080"/>
            <a:ext cx="8893080" cy="6877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й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«Расстрел повстанцев в ночь со 2 на 3 мая 1808 год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0 –революционное движение карбонариев в Итал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0 –трагедия города Миссолунги в Греци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24 – истребление жителей острова Хиос в Гре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E:\Documents and Settings\Ма\Мои рисунки\Живопись\Романтизм\Эжен Делакруа\Резняна Хиосе.jpg"/>
          <p:cNvPicPr/>
          <p:nvPr/>
        </p:nvPicPr>
        <p:blipFill>
          <a:blip r:embed="rId1"/>
          <a:stretch/>
        </p:blipFill>
        <p:spPr>
          <a:xfrm>
            <a:off x="2268360" y="0"/>
            <a:ext cx="58215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. Делакруа «Резня на Хиос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8:26:08Z</dcterms:created>
  <dc:creator>Ирина</dc:creator>
  <dc:description/>
  <dc:language>en-US</dc:language>
  <cp:lastModifiedBy>Ирина</cp:lastModifiedBy>
  <dcterms:modified xsi:type="dcterms:W3CDTF">2012-01-23T20:33:34Z</dcterms:modified>
  <cp:revision>10</cp:revision>
  <dc:subject/>
  <dc:title>РОМАНТИЗМ</dc:title>
</cp:coreProperties>
</file>