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81D7-360A-4790-8B85-2D6E432B5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830A-183E-4EA9-B07D-9DADA93A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CF38-9397-4744-BFC0-283A820D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2F40-3759-4ECF-B5A5-7A6DFC08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3A3D-A705-4E3B-BAD6-A413569F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A784-49EE-4178-9D13-B1CD6E0D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8F00-2D3D-4A5C-85B7-1B65638C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6BD9-3F8E-4935-AD10-C0EC1B98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F75B-9764-4932-B99D-CE7207A0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66F7-FAD8-4BB4-8CA8-DB3DD526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1ECD-275E-4511-BDD1-917B4D58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F551-AF7F-430C-94F7-45281E28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50D4-D460-470D-95EB-E7D8386D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F44F-B1C8-4320-AE50-8629D4E8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9935-580D-42D5-9E5D-4C4D0DCB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EE52-58CE-4FCA-BB83-C4CDFF7B3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2864-059E-4EE7-911F-AED824CF2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77E9-189C-4884-9C5C-803385D3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0C48-3A03-4B2B-B060-63D48F9A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BEE4-BFDD-4B0F-8EAD-2E752CC9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E833-775D-4874-A010-DDAC8BB2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0381-A1D3-4B28-A928-F859EF52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BEF3-01B7-4F82-9E1D-C95A9C3F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68FF-F1F5-4453-B0A6-EDF66BEC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535e66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535e66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535e66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535e66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8ea1c0"/>
                </a:gs>
                <a:gs pos="100000">
                  <a:srgbClr val="414a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b6c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b6c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CAEF-B123-4D9E-A4B6-12EF5876B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535e66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535e66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535e66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535e66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8ea1c0"/>
                </a:gs>
                <a:gs pos="100000">
                  <a:srgbClr val="414a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b6c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b6c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414a58"/>
                </a:gs>
                <a:gs pos="100000">
                  <a:srgbClr val="8ea1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6cdde"/>
                      </a:gs>
                      <a:gs pos="100000">
                        <a:srgbClr val="535e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35e66"/>
                      </a:gs>
                      <a:gs pos="100000">
                        <a:srgbClr val="b6cdd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b6cdde"/>
                      </a:gs>
                      <a:gs pos="100000">
                        <a:srgbClr val="535e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35e66"/>
                      </a:gs>
                      <a:gs pos="100000">
                        <a:srgbClr val="b6cdde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535e66"/>
                    </a:gs>
                    <a:gs pos="100000">
                      <a:srgbClr val="b6cdd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5e66"/>
                    </a:gs>
                    <a:gs pos="100000">
                      <a:srgbClr val="b6cdd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6cdde"/>
                    </a:gs>
                    <a:gs pos="100000">
                      <a:srgbClr val="535e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5e66"/>
                    </a:gs>
                    <a:gs pos="100000">
                      <a:srgbClr val="b6cdd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535e66"/>
                    </a:gs>
                    <a:gs pos="100000">
                      <a:srgbClr val="b6cdd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b6cdde"/>
                    </a:gs>
                    <a:gs pos="100000">
                      <a:srgbClr val="535e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535e66"/>
                    </a:gs>
                    <a:gs pos="50000">
                      <a:srgbClr val="b6cdde"/>
                    </a:gs>
                    <a:gs pos="100000">
                      <a:srgbClr val="535e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535e66"/>
                    </a:gs>
                    <a:gs pos="100000">
                      <a:srgbClr val="b6cdd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535e66"/>
                    </a:gs>
                    <a:gs pos="100000">
                      <a:srgbClr val="b6cdd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5e66"/>
                    </a:gs>
                    <a:gs pos="100000">
                      <a:srgbClr val="b6cdd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11E4-CBCB-4F07-95A1-EBEFA1409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fractal-vortex.narod.ru/french_revolution/LIB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wiki/files/70/French_Revolution-1792-8-10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4622"/>
                </a:solidFill>
                <a:latin typeface="Times New Roman"/>
              </a:rPr>
              <a:t>РОМАНТИЗМ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3644640"/>
            <a:ext cx="5717880" cy="17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зум ошибается,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увства – никогда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(Р. Шуман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Артур Шопенгауэр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«Мир как воля и представление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821120" y="1700280"/>
            <a:ext cx="4322880" cy="51577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476360" y="1823760"/>
            <a:ext cx="302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рту́р Шопенга́уэ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(нем. 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Arthur Schopenhauer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22 февраля 1788, Гданьс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ечь Посполитая — 21 сентября 1860, Франкфурт-на-Майне, Германский союз) 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емецкий философ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Картинка 44 из 1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18900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Эжен Делакру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40360" y="189000"/>
            <a:ext cx="3203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«Свобода на баррикадах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212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83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00120" y="2565360"/>
            <a:ext cx="749160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волюция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сни Беранже, стихи Гюго, картины Делакруа, Жерико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троне Луи Филипп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Какие темы и проблемы были особенно близки романтикам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новная и главная тема – разлад между человеком и средой , мечтой и действительностью. Господство чувств, страстей, стихийных сил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омантический герой, разочарованный в благах цивилизации, отвергает повседневную жизнь общества как бесцветную и прозаическую и стремится уйти от действительност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Пути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 бегство героя в прошлое, минувшие исторические эпохи (чаще всего в Средневековье), идеализация старины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 бегство в экзотические страны, где можно отрешиться от капиталистической действительности, интерес к природе, быту, нравам, фольклору далеких стран и народов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 бегство в сферу чистого вымысла, грез, духовных видений, фантастик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52400" y="-571680"/>
            <a:ext cx="7491240" cy="114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00120" y="333000"/>
            <a:ext cx="749160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ращение к кульминационным, драматически острым моментам современной истори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ма трагической участи художника –творца в капиталистическом обществе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втобиографическая тема в творчестве романтиков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ма романтической любв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здание романтического психологического портрета, выявление яркой индивидуальности, напряженной духовной жизни человека, показ особенных состояний душ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Символик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лна и поток – символ вечной изменчивости, непостоянств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алка – символ человека с холодным сердцем, не способного любить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мень – символ бесчувственност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 куклы, маскарада – олицетворение фальши, двуличия, бездуховности. Прием срывания масок – показ неприглядной сут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к – как созидание и разрушение мира. Отношение ко времени фаталистическое. Тема рока, фатума, судьбы – мысль о господстве непостижимых, загадочных сил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Эжен Делакруа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Алжирские женщины (этюд)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692360" y="1177920"/>
            <a:ext cx="7272360" cy="5684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50920" y="-30240"/>
            <a:ext cx="8893080" cy="6856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95280" y="7920"/>
            <a:ext cx="8748720" cy="68706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556000" y="326160"/>
            <a:ext cx="43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Алжирские женщ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200480" y="0"/>
            <a:ext cx="494352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258920" y="292428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ойя «Автопортре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Романтизм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удожественное направление в европейском искусстве конц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VIII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вой половин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ка, возникшее в результате разочарования в итогах Великой французской революции, в идеологии Просвещения и буржуазной цивилизации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Термин </a:t>
            </a:r>
            <a:r>
              <a:rPr b="1" i="1" lang="en-US" sz="4400" spc="-1" strike="noStrike">
                <a:solidFill>
                  <a:srgbClr val="fc4622"/>
                </a:solidFill>
                <a:latin typeface="Times New Roman"/>
              </a:rPr>
              <a:t>романтизм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еке (франц.) – «воображаемый», «фантастический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ке - всё необычное, таинственное, средневеково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онц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ека – противопоставлялись понятия «классический» и «романтический»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00120" y="1412640"/>
            <a:ext cx="7491600" cy="30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До свидания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E:\Documents and Settings\Ма\Мои рисунки\Живопись\Романтизм\Теодор Жерико\Жерико. Раненый кирасир. 1814.jpg"/>
          <p:cNvPicPr/>
          <p:nvPr/>
        </p:nvPicPr>
        <p:blipFill>
          <a:blip r:embed="rId1"/>
          <a:stretch/>
        </p:blipFill>
        <p:spPr>
          <a:xfrm>
            <a:off x="1476360" y="0"/>
            <a:ext cx="555156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164360" y="2421000"/>
            <a:ext cx="172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. Жери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Раненый кирасир, покидающий поле бо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8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Картинка 10 из 1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187280" y="549360"/>
            <a:ext cx="59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Французская революция -1789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25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Священный союз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и были направлены на предотвращение революционных движений и разгром в случае их появления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99760" y="228240"/>
            <a:ext cx="7319880" cy="233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Восстания и народные выступления в Европе первой трети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XIX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век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20 – восстание в Испан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23 – французская армия вторглась в испанию и жестоко подавила революцию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31640" y="278100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50920" y="-19080"/>
            <a:ext cx="8893080" cy="68770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24000" y="260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Гой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«Расстрел повстанцев в ночь со 2 на 3 мая 1808 года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20 –революционное движение карбонариев в Итал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20 –трагедия города Миссолунги в Греции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24 – истребление жителей острова Хиос в Грец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E:\Documents and Settings\Ма\Мои рисунки\Живопись\Романтизм\Эжен Делакруа\Резняна Хиосе.jpg"/>
          <p:cNvPicPr/>
          <p:nvPr/>
        </p:nvPicPr>
        <p:blipFill>
          <a:blip r:embed="rId1"/>
          <a:stretch/>
        </p:blipFill>
        <p:spPr>
          <a:xfrm>
            <a:off x="2268360" y="0"/>
            <a:ext cx="582156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Э. Делакруа «Резня на Хиосе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8:26:08Z</dcterms:created>
  <dc:creator>Ирина</dc:creator>
  <dc:description/>
  <dc:language>en-US</dc:language>
  <cp:lastModifiedBy>Ирина</cp:lastModifiedBy>
  <dcterms:modified xsi:type="dcterms:W3CDTF">2012-01-23T20:33:34Z</dcterms:modified>
  <cp:revision>10</cp:revision>
  <dc:subject/>
  <dc:title>РОМАНТИЗМ</dc:title>
</cp:coreProperties>
</file>