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2C21-1C75-4416-A31C-1D5705504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9301-B4EC-4790-84C5-2167DFC1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5D0E-B0F2-46EE-90D7-E4EC5AD89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E8CC-1E28-4F19-BDB6-3E191F1DA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AAB2-6577-4496-9B52-3B54E864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E5AB-31B3-4A98-9302-638E57F8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BDFC-D809-4482-AA55-F77CADB3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83A4-00F2-4BDA-9105-B766CB41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FCA3-D0D4-4F7C-8728-FFC535A5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A2CF-DF2D-4C61-B6B3-56AA5B3E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C1DA-0559-47D2-9251-C92B400B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8007-84A3-4902-8A6F-75070B8B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3777-3E7D-40C7-8F52-FACE10265A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1666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Нравственные уроки 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«Сказке о мёртвой царевне и о семи богатырях» А.С.Пушк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3" descr="Рисунок20"/>
          <p:cNvPicPr/>
          <p:nvPr/>
        </p:nvPicPr>
        <p:blipFill>
          <a:blip r:embed="rId1"/>
          <a:stretch/>
        </p:blipFill>
        <p:spPr>
          <a:xfrm>
            <a:off x="5148360" y="2276640"/>
            <a:ext cx="2560680" cy="3608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{B5C0749C-C7BB-408F-8962-A445721FD786}"/>
          <p:cNvPicPr/>
          <p:nvPr/>
        </p:nvPicPr>
        <p:blipFill>
          <a:blip r:embed="rId2"/>
          <a:srcRect l="6039" t="3345" r="5997" b="4997"/>
          <a:stretch/>
        </p:blipFill>
        <p:spPr>
          <a:xfrm>
            <a:off x="1116000" y="2276640"/>
            <a:ext cx="2590920" cy="376056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Documents and Settings\Владелец\Рабочий стол\mc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nts and Settings\Владелец\Рабочий стол\mc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лод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ар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ба гнев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арица зл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лая маче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Documents and Settings\Владелец\Рабочий стол\mc128.jpg"/>
          <p:cNvPicPr/>
          <p:nvPr/>
        </p:nvPicPr>
        <p:blipFill>
          <a:blip r:embed="rId1"/>
          <a:stretch/>
        </p:blipFill>
        <p:spPr>
          <a:xfrm>
            <a:off x="0" y="0"/>
            <a:ext cx="9548640" cy="7215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Documents and Settings\Владелец\Рабочий стол\mc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C:\Documents and Settings\Владелец\Рабочий стол\mc17.jpg"/>
          <p:cNvPicPr/>
          <p:nvPr/>
        </p:nvPicPr>
        <p:blipFill>
          <a:blip r:embed="rId1"/>
          <a:stretch/>
        </p:blipFill>
        <p:spPr>
          <a:xfrm>
            <a:off x="4427640" y="333360"/>
            <a:ext cx="4176720" cy="579276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&amp;Scy;&amp;kcy;&amp;acy;&amp;zcy;&amp;kcy;&amp;acy; &amp;ocy; &amp;mcy;&amp;iocy;&amp;rcy;&amp;tcy;&amp;vcy;&amp;ocy;&amp;jcy; &amp;TScy;&amp;acy;&amp;rcy;&amp;iecy;&amp;vcy;&amp;ncy;&amp;iecy;"/>
          <p:cNvPicPr/>
          <p:nvPr/>
        </p:nvPicPr>
        <p:blipFill>
          <a:blip r:embed="rId2"/>
          <a:srcRect l="0" t="24636" r="0" b="24636"/>
          <a:stretch/>
        </p:blipFill>
        <p:spPr>
          <a:xfrm>
            <a:off x="250920" y="333360"/>
            <a:ext cx="3816360" cy="575964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</p:spTree>
  </p:cSld>
  <p:transition>
    <p:push dir="r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C:\Documents and Settings\Владелец\Рабочий стол\mc3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111"/>
          <p:cNvPicPr/>
          <p:nvPr/>
        </p:nvPicPr>
        <p:blipFill>
          <a:blip r:embed="rId1"/>
          <a:stretch/>
        </p:blipFill>
        <p:spPr>
          <a:xfrm>
            <a:off x="2124000" y="907920"/>
            <a:ext cx="4753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Documents and Settings\Владелец\Рабочий стол\mc5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Владелец\Рабочий стол\mc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539640" y="415080"/>
            <a:ext cx="82803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5050"/>
                </a:solidFill>
                <a:uFillTx/>
                <a:latin typeface="Monotype Corsiva"/>
              </a:rPr>
              <a:t>Сказка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Monotype Corsiva"/>
              </a:rPr>
              <a:t> – занимательный рассказ о необыкновенных фантастических вымышленных событиях и приключениях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Documents and Settings\Владелец\Рабочий стол\mc6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«…просящему у тебя дай, и не оскудеет рука дающего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Documents and Settings\Владелец\Рабочий стол\mc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Documents and Settings\Владелец\Рабочий стол\mc3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4" descr="&amp;Scy;&amp;kcy;&amp;acy;&amp;zcy;&amp;kcy;&amp;acy; &amp;ocy; &amp;mcy;&amp;iocy;&amp;rcy;&amp;tcy;&amp;vcy;&amp;ocy;&amp;jcy; &amp;TScy;&amp;acy;&amp;rcy;&amp;iecy;&amp;vcy;&amp;ncy;&amp;iecy;"/>
          <p:cNvPicPr/>
          <p:nvPr/>
        </p:nvPicPr>
        <p:blipFill>
          <a:blip r:embed="rId1"/>
          <a:srcRect l="5790" t="0" r="5790" b="0"/>
          <a:stretch/>
        </p:blipFill>
        <p:spPr>
          <a:xfrm>
            <a:off x="468360" y="189000"/>
            <a:ext cx="8280360" cy="648000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</p:spTree>
  </p:cSld>
  <p:transition>
    <p:cover dir="d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Documents and Settings\Владелец\Рабочий стол\mc6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4" descr="http://i036.radikal.ru/1202/d6/dae5c5f50a9c.jpg"/>
          <p:cNvPicPr/>
          <p:nvPr/>
        </p:nvPicPr>
        <p:blipFill>
          <a:blip r:embed="rId1"/>
          <a:stretch/>
        </p:blipFill>
        <p:spPr>
          <a:xfrm>
            <a:off x="900000" y="476280"/>
            <a:ext cx="7344000" cy="532908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</p:spTree>
  </p:cSld>
  <p:transition>
    <p:wedg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Documents and Settings\Владелец\Рабочий стол\mc13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Главные нравственные идеи сказ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бовь-главная сила в мире, она может победить всё, даже смер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сота – не внешнее, а внутреннее свойство человека, его душа. Красота души определяется добротой, трудолюбием и скромнос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ность в дружбе и любви спасает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971640" y="2059920"/>
            <a:ext cx="334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Арина Родионовна, няня поэта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Рисунок2"/>
          <p:cNvPicPr/>
          <p:nvPr/>
        </p:nvPicPr>
        <p:blipFill>
          <a:blip r:embed="rId1"/>
          <a:stretch/>
        </p:blipFill>
        <p:spPr>
          <a:xfrm>
            <a:off x="4788000" y="907920"/>
            <a:ext cx="38098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Рисунок3"/>
          <p:cNvPicPr/>
          <p:nvPr/>
        </p:nvPicPr>
        <p:blipFill>
          <a:blip r:embed="rId1"/>
          <a:stretch/>
        </p:blipFill>
        <p:spPr>
          <a:xfrm>
            <a:off x="1077840" y="919080"/>
            <a:ext cx="698976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всё то золото, что блест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рево смотри в плодах, а человека в дел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рый человек придёт, словно света прине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лой человек как уголь: если не жжёт, то черне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Добро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 в духовном значении благо, что честно и полезно, что требует от нас долг челове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Зл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худое, лихое. Злой человек – причиняющий зло другим: вредный, пагубны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 Словарь живого русского языка В.Дал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Владелец\Рабочий стол\mc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Владелец\Рабочий стол\mc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Владелец\Рабочий стол\mc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8:02:10Z</dcterms:created>
  <dc:creator>user</dc:creator>
  <dc:description/>
  <dc:language>en-US</dc:language>
  <cp:lastModifiedBy>Компьютерный класс 4</cp:lastModifiedBy>
  <dcterms:modified xsi:type="dcterms:W3CDTF">2013-02-03T13:22:53Z</dcterms:modified>
  <cp:revision>13</cp:revision>
  <dc:subject/>
  <dc:title>Слайд 1</dc:title>
</cp:coreProperties>
</file>