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3CD-D28A-49DF-B294-39D5A1A3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7FE-F6AE-47C0-9224-EBAE288F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53B-1695-45FD-A20E-403EDF23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97B-C573-4C56-BCA9-E94C75A4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F12-A4F8-479C-8C80-61307E22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C69-EACC-4B53-B77E-D32CAD47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E0D-01D9-4097-94BB-0D363172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C52-EFF6-4753-86AB-34C88E02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E2D-41F4-477E-9B93-4B318ED9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DB2-1A23-4F4A-A15D-339BE614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408-307C-4BA6-B81D-28993DD2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C8A-105C-48C8-A2F4-FABFB5EC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2108-D501-4B7A-902D-A1D4D6F05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66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равственные уроки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«Сказке о мёртвой царевне и о семи богатырях» А.С.Пушк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Рисунок20"/>
          <p:cNvPicPr/>
          <p:nvPr/>
        </p:nvPicPr>
        <p:blipFill>
          <a:blip r:embed="rId1"/>
          <a:stretch/>
        </p:blipFill>
        <p:spPr>
          <a:xfrm>
            <a:off x="5148360" y="2276640"/>
            <a:ext cx="2560680" cy="36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{B5C0749C-C7BB-408F-8962-A445721FD786}"/>
          <p:cNvPicPr/>
          <p:nvPr/>
        </p:nvPicPr>
        <p:blipFill>
          <a:blip r:embed="rId2"/>
          <a:srcRect l="6039" t="3345" r="5997" b="4997"/>
          <a:stretch/>
        </p:blipFill>
        <p:spPr>
          <a:xfrm>
            <a:off x="1116000" y="2276640"/>
            <a:ext cx="2590920" cy="37605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Владелец\Рабочий стол\mc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Владелец\Рабочий стол\mc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д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ба гне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ица з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ая мач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Владелец\Рабочий стол\mc128.jpg"/>
          <p:cNvPicPr/>
          <p:nvPr/>
        </p:nvPicPr>
        <p:blipFill>
          <a:blip r:embed="rId1"/>
          <a:stretch/>
        </p:blipFill>
        <p:spPr>
          <a:xfrm>
            <a:off x="0" y="0"/>
            <a:ext cx="9548640" cy="721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Владелец\Рабочий стол\mc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Владелец\Рабочий стол\mc17.jpg"/>
          <p:cNvPicPr/>
          <p:nvPr/>
        </p:nvPicPr>
        <p:blipFill>
          <a:blip r:embed="rId1"/>
          <a:stretch/>
        </p:blipFill>
        <p:spPr>
          <a:xfrm>
            <a:off x="4427640" y="333360"/>
            <a:ext cx="4176720" cy="57927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2"/>
          <a:srcRect l="0" t="24636" r="0" b="24636"/>
          <a:stretch/>
        </p:blipFill>
        <p:spPr>
          <a:xfrm>
            <a:off x="250920" y="333360"/>
            <a:ext cx="3816360" cy="57596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p:transition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Владелец\Рабочий стол\mc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11"/>
          <p:cNvPicPr/>
          <p:nvPr/>
        </p:nvPicPr>
        <p:blipFill>
          <a:blip r:embed="rId1"/>
          <a:stretch/>
        </p:blipFill>
        <p:spPr>
          <a:xfrm>
            <a:off x="2124000" y="90792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Владелец\Рабочий стол\mc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Владелец\Рабочий стол\mc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539640" y="41508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5050"/>
                </a:solidFill>
                <a:uFillTx/>
                <a:latin typeface="Monotype Corsiva"/>
              </a:rPr>
              <a:t>Сказка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Monotype Corsiva"/>
              </a:rPr>
              <a:t> – занимательный рассказ о необыкновенных фантастических вымышленных событиях и приключениях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Владелец\Рабочий стол\mc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«…просящему у тебя дай, и не оскудеет рука дающег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Владелец\Рабочий стол\mc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Владелец\Рабочий стол\mc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5790" t="0" r="5790" b="0"/>
          <a:stretch/>
        </p:blipFill>
        <p:spPr>
          <a:xfrm>
            <a:off x="468360" y="189000"/>
            <a:ext cx="8280360" cy="64800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p:transition>
    <p:cover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Владелец\Рабочий стол\mc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http://i036.radikal.ru/1202/d6/dae5c5f50a9c.jpg"/>
          <p:cNvPicPr/>
          <p:nvPr/>
        </p:nvPicPr>
        <p:blipFill>
          <a:blip r:embed="rId1"/>
          <a:stretch/>
        </p:blipFill>
        <p:spPr>
          <a:xfrm>
            <a:off x="900000" y="476280"/>
            <a:ext cx="7344000" cy="53290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p:transition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Владелец\Рабочий стол\mc1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Главные нравственные идеи сказ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вь-главная сила в мире, она может победить всё, даже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ота – не внешнее, а внутреннее свойство человека, его душа. Красота души определяется добротой, трудолюбием и скром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ость в дружбе и любви спасае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71640" y="2059920"/>
            <a:ext cx="33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рина Родионовна, няня поэт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Рисунок2"/>
          <p:cNvPicPr/>
          <p:nvPr/>
        </p:nvPicPr>
        <p:blipFill>
          <a:blip r:embed="rId1"/>
          <a:stretch/>
        </p:blipFill>
        <p:spPr>
          <a:xfrm>
            <a:off x="4788000" y="90792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Рисунок3"/>
          <p:cNvPicPr/>
          <p:nvPr/>
        </p:nvPicPr>
        <p:blipFill>
          <a:blip r:embed="rId1"/>
          <a:stretch/>
        </p:blipFill>
        <p:spPr>
          <a:xfrm>
            <a:off x="1077840" y="919080"/>
            <a:ext cx="69897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ё то золото, что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о смотри в плодах, а человека в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ый человек придёт, словно света при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ой человек как уголь: если не жжёт, то черне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обро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в духовном значении благо, что честно и полезно, что требует от нас долг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худое, лихое. Злой человек – причиняющий зло другим: вредный, пагуб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 Словарь живого русского языка В.Да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Владелец\Рабочий стол\mc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Владелец\Рабочий стол\mc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Владелец\Рабочий стол\mc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8:02:10Z</dcterms:created>
  <dc:creator>user</dc:creator>
  <dc:description/>
  <dc:language>en-US</dc:language>
  <cp:lastModifiedBy>Компьютерный класс 4</cp:lastModifiedBy>
  <dcterms:modified xsi:type="dcterms:W3CDTF">2013-02-03T13:22:53Z</dcterms:modified>
  <cp:revision>13</cp:revision>
  <dc:subject/>
  <dc:title>Слайд 1</dc:title>
</cp:coreProperties>
</file>