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2FCA-EBEC-4D03-BAC0-0F3529D60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87FE-C921-4E72-AC76-215EC6C39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60C2-0BF9-43FE-A35F-4E1DD117B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60DB-548F-48B2-A87B-C826DFAB3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81E6-D76C-4B56-874F-BBC7268BD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DBE2-6F22-4130-8B13-63FF6B652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370A-0E5C-43BD-830F-C728BB925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2A23-0F5B-4A0F-A517-3B82A53E8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9C88-6614-4F65-9366-1F0E6BCBE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0F50-E536-4B2B-9863-E425758A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0006-7EEC-45C7-A541-1ABFD836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6D16-210C-4868-A828-1964D536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A102B-47FA-4711-975D-A9A6EBA6A13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" Target="slide14.xm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6.xml"/><Relationship Id="rId3" Type="http://schemas.openxmlformats.org/officeDocument/2006/relationships/slide" Target="slide16.xml"/><Relationship Id="rId4" Type="http://schemas.openxmlformats.org/officeDocument/2006/relationships/slide" Target="slide16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slide" Target="slide16.xm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9.xml"/><Relationship Id="rId3" Type="http://schemas.openxmlformats.org/officeDocument/2006/relationships/slide" Target="slide18.xml"/><Relationship Id="rId4" Type="http://schemas.openxmlformats.org/officeDocument/2006/relationships/slide" Target="slide19.xml"/><Relationship Id="rId5" Type="http://schemas.openxmlformats.org/officeDocument/2006/relationships/slide" Target="slide19.xml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0.xml"/><Relationship Id="rId3" Type="http://schemas.openxmlformats.org/officeDocument/2006/relationships/slide" Target="slide19.xml"/><Relationship Id="rId4" Type="http://schemas.openxmlformats.org/officeDocument/2006/relationships/slide" Target="slide20.xml"/><Relationship Id="rId5" Type="http://schemas.openxmlformats.org/officeDocument/2006/relationships/slide" Target="slide20.xml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1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slide" Target="slide21.xml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2.xml"/><Relationship Id="rId3" Type="http://schemas.openxmlformats.org/officeDocument/2006/relationships/slide" Target="slide2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3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8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0.xml"/><Relationship Id="rId5" Type="http://schemas.openxmlformats.org/officeDocument/2006/relationships/slide" Target="slide10.xm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1.xml"/><Relationship Id="rId5" Type="http://schemas.openxmlformats.org/officeDocument/2006/relationships/slide" Target="slide11.xm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12.xm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slide" Target="slide14.xml"/><Relationship Id="rId5" Type="http://schemas.openxmlformats.org/officeDocument/2006/relationships/slide" Target="slide13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Tahoma"/>
              </a:rPr>
              <a:t>Тест по теме</a:t>
            </a: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26920" y="3141720"/>
            <a:ext cx="7304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3366"/>
                </a:solidFill>
                <a:uFillTx/>
                <a:latin typeface="Tahoma"/>
              </a:rPr>
              <a:t>«Наречие как часть речи»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WordArt 5"/>
          <p:cNvSpPr txBox="1"/>
          <p:nvPr/>
        </p:nvSpPr>
        <p:spPr>
          <a:xfrm>
            <a:off x="468360" y="549360"/>
            <a:ext cx="309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прос № 4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3" name="WordArt 6"/>
          <p:cNvSpPr txBox="1"/>
          <p:nvPr/>
        </p:nvSpPr>
        <p:spPr>
          <a:xfrm>
            <a:off x="2987640" y="6165720"/>
            <a:ext cx="316872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шибок - 1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395280" y="1484280"/>
            <a:ext cx="85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66"/>
                </a:solidFill>
                <a:latin typeface="Arial"/>
              </a:rPr>
              <a:t>Общим грамматическим значением наречия является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AutoShape 8">
            <a:hlinkClick r:id="rId2" action="ppaction://hlinksldjump"/>
          </p:cNvPr>
          <p:cNvSpPr/>
          <p:nvPr/>
        </p:nvSpPr>
        <p:spPr>
          <a:xfrm>
            <a:off x="2700360" y="2637000"/>
            <a:ext cx="4103640" cy="6476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) Признак предме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AutoShape 9">
            <a:hlinkClick r:id="rId3" action="ppaction://hlinksldjump"/>
          </p:cNvPr>
          <p:cNvSpPr/>
          <p:nvPr/>
        </p:nvSpPr>
        <p:spPr>
          <a:xfrm>
            <a:off x="2700360" y="3429000"/>
            <a:ext cx="4103640" cy="6476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) Действие предме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AutoShape 10">
            <a:hlinkClick r:id="rId4" action="ppaction://hlinksldjump"/>
          </p:cNvPr>
          <p:cNvSpPr/>
          <p:nvPr/>
        </p:nvSpPr>
        <p:spPr>
          <a:xfrm>
            <a:off x="2700360" y="4221000"/>
            <a:ext cx="4103640" cy="64800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) Предм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AutoShape 11">
            <a:hlinkClick r:id="rId5" action="ppaction://hlinksldjump"/>
          </p:cNvPr>
          <p:cNvSpPr/>
          <p:nvPr/>
        </p:nvSpPr>
        <p:spPr>
          <a:xfrm>
            <a:off x="2700360" y="5013360"/>
            <a:ext cx="4103640" cy="6476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) Признак действ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WordArt 5"/>
          <p:cNvSpPr txBox="1"/>
          <p:nvPr/>
        </p:nvSpPr>
        <p:spPr>
          <a:xfrm>
            <a:off x="468360" y="549360"/>
            <a:ext cx="309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прос № 4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WordArt 6"/>
          <p:cNvSpPr txBox="1"/>
          <p:nvPr/>
        </p:nvSpPr>
        <p:spPr>
          <a:xfrm>
            <a:off x="2987640" y="6165720"/>
            <a:ext cx="316872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шибок - 2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395280" y="1484280"/>
            <a:ext cx="85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66"/>
                </a:solidFill>
                <a:latin typeface="Arial"/>
              </a:rPr>
              <a:t>Общим грамматическим значением наречия является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AutoShape 8">
            <a:hlinkClick r:id="rId2" action="ppaction://hlinksldjump"/>
          </p:cNvPr>
          <p:cNvSpPr/>
          <p:nvPr/>
        </p:nvSpPr>
        <p:spPr>
          <a:xfrm>
            <a:off x="2700360" y="2637000"/>
            <a:ext cx="4103640" cy="6476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) Признак предме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AutoShape 9">
            <a:hlinkClick r:id="rId3" action="ppaction://hlinksldjump"/>
          </p:cNvPr>
          <p:cNvSpPr/>
          <p:nvPr/>
        </p:nvSpPr>
        <p:spPr>
          <a:xfrm>
            <a:off x="2700360" y="3429000"/>
            <a:ext cx="4103640" cy="6476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) Действие предме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AutoShape 10">
            <a:hlinkClick r:id="rId4" action="ppaction://hlinksldjump"/>
          </p:cNvPr>
          <p:cNvSpPr/>
          <p:nvPr/>
        </p:nvSpPr>
        <p:spPr>
          <a:xfrm>
            <a:off x="2700360" y="4221000"/>
            <a:ext cx="4103640" cy="64800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) Предм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AutoShape 11">
            <a:hlinkClick r:id="rId5" action="ppaction://hlinksldjump"/>
          </p:cNvPr>
          <p:cNvSpPr/>
          <p:nvPr/>
        </p:nvSpPr>
        <p:spPr>
          <a:xfrm>
            <a:off x="2700360" y="5013360"/>
            <a:ext cx="4103640" cy="6476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) Признак действ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WordArt 5"/>
          <p:cNvSpPr txBox="1"/>
          <p:nvPr/>
        </p:nvSpPr>
        <p:spPr>
          <a:xfrm>
            <a:off x="468360" y="549360"/>
            <a:ext cx="309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прос № 4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3" name="WordArt 6"/>
          <p:cNvSpPr txBox="1"/>
          <p:nvPr/>
        </p:nvSpPr>
        <p:spPr>
          <a:xfrm>
            <a:off x="2987640" y="6165720"/>
            <a:ext cx="316872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шибок - 3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395280" y="1484280"/>
            <a:ext cx="85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66"/>
                </a:solidFill>
                <a:latin typeface="Arial"/>
              </a:rPr>
              <a:t>Общим грамматическим значением наречия является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AutoShape 8">
            <a:hlinkClick r:id="rId2" action="ppaction://hlinksldjump"/>
          </p:cNvPr>
          <p:cNvSpPr/>
          <p:nvPr/>
        </p:nvSpPr>
        <p:spPr>
          <a:xfrm>
            <a:off x="2700360" y="2637000"/>
            <a:ext cx="4103640" cy="6476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) Признак предме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AutoShape 9">
            <a:hlinkClick r:id="rId3" action="ppaction://hlinksldjump"/>
          </p:cNvPr>
          <p:cNvSpPr/>
          <p:nvPr/>
        </p:nvSpPr>
        <p:spPr>
          <a:xfrm>
            <a:off x="2700360" y="3429000"/>
            <a:ext cx="4103640" cy="6476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) Действие предме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AutoShape 10">
            <a:hlinkClick r:id="rId4" action="ppaction://hlinksldjump"/>
          </p:cNvPr>
          <p:cNvSpPr/>
          <p:nvPr/>
        </p:nvSpPr>
        <p:spPr>
          <a:xfrm>
            <a:off x="2700360" y="4221000"/>
            <a:ext cx="4103640" cy="64800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) Предм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AutoShape 11">
            <a:hlinkClick r:id="rId5" action="ppaction://hlinksldjump"/>
          </p:cNvPr>
          <p:cNvSpPr/>
          <p:nvPr/>
        </p:nvSpPr>
        <p:spPr>
          <a:xfrm>
            <a:off x="2700360" y="5013360"/>
            <a:ext cx="4103640" cy="6476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) Признак действ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WordArt 5"/>
          <p:cNvSpPr txBox="1"/>
          <p:nvPr/>
        </p:nvSpPr>
        <p:spPr>
          <a:xfrm>
            <a:off x="468360" y="549360"/>
            <a:ext cx="309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прос № 5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3" name="WordArt 6"/>
          <p:cNvSpPr txBox="1"/>
          <p:nvPr/>
        </p:nvSpPr>
        <p:spPr>
          <a:xfrm>
            <a:off x="2987640" y="6165720"/>
            <a:ext cx="316872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шибок - 0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395280" y="1484280"/>
            <a:ext cx="85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66"/>
                </a:solidFill>
                <a:latin typeface="Arial"/>
              </a:rPr>
              <a:t>С помощью суффиксов образуются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AutoShape 8">
            <a:hlinkClick r:id="rId2" action="ppaction://hlinksldjump"/>
          </p:cNvPr>
          <p:cNvSpPr/>
          <p:nvPr/>
        </p:nvSpPr>
        <p:spPr>
          <a:xfrm>
            <a:off x="2411280" y="4149720"/>
            <a:ext cx="4464360" cy="6476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) Новые сл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AutoShape 9">
            <a:hlinkClick r:id="rId3" action="ppaction://hlinksldjump"/>
          </p:cNvPr>
          <p:cNvSpPr/>
          <p:nvPr/>
        </p:nvSpPr>
        <p:spPr>
          <a:xfrm>
            <a:off x="2340000" y="3429000"/>
            <a:ext cx="4824360" cy="6476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) Формы одного и того же сл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AutoShape 10">
            <a:hlinkClick r:id="rId4" action="ppaction://hlinksldjump"/>
          </p:cNvPr>
          <p:cNvSpPr/>
          <p:nvPr/>
        </p:nvSpPr>
        <p:spPr>
          <a:xfrm>
            <a:off x="2268360" y="2565360"/>
            <a:ext cx="4464360" cy="6476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) Новые части сл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AutoShape 11">
            <a:hlinkClick r:id="rId5" action="ppaction://hlinksldjump"/>
          </p:cNvPr>
          <p:cNvSpPr/>
          <p:nvPr/>
        </p:nvSpPr>
        <p:spPr>
          <a:xfrm>
            <a:off x="2340000" y="5013360"/>
            <a:ext cx="4464000" cy="6476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) Новые члены предлож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WordArt 5"/>
          <p:cNvSpPr txBox="1"/>
          <p:nvPr/>
        </p:nvSpPr>
        <p:spPr>
          <a:xfrm>
            <a:off x="468360" y="549360"/>
            <a:ext cx="309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прос № 5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2987640" y="6165720"/>
            <a:ext cx="316872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шибок - 1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395280" y="1484280"/>
            <a:ext cx="85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66"/>
                </a:solidFill>
                <a:latin typeface="Arial"/>
              </a:rPr>
              <a:t>С помощью суффиксов образуются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AutoShape 8">
            <a:hlinkClick r:id="rId2" action="ppaction://hlinksldjump"/>
          </p:cNvPr>
          <p:cNvSpPr/>
          <p:nvPr/>
        </p:nvSpPr>
        <p:spPr>
          <a:xfrm>
            <a:off x="2268360" y="4221000"/>
            <a:ext cx="4464360" cy="64800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) Формы сл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AutoShape 9">
            <a:hlinkClick r:id="rId3" action="ppaction://hlinksldjump"/>
          </p:cNvPr>
          <p:cNvSpPr/>
          <p:nvPr/>
        </p:nvSpPr>
        <p:spPr>
          <a:xfrm>
            <a:off x="2050920" y="3429000"/>
            <a:ext cx="4969080" cy="6476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) Новые сл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AutoShape 10">
            <a:hlinkClick r:id="rId4" action="ppaction://hlinksldjump"/>
          </p:cNvPr>
          <p:cNvSpPr/>
          <p:nvPr/>
        </p:nvSpPr>
        <p:spPr>
          <a:xfrm>
            <a:off x="2124000" y="2492280"/>
            <a:ext cx="4464000" cy="6476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) Новые части сл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AutoShape 11">
            <a:hlinkClick r:id="rId5" action="ppaction://hlinksldjump"/>
          </p:cNvPr>
          <p:cNvSpPr/>
          <p:nvPr/>
        </p:nvSpPr>
        <p:spPr>
          <a:xfrm>
            <a:off x="2340000" y="5013360"/>
            <a:ext cx="4464000" cy="6476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) Новые члены предлож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WordArt 5"/>
          <p:cNvSpPr txBox="1"/>
          <p:nvPr/>
        </p:nvSpPr>
        <p:spPr>
          <a:xfrm>
            <a:off x="468360" y="549360"/>
            <a:ext cx="309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прос № 5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73" name="WordArt 6"/>
          <p:cNvSpPr txBox="1"/>
          <p:nvPr/>
        </p:nvSpPr>
        <p:spPr>
          <a:xfrm>
            <a:off x="2987640" y="6165720"/>
            <a:ext cx="316872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шибок - 2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395280" y="1484280"/>
            <a:ext cx="85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66"/>
                </a:solidFill>
                <a:latin typeface="Arial"/>
              </a:rPr>
              <a:t>С помощью суффиксов образуются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AutoShape 8">
            <a:hlinkClick r:id="rId2" action="ppaction://hlinksldjump"/>
          </p:cNvPr>
          <p:cNvSpPr/>
          <p:nvPr/>
        </p:nvSpPr>
        <p:spPr>
          <a:xfrm>
            <a:off x="2556000" y="4292640"/>
            <a:ext cx="4464000" cy="6476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) Формы сл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AutoShape 9">
            <a:hlinkClick r:id="rId3" action="ppaction://hlinksldjump"/>
          </p:cNvPr>
          <p:cNvSpPr/>
          <p:nvPr/>
        </p:nvSpPr>
        <p:spPr>
          <a:xfrm>
            <a:off x="2340000" y="3429000"/>
            <a:ext cx="4753080" cy="6476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) Новые сл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AutoShape 10">
            <a:hlinkClick r:id="rId4" action="ppaction://hlinksldjump"/>
          </p:cNvPr>
          <p:cNvSpPr/>
          <p:nvPr/>
        </p:nvSpPr>
        <p:spPr>
          <a:xfrm>
            <a:off x="2340000" y="2421000"/>
            <a:ext cx="4464000" cy="6476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) Новые части сл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AutoShape 11">
            <a:hlinkClick r:id="rId5" action="ppaction://hlinksldjump"/>
          </p:cNvPr>
          <p:cNvSpPr/>
          <p:nvPr/>
        </p:nvSpPr>
        <p:spPr>
          <a:xfrm>
            <a:off x="2340000" y="5013360"/>
            <a:ext cx="4464000" cy="6476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) Новые члены предлож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WordArt 5"/>
          <p:cNvSpPr txBox="1"/>
          <p:nvPr/>
        </p:nvSpPr>
        <p:spPr>
          <a:xfrm>
            <a:off x="468360" y="549360"/>
            <a:ext cx="309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прос № 5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3" name="WordArt 6"/>
          <p:cNvSpPr txBox="1"/>
          <p:nvPr/>
        </p:nvSpPr>
        <p:spPr>
          <a:xfrm>
            <a:off x="2987640" y="6165720"/>
            <a:ext cx="316872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шибок - 3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395280" y="1484280"/>
            <a:ext cx="85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66"/>
                </a:solidFill>
                <a:latin typeface="Arial"/>
              </a:rPr>
              <a:t>С помощью суффиксов образуются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AutoShape 8">
            <a:hlinkClick r:id="rId2" action="ppaction://hlinksldjump"/>
          </p:cNvPr>
          <p:cNvSpPr/>
          <p:nvPr/>
        </p:nvSpPr>
        <p:spPr>
          <a:xfrm>
            <a:off x="1908000" y="4149720"/>
            <a:ext cx="4464360" cy="6476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) Формы сл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AutoShape 9">
            <a:hlinkClick r:id="rId3" action="ppaction://hlinksldjump"/>
          </p:cNvPr>
          <p:cNvSpPr/>
          <p:nvPr/>
        </p:nvSpPr>
        <p:spPr>
          <a:xfrm>
            <a:off x="1908000" y="3429000"/>
            <a:ext cx="4896000" cy="6476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) Новые сл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AutoShape 10">
            <a:hlinkClick r:id="rId4" action="ppaction://hlinksldjump"/>
          </p:cNvPr>
          <p:cNvSpPr/>
          <p:nvPr/>
        </p:nvSpPr>
        <p:spPr>
          <a:xfrm>
            <a:off x="1908000" y="2492280"/>
            <a:ext cx="4464360" cy="6476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) Новые части сл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AutoShape 11">
            <a:hlinkClick r:id="rId5" action="ppaction://hlinksldjump"/>
          </p:cNvPr>
          <p:cNvSpPr/>
          <p:nvPr/>
        </p:nvSpPr>
        <p:spPr>
          <a:xfrm>
            <a:off x="1908000" y="5013360"/>
            <a:ext cx="4464360" cy="6476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) Новые члены предлож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WordArt 5"/>
          <p:cNvSpPr txBox="1"/>
          <p:nvPr/>
        </p:nvSpPr>
        <p:spPr>
          <a:xfrm>
            <a:off x="468360" y="549360"/>
            <a:ext cx="309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прос № 5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93" name="WordArt 6"/>
          <p:cNvSpPr txBox="1"/>
          <p:nvPr/>
        </p:nvSpPr>
        <p:spPr>
          <a:xfrm>
            <a:off x="2987640" y="6165720"/>
            <a:ext cx="316872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шибок - 4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395280" y="1484280"/>
            <a:ext cx="85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66"/>
                </a:solidFill>
                <a:latin typeface="Arial"/>
              </a:rPr>
              <a:t>С помощью суффиксов образуются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AutoShape 8">
            <a:hlinkClick r:id="rId2" action="ppaction://hlinksldjump"/>
          </p:cNvPr>
          <p:cNvSpPr/>
          <p:nvPr/>
        </p:nvSpPr>
        <p:spPr>
          <a:xfrm>
            <a:off x="1908000" y="4221000"/>
            <a:ext cx="4464360" cy="64800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) Формы сл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AutoShape 9"/>
          <p:cNvSpPr/>
          <p:nvPr/>
        </p:nvSpPr>
        <p:spPr>
          <a:xfrm>
            <a:off x="1835280" y="3429000"/>
            <a:ext cx="4968720" cy="6476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)Новые сл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AutoShape 10"/>
          <p:cNvSpPr/>
          <p:nvPr/>
        </p:nvSpPr>
        <p:spPr>
          <a:xfrm>
            <a:off x="1835280" y="2565360"/>
            <a:ext cx="4464000" cy="6476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) Новые части сл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AutoShape 11"/>
          <p:cNvSpPr/>
          <p:nvPr/>
        </p:nvSpPr>
        <p:spPr>
          <a:xfrm>
            <a:off x="1835280" y="5013360"/>
            <a:ext cx="4464000" cy="6476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) Новые члены предлож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WordArt 5"/>
          <p:cNvSpPr txBox="1"/>
          <p:nvPr/>
        </p:nvSpPr>
        <p:spPr>
          <a:xfrm>
            <a:off x="468360" y="549360"/>
            <a:ext cx="7848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c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бщее число ошибок - 0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cc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03" name="WordArt 6"/>
          <p:cNvSpPr txBox="1"/>
          <p:nvPr/>
        </p:nvSpPr>
        <p:spPr>
          <a:xfrm>
            <a:off x="1835280" y="1700280"/>
            <a:ext cx="5184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ценка за тес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4" name="WordArt 7"/>
          <p:cNvSpPr txBox="1"/>
          <p:nvPr/>
        </p:nvSpPr>
        <p:spPr>
          <a:xfrm>
            <a:off x="3635280" y="2708280"/>
            <a:ext cx="1657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5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205" name="WordArt 8"/>
          <p:cNvSpPr txBox="1"/>
          <p:nvPr/>
        </p:nvSpPr>
        <p:spPr>
          <a:xfrm>
            <a:off x="1332000" y="4076640"/>
            <a:ext cx="676908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cc0066"/>
                </a:solidFill>
                <a:latin typeface="Arial"/>
              </a:rPr>
              <a:t>Молодец!</a:t>
            </a:r>
            <a:endParaRPr b="0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cc0066"/>
              </a:solidFill>
              <a:latin typeface="Arial"/>
              <a:ea typeface="Arial"/>
            </a:endParaRPr>
          </a:p>
        </p:txBody>
      </p:sp>
      <p:sp>
        <p:nvSpPr>
          <p:cNvPr id="206" name="AutoShape 9"/>
          <p:cNvSpPr/>
          <p:nvPr/>
        </p:nvSpPr>
        <p:spPr>
          <a:xfrm>
            <a:off x="860436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3794" y="7687"/>
                </a:moveTo>
                <a:lnTo>
                  <a:pt x="7301" y="7687"/>
                </a:lnTo>
                <a:lnTo>
                  <a:pt x="7301" y="13022"/>
                </a:lnTo>
                <a:cubicBezTo>
                  <a:pt x="7301" y="13945"/>
                  <a:pt x="8102" y="14676"/>
                  <a:pt x="9138" y="14676"/>
                </a:cubicBezTo>
                <a:lnTo>
                  <a:pt x="10800" y="14676"/>
                </a:lnTo>
                <a:cubicBezTo>
                  <a:pt x="11836" y="14676"/>
                  <a:pt x="12636" y="13945"/>
                  <a:pt x="12636" y="13022"/>
                </a:cubicBezTo>
                <a:lnTo>
                  <a:pt x="12636" y="7687"/>
                </a:lnTo>
                <a:lnTo>
                  <a:pt x="10800" y="7687"/>
                </a:lnTo>
                <a:lnTo>
                  <a:pt x="14308" y="4179"/>
                </a:lnTo>
                <a:lnTo>
                  <a:pt x="17981" y="7687"/>
                </a:lnTo>
                <a:lnTo>
                  <a:pt x="16144" y="7687"/>
                </a:lnTo>
                <a:lnTo>
                  <a:pt x="16144" y="13022"/>
                </a:lnTo>
                <a:cubicBezTo>
                  <a:pt x="16144" y="15790"/>
                  <a:pt x="13568" y="18349"/>
                  <a:pt x="10800" y="18349"/>
                </a:cubicBezTo>
                <a:lnTo>
                  <a:pt x="9138" y="18349"/>
                </a:lnTo>
                <a:cubicBezTo>
                  <a:pt x="6370" y="18349"/>
                  <a:pt x="3794" y="15790"/>
                  <a:pt x="3794" y="13022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WordArt 5"/>
          <p:cNvSpPr txBox="1"/>
          <p:nvPr/>
        </p:nvSpPr>
        <p:spPr>
          <a:xfrm>
            <a:off x="468360" y="549360"/>
            <a:ext cx="7848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c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бщее число ошибок - 1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cc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11" name="WordArt 6"/>
          <p:cNvSpPr txBox="1"/>
          <p:nvPr/>
        </p:nvSpPr>
        <p:spPr>
          <a:xfrm>
            <a:off x="1835280" y="1700280"/>
            <a:ext cx="5184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ценка за тес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2" name="WordArt 7"/>
          <p:cNvSpPr txBox="1"/>
          <p:nvPr/>
        </p:nvSpPr>
        <p:spPr>
          <a:xfrm>
            <a:off x="3635280" y="2708280"/>
            <a:ext cx="1657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4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213" name="WordArt 8"/>
          <p:cNvSpPr txBox="1"/>
          <p:nvPr/>
        </p:nvSpPr>
        <p:spPr>
          <a:xfrm>
            <a:off x="1258920" y="4365720"/>
            <a:ext cx="676908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cc0066"/>
                </a:solidFill>
                <a:latin typeface="Arial"/>
              </a:rPr>
              <a:t>Подумай ещё.</a:t>
            </a:r>
            <a:endParaRPr b="0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cc0066"/>
              </a:solidFill>
              <a:latin typeface="Arial"/>
              <a:ea typeface="Arial"/>
            </a:endParaRPr>
          </a:p>
        </p:txBody>
      </p:sp>
      <p:sp>
        <p:nvSpPr>
          <p:cNvPr id="214" name="AutoShape 9"/>
          <p:cNvSpPr/>
          <p:nvPr/>
        </p:nvSpPr>
        <p:spPr>
          <a:xfrm>
            <a:off x="860436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3794" y="7687"/>
                </a:moveTo>
                <a:lnTo>
                  <a:pt x="7301" y="7687"/>
                </a:lnTo>
                <a:lnTo>
                  <a:pt x="7301" y="13022"/>
                </a:lnTo>
                <a:cubicBezTo>
                  <a:pt x="7301" y="13945"/>
                  <a:pt x="8102" y="14676"/>
                  <a:pt x="9138" y="14676"/>
                </a:cubicBezTo>
                <a:lnTo>
                  <a:pt x="10800" y="14676"/>
                </a:lnTo>
                <a:cubicBezTo>
                  <a:pt x="11836" y="14676"/>
                  <a:pt x="12636" y="13945"/>
                  <a:pt x="12636" y="13022"/>
                </a:cubicBezTo>
                <a:lnTo>
                  <a:pt x="12636" y="7687"/>
                </a:lnTo>
                <a:lnTo>
                  <a:pt x="10800" y="7687"/>
                </a:lnTo>
                <a:lnTo>
                  <a:pt x="14308" y="4179"/>
                </a:lnTo>
                <a:lnTo>
                  <a:pt x="17981" y="7687"/>
                </a:lnTo>
                <a:lnTo>
                  <a:pt x="16144" y="7687"/>
                </a:lnTo>
                <a:lnTo>
                  <a:pt x="16144" y="13022"/>
                </a:lnTo>
                <a:cubicBezTo>
                  <a:pt x="16144" y="15790"/>
                  <a:pt x="13568" y="18349"/>
                  <a:pt x="10800" y="18349"/>
                </a:cubicBezTo>
                <a:lnTo>
                  <a:pt x="9138" y="18349"/>
                </a:lnTo>
                <a:cubicBezTo>
                  <a:pt x="6370" y="18349"/>
                  <a:pt x="3794" y="15790"/>
                  <a:pt x="3794" y="13022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WordArt 3"/>
          <p:cNvSpPr txBox="1"/>
          <p:nvPr/>
        </p:nvSpPr>
        <p:spPr>
          <a:xfrm>
            <a:off x="1476360" y="549360"/>
            <a:ext cx="6264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520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НСТРУКЦИЯ</a:t>
            </a:r>
            <a:endParaRPr b="0" lang="en-US" sz="1800" spc="1" strike="noStrike">
              <a:ln w="2844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468360" y="1844640"/>
            <a:ext cx="820728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99"/>
                </a:solidFill>
                <a:uFillTx/>
                <a:latin typeface="Arial"/>
              </a:rPr>
              <a:t>Для прохождения теста необходимо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82520" indent="-182520" algn="just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нимательно прочитать вопрос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82520" indent="-182520" algn="just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ыбрать нужный вариант из предложенных графических объектов с надписями или фотографий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82520" indent="-182520" algn="just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щелкнуть левой кнопкой мыши по выбранному объекту, продолжить выполнение теста на следующем открывшемся слайде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82520" indent="-182520" algn="just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осле ответа на все вопросы можно будет узнать оценку своих знани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468360" y="6021360"/>
            <a:ext cx="66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66"/>
                </a:solidFill>
                <a:latin typeface="Arial"/>
              </a:rPr>
              <a:t>Для начала тестирования щелкните по стрелк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AutoShape 6">
            <a:hlinkClick r:id="rId2" action="ppaction://hlinksldjump"/>
          </p:cNvPr>
          <p:cNvSpPr/>
          <p:nvPr/>
        </p:nvSpPr>
        <p:spPr>
          <a:xfrm>
            <a:off x="7020000" y="5805360"/>
            <a:ext cx="1511280" cy="719280"/>
          </a:xfrm>
          <a:prstGeom prst="pie">
            <a:avLst/>
          </a:prstGeom>
          <a:gradFill rotWithShape="0">
            <a:gsLst>
              <a:gs pos="0">
                <a:srgbClr val="03d4a8"/>
              </a:gs>
              <a:gs pos="100000">
                <a:srgbClr val="03d4a8"/>
              </a:gs>
            </a:gsLst>
            <a:lin ang="5400000"/>
          </a:gra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WordArt 5"/>
          <p:cNvSpPr txBox="1"/>
          <p:nvPr/>
        </p:nvSpPr>
        <p:spPr>
          <a:xfrm>
            <a:off x="468360" y="549360"/>
            <a:ext cx="7848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c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бщее число ошибок - 2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cc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19" name="WordArt 6"/>
          <p:cNvSpPr txBox="1"/>
          <p:nvPr/>
        </p:nvSpPr>
        <p:spPr>
          <a:xfrm>
            <a:off x="1835280" y="1700280"/>
            <a:ext cx="5184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ценка за тес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0" name="WordArt 7"/>
          <p:cNvSpPr txBox="1"/>
          <p:nvPr/>
        </p:nvSpPr>
        <p:spPr>
          <a:xfrm>
            <a:off x="1258920" y="4365720"/>
            <a:ext cx="676908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cc0066"/>
                </a:solidFill>
                <a:latin typeface="Arial"/>
              </a:rPr>
              <a:t>Подумай ещё.</a:t>
            </a:r>
            <a:endParaRPr b="0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cc0066"/>
              </a:solidFill>
              <a:latin typeface="Arial"/>
              <a:ea typeface="Arial"/>
            </a:endParaRPr>
          </a:p>
        </p:txBody>
      </p:sp>
      <p:sp>
        <p:nvSpPr>
          <p:cNvPr id="221" name="WordArt 8"/>
          <p:cNvSpPr txBox="1"/>
          <p:nvPr/>
        </p:nvSpPr>
        <p:spPr>
          <a:xfrm>
            <a:off x="3635280" y="2708280"/>
            <a:ext cx="1657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3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222" name="AutoShape 9"/>
          <p:cNvSpPr/>
          <p:nvPr/>
        </p:nvSpPr>
        <p:spPr>
          <a:xfrm>
            <a:off x="860436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3794" y="7687"/>
                </a:moveTo>
                <a:lnTo>
                  <a:pt x="7301" y="7687"/>
                </a:lnTo>
                <a:lnTo>
                  <a:pt x="7301" y="13022"/>
                </a:lnTo>
                <a:cubicBezTo>
                  <a:pt x="7301" y="13945"/>
                  <a:pt x="8102" y="14676"/>
                  <a:pt x="9138" y="14676"/>
                </a:cubicBezTo>
                <a:lnTo>
                  <a:pt x="10800" y="14676"/>
                </a:lnTo>
                <a:cubicBezTo>
                  <a:pt x="11836" y="14676"/>
                  <a:pt x="12636" y="13945"/>
                  <a:pt x="12636" y="13022"/>
                </a:cubicBezTo>
                <a:lnTo>
                  <a:pt x="12636" y="7687"/>
                </a:lnTo>
                <a:lnTo>
                  <a:pt x="10800" y="7687"/>
                </a:lnTo>
                <a:lnTo>
                  <a:pt x="14308" y="4179"/>
                </a:lnTo>
                <a:lnTo>
                  <a:pt x="17981" y="7687"/>
                </a:lnTo>
                <a:lnTo>
                  <a:pt x="16144" y="7687"/>
                </a:lnTo>
                <a:lnTo>
                  <a:pt x="16144" y="13022"/>
                </a:lnTo>
                <a:cubicBezTo>
                  <a:pt x="16144" y="15790"/>
                  <a:pt x="13568" y="18349"/>
                  <a:pt x="10800" y="18349"/>
                </a:cubicBezTo>
                <a:lnTo>
                  <a:pt x="9138" y="18349"/>
                </a:lnTo>
                <a:cubicBezTo>
                  <a:pt x="6370" y="18349"/>
                  <a:pt x="3794" y="15790"/>
                  <a:pt x="3794" y="13022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WordArt 5"/>
          <p:cNvSpPr txBox="1"/>
          <p:nvPr/>
        </p:nvSpPr>
        <p:spPr>
          <a:xfrm>
            <a:off x="468360" y="549360"/>
            <a:ext cx="7848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c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бщее число ошибок - 3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cc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27" name="WordArt 6"/>
          <p:cNvSpPr txBox="1"/>
          <p:nvPr/>
        </p:nvSpPr>
        <p:spPr>
          <a:xfrm>
            <a:off x="1835280" y="1700280"/>
            <a:ext cx="5184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ценка за тес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8" name="WordArt 7"/>
          <p:cNvSpPr txBox="1"/>
          <p:nvPr/>
        </p:nvSpPr>
        <p:spPr>
          <a:xfrm>
            <a:off x="1258920" y="4365720"/>
            <a:ext cx="676908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cc0066"/>
                </a:solidFill>
                <a:latin typeface="Arial"/>
              </a:rPr>
              <a:t>Подумай ещё.</a:t>
            </a:r>
            <a:endParaRPr b="0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cc0066"/>
              </a:solidFill>
              <a:latin typeface="Arial"/>
              <a:ea typeface="Arial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4140360" y="6237360"/>
            <a:ext cx="38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WordArt 9"/>
          <p:cNvSpPr txBox="1"/>
          <p:nvPr/>
        </p:nvSpPr>
        <p:spPr>
          <a:xfrm>
            <a:off x="3635280" y="2708280"/>
            <a:ext cx="1657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3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231" name="AutoShape 10"/>
          <p:cNvSpPr/>
          <p:nvPr/>
        </p:nvSpPr>
        <p:spPr>
          <a:xfrm>
            <a:off x="860436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3794" y="7687"/>
                </a:moveTo>
                <a:lnTo>
                  <a:pt x="7301" y="7687"/>
                </a:lnTo>
                <a:lnTo>
                  <a:pt x="7301" y="13022"/>
                </a:lnTo>
                <a:cubicBezTo>
                  <a:pt x="7301" y="13945"/>
                  <a:pt x="8102" y="14676"/>
                  <a:pt x="9138" y="14676"/>
                </a:cubicBezTo>
                <a:lnTo>
                  <a:pt x="10800" y="14676"/>
                </a:lnTo>
                <a:cubicBezTo>
                  <a:pt x="11836" y="14676"/>
                  <a:pt x="12636" y="13945"/>
                  <a:pt x="12636" y="13022"/>
                </a:cubicBezTo>
                <a:lnTo>
                  <a:pt x="12636" y="7687"/>
                </a:lnTo>
                <a:lnTo>
                  <a:pt x="10800" y="7687"/>
                </a:lnTo>
                <a:lnTo>
                  <a:pt x="14308" y="4179"/>
                </a:lnTo>
                <a:lnTo>
                  <a:pt x="17981" y="7687"/>
                </a:lnTo>
                <a:lnTo>
                  <a:pt x="16144" y="7687"/>
                </a:lnTo>
                <a:lnTo>
                  <a:pt x="16144" y="13022"/>
                </a:lnTo>
                <a:cubicBezTo>
                  <a:pt x="16144" y="15790"/>
                  <a:pt x="13568" y="18349"/>
                  <a:pt x="10800" y="18349"/>
                </a:cubicBezTo>
                <a:lnTo>
                  <a:pt x="9138" y="18349"/>
                </a:lnTo>
                <a:cubicBezTo>
                  <a:pt x="6370" y="18349"/>
                  <a:pt x="3794" y="15790"/>
                  <a:pt x="3794" y="13022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WordArt 5"/>
          <p:cNvSpPr txBox="1"/>
          <p:nvPr/>
        </p:nvSpPr>
        <p:spPr>
          <a:xfrm>
            <a:off x="468360" y="549360"/>
            <a:ext cx="7848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c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бщее число ошибок - 4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cc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36" name="WordArt 6"/>
          <p:cNvSpPr txBox="1"/>
          <p:nvPr/>
        </p:nvSpPr>
        <p:spPr>
          <a:xfrm>
            <a:off x="1835280" y="1700280"/>
            <a:ext cx="5184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ценка за тес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7" name="WordArt 7"/>
          <p:cNvSpPr txBox="1"/>
          <p:nvPr/>
        </p:nvSpPr>
        <p:spPr>
          <a:xfrm>
            <a:off x="1332000" y="4221000"/>
            <a:ext cx="6769080" cy="18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cc0066"/>
                </a:solidFill>
                <a:latin typeface="Arial"/>
              </a:rPr>
              <a:t>Учи получше.</a:t>
            </a:r>
            <a:endParaRPr b="0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cc0066"/>
              </a:solidFill>
              <a:latin typeface="Arial"/>
              <a:ea typeface="Arial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4140360" y="6237360"/>
            <a:ext cx="38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WordArt 9"/>
          <p:cNvSpPr txBox="1"/>
          <p:nvPr/>
        </p:nvSpPr>
        <p:spPr>
          <a:xfrm>
            <a:off x="3635280" y="2708280"/>
            <a:ext cx="1657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336699"/>
                </a:solidFill>
                <a:latin typeface="Arial"/>
              </a:rPr>
              <a:t>2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336699"/>
              </a:solidFill>
              <a:latin typeface="Arial"/>
              <a:ea typeface="Arial"/>
            </a:endParaRPr>
          </a:p>
        </p:txBody>
      </p:sp>
      <p:sp>
        <p:nvSpPr>
          <p:cNvPr id="240" name="AutoShape 10"/>
          <p:cNvSpPr/>
          <p:nvPr/>
        </p:nvSpPr>
        <p:spPr>
          <a:xfrm>
            <a:off x="860436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3794" y="7687"/>
                </a:moveTo>
                <a:lnTo>
                  <a:pt x="7301" y="7687"/>
                </a:lnTo>
                <a:lnTo>
                  <a:pt x="7301" y="13022"/>
                </a:lnTo>
                <a:cubicBezTo>
                  <a:pt x="7301" y="13945"/>
                  <a:pt x="8102" y="14676"/>
                  <a:pt x="9138" y="14676"/>
                </a:cubicBezTo>
                <a:lnTo>
                  <a:pt x="10800" y="14676"/>
                </a:lnTo>
                <a:cubicBezTo>
                  <a:pt x="11836" y="14676"/>
                  <a:pt x="12636" y="13945"/>
                  <a:pt x="12636" y="13022"/>
                </a:cubicBezTo>
                <a:lnTo>
                  <a:pt x="12636" y="7687"/>
                </a:lnTo>
                <a:lnTo>
                  <a:pt x="10800" y="7687"/>
                </a:lnTo>
                <a:lnTo>
                  <a:pt x="14308" y="4179"/>
                </a:lnTo>
                <a:lnTo>
                  <a:pt x="17981" y="7687"/>
                </a:lnTo>
                <a:lnTo>
                  <a:pt x="16144" y="7687"/>
                </a:lnTo>
                <a:lnTo>
                  <a:pt x="16144" y="13022"/>
                </a:lnTo>
                <a:cubicBezTo>
                  <a:pt x="16144" y="15790"/>
                  <a:pt x="13568" y="18349"/>
                  <a:pt x="10800" y="18349"/>
                </a:cubicBezTo>
                <a:lnTo>
                  <a:pt x="9138" y="18349"/>
                </a:lnTo>
                <a:cubicBezTo>
                  <a:pt x="6370" y="18349"/>
                  <a:pt x="3794" y="15790"/>
                  <a:pt x="3794" y="13022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WordArt 5"/>
          <p:cNvSpPr txBox="1"/>
          <p:nvPr/>
        </p:nvSpPr>
        <p:spPr>
          <a:xfrm>
            <a:off x="468360" y="549360"/>
            <a:ext cx="7848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c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бщее число ошибок - 5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cc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45" name="WordArt 6"/>
          <p:cNvSpPr txBox="1"/>
          <p:nvPr/>
        </p:nvSpPr>
        <p:spPr>
          <a:xfrm>
            <a:off x="1835280" y="1700280"/>
            <a:ext cx="5184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ценка за тес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6" name="WordArt 7"/>
          <p:cNvSpPr txBox="1"/>
          <p:nvPr/>
        </p:nvSpPr>
        <p:spPr>
          <a:xfrm>
            <a:off x="1258920" y="4365720"/>
            <a:ext cx="676908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cc0066"/>
                </a:solidFill>
                <a:latin typeface="Arial"/>
              </a:rPr>
              <a:t>Учи получше.</a:t>
            </a:r>
            <a:endParaRPr b="0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cc0066"/>
              </a:solidFill>
              <a:latin typeface="Arial"/>
              <a:ea typeface="Arial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4140360" y="6237360"/>
            <a:ext cx="38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WordArt 9"/>
          <p:cNvSpPr txBox="1"/>
          <p:nvPr/>
        </p:nvSpPr>
        <p:spPr>
          <a:xfrm>
            <a:off x="3635280" y="2708280"/>
            <a:ext cx="1657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336699"/>
                </a:solidFill>
                <a:latin typeface="Arial"/>
              </a:rPr>
              <a:t>2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336699"/>
              </a:solidFill>
              <a:latin typeface="Arial"/>
              <a:ea typeface="Arial"/>
            </a:endParaRPr>
          </a:p>
        </p:txBody>
      </p:sp>
      <p:sp>
        <p:nvSpPr>
          <p:cNvPr id="249" name="AutoShape 10"/>
          <p:cNvSpPr/>
          <p:nvPr/>
        </p:nvSpPr>
        <p:spPr>
          <a:xfrm>
            <a:off x="860436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3794" y="7687"/>
                </a:moveTo>
                <a:lnTo>
                  <a:pt x="7301" y="7687"/>
                </a:lnTo>
                <a:lnTo>
                  <a:pt x="7301" y="13022"/>
                </a:lnTo>
                <a:cubicBezTo>
                  <a:pt x="7301" y="13945"/>
                  <a:pt x="8102" y="14676"/>
                  <a:pt x="9138" y="14676"/>
                </a:cubicBezTo>
                <a:lnTo>
                  <a:pt x="10800" y="14676"/>
                </a:lnTo>
                <a:cubicBezTo>
                  <a:pt x="11836" y="14676"/>
                  <a:pt x="12636" y="13945"/>
                  <a:pt x="12636" y="13022"/>
                </a:cubicBezTo>
                <a:lnTo>
                  <a:pt x="12636" y="7687"/>
                </a:lnTo>
                <a:lnTo>
                  <a:pt x="10800" y="7687"/>
                </a:lnTo>
                <a:lnTo>
                  <a:pt x="14308" y="4179"/>
                </a:lnTo>
                <a:lnTo>
                  <a:pt x="17981" y="7687"/>
                </a:lnTo>
                <a:lnTo>
                  <a:pt x="16144" y="7687"/>
                </a:lnTo>
                <a:lnTo>
                  <a:pt x="16144" y="13022"/>
                </a:lnTo>
                <a:cubicBezTo>
                  <a:pt x="16144" y="15790"/>
                  <a:pt x="13568" y="18349"/>
                  <a:pt x="10800" y="18349"/>
                </a:cubicBezTo>
                <a:lnTo>
                  <a:pt x="9138" y="18349"/>
                </a:lnTo>
                <a:cubicBezTo>
                  <a:pt x="6370" y="18349"/>
                  <a:pt x="3794" y="15790"/>
                  <a:pt x="3794" y="13022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WordArt 5"/>
          <p:cNvSpPr txBox="1"/>
          <p:nvPr/>
        </p:nvSpPr>
        <p:spPr>
          <a:xfrm>
            <a:off x="468360" y="549360"/>
            <a:ext cx="309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прос № 1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382680" y="1320840"/>
            <a:ext cx="8407440" cy="85644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003366"/>
                </a:solidFill>
                <a:latin typeface="Arial"/>
              </a:rPr>
              <a:t>На конце у наречий…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AutoShape 7">
            <a:hlinkClick r:id="rId2" action="ppaction://hlinksldjump"/>
          </p:cNvPr>
          <p:cNvSpPr/>
          <p:nvPr/>
        </p:nvSpPr>
        <p:spPr>
          <a:xfrm>
            <a:off x="1547640" y="2637000"/>
            <a:ext cx="6120000" cy="6476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) никогда не бывает оконча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AutoShape 8">
            <a:hlinkClick r:id="rId3" action="ppaction://hlinksldjump"/>
          </p:cNvPr>
          <p:cNvSpPr/>
          <p:nvPr/>
        </p:nvSpPr>
        <p:spPr>
          <a:xfrm>
            <a:off x="1547640" y="3429000"/>
            <a:ext cx="6120000" cy="6476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) всегда есть окончание «</a:t>
            </a:r>
            <a:r>
              <a:rPr b="0" lang="ru-RU" sz="4000" spc="-1" strike="noStrike">
                <a:solidFill>
                  <a:srgbClr val="003366"/>
                </a:solidFill>
                <a:latin typeface="Arial"/>
              </a:rPr>
              <a:t>о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AutoShape 9">
            <a:hlinkClick r:id="rId4" action="ppaction://hlinksldjump"/>
          </p:cNvPr>
          <p:cNvSpPr/>
          <p:nvPr/>
        </p:nvSpPr>
        <p:spPr>
          <a:xfrm>
            <a:off x="1547640" y="4221000"/>
            <a:ext cx="6120000" cy="64800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) есть нулевое оконч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AutoShape 10">
            <a:hlinkClick r:id="rId5" action="ppaction://hlinksldjump"/>
          </p:cNvPr>
          <p:cNvSpPr/>
          <p:nvPr/>
        </p:nvSpPr>
        <p:spPr>
          <a:xfrm>
            <a:off x="1547640" y="5013360"/>
            <a:ext cx="6120000" cy="6476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) всегда есть оконч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WordArt 5"/>
          <p:cNvSpPr txBox="1"/>
          <p:nvPr/>
        </p:nvSpPr>
        <p:spPr>
          <a:xfrm>
            <a:off x="468360" y="333360"/>
            <a:ext cx="3097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прос № 2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250920" y="1268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66"/>
                </a:solidFill>
                <a:latin typeface="Arial"/>
              </a:rPr>
              <a:t>Наречия в предложении могут быть…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WordArt 7"/>
          <p:cNvSpPr txBox="1"/>
          <p:nvPr/>
        </p:nvSpPr>
        <p:spPr>
          <a:xfrm>
            <a:off x="2987640" y="6165720"/>
            <a:ext cx="316872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шибок - 0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Text Box 8">
            <a:hlinkClick r:id="rId2" action="ppaction://hlinksldjump"/>
          </p:cNvPr>
          <p:cNvSpPr/>
          <p:nvPr/>
        </p:nvSpPr>
        <p:spPr>
          <a:xfrm>
            <a:off x="5219640" y="3573360"/>
            <a:ext cx="151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AutoShape 9">
            <a:hlinkClick r:id="rId3" action="ppaction://hlinksldjump"/>
          </p:cNvPr>
          <p:cNvSpPr/>
          <p:nvPr/>
        </p:nvSpPr>
        <p:spPr>
          <a:xfrm>
            <a:off x="900000" y="2637000"/>
            <a:ext cx="7056720" cy="6476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) Подлежащим и дополнени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AutoShape 10">
            <a:hlinkClick r:id="rId4" action="ppaction://hlinksldjump"/>
          </p:cNvPr>
          <p:cNvSpPr/>
          <p:nvPr/>
        </p:nvSpPr>
        <p:spPr>
          <a:xfrm>
            <a:off x="971640" y="3429000"/>
            <a:ext cx="7056360" cy="6476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) Сказуемым, обстоятельством, определени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AutoShape 11">
            <a:hlinkClick r:id="rId5" action="ppaction://hlinksldjump"/>
          </p:cNvPr>
          <p:cNvSpPr/>
          <p:nvPr/>
        </p:nvSpPr>
        <p:spPr>
          <a:xfrm>
            <a:off x="971640" y="4221000"/>
            <a:ext cx="7056360" cy="64800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) Подлежащим и сказуемы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AutoShape 12">
            <a:hlinkClick r:id="rId6" action="ppaction://hlinksldjump"/>
          </p:cNvPr>
          <p:cNvSpPr/>
          <p:nvPr/>
        </p:nvSpPr>
        <p:spPr>
          <a:xfrm>
            <a:off x="971640" y="5013360"/>
            <a:ext cx="7272360" cy="6476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) Обстоятельством, определением, дополнени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WordArt 5"/>
          <p:cNvSpPr txBox="1"/>
          <p:nvPr/>
        </p:nvSpPr>
        <p:spPr>
          <a:xfrm>
            <a:off x="468360" y="549360"/>
            <a:ext cx="309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прос № 2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3" name="WordArt 6"/>
          <p:cNvSpPr txBox="1"/>
          <p:nvPr/>
        </p:nvSpPr>
        <p:spPr>
          <a:xfrm>
            <a:off x="2987640" y="6165720"/>
            <a:ext cx="316872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шибок - 1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" name="AutoShape 7">
            <a:hlinkClick r:id="rId2" action="ppaction://hlinksldjump"/>
          </p:cNvPr>
          <p:cNvSpPr/>
          <p:nvPr/>
        </p:nvSpPr>
        <p:spPr>
          <a:xfrm>
            <a:off x="971640" y="2637000"/>
            <a:ext cx="7056360" cy="6476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) Подлежащим и дополнени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AutoShape 8">
            <a:hlinkClick r:id="rId3" action="ppaction://hlinksldjump"/>
          </p:cNvPr>
          <p:cNvSpPr/>
          <p:nvPr/>
        </p:nvSpPr>
        <p:spPr>
          <a:xfrm>
            <a:off x="971640" y="3429000"/>
            <a:ext cx="7056360" cy="6476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) Сказуемым, обстоятельством, определени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AutoShape 9">
            <a:hlinkClick r:id="rId4" action="ppaction://hlinksldjump"/>
          </p:cNvPr>
          <p:cNvSpPr/>
          <p:nvPr/>
        </p:nvSpPr>
        <p:spPr>
          <a:xfrm>
            <a:off x="971640" y="4221000"/>
            <a:ext cx="7056360" cy="64800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) Подлежащим и сказуемы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AutoShape 10">
            <a:hlinkClick r:id="rId5" action="ppaction://hlinksldjump"/>
          </p:cNvPr>
          <p:cNvSpPr/>
          <p:nvPr/>
        </p:nvSpPr>
        <p:spPr>
          <a:xfrm>
            <a:off x="971640" y="5013360"/>
            <a:ext cx="7200720" cy="6476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) Обстоятельством, определением, дополнени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250920" y="1268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66"/>
                </a:solidFill>
                <a:latin typeface="Arial"/>
              </a:rPr>
              <a:t>Наречия в предложении могут быть…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WordArt 5"/>
          <p:cNvSpPr txBox="1"/>
          <p:nvPr/>
        </p:nvSpPr>
        <p:spPr>
          <a:xfrm>
            <a:off x="468360" y="549360"/>
            <a:ext cx="309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прос № 3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468360" y="14842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Наречие в словосочетании может зависеть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WordArt 7"/>
          <p:cNvSpPr txBox="1"/>
          <p:nvPr/>
        </p:nvSpPr>
        <p:spPr>
          <a:xfrm>
            <a:off x="2987640" y="6165720"/>
            <a:ext cx="316872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шибок - 0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AutoShape 8">
            <a:hlinkClick r:id="rId2" action="ppaction://hlinksldjump"/>
          </p:cNvPr>
          <p:cNvSpPr/>
          <p:nvPr/>
        </p:nvSpPr>
        <p:spPr>
          <a:xfrm>
            <a:off x="179280" y="2637000"/>
            <a:ext cx="8785440" cy="6476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) От глагола, наречия и прилагательно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AutoShape 9">
            <a:hlinkClick r:id="rId3" action="ppaction://hlinksldjump"/>
          </p:cNvPr>
          <p:cNvSpPr/>
          <p:nvPr/>
        </p:nvSpPr>
        <p:spPr>
          <a:xfrm>
            <a:off x="179280" y="3429000"/>
            <a:ext cx="8964720" cy="6476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) существительного, прилагательно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AutoShape 10">
            <a:hlinkClick r:id="rId4" action="ppaction://hlinksldjump"/>
          </p:cNvPr>
          <p:cNvSpPr/>
          <p:nvPr/>
        </p:nvSpPr>
        <p:spPr>
          <a:xfrm>
            <a:off x="179280" y="4149720"/>
            <a:ext cx="8785440" cy="6476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) Только от глагола и прилагательно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AutoShape 11">
            <a:hlinkClick r:id="rId5" action="ppaction://hlinksldjump"/>
          </p:cNvPr>
          <p:cNvSpPr/>
          <p:nvPr/>
        </p:nvSpPr>
        <p:spPr>
          <a:xfrm>
            <a:off x="179280" y="5013360"/>
            <a:ext cx="8785440" cy="6476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) Только от существительно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WordArt 5"/>
          <p:cNvSpPr txBox="1"/>
          <p:nvPr/>
        </p:nvSpPr>
        <p:spPr>
          <a:xfrm>
            <a:off x="468360" y="549360"/>
            <a:ext cx="309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прос № 3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3" name="WordArt 6"/>
          <p:cNvSpPr txBox="1"/>
          <p:nvPr/>
        </p:nvSpPr>
        <p:spPr>
          <a:xfrm>
            <a:off x="2987640" y="6165720"/>
            <a:ext cx="316872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шибок - 1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468360" y="14842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Наречие в словосочетании может зависеть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AutoShape 8">
            <a:hlinkClick r:id="rId2" action="ppaction://hlinksldjump"/>
          </p:cNvPr>
          <p:cNvSpPr/>
          <p:nvPr/>
        </p:nvSpPr>
        <p:spPr>
          <a:xfrm>
            <a:off x="179280" y="2637000"/>
            <a:ext cx="8785440" cy="6476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) От глагола, наречия и прилагательно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AutoShape 9">
            <a:hlinkClick r:id="rId3" action="ppaction://hlinksldjump"/>
          </p:cNvPr>
          <p:cNvSpPr/>
          <p:nvPr/>
        </p:nvSpPr>
        <p:spPr>
          <a:xfrm>
            <a:off x="0" y="3429000"/>
            <a:ext cx="9144000" cy="6476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) существительного, прилагательно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AutoShape 10">
            <a:hlinkClick r:id="rId4" action="ppaction://hlinksldjump"/>
          </p:cNvPr>
          <p:cNvSpPr/>
          <p:nvPr/>
        </p:nvSpPr>
        <p:spPr>
          <a:xfrm>
            <a:off x="179280" y="4221000"/>
            <a:ext cx="8785440" cy="64800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) Только от глагола и прилагательно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AutoShape 11">
            <a:hlinkClick r:id="rId5" action="ppaction://hlinksldjump"/>
          </p:cNvPr>
          <p:cNvSpPr/>
          <p:nvPr/>
        </p:nvSpPr>
        <p:spPr>
          <a:xfrm>
            <a:off x="358920" y="5013360"/>
            <a:ext cx="8785080" cy="6476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) Только от существительно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WordArt 5"/>
          <p:cNvSpPr txBox="1"/>
          <p:nvPr/>
        </p:nvSpPr>
        <p:spPr>
          <a:xfrm>
            <a:off x="468360" y="549360"/>
            <a:ext cx="309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прос № 3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3" name="WordArt 6"/>
          <p:cNvSpPr txBox="1"/>
          <p:nvPr/>
        </p:nvSpPr>
        <p:spPr>
          <a:xfrm>
            <a:off x="2987640" y="6165720"/>
            <a:ext cx="316872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шибок - 2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468360" y="14842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Наречие в словосочетании может зависеть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AutoShape 8">
            <a:hlinkClick r:id="rId2" action="ppaction://hlinksldjump"/>
          </p:cNvPr>
          <p:cNvSpPr/>
          <p:nvPr/>
        </p:nvSpPr>
        <p:spPr>
          <a:xfrm>
            <a:off x="179280" y="2637000"/>
            <a:ext cx="8785440" cy="6476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) От глагола, наречия и прилагательно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AutoShape 9">
            <a:hlinkClick r:id="rId3" action="ppaction://hlinksldjump"/>
          </p:cNvPr>
          <p:cNvSpPr/>
          <p:nvPr/>
        </p:nvSpPr>
        <p:spPr>
          <a:xfrm>
            <a:off x="0" y="3500280"/>
            <a:ext cx="9144000" cy="64800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) существительного, прилагательно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AutoShape 10">
            <a:hlinkClick r:id="rId4" action="ppaction://hlinksldjump"/>
          </p:cNvPr>
          <p:cNvSpPr/>
          <p:nvPr/>
        </p:nvSpPr>
        <p:spPr>
          <a:xfrm>
            <a:off x="179280" y="4221000"/>
            <a:ext cx="8785440" cy="64800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) Только от глагола и прилагательно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AutoShape 11">
            <a:hlinkClick r:id="rId5" action="ppaction://hlinksldjump"/>
          </p:cNvPr>
          <p:cNvSpPr/>
          <p:nvPr/>
        </p:nvSpPr>
        <p:spPr>
          <a:xfrm>
            <a:off x="179280" y="5013360"/>
            <a:ext cx="8785440" cy="6476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) Только от существительно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WordArt 5"/>
          <p:cNvSpPr txBox="1"/>
          <p:nvPr/>
        </p:nvSpPr>
        <p:spPr>
          <a:xfrm>
            <a:off x="468360" y="549360"/>
            <a:ext cx="309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прос № 4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395280" y="1484280"/>
            <a:ext cx="85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Общим грамматическим значением наречия является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WordArt 7"/>
          <p:cNvSpPr txBox="1"/>
          <p:nvPr/>
        </p:nvSpPr>
        <p:spPr>
          <a:xfrm>
            <a:off x="2987640" y="6165720"/>
            <a:ext cx="316872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шибок - 0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" name="AutoShape 8">
            <a:hlinkClick r:id="rId2" action="ppaction://hlinksldjump"/>
          </p:cNvPr>
          <p:cNvSpPr/>
          <p:nvPr/>
        </p:nvSpPr>
        <p:spPr>
          <a:xfrm>
            <a:off x="2700360" y="2637000"/>
            <a:ext cx="4103640" cy="6476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) Признак предме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AutoShape 9">
            <a:hlinkClick r:id="rId3" action="ppaction://hlinksldjump"/>
          </p:cNvPr>
          <p:cNvSpPr/>
          <p:nvPr/>
        </p:nvSpPr>
        <p:spPr>
          <a:xfrm>
            <a:off x="2700360" y="3429000"/>
            <a:ext cx="4103640" cy="6476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) Действие предме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AutoShape 10">
            <a:hlinkClick r:id="rId4" action="ppaction://hlinksldjump"/>
          </p:cNvPr>
          <p:cNvSpPr/>
          <p:nvPr/>
        </p:nvSpPr>
        <p:spPr>
          <a:xfrm>
            <a:off x="2700360" y="4221000"/>
            <a:ext cx="4103640" cy="64800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) Предм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AutoShape 11">
            <a:hlinkClick r:id="rId5" action="ppaction://hlinksldjump"/>
          </p:cNvPr>
          <p:cNvSpPr/>
          <p:nvPr/>
        </p:nvSpPr>
        <p:spPr>
          <a:xfrm>
            <a:off x="2700360" y="5013360"/>
            <a:ext cx="4103640" cy="6476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) Признак действ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21:03:49Z</dcterms:created>
  <dc:creator>Customer</dc:creator>
  <dc:description/>
  <dc:language>en-US</dc:language>
  <cp:lastModifiedBy>TANYANOTE</cp:lastModifiedBy>
  <dcterms:modified xsi:type="dcterms:W3CDTF">2012-02-07T09:21:19Z</dcterms:modified>
  <cp:revision>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