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64FF-FD59-4D18-8E12-A4F10B90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2F3F-460A-464D-B68B-B12CED40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6259-4B3A-47E1-8CC0-974C0345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53C2-64CB-44A4-94F6-FBF02FFE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B67-0788-4C5F-8AFD-60F342E4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2B5-B5E2-4CD6-87C6-D4A7E6CB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E61F-2754-471C-B6ED-03B0F71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F0E3-1AE3-4B96-8DE8-B7B55EDD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3D4D-FCFD-43EF-A188-FCA5B262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BA62-6F15-49A9-998E-A6118A70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82D6-DD2C-40E8-90CB-7C2AE04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0F80-6644-49E6-A7CE-5A7F6B9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D452-EA39-4EC7-A35F-F602503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9A78-B829-41FC-9D98-853F75B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C4F-0063-482D-A7EA-76DC2F6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476E-D1E2-4024-884C-E84133A0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CB61-7417-428A-8EA4-F1B5CB80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10A3-7257-4E69-856A-D778470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D669-83A8-4C08-BC0A-4DE0A6D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E389-7D71-4940-9F59-7BC1119C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94E8-561F-4AC2-88DA-FBBBEFD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BC81-956F-4B12-B5A2-7702EC2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0768-F55F-4B0E-AF71-725CEAD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CA1C-2618-4E3F-AA74-3520DBD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E14-6859-4D4B-99D7-D91270EFF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90A6-1F3A-458B-80A4-47FF06CA2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5e5ff"/>
                </a:solidFill>
                <a:latin typeface="Garamond"/>
              </a:rPr>
              <a:t>Духовная сфера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aramond"/>
              </a:rPr>
              <a:t>Тест. 10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47780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9 ( 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785960" y="1643040"/>
            <a:ext cx="5429160" cy="85716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ипы мировозз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85840" y="3714840"/>
            <a:ext cx="3000240" cy="71424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быд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3857760" y="3786120"/>
            <a:ext cx="2571480" cy="62856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уч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7000920" y="3786120"/>
            <a:ext cx="171432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Прямая со стрелкой 9"/>
          <p:cNvCxnSpPr/>
          <p:nvPr/>
        </p:nvCxnSpPr>
        <p:spPr>
          <a:xfrm>
            <a:off x="5715000" y="2500200"/>
            <a:ext cx="2000880" cy="128664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124" name="Прямая со стрелкой 11"/>
          <p:cNvCxnSpPr>
            <a:stCxn id="119" idx="2"/>
          </p:cNvCxnSpPr>
          <p:nvPr/>
        </p:nvCxnSpPr>
        <p:spPr>
          <a:xfrm flipH="1">
            <a:off x="4498200" y="2500200"/>
            <a:ext cx="2520" cy="121680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125" name="Прямая со стрелкой 13"/>
          <p:cNvCxnSpPr>
            <a:endCxn id="120" idx="0"/>
          </p:cNvCxnSpPr>
          <p:nvPr/>
        </p:nvCxnSpPr>
        <p:spPr>
          <a:xfrm flipH="1">
            <a:off x="1785240" y="2500200"/>
            <a:ext cx="1500840" cy="121536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0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е понятие обобщает по смыслу остальны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социальные нау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мировые религ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формы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моральные принци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1 (2 балл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образовательные учреждения позволяют получить общее образован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технический л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средняя общеобразователь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профессиональный коллед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многопрофильная гимназ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) художествен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2 ( 3 балл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Перечислите шесть основных видов (форм) искусств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явлением какой формы культуры является фестиваль некоммерческого кин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масс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нар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экран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элитар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2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кусство как вид человеческой деятельности характеризуе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правдоподобностью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созданием художественных обра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ясностью и целостностью выра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созданием материальных цен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3 ( 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 мировым религиям относи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будд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синто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инду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конфуциан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дание 4 (1 балл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99972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уманитаризация образования предполага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особое внимание к социальным дисциплин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унификацию требований к оборудованию шк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разнообразие типов образовательных учрежд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 учёт возможностей и интересов ребё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5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14264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ерно 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. Духовная культура призвана обеспечивать потребности материальной культу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. Духовная и материальная культуры существуют независимо друг от дру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верно только А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оба 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верно только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оба не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6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ерно 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. Мораль возникла на основе жизненного опыта люд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. Все моральные нормы охраняются закон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верно только 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оба 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верно только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оба не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7 ( 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й из терминов не относится к понятию «искусство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разность, эмоциональность, фантазия, обоснованность, субъективн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вет: _________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8 (2 балл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произведения народной культур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школьные анекд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исторический ром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легенда о Степане Раз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песни-коляд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) бразильский телесери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пишите цифры в порядке возраст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5-10-13T15:18:21Z</dcterms:modified>
  <cp:revision>12</cp:revision>
  <dc:subject/>
  <dc:title>Слайд 1</dc:title>
</cp:coreProperties>
</file>