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BDE5-1469-4394-8509-13DC952B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AEAD-F578-428B-BE8F-706C78B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3FC5-F8CC-4424-BDF0-B3CDDDDF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E956-54C0-43C1-AFB3-6585CF0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5C06-6990-4F07-AA51-4438C47A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025-81C4-43BD-87CB-A8A6BF33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8015-765B-4142-80FE-FCD74B9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272A-EC92-4771-BE88-2B0B03E6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12C2-E9D8-41B6-81A1-AFDCFA41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6FB9-AACA-4D94-846E-9BF11A1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C8A-02C1-4EA6-B43B-2A8BF8D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E223-D877-4A0D-A694-EB5393E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B36-23DA-4CCD-A9F4-5866A589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3044-3F87-4BED-81C8-024D369E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D38-9B9B-44CA-AA4F-C02A2CED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B7FC-A72F-456F-8129-1B89FF35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4CD-6FE8-4DB6-961E-00A99DB6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4D2F-2777-4DD4-9DAC-5979C13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F08E-3111-40EC-8DAA-5B526FD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73EE-F9AA-4D11-BC46-8C82B045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6A97-4639-4560-9C85-DCB224B3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A156-7E9B-449A-A884-10024A7E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DC3C-0EB2-417B-B14B-3D61028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2220-A8D1-4143-B248-695D015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D3F-50D9-4F2D-8C1B-DB4D27255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2CA-B355-481F-9349-1F2A8666B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5e5ff"/>
                </a:solidFill>
                <a:latin typeface="Garamond"/>
              </a:rPr>
              <a:t>Духовная сфера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aramond"/>
              </a:rPr>
              <a:t>Тест. 10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47780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9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785960" y="1643040"/>
            <a:ext cx="5429160" cy="8571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ипы мировозз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85840" y="3714840"/>
            <a:ext cx="3000240" cy="71424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быд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857760" y="3786120"/>
            <a:ext cx="2571480" cy="6285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уч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7000920" y="3786120"/>
            <a:ext cx="17143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Прямая со стрелкой 9"/>
          <p:cNvCxnSpPr/>
          <p:nvPr/>
        </p:nvCxnSpPr>
        <p:spPr>
          <a:xfrm>
            <a:off x="5715000" y="2500200"/>
            <a:ext cx="2000880" cy="128664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124" name="Прямая со стрелкой 11"/>
          <p:cNvCxnSpPr>
            <a:stCxn id="119" idx="2"/>
          </p:cNvCxnSpPr>
          <p:nvPr/>
        </p:nvCxnSpPr>
        <p:spPr>
          <a:xfrm flipH="1">
            <a:off x="4498200" y="2500200"/>
            <a:ext cx="2520" cy="121680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  <p:cxnSp>
        <p:nvCxnSpPr>
          <p:cNvPr id="125" name="Прямая со стрелкой 13"/>
          <p:cNvCxnSpPr>
            <a:endCxn id="120" idx="0"/>
          </p:cNvCxnSpPr>
          <p:nvPr/>
        </p:nvCxnSpPr>
        <p:spPr>
          <a:xfrm flipH="1">
            <a:off x="1785240" y="2500200"/>
            <a:ext cx="1500840" cy="1215360"/>
          </a:xfrm>
          <a:prstGeom prst="straightConnector1">
            <a:avLst/>
          </a:prstGeom>
          <a:ln w="9360">
            <a:solidFill>
              <a:srgbClr val="348f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0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е понятие обобщает по смыслу остальны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социальные нау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мировые религ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формы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моральные принци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1 (2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образовательные учреждения позволяют получить общее образова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технический л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редняя общеобразователь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профессиональный коллед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многопрофильная гимназ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) художествен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2 ( 3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Перечислите шесть основных видов (форм) искусств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1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явлением какой формы культуры является фестиваль некоммерческого кин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масс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нар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экран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элитар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2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кусство как вид человеческой деятельности характеризуе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правдоподобностью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озданием художественных обра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ясностью и целостностью выра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созданием материальных цен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3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 мировым религиям относи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будд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синто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инду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конфуциан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ние 4 (1 балл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уманитаризация образования предполага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особое внимание к социальным дисциплин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унификацию требований к оборудованию шк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разнообразие типов образовательных учрежд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 учёт возможностей и интересов ребё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5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14264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рно 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. Духовная культура призвана обеспечивать потребности материальной культу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. Духовная и материальная культуры существуют независимо друг от дру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верно только А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оба 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верно только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оба не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6 (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рно 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. Мораль возникла на основе жизненного опыта люд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. Все моральные нормы охраняются закон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верно только 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оба 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верно только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оба невер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7 ( 1 балл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й из терминов не относится к понятию «искусство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разность, эмоциональность, фантазия, обоснованность, субъективн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вет: _________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ние 8 (2 балл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произведения народной культур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школьные анекд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исторический ром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легенда о Степане Раз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) песни-коляд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) бразильский телесери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пишите цифры в порядке возраст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5-10-13T15:18:21Z</dcterms:modified>
  <cp:revision>12</cp:revision>
  <dc:subject/>
  <dc:title>Слайд 1</dc:title>
</cp:coreProperties>
</file>