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349-247C-40F6-A318-7F67F5B0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AE7-61BB-4952-A8FB-C3FA2A1B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336-36CC-4C40-8FAE-C1DBD0CD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C81-392B-46B9-8F65-4398EE40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2FBE-C0E3-4A76-AEA7-628542D5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B103-C3C9-4F92-8C2E-F3C3B288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F179-E617-4C7F-A862-596E8F1A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ADE9-AE23-46B9-8C5E-548F9E05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E832-1550-4469-97BF-D3E88340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4CFA-9D88-46EF-9759-5B7BF3B6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1386-A721-409D-B880-750975E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F8E-996B-4F8B-A1E6-11FECCE9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34BF-B327-40F5-8EB2-1F79D5A9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D4FB-4C57-41A6-B9CF-E484C6D3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D900-2776-429A-ABEA-D5FE59D6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27EE-C862-4E6B-AE8A-6C368374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B240-0E1D-49D8-B9F3-D484B0D2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D7A-C322-4DE4-B6E1-3C511CBE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413-D1EE-4174-B159-132D64D2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3AC-5EB2-4986-8A13-2F3AE8B5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9BD-8102-4CCE-A6B0-8B88EBCA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A53-536D-48C9-847E-97FF3F0D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ED7-2410-40B8-B2DD-A6289547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E88-DE9B-44BE-9B01-7423B0CF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6893-348F-45EA-8592-99291D2179B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1F5E-7524-43D4-8485-6A5AA598B5F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Транспорт.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начальных классов МБОУ «НОШ» с. Хову – Аксы  Данзын-Хоо Римма Думен-Баировна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орная схема.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Что э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Из каких частей состо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Чем приводится движ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Где движется этот транспор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Для чего используе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Кто управляет этим ви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анспор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Части машины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920000" cy="496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втобус.      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704000" cy="511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     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064360" cy="575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спользованная литератур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Тематический словарь в картин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р человека. «Транспор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дательство «Школьная пресса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Стихи С. А. Васильева, В.И. Мирясо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9:15:02Z</dcterms:created>
  <dc:creator>User</dc:creator>
  <dc:description/>
  <dc:language>en-US</dc:language>
  <cp:lastModifiedBy>School61</cp:lastModifiedBy>
  <dcterms:modified xsi:type="dcterms:W3CDTF">2015-10-13T16:23:09Z</dcterms:modified>
  <cp:revision>73</cp:revision>
  <dc:subject/>
  <dc:title>Слайд 1</dc:title>
</cp:coreProperties>
</file>