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4E4B-4539-4239-9F4D-9CEC127F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889B-1AD4-424E-8826-DD376873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B7E8-0028-4436-BC49-8CEE964B4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AC59-21AE-4F43-8363-2E4C7F89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0633-32A5-4821-80B5-05AB58DF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4E59-F2D8-4F21-AC06-F25A6105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CFE5-C161-450E-9FBD-3E21866E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0090-E730-4A89-B466-C79811F0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A52A-8A17-4D40-815D-0515A611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9004-FB49-46B9-B84F-2824002B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B6F9-779F-4B6A-A849-6ECFD03E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18F1-1718-4B4D-9144-112E53AA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8ED0-AAFE-4870-9E43-D93CAE23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E672-4662-423F-BEE7-EAB84E26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67BE-1C8C-4961-9236-6D559D8C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A260-F295-4865-A552-DEE106CE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8649-6928-4B42-AFF5-C76C8FEC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E4AC-9496-40DF-98B1-87E23029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68CC-3551-455F-8CB0-BF8A873B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44DD-93CD-4170-AB10-5C57CB30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A776-1C49-43C2-8ACA-1416F037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4D05-9EDD-4EBC-BDE7-210DCFEB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6B63-1B95-4B87-8408-C92E2F60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BE05-17D8-4059-A839-2309F2C7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C5D1-7479-48A6-AA23-B655DAFE710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7F59-D003-424F-ACCF-5F24D910E16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Транспорт.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начальных классов МБОУ «НОШ» с. Хову – Аксы  Данзын-Хоо Римма Думен-Баировна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порная схема.      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Что эт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Из каких частей состои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Чем приводится движ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 Где движется этот транспор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. Для чего используетс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. Кто управляет этим вид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анспорт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Части машины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920000" cy="496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Автобус.            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704000" cy="511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                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064360" cy="5759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спользованная литература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Тематический словарь в картинка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ир человека. «Транспорт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дательство «Школьная пресса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. Стихи С. А. Васильева, В.И. Мирясо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09:15:02Z</dcterms:created>
  <dc:creator>User</dc:creator>
  <dc:description/>
  <dc:language>en-US</dc:language>
  <cp:lastModifiedBy>School61</cp:lastModifiedBy>
  <dcterms:modified xsi:type="dcterms:W3CDTF">2015-10-13T16:23:09Z</dcterms:modified>
  <cp:revision>73</cp:revision>
  <dc:subject/>
  <dc:title>Слайд 1</dc:title>
</cp:coreProperties>
</file>