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EC4-7A44-4318-AAF4-ED0D754D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ED2-4DE4-4AFB-80DF-3474C2AF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826-C3BC-4387-A844-384D5F30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2A0-D937-4210-AA23-14AE2EE2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B94-DD12-4FBC-AE4F-7739F1A7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A2F-F780-49D7-8EDC-0D9FD6B8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7B9-9C87-4D94-9C47-B47F120E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70E-BE60-4BDB-B06B-6FCBEFEA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4EE-4CC4-434F-BC22-8EBB0162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3D2-5C82-460C-AC95-0C1FF782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C62-BB80-43B6-87C4-1BD3EFF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156-618D-4896-9A55-E45325B3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97C7-3D4F-417A-898F-1B0FD5A6C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4957920" cy="5516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997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77353" dir="21037522" blurRad="0" rotWithShape="0">
              <a:srgbClr val="8fc7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36be9"/>
                </a:solidFill>
                <a:latin typeface="Garamond"/>
              </a:rPr>
              <a:t>Любимые </a:t>
            </a:r>
            <a:br>
              <a:rPr sz="5400"/>
            </a:br>
            <a:r>
              <a:rPr b="1" i="1" lang="en-US" sz="5400" spc="-1" strike="noStrike">
                <a:solidFill>
                  <a:srgbClr val="436be9"/>
                </a:solidFill>
                <a:latin typeface="Garamond"/>
              </a:rPr>
              <a:t>страницы лирики</a:t>
            </a:r>
            <a:br>
              <a:rPr sz="5400"/>
            </a:br>
            <a:r>
              <a:rPr b="1" i="1" lang="en-US" sz="5400" spc="-1" strike="noStrike">
                <a:solidFill>
                  <a:srgbClr val="436be9"/>
                </a:solidFill>
                <a:latin typeface="Garamond"/>
              </a:rPr>
              <a:t>Марины Цветаев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a7"/>
                </a:solidFill>
                <a:latin typeface="Arial"/>
              </a:rPr>
              <a:t>Какими словами Марина Ивановна показывает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отрешенность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65360"/>
            <a:ext cx="8569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Все равно», «все еди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Все равно», «где брести», « где ужиться»,«где унижать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Всяк дом мне чужд, всяк храм мне пус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Почему все же  М.Цветаева многократно употребляет слова однокоренные  слову «Родин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1700280"/>
            <a:ext cx="81374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ердце болит</a:t>
            </a:r>
            <a:r>
              <a:rPr b="1" i="1" lang="en-US" sz="3200" spc="-1" strike="noStrike">
                <a:solidFill>
                  <a:srgbClr val="436be9"/>
                </a:solidFill>
                <a:latin typeface="Arial"/>
              </a:rPr>
              <a:t> из – за отрешенности, удаленности от родного, именно поэтому доказывается не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Родина</a:t>
            </a:r>
            <a:r>
              <a:rPr b="1" i="1" lang="en-US" sz="3200" spc="-1" strike="noStrike">
                <a:solidFill>
                  <a:srgbClr val="436be9"/>
                </a:solidFill>
                <a:latin typeface="Arial"/>
              </a:rPr>
              <a:t> живет в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ердце</a:t>
            </a:r>
            <a:r>
              <a:rPr b="1" i="1" lang="en-US" sz="3200" spc="-1" strike="noStrike">
                <a:solidFill>
                  <a:srgbClr val="436be9"/>
                </a:solidFill>
                <a:latin typeface="Arial"/>
              </a:rPr>
              <a:t> героини, поэтому так страстно звучит ее монолог, так много чувств в него влож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иф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Тоска по родине! Д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Разоблаченная моро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не совершенно все рав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Где совершенно-один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Бы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844640"/>
            <a:ext cx="503280" cy="1655640"/>
          </a:xfrm>
          <a:custGeom>
            <a:avLst/>
            <a:gdLst>
              <a:gd name="textAreaLeft" fmla="*/ 67320 w 503280"/>
              <a:gd name="textAreaRight" fmla="*/ 435960 w 50328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2421000"/>
            <a:ext cx="503280" cy="1655640"/>
          </a:xfrm>
          <a:custGeom>
            <a:avLst/>
            <a:gdLst>
              <a:gd name="textAreaLeft" fmla="*/ 67320 w 503280"/>
              <a:gd name="textAreaRight" fmla="*/ 435960 w 50328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42100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Давно-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Морока -один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7451640" y="2709720"/>
            <a:ext cx="360360" cy="165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72000" y="4076640"/>
            <a:ext cx="36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«неотточенность» риф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72000" y="422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перекре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созвучие концов стихотворных слов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38920" y="1628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.И.Оже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7242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 искрен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сиюминутность пере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4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740"/>
                            </p:stCondLst>
                            <p:childTnLst>
                              <p:par>
                                <p:cTn id="257" nodeType="afterEffect" fill="hold" presetClass="exit" presetID="39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740"/>
                            </p:stCondLst>
                            <p:childTnLst>
                              <p:par>
                                <p:cTn id="264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4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6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48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8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20"/>
                            </p:stCondLst>
                            <p:childTnLst>
                              <p:par>
                                <p:cTn id="329" nodeType="afterEffect" fill="hold" presetClass="exit" presetID="39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Пунктуация в стихотвор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осклицательный знак (7)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1628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Тоска по роди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Давно разоблаченная морок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А я – до всякого столетия!»     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 экспрессивность (эмоциональность)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92428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ире (17)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2900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Быть вытесненной – непременно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 себя, в единоличье чувст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Мне безразлично  - на каком…»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0028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 любимый знак М.Цвета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мысловое выделение слов и словосочет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01336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ноготочие (2)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558972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Но если по дороге – ку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стает, особенно – рябина…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558972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 трепет сердца от рябины показывает связь с родной зем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2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94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Без каких строк стихотворение приобрело бы совсем иной смыс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946320" cy="4392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59280" y="4594320"/>
            <a:ext cx="63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Но если по дороге – ку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стает, особенно – рябина…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4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80"/>
                            </p:stCondLst>
                            <p:childTnLst>
                              <p:par>
                                <p:cTn id="4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393336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Monotype Corsiva"/>
              </a:rPr>
              <a:t>«Однажды у знакомых в Чистополе Марина Ивановна прочитала это стихотворение без последних двух строк.  У меня осталось ощущение смирения Цветаевой с горечью отрешенности и бездомности…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69228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fc7ff"/>
                </a:solidFill>
                <a:latin typeface="Arial"/>
              </a:rPr>
              <a:t>Лидия Чуковская вспомин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38 стр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907920"/>
            <a:ext cx="60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тверждают тревожность эмигран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3640" y="227664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сяк дом мне чужд, всяк храм мне пуст,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И все – равно, и все – ед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0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2 стро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276640"/>
            <a:ext cx="56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оска по родине открывается живой бо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3640" y="386064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о если по дороге – куст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стает, особенно – рябин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205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Всяк дом мне чужд, всяк храм мне пуст,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И все – равно, и все – ед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14172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Но если по дороге – куст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Встает, особенно – рябин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66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94668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2205000"/>
            <a:ext cx="7416720" cy="173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8fc7ff"/>
                </a:solidFill>
                <a:latin typeface="Arial"/>
              </a:rPr>
              <a:t>О чем это стихотворен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880"/>
                            </p:stCondLst>
                            <p:childTnLst>
                              <p:par>
                                <p:cTn id="5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Определите и запищите в тетрад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fc7ff"/>
                </a:solidFill>
                <a:uFillTx/>
                <a:latin typeface="Arial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fc7ff"/>
                </a:solidFill>
                <a:uFillTx/>
                <a:latin typeface="Arial"/>
              </a:rPr>
              <a:t>Иде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81960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160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40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640"/>
                            </p:stCondLst>
                            <p:childTnLst>
                              <p:par>
                                <p:cTn id="6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Дайте свое 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Родина – это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68784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0522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77353" dir="21037522" blurRad="0" rotWithShape="0">
              <a:srgbClr val="8fc7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36be9"/>
                </a:solidFill>
                <a:latin typeface="Garamond"/>
              </a:rPr>
              <a:t>Анализ стихотворения «Тоска по родине!..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9596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Garamond"/>
              </a:rPr>
              <a:t>Так край меня не уберег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аписать сочи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0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одина в жизни  М.Цвета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Лирическая героиня стихотворения  «Тоска по родине!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одина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увства в языке и сл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одина в мое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aramond"/>
              </a:rPr>
              <a:t>В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Garamond"/>
              </a:rPr>
              <a:t>1925 году</a:t>
            </a:r>
            <a:r>
              <a:rPr b="1" i="1" lang="en-US" sz="3200" spc="-1" strike="noStrike">
                <a:solidFill>
                  <a:srgbClr val="333399"/>
                </a:solidFill>
                <a:latin typeface="Garamond"/>
              </a:rPr>
              <a:t> началась очередная волна на миграции русских – во Францию. В Париже М.Цветаева организовывает литературные встречи, в которых ей помогают русские эмигранты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Garamond"/>
              </a:rPr>
              <a:t>Издаётся русский журнал «Вёрсты»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Лирический ге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108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Мне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совершенно все равно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де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овершенно-один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Быть…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….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Двадцатого столетья –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7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я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– до всякого столет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4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4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12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Характеристика геро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ино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русть – печ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Я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8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4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Что такое Род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0920" y="2421000"/>
            <a:ext cx="66470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это Отечество, родная страна, место р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4076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.И.Оже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360" y="2421000"/>
            <a:ext cx="1671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c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18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2924280"/>
            <a:ext cx="35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дным ( язык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3080" y="383868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д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4480" y="4773600"/>
            <a:ext cx="34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димого (пят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060640"/>
            <a:ext cx="58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госпиталь или казар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273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2924280"/>
            <a:ext cx="58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безразлично на ка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3789360"/>
            <a:ext cx="58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всего рав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4724280"/>
            <a:ext cx="58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душа родившаяся где-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9558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f488"/>
            </a:gs>
            <a:gs pos="100000">
              <a:srgbClr val="428a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fc7ff"/>
                </a:solidFill>
                <a:latin typeface="Arial"/>
              </a:rPr>
              <a:t>Какое отношение к родине чувствуется в стихотвор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оска и отстран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От связи с родной землей не остается сл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141720"/>
            <a:ext cx="590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Так край меня не убер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ой, что и самый зоркий сы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доль всей души, всей – попере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одимого пятна не сыщ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Патриаршие Пруды. Фото 3"/>
          <p:cNvPicPr/>
          <p:nvPr/>
        </p:nvPicPr>
        <p:blipFill>
          <a:blip r:embed="rId1"/>
          <a:srcRect l="0" t="0" r="15698" b="15758"/>
          <a:stretch/>
        </p:blipFill>
        <p:spPr>
          <a:xfrm>
            <a:off x="179280" y="2924280"/>
            <a:ext cx="3384720" cy="2597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0:34:18Z</dcterms:created>
  <dc:creator>Оля</dc:creator>
  <dc:description/>
  <dc:language>en-US</dc:language>
  <cp:lastModifiedBy>Оля</cp:lastModifiedBy>
  <dcterms:modified xsi:type="dcterms:W3CDTF">2009-03-13T13:37:43Z</dcterms:modified>
  <cp:revision>2</cp:revision>
  <dc:subject/>
  <dc:title>Любимые страницы лирики Марины Цветаевой</dc:title>
</cp:coreProperties>
</file>