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7.wmf" ContentType="image/x-wmf"/>
  <Override PartName="/ppt/media/image13.png" ContentType="image/png"/>
  <Override PartName="/ppt/media/image16.gif" ContentType="image/gif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F23E-752D-4356-A722-C97F80621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6A99-4E92-4DC1-A49B-D2E8B3742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CA40-B2C4-4DC1-A81E-EA65E2DA2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8802-7909-40A8-AB1F-3717A7836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9C9A-D226-402B-A8F1-24A50621D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5316-A7A3-4F1E-AC01-51820F8AE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3D71-8F67-41D4-93F1-663B8BAA2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34E8-E26F-48E0-B9C5-8FE128C2D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4A1D-D541-41A9-8D8B-39AAE6D4C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04AD-4C95-4ACB-BFA1-579484263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9DA5-2E47-4E79-92B2-318793411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8517-1AA8-4C9E-A77F-6F6F62CF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A0E71-54D8-4AB6-A90E-3A68CC3928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КОУ «Малобичинская СОШ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шение задач на движение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70c0"/>
                </a:solidFill>
                <a:latin typeface="Segoe Print"/>
              </a:rPr>
              <a:t>Подготовила учитель начальных классов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70c0"/>
                </a:solidFill>
                <a:latin typeface="Segoe Print"/>
              </a:rPr>
              <a:t>Алимбаева Ляля Тухтаровна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transportation_clipart_truck"/>
          <p:cNvPicPr/>
          <p:nvPr/>
        </p:nvPicPr>
        <p:blipFill>
          <a:blip r:embed="rId1"/>
          <a:stretch/>
        </p:blipFill>
        <p:spPr>
          <a:xfrm>
            <a:off x="625320" y="5402160"/>
            <a:ext cx="1435320" cy="731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C:\Documents and Settings\Елена\Local Settings\Temporary Internet Files\Content.IE5\49UZ8XYF\MPj04010800000[1].jpg"/>
          <p:cNvPicPr/>
          <p:nvPr/>
        </p:nvPicPr>
        <p:blipFill>
          <a:blip r:embed="rId2"/>
          <a:stretch/>
        </p:blipFill>
        <p:spPr>
          <a:xfrm>
            <a:off x="6858000" y="1447920"/>
            <a:ext cx="2181240" cy="1295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C:\Documents and Settings\Елена\Local Settings\Temporary Internet Files\Content.IE5\49UZ8XYF\MPj02012960000[1].jpg"/>
          <p:cNvPicPr/>
          <p:nvPr/>
        </p:nvPicPr>
        <p:blipFill>
          <a:blip r:embed="rId3"/>
          <a:stretch/>
        </p:blipFill>
        <p:spPr>
          <a:xfrm>
            <a:off x="609480" y="1523880"/>
            <a:ext cx="2148120" cy="1447920"/>
          </a:xfrm>
          <a:prstGeom prst="rect">
            <a:avLst/>
          </a:prstGeom>
          <a:ln w="0">
            <a:noFill/>
          </a:ln>
        </p:spPr>
      </p:pic>
      <p:pic>
        <p:nvPicPr>
          <p:cNvPr id="46" name="Содержимое 6" descr="0000005596-preview.jpg"/>
          <p:cNvPicPr/>
          <p:nvPr/>
        </p:nvPicPr>
        <p:blipFill>
          <a:blip r:embed="rId4"/>
          <a:stretch/>
        </p:blipFill>
        <p:spPr>
          <a:xfrm>
            <a:off x="6477120" y="4876920"/>
            <a:ext cx="233496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1"/>
          <p:cNvSpPr/>
          <p:nvPr/>
        </p:nvSpPr>
        <p:spPr>
          <a:xfrm>
            <a:off x="1447920" y="121932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Спасибо за урок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57" descr="девочка1"/>
          <p:cNvPicPr/>
          <p:nvPr/>
        </p:nvPicPr>
        <p:blipFill>
          <a:blip r:embed="rId1"/>
          <a:stretch/>
        </p:blipFill>
        <p:spPr>
          <a:xfrm>
            <a:off x="609480" y="2513160"/>
            <a:ext cx="1981440" cy="28209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42" descr="мальчик"/>
          <p:cNvPicPr/>
          <p:nvPr/>
        </p:nvPicPr>
        <p:blipFill>
          <a:blip r:embed="rId2"/>
          <a:stretch/>
        </p:blipFill>
        <p:spPr>
          <a:xfrm>
            <a:off x="7391520" y="4191120"/>
            <a:ext cx="1406520" cy="23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7" descr="девочка1"/>
          <p:cNvPicPr/>
          <p:nvPr/>
        </p:nvPicPr>
        <p:blipFill>
          <a:blip r:embed="rId1"/>
          <a:stretch/>
        </p:blipFill>
        <p:spPr>
          <a:xfrm>
            <a:off x="609480" y="1752480"/>
            <a:ext cx="2514600" cy="3581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7" descr="мальчик2"/>
          <p:cNvPicPr/>
          <p:nvPr/>
        </p:nvPicPr>
        <p:blipFill>
          <a:blip r:embed="rId2"/>
          <a:stretch/>
        </p:blipFill>
        <p:spPr>
          <a:xfrm>
            <a:off x="6400800" y="533520"/>
            <a:ext cx="1752480" cy="419076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5" descr="http://im0-tub-ru.yandex.net/i?id=412377271-64-72&amp;n=21"/>
          <p:cNvPicPr/>
          <p:nvPr/>
        </p:nvPicPr>
        <p:blipFill>
          <a:blip r:embed="rId3"/>
          <a:stretch/>
        </p:blipFill>
        <p:spPr>
          <a:xfrm>
            <a:off x="3581280" y="609480"/>
            <a:ext cx="16002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152280" y="993240"/>
            <a:ext cx="868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, км, км/с, дм, км/ч, см, мм,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762120" y="236232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м, см, м, дм, м, км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2375640" y="3581280"/>
            <a:ext cx="242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м/с, км/ч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4587840" y="4724280"/>
            <a:ext cx="292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,60мин, 60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762120" y="380880"/>
          <a:ext cx="4530600" cy="2698920"/>
        </p:xfrm>
        <a:graphic>
          <a:graphicData uri="http://schemas.openxmlformats.org/drawingml/2006/table">
            <a:tbl>
              <a:tblPr/>
              <a:tblGrid>
                <a:gridCol w="2359080"/>
                <a:gridCol w="723600"/>
                <a:gridCol w="727200"/>
                <a:gridCol w="720720"/>
              </a:tblGrid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уровен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ч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тоя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збушка на курьих ножках за 8 часов пробежала 72 км. С какой скоростью бежала избушка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к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км/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ван- царевич шёл нехожеными тропинками 6 часов со скоростью 6 км ч. Какова длина пройденных тропинок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 к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км/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Rectangle 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743200" y="1371600"/>
          <a:ext cx="4530600" cy="3513240"/>
        </p:xfrm>
        <a:graphic>
          <a:graphicData uri="http://schemas.openxmlformats.org/drawingml/2006/table">
            <a:tbl>
              <a:tblPr/>
              <a:tblGrid>
                <a:gridCol w="2359080"/>
                <a:gridCol w="723960"/>
                <a:gridCol w="723960"/>
                <a:gridCol w="723600"/>
              </a:tblGrid>
              <a:tr h="1549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уровен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ч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тоя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2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.  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Ковёр-самолёт летит со скоростью 200 км ч. Какое расстояние он пролетит за </a:t>
                      </a:r>
                      <a:r>
                        <a:rPr b="1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часов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к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км/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тупа Бабы-Яги  пролетела </a:t>
                      </a:r>
                      <a:r>
                        <a:rPr b="1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20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км за 4 часа. Какова скорость ступы Бабы- Яги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0к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км/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Rectangle 3"/>
          <p:cNvSpPr/>
          <p:nvPr/>
        </p:nvSpPr>
        <p:spPr>
          <a:xfrm>
            <a:off x="1800" y="92520"/>
            <a:ext cx="1807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981080" y="2895480"/>
          <a:ext cx="4530960" cy="3435480"/>
        </p:xfrm>
        <a:graphic>
          <a:graphicData uri="http://schemas.openxmlformats.org/drawingml/2006/table">
            <a:tbl>
              <a:tblPr/>
              <a:tblGrid>
                <a:gridCol w="2359080"/>
                <a:gridCol w="723960"/>
                <a:gridCol w="723960"/>
                <a:gridCol w="723960"/>
              </a:tblGrid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уров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ч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тоя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1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Баба- Яга на метле пролетела 2 часа со скоростью </a:t>
                      </a:r>
                      <a:r>
                        <a:rPr b="1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0 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км ч. Ей осталось пролететь до своей избушки 12 км. Каков весь путь Бабы- Яги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км + 12км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к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км/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3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Водяному нужно проплыть </a:t>
                      </a:r>
                      <a:r>
                        <a:rPr b="1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00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м. Он плывёт уже 10 минут со скоростью </a:t>
                      </a:r>
                      <a:r>
                        <a:rPr b="1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0 м/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мин. Сколько метров ему осталось проплыть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-(10*20)=300 к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м/м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м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Rectangle 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4" descr="7803_1"/>
          <p:cNvPicPr/>
          <p:nvPr/>
        </p:nvPicPr>
        <p:blipFill>
          <a:blip r:embed="rId1"/>
          <a:stretch/>
        </p:blipFill>
        <p:spPr>
          <a:xfrm>
            <a:off x="7380360" y="189000"/>
            <a:ext cx="237636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47631big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-973080" y="4076640"/>
            <a:ext cx="2520720" cy="1690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motor_max_250_0025"/>
          <p:cNvPicPr/>
          <p:nvPr/>
        </p:nvPicPr>
        <p:blipFill>
          <a:blip r:embed="rId3">
            <a:lum bright="-12000"/>
          </a:blip>
          <a:srcRect l="0" t="29219" r="0" b="27344"/>
          <a:stretch/>
        </p:blipFill>
        <p:spPr>
          <a:xfrm rot="375600">
            <a:off x="5148000" y="4508640"/>
            <a:ext cx="3809880" cy="1655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ZP3199"/>
          <p:cNvPicPr/>
          <p:nvPr/>
        </p:nvPicPr>
        <p:blipFill>
          <a:blip r:embed="rId4"/>
          <a:stretch/>
        </p:blipFill>
        <p:spPr>
          <a:xfrm>
            <a:off x="324000" y="260280"/>
            <a:ext cx="2665440" cy="1998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ZP3299"/>
          <p:cNvPicPr/>
          <p:nvPr/>
        </p:nvPicPr>
        <p:blipFill>
          <a:blip r:embed="rId5"/>
          <a:stretch/>
        </p:blipFill>
        <p:spPr>
          <a:xfrm>
            <a:off x="-684360" y="1700280"/>
            <a:ext cx="2922840" cy="242712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9"/>
          <p:cNvSpPr/>
          <p:nvPr/>
        </p:nvSpPr>
        <p:spPr>
          <a:xfrm>
            <a:off x="3780000" y="692280"/>
            <a:ext cx="1152360" cy="31683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10"/>
          <p:cNvSpPr/>
          <p:nvPr/>
        </p:nvSpPr>
        <p:spPr>
          <a:xfrm>
            <a:off x="4284720" y="3860640"/>
            <a:ext cx="142920" cy="5050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Oval 11"/>
          <p:cNvSpPr/>
          <p:nvPr/>
        </p:nvSpPr>
        <p:spPr>
          <a:xfrm>
            <a:off x="3851280" y="765000"/>
            <a:ext cx="1008000" cy="100836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6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Oval 12"/>
          <p:cNvSpPr/>
          <p:nvPr/>
        </p:nvSpPr>
        <p:spPr>
          <a:xfrm>
            <a:off x="3851280" y="1773360"/>
            <a:ext cx="1008000" cy="1008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val 13"/>
          <p:cNvSpPr/>
          <p:nvPr/>
        </p:nvSpPr>
        <p:spPr>
          <a:xfrm>
            <a:off x="3851280" y="2781360"/>
            <a:ext cx="1008000" cy="100800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14" descr=""/>
          <p:cNvPicPr/>
          <p:nvPr/>
        </p:nvPicPr>
        <p:blipFill>
          <a:blip r:embed="rId6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1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07407E-006 L 1.09462 0.66157 E">
                                      <p:cBhvr>
                                        <p:cTn id="57" dur="5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625 0.06852 L -1.00364 0.0581 E">
                                      <p:cBhvr>
                                        <p:cTn id="63" dur="3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80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1667 -0.02129 L -1.08264 0.26227 E">
                                      <p:cBhvr>
                                        <p:cTn id="69" dur="5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3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7000"/>
                            </p:stCondLst>
                            <p:childTnLst>
                              <p:par>
                                <p:cTn id="84" nodeType="after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8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75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500"/>
                            </p:stCondLst>
                            <p:childTnLst>
                              <p:par>
                                <p:cTn id="97" nodeType="after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9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0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1000"/>
                            </p:stCondLst>
                            <p:childTnLst>
                              <p:par>
                                <p:cTn id="103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40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1493 0.09629 L 1.30503 0.24329 E">
                                      <p:cBhvr>
                                        <p:cTn id="111" dur="5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90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431 -0.00069 L 1.48837 0.02107 E">
                                      <p:cBhvr>
                                        <p:cTn id="117" dur="5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C:\Users\Home\Pictures\2013-10-23 заяц\заяц 001.bmp"/>
          <p:cNvPicPr/>
          <p:nvPr/>
        </p:nvPicPr>
        <p:blipFill>
          <a:blip r:embed="rId1"/>
          <a:stretch/>
        </p:blipFill>
        <p:spPr>
          <a:xfrm>
            <a:off x="2133720" y="228600"/>
            <a:ext cx="4876560" cy="5181480"/>
          </a:xfrm>
          <a:prstGeom prst="rect">
            <a:avLst/>
          </a:prstGeom>
          <a:ln w="0">
            <a:noFill/>
          </a:ln>
        </p:spPr>
      </p:pic>
      <p:sp>
        <p:nvSpPr>
          <p:cNvPr id="74" name="TextBox 2"/>
          <p:cNvSpPr/>
          <p:nvPr/>
        </p:nvSpPr>
        <p:spPr>
          <a:xfrm>
            <a:off x="2233440" y="5715000"/>
            <a:ext cx="462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мотрим справа-налево  – 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мотрим слева-направо  - …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1"/>
          <p:cNvSpPr/>
          <p:nvPr/>
        </p:nvSpPr>
        <p:spPr>
          <a:xfrm>
            <a:off x="1406520" y="1371600"/>
            <a:ext cx="6531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6*90=540 (км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4* 80=320 (км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540+320=860 (км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Ответ: 860 км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2"/>
          <p:cNvSpPr/>
          <p:nvPr/>
        </p:nvSpPr>
        <p:spPr>
          <a:xfrm>
            <a:off x="3747960" y="685800"/>
            <a:ext cx="294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Проверь себ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military_clipart_navy_jet"/>
          <p:cNvPicPr/>
          <p:nvPr/>
        </p:nvPicPr>
        <p:blipFill>
          <a:blip r:embed="rId1"/>
          <a:stretch/>
        </p:blipFill>
        <p:spPr>
          <a:xfrm>
            <a:off x="457200" y="1523880"/>
            <a:ext cx="1905120" cy="952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3" descr="aluno03"/>
          <p:cNvPicPr/>
          <p:nvPr/>
        </p:nvPicPr>
        <p:blipFill>
          <a:blip r:embed="rId2"/>
          <a:stretch/>
        </p:blipFill>
        <p:spPr>
          <a:xfrm flipH="1" rot="21187200">
            <a:off x="6876720" y="4319640"/>
            <a:ext cx="961920" cy="165564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4122720" y="1143000"/>
            <a:ext cx="12398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1-В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2-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3-Б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4-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оугольник 5"/>
          <p:cNvSpPr/>
          <p:nvPr/>
        </p:nvSpPr>
        <p:spPr>
          <a:xfrm>
            <a:off x="3519360" y="533520"/>
            <a:ext cx="294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Проверь себ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25 0.00416 C 0.07604 0.00554 0.14861 0.00878 0.22639 0.01063 C 0.29202 0.02774 0.42865 0.01294 0.44861 0.01271 C 0.46719 0.00462 0.46632 0.00624 0.49306 0.00624 E">
                                      <p:cBhvr>
                                        <p:cTn id="123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25434E-006 C -0.0052 -0.00232 -0.01059 -0.00394 -0.01579 -0.00625 C -0.01736 -0.00763 -0.01875 -0.00948 -0.02048 -0.01064 C -0.02361 -0.01249 -0.03003 -0.0148 -0.03003 -0.0148 C -0.11753 -0.01272 -0.09461 -0.01735 -0.13802 -0.00833 C -0.15173 0.00046 -0.13611 -0.00856 -0.15555 -0.00209 C -0.1618 2.25434000000009E-006 -0.1684 0.0067 -0.17447 0.00855 C -0.17968 0.01017 -0.18507 0.00994 -0.19045 0.01063 C -0.19652 0.01271 -0.20173 0.01711 -0.20781 0.01895 C -0.21701 0.02173 -0.22552 0.02381 -0.23489 0.02543 C -0.28663 0.04809 -0.24114 0.02959 -0.37777 0.02751 C -0.396 0.01526 -0.37812 0.02589 -0.3967 0.01895 C -0.40468 0.01595 -0.41128 0.00994 -0.41892 0.00647 C -0.42326 0.00069 -0.4276 0.00046 -0.43333 -0.00209 C -0.44027 -0.00833 -0.44652 -0.01018 -0.45382 -0.01688 C -0.45607 -0.01896 -0.4592 -0.01781 -0.4618 -0.01896 C -0.46614 -0.02081 -0.47066 -0.0222 -0.47447 -0.02544 C -0.47934 -0.0296 -0.4901 -0.03769 -0.49513 -0.04024 C -0.50382 -0.04463 -0.5151 -0.04486 -0.52378 -0.04856 C -0.52847 -0.05064 -0.53298 -0.05457 -0.53802 -0.05503 C -0.54704 -0.05573 -0.5559 -0.05503 -0.56493 -0.05503 E">
                                      <p:cBhvr>
                                        <p:cTn id="129" dur="3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0"/>
                            </p:stCondLst>
                            <p:childTnLst>
                              <p:par>
                                <p:cTn id="13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Овал 1"/>
          <p:cNvSpPr/>
          <p:nvPr/>
        </p:nvSpPr>
        <p:spPr>
          <a:xfrm>
            <a:off x="762120" y="838080"/>
            <a:ext cx="914400" cy="914400"/>
          </a:xfrm>
          <a:prstGeom prst="ellipse">
            <a:avLst/>
          </a:prstGeom>
          <a:solidFill>
            <a:srgbClr val="ff0000"/>
          </a:solidFill>
          <a:ln cap="rnd"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Овал 2"/>
          <p:cNvSpPr/>
          <p:nvPr/>
        </p:nvSpPr>
        <p:spPr>
          <a:xfrm>
            <a:off x="762120" y="2895480"/>
            <a:ext cx="914400" cy="914400"/>
          </a:xfrm>
          <a:prstGeom prst="ellipse">
            <a:avLst/>
          </a:prstGeom>
          <a:solidFill>
            <a:srgbClr val="ffff00"/>
          </a:solidFill>
          <a:ln cap="rnd"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Овал 3"/>
          <p:cNvSpPr/>
          <p:nvPr/>
        </p:nvSpPr>
        <p:spPr>
          <a:xfrm>
            <a:off x="838080" y="5029200"/>
            <a:ext cx="914400" cy="914400"/>
          </a:xfrm>
          <a:prstGeom prst="ellipse">
            <a:avLst/>
          </a:prstGeom>
          <a:solidFill>
            <a:srgbClr val="00b050"/>
          </a:solidFill>
          <a:ln cap="rnd"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оугольник 4"/>
          <p:cNvSpPr/>
          <p:nvPr/>
        </p:nvSpPr>
        <p:spPr>
          <a:xfrm>
            <a:off x="2362320" y="49528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рок прошел удачно: я участвовал в работе класса, с заданиями справился успешно. Я очень доволен собо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рямоугольник 5"/>
          <p:cNvSpPr/>
          <p:nvPr/>
        </p:nvSpPr>
        <p:spPr>
          <a:xfrm>
            <a:off x="2286000" y="29718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егодня на уроке не все задания оказались легкими. Мне было трудно, но я справился. Я доволен собой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ямоугольник 8"/>
          <p:cNvSpPr/>
          <p:nvPr/>
        </p:nvSpPr>
        <p:spPr>
          <a:xfrm>
            <a:off x="2286000" y="9144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дания на уроке оказались трудными. Мне нужна помощь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2T16:40:32Z</dcterms:created>
  <dc:creator>Home</dc:creator>
  <dc:description/>
  <dc:language>en-US</dc:language>
  <cp:lastModifiedBy>Азат</cp:lastModifiedBy>
  <dcterms:modified xsi:type="dcterms:W3CDTF">2013-11-05T06:08:43Z</dcterms:modified>
  <cp:revision>38</cp:revision>
  <dc:subject/>
  <dc:title>МКОУ «Малобичинская СОШ»</dc:title>
</cp:coreProperties>
</file>