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ADB-49C2-4F9D-AD42-B71DD4E8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FE5-4379-40E5-A91E-6C6CE43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3C7-9245-4A53-A55A-E59AAE6B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579-14A4-48E3-99C3-A00EDA7B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87E-D88B-4315-A23E-35E25970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949-77DB-4B8F-A349-166AB01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D16-C48A-4B61-85C9-6808286D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4D4-8172-4246-8A3B-B05232C1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404-EA98-4F74-B0A4-16B217C5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00D-63DE-46D9-8F6E-0B6D626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5BA-DACA-40F5-90A8-061763B7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C9E-8145-45B6-9F70-B7C78DB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4A41-8A32-45EF-8E97-5E543A34D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КОУ «Малобичинская СОШ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ение задач на движени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Segoe Print"/>
              </a:rPr>
              <a:t>Подготовила 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Segoe Print"/>
              </a:rPr>
              <a:t>Алимбаева Ляля Тухта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transportation_clipart_truck"/>
          <p:cNvPicPr/>
          <p:nvPr/>
        </p:nvPicPr>
        <p:blipFill>
          <a:blip r:embed="rId1"/>
          <a:stretch/>
        </p:blipFill>
        <p:spPr>
          <a:xfrm>
            <a:off x="625320" y="5402160"/>
            <a:ext cx="1435320" cy="7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Елена\Local Settings\Temporary Internet Files\Content.IE5\49UZ8XYF\MPj04010800000[1].jpg"/>
          <p:cNvPicPr/>
          <p:nvPr/>
        </p:nvPicPr>
        <p:blipFill>
          <a:blip r:embed="rId2"/>
          <a:stretch/>
        </p:blipFill>
        <p:spPr>
          <a:xfrm>
            <a:off x="6858000" y="1447920"/>
            <a:ext cx="21812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Елена\Local Settings\Temporary Internet Files\Content.IE5\49UZ8XYF\MPj02012960000[1].jpg"/>
          <p:cNvPicPr/>
          <p:nvPr/>
        </p:nvPicPr>
        <p:blipFill>
          <a:blip r:embed="rId3"/>
          <a:stretch/>
        </p:blipFill>
        <p:spPr>
          <a:xfrm>
            <a:off x="609480" y="1523880"/>
            <a:ext cx="21481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0000005596-preview.jpg"/>
          <p:cNvPicPr/>
          <p:nvPr/>
        </p:nvPicPr>
        <p:blipFill>
          <a:blip r:embed="rId4"/>
          <a:stretch/>
        </p:blipFill>
        <p:spPr>
          <a:xfrm>
            <a:off x="6477120" y="4876920"/>
            <a:ext cx="2334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447920" y="12193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7" descr="девочка1"/>
          <p:cNvPicPr/>
          <p:nvPr/>
        </p:nvPicPr>
        <p:blipFill>
          <a:blip r:embed="rId1"/>
          <a:stretch/>
        </p:blipFill>
        <p:spPr>
          <a:xfrm>
            <a:off x="609480" y="2513160"/>
            <a:ext cx="1981440" cy="282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2" descr="мальчик"/>
          <p:cNvPicPr/>
          <p:nvPr/>
        </p:nvPicPr>
        <p:blipFill>
          <a:blip r:embed="rId2"/>
          <a:stretch/>
        </p:blipFill>
        <p:spPr>
          <a:xfrm>
            <a:off x="7391520" y="4191120"/>
            <a:ext cx="14065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7" descr="девочка1"/>
          <p:cNvPicPr/>
          <p:nvPr/>
        </p:nvPicPr>
        <p:blipFill>
          <a:blip r:embed="rId1"/>
          <a:stretch/>
        </p:blipFill>
        <p:spPr>
          <a:xfrm>
            <a:off x="609480" y="1752480"/>
            <a:ext cx="2514600" cy="358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мальчик2"/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http://im0-tub-ru.yandex.net/i?id=412377271-64-72&amp;n=21"/>
          <p:cNvPicPr/>
          <p:nvPr/>
        </p:nvPicPr>
        <p:blipFill>
          <a:blip r:embed="rId3"/>
          <a:stretch/>
        </p:blipFill>
        <p:spPr>
          <a:xfrm>
            <a:off x="3581280" y="6094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52280" y="99324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, км, км/с, дм, км/ч, см, мм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762120" y="2362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, см, м, дм, м, к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375640" y="358128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м/с, км/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87840" y="4724280"/>
            <a:ext cx="29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,60мин, 60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2120" y="380880"/>
          <a:ext cx="4530600" cy="2698920"/>
        </p:xfrm>
        <a:graphic>
          <a:graphicData uri="http://schemas.openxmlformats.org/drawingml/2006/table">
            <a:tbl>
              <a:tblPr/>
              <a:tblGrid>
                <a:gridCol w="2359080"/>
                <a:gridCol w="723600"/>
                <a:gridCol w="727200"/>
                <a:gridCol w="72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бушка на курьих ножках за 8 часов пробежала 72 км. С какой скоростью бежала избуш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ван- царевич шёл нехожеными тропинками 6 часов со скоростью 6 км ч. Какова длина пройденных тропинок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43200" y="1371600"/>
          <a:ext cx="4530600" cy="3513240"/>
        </p:xfrm>
        <a:graphic>
          <a:graphicData uri="http://schemas.openxmlformats.org/drawingml/2006/table">
            <a:tbl>
              <a:tblPr/>
              <a:tblGrid>
                <a:gridCol w="2359080"/>
                <a:gridCol w="723960"/>
                <a:gridCol w="723960"/>
                <a:gridCol w="723600"/>
              </a:tblGrid>
              <a:tr h="15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  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вёр-самолёт летит со скоростью 200 км ч. Какое расстояние он пролетит за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асов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упа Бабы-Яги  пролетела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км за 4 часа. Какова скорость ступы Бабы- Яг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3"/>
          <p:cNvSpPr/>
          <p:nvPr/>
        </p:nvSpPr>
        <p:spPr>
          <a:xfrm>
            <a:off x="1800" y="925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2895480"/>
          <a:ext cx="4530960" cy="3435480"/>
        </p:xfrm>
        <a:graphic>
          <a:graphicData uri="http://schemas.openxmlformats.org/drawingml/2006/table">
            <a:tbl>
              <a:tblPr/>
              <a:tblGrid>
                <a:gridCol w="2359080"/>
                <a:gridCol w="723960"/>
                <a:gridCol w="723960"/>
                <a:gridCol w="7239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Баба- Яга на метле пролетела 2 часа со скоростью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 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м ч. Ей осталось пролететь до своей избушки 12 км. Каков весь путь Бабы- Яг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км + 12км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одяному нужно проплыть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. Он плывёт уже 10 минут со скоростью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 м/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мин. Сколько метров ему осталось проплы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(10*20)=30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м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57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6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69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11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17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Home\Pictures\2013-10-23 заяц\заяц 001.bmp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5181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233440" y="5715000"/>
            <a:ext cx="46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м справа-налево  –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м слева-направо  - 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406520" y="1371600"/>
            <a:ext cx="653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*90=540 (км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* 80=320 (км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40+320=860 (км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твет: 860 к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747960" y="6858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оверь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ilitary_clipart_navy_jet"/>
          <p:cNvPicPr/>
          <p:nvPr/>
        </p:nvPicPr>
        <p:blipFill>
          <a:blip r:embed="rId1"/>
          <a:stretch/>
        </p:blipFill>
        <p:spPr>
          <a:xfrm>
            <a:off x="457200" y="15238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3" descr="aluno03"/>
          <p:cNvPicPr/>
          <p:nvPr/>
        </p:nvPicPr>
        <p:blipFill>
          <a:blip r:embed="rId2"/>
          <a:stretch/>
        </p:blipFill>
        <p:spPr>
          <a:xfrm flipH="1" rot="21187200">
            <a:off x="6876720" y="4319640"/>
            <a:ext cx="961920" cy="1655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122720" y="1143000"/>
            <a:ext cx="123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-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-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-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-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519360" y="5335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оверь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416 C 0.07604 0.00554 0.14861 0.00878 0.22639 0.01063 C 0.29202 0.02774 0.42865 0.01294 0.44861 0.01271 C 0.46719 0.00462 0.46632 0.00624 0.49306 0.00624 E">
                                      <p:cBhvr>
                                        <p:cTn id="12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5434E-006 C -0.0052 -0.00232 -0.01059 -0.00394 -0.01579 -0.00625 C -0.01736 -0.00763 -0.01875 -0.00948 -0.02048 -0.01064 C -0.02361 -0.01249 -0.03003 -0.0148 -0.03003 -0.0148 C -0.11753 -0.01272 -0.09461 -0.01735 -0.13802 -0.00833 C -0.15173 0.00046 -0.13611 -0.00856 -0.15555 -0.00209 C -0.1618 2.25434000000009E-006 -0.1684 0.0067 -0.17447 0.00855 C -0.17968 0.01017 -0.18507 0.00994 -0.19045 0.01063 C -0.19652 0.01271 -0.20173 0.01711 -0.20781 0.01895 C -0.21701 0.02173 -0.22552 0.02381 -0.23489 0.02543 C -0.28663 0.04809 -0.24114 0.02959 -0.37777 0.02751 C -0.396 0.01526 -0.37812 0.02589 -0.3967 0.01895 C -0.40468 0.01595 -0.41128 0.00994 -0.41892 0.00647 C -0.42326 0.00069 -0.4276 0.00046 -0.43333 -0.00209 C -0.44027 -0.00833 -0.44652 -0.01018 -0.45382 -0.01688 C -0.45607 -0.01896 -0.4592 -0.01781 -0.4618 -0.01896 C -0.46614 -0.02081 -0.47066 -0.0222 -0.47447 -0.02544 C -0.47934 -0.0296 -0.4901 -0.03769 -0.49513 -0.04024 C -0.50382 -0.04463 -0.5151 -0.04486 -0.52378 -0.04856 C -0.52847 -0.05064 -0.53298 -0.05457 -0.53802 -0.05503 C -0.54704 -0.05573 -0.5559 -0.05503 -0.56493 -0.05503 E">
                                      <p:cBhvr>
                                        <p:cTn id="129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1"/>
          <p:cNvSpPr/>
          <p:nvPr/>
        </p:nvSpPr>
        <p:spPr>
          <a:xfrm>
            <a:off x="762120" y="838080"/>
            <a:ext cx="914400" cy="914400"/>
          </a:xfrm>
          <a:prstGeom prst="ellipse">
            <a:avLst/>
          </a:prstGeom>
          <a:solidFill>
            <a:srgbClr val="ff0000"/>
          </a:solidFill>
          <a:ln cap="rnd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2"/>
          <p:cNvSpPr/>
          <p:nvPr/>
        </p:nvSpPr>
        <p:spPr>
          <a:xfrm>
            <a:off x="762120" y="2895480"/>
            <a:ext cx="914400" cy="9144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3"/>
          <p:cNvSpPr/>
          <p:nvPr/>
        </p:nvSpPr>
        <p:spPr>
          <a:xfrm>
            <a:off x="838080" y="5029200"/>
            <a:ext cx="914400" cy="91440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2362320" y="4952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рошел удачно: я участвовал в работе класса, с заданиями справился успешно. Я очень доволен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286000" y="2971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на уроке не все задания оказались легкими. Мне было трудно, но я справился. Я доволен с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2860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я на уроке оказались трудными. Мне нужна помощ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6:40:32Z</dcterms:created>
  <dc:creator>Home</dc:creator>
  <dc:description/>
  <dc:language>en-US</dc:language>
  <cp:lastModifiedBy>Азат</cp:lastModifiedBy>
  <dcterms:modified xsi:type="dcterms:W3CDTF">2013-11-05T06:08:43Z</dcterms:modified>
  <cp:revision>38</cp:revision>
  <dc:subject/>
  <dc:title>МКОУ «Малобичинская СОШ»</dc:title>
</cp:coreProperties>
</file>