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1.gif" ContentType="image/gif"/>
  <Override PartName="/ppt/media/image10.jpeg" ContentType="image/jpeg"/>
  <Override PartName="/ppt/media/image25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6.gif" ContentType="image/gif"/>
  <Override PartName="/ppt/media/image23.png" ContentType="image/png"/>
  <Override PartName="/ppt/media/image18.jpeg" ContentType="image/jpeg"/>
  <Override PartName="/ppt/media/image22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2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073-1F2E-4AAC-BBB5-8BEADA8E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8BB-BDDD-456C-919F-61DFC73B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D90-3312-4038-960C-7EEDD05D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693-8E50-43B9-B566-A47B84E1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AF84-374C-4603-8780-C3087E47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2B70-E435-45F8-93DE-F3AA2DF6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E24E-5641-4154-8255-2FBB084B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6C9C-2794-4DF8-8BAB-6635D93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4053-256E-43C3-A21A-9A18CB32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910C-0980-42AB-A6CB-50C063EF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1891-48DF-43E9-954E-B89AC8C2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AE0-39F1-42D4-986F-D9651126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E25D-9157-44BE-9DB2-5E3629EA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1CAE-1778-440E-A31C-1EAEDCE8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7F59-0209-4D73-AC5B-3A08BAB0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840B-3CB1-4A07-BDFB-9387A163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4A97-7317-4163-8E25-FBF58F55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DC4A-8DB7-4C50-A77B-C648520D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1A07-B173-47C7-8149-FF2C0AC5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41EB-1D30-46AB-B01C-13843CA8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1D5C-D62C-46B9-84C3-475476D1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40E1-C597-458E-BE00-15E5AFEC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47C-B9BD-436B-899F-84577BEF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D5D4-D277-4355-BFA3-D3A3A9A5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694A-1FF9-46E4-85D4-C198F7F3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2345-4E49-4B97-A0F8-13C3CBD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DB2D-5696-481F-B1DA-0174FEAF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FCE5-77F4-4FF6-AF8D-BCCF4B85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F98B-0AF6-49CA-9F1F-C1CA063E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0A95-AB3E-498A-B94C-D4622BDC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99E4-FECF-4D0A-AE82-727C9EAC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2186-AA2A-4E39-9336-29352AC2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D047-4B61-4ED7-A271-78BF2E82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180-0028-481F-8EF3-7D229CAB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1903-6169-4477-9474-C0209540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32E5-63B7-4996-AA15-A53F0D4E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ACAB-CF87-4E51-9E17-38666EE0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34B7-BC97-41A1-9131-DDDADADA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96D7-93ED-459B-95F3-2CDD69CC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F90BE-FF03-4545-946F-18F520A6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0A8A-D357-4343-A1D8-0D2AAB77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9707-1AA5-480F-AC41-2E3446B0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EFABC-0C74-4FDB-A7DD-A0591FB9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6FF2B-074D-4673-8175-4E4D6392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0C8-E845-430D-A885-FF8EB564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5510A-E132-46DE-9AB0-7F2A24D8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5DB38-2CC0-4372-B8BE-F9226439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458CC-E1F5-496E-8B9C-51BD588A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BF464-31A7-4A14-B495-734A40B9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75FDE-838A-4BFF-98BD-AC2D1997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9AB8E-5735-4F67-8C12-42777024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B362-B571-497B-89B5-606F350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9160F-4FBF-417D-889F-C35C8322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B8F99-7163-44D6-BD25-544DB17F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B3949-D2F3-47B6-922B-5E0C7BC1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7C2-AE0D-4A06-919F-AD6C3DC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06E1F-8B45-4B2F-A41F-7CBC05F4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5EE9D-5D72-46A8-ABE0-E742AB48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DC5BB-ADE2-46F1-B448-3075BBA6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25582-B265-418A-B656-5A696DEE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61A18-F1BD-41C3-B062-77F62070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B37A-3B09-4D5E-8584-31D7B6EA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95EA5-CFDE-4F5B-88AA-FAA64F43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EA7CA-7EDD-47C2-AF2A-8E03CDF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4DC48-4B81-4CB7-8426-6D1D282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13D0-AEC5-49D7-8D8E-E598383E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9ED-DA21-4F4C-9C39-F77A373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60442-DEDC-4A0B-B8F6-175DB2BA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C9B2B-7181-4BCE-BC72-3E069D42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AD2A9-A8C1-43CF-BA3D-BCD7F0ED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8541A-A4A2-498F-BE30-D49B2F5F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A6258-A9F2-41A0-985F-E0CBF23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6D6E3-F5B7-4053-AF50-C64F9374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999A1-DD1A-4AA8-9162-1D5A190C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BC3A4-48BC-4F61-857C-FAB49BDF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D938E-C344-4D78-A1E0-C575A198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7E590-C1CD-4503-B538-E7CF65DE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D97-E694-49E7-813D-304FE9FF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A9104-2947-4A40-910F-D5BDCFAC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56E86-E5B4-4ABB-97AE-7495E727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8E9F8-7F48-466A-A65B-88450FBD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484C0-911E-46D0-9FAE-3E05D9E7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D40BC-A60B-488A-A9B8-AA85D26C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05D1F-DA26-4FC1-AB5B-41391685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DAAC5-09A8-4279-B2BB-53750545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7865B-76C2-4655-9A23-AC88508B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594D4-797F-43D5-8D5A-3ECE3FD7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58CBC-4FC0-401D-B027-5E396E6E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ABA-AAA7-4133-B3CB-5F6A148D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5C055-C820-40AA-B01B-308FEC0A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ECFB1-F8F7-48F5-A2B2-1953FE95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59C4B-7DE2-46B7-9A0C-B7F2E736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C9DBC-4C74-4D25-AA9D-F9C34C7D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49FD6-80C8-49D3-81A9-C89CCD91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89A2C-F4A6-4096-B5D8-25DEDCB3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C5A1C-277B-4FD3-9ED1-C87EDFB0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5B64-122E-4567-8FFE-3B2CC4633A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9347-1EB1-42DE-A858-A5751AA820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509A-5A6A-4D8B-BA6A-73490C061C0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1E5F-02E8-4FC8-B40F-0D091D0E184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6107-147E-4FB2-8208-501CAA155F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1056-05F6-4FF1-B17A-13A7EA3D34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158E-E576-484D-890A-FBA91239AE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E4F4-0ADD-4101-8F18-ED9D9D4A4A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" Target="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" Target="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3.gif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1491b"/>
                </a:solidFill>
                <a:latin typeface="Arial"/>
              </a:rPr>
              <a:t>Урок математики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6215040" y="56577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айная И.Н. учитель начальных клас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СОШ №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1"/>
          <p:cNvSpPr/>
          <p:nvPr/>
        </p:nvSpPr>
        <p:spPr>
          <a:xfrm>
            <a:off x="428760" y="571680"/>
            <a:ext cx="53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- 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"/>
          <p:cNvSpPr/>
          <p:nvPr/>
        </p:nvSpPr>
        <p:spPr>
          <a:xfrm>
            <a:off x="785880" y="14288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Verdana"/>
              </a:rPr>
              <a:t>V</a:t>
            </a:r>
            <a:r>
              <a:rPr b="1" lang="ru-RU" sz="4000" spc="-1" strike="noStrike">
                <a:solidFill>
                  <a:srgbClr val="ffc000"/>
                </a:solidFill>
                <a:latin typeface="Verdana"/>
              </a:rPr>
              <a:t>- 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000160" y="228600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</a:rPr>
              <a:t>t</a:t>
            </a:r>
            <a:r>
              <a:rPr b="1" lang="ru-RU" sz="4000" spc="-1" strike="noStrike">
                <a:solidFill>
                  <a:srgbClr val="00b050"/>
                </a:solidFill>
                <a:latin typeface="Verdana"/>
              </a:rPr>
              <a:t>-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4"/>
          <p:cNvSpPr/>
          <p:nvPr/>
        </p:nvSpPr>
        <p:spPr>
          <a:xfrm>
            <a:off x="428760" y="3357720"/>
            <a:ext cx="37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S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V 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4400" spc="-1" strike="noStrike">
                <a:solidFill>
                  <a:srgbClr val="00b050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2643120" y="442908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Verdana"/>
              </a:rPr>
              <a:t>V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Verdan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6"/>
          <p:cNvSpPr/>
          <p:nvPr/>
        </p:nvSpPr>
        <p:spPr>
          <a:xfrm>
            <a:off x="4286160" y="542916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S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c000"/>
                </a:solidFill>
                <a:latin typeface="Verdana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C:\Documents and Settings\Пользователь\Рабочий стол\Мои рисунки\АНИМАЦИЯ4\ost122.gif"/>
          <p:cNvPicPr/>
          <p:nvPr/>
        </p:nvPicPr>
        <p:blipFill>
          <a:blip r:embed="rId1"/>
          <a:stretch/>
        </p:blipFill>
        <p:spPr>
          <a:xfrm>
            <a:off x="5572080" y="2252520"/>
            <a:ext cx="642960" cy="719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C:\Documents and Settings\Пользователь\Рабочий стол\Мои рисунки\анимация\02.gif"/>
          <p:cNvPicPr/>
          <p:nvPr/>
        </p:nvPicPr>
        <p:blipFill>
          <a:blip r:embed="rId2"/>
          <a:stretch/>
        </p:blipFill>
        <p:spPr>
          <a:xfrm>
            <a:off x="5421240" y="1357200"/>
            <a:ext cx="722520" cy="785880"/>
          </a:xfrm>
          <a:prstGeom prst="rect">
            <a:avLst/>
          </a:prstGeom>
          <a:ln w="0">
            <a:noFill/>
          </a:ln>
        </p:spPr>
      </p:pic>
      <p:sp>
        <p:nvSpPr>
          <p:cNvPr id="464" name="Двойная стрелка влево/вправо 9"/>
          <p:cNvSpPr/>
          <p:nvPr/>
        </p:nvSpPr>
        <p:spPr>
          <a:xfrm>
            <a:off x="6072120" y="642960"/>
            <a:ext cx="1714680" cy="50004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Управляющая кнопка: возврат 10">
            <a:hlinkClick r:id="rId3" action="ppaction://hlinksldjump"/>
          </p:cNvPr>
          <p:cNvSpPr/>
          <p:nvPr/>
        </p:nvSpPr>
        <p:spPr>
          <a:xfrm>
            <a:off x="7572240" y="5643720"/>
            <a:ext cx="1000440" cy="642960"/>
          </a:xfrm>
          <a:custGeom>
            <a:avLst/>
            <a:gdLst>
              <a:gd name="textAreaLeft" fmla="*/ 41400 w 1000440"/>
              <a:gd name="textAreaRight" fmla="*/ 959040 w 1000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603" h="21600">
                <a:moveTo>
                  <a:pt x="0" y="0"/>
                </a:moveTo>
                <a:lnTo>
                  <a:pt x="33603" y="0"/>
                </a:lnTo>
                <a:lnTo>
                  <a:pt x="33603" y="21600"/>
                </a:lnTo>
                <a:lnTo>
                  <a:pt x="0" y="21600"/>
                </a:lnTo>
                <a:close/>
              </a:path>
              <a:path fill="lightenLess" w="33603" h="21600">
                <a:moveTo>
                  <a:pt x="0" y="0"/>
                </a:moveTo>
                <a:lnTo>
                  <a:pt x="33603" y="0"/>
                </a:lnTo>
                <a:lnTo>
                  <a:pt x="32203" y="1400"/>
                </a:lnTo>
                <a:lnTo>
                  <a:pt x="1400" y="1400"/>
                </a:lnTo>
                <a:close/>
              </a:path>
              <a:path fill="darken" w="33603" h="21600">
                <a:moveTo>
                  <a:pt x="33603" y="0"/>
                </a:moveTo>
                <a:lnTo>
                  <a:pt x="33603" y="21600"/>
                </a:lnTo>
                <a:lnTo>
                  <a:pt x="32203" y="20200"/>
                </a:lnTo>
                <a:lnTo>
                  <a:pt x="32203" y="1400"/>
                </a:lnTo>
                <a:close/>
              </a:path>
              <a:path fill="darkenLess" w="33603" h="21600">
                <a:moveTo>
                  <a:pt x="33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3" y="20200"/>
                </a:lnTo>
                <a:close/>
              </a:path>
              <a:path fill="lighten" w="33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3" h="21600">
                <a:moveTo>
                  <a:pt x="9795" y="7493"/>
                </a:moveTo>
                <a:lnTo>
                  <a:pt x="13302" y="7493"/>
                </a:lnTo>
                <a:lnTo>
                  <a:pt x="13302" y="12828"/>
                </a:lnTo>
                <a:cubicBezTo>
                  <a:pt x="13302" y="13751"/>
                  <a:pt x="14103" y="14482"/>
                  <a:pt x="15139" y="14482"/>
                </a:cubicBezTo>
                <a:lnTo>
                  <a:pt x="16801" y="14482"/>
                </a:lnTo>
                <a:cubicBezTo>
                  <a:pt x="17837" y="14482"/>
                  <a:pt x="18638" y="13751"/>
                  <a:pt x="18638" y="12828"/>
                </a:cubicBezTo>
                <a:lnTo>
                  <a:pt x="18638" y="7493"/>
                </a:lnTo>
                <a:lnTo>
                  <a:pt x="16801" y="7493"/>
                </a:lnTo>
                <a:lnTo>
                  <a:pt x="20309" y="3985"/>
                </a:lnTo>
                <a:lnTo>
                  <a:pt x="23982" y="7493"/>
                </a:lnTo>
                <a:lnTo>
                  <a:pt x="22145" y="7493"/>
                </a:lnTo>
                <a:lnTo>
                  <a:pt x="22145" y="12828"/>
                </a:lnTo>
                <a:cubicBezTo>
                  <a:pt x="22145" y="15596"/>
                  <a:pt x="19569" y="18155"/>
                  <a:pt x="16801" y="18155"/>
                </a:cubicBezTo>
                <a:lnTo>
                  <a:pt x="15139" y="18155"/>
                </a:lnTo>
                <a:cubicBezTo>
                  <a:pt x="12371" y="18155"/>
                  <a:pt x="9795" y="15596"/>
                  <a:pt x="9795" y="12828"/>
                </a:cubicBez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Левая фигурная скобка 6"/>
          <p:cNvSpPr/>
          <p:nvPr/>
        </p:nvSpPr>
        <p:spPr>
          <a:xfrm rot="16200000">
            <a:off x="4464720" y="2464200"/>
            <a:ext cx="357120" cy="52866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5286600"/>
              <a:gd name="textAreaBottom" fmla="*/ 5277600 h 528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2"/>
                </a:cubicBezTo>
                <a:lnTo>
                  <a:pt x="10800" y="10678"/>
                </a:lnTo>
                <a:cubicBezTo>
                  <a:pt x="10800" y="10739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2"/>
                </a:cubicBezTo>
                <a:lnTo>
                  <a:pt x="10800" y="21478"/>
                </a:lnTo>
                <a:cubicBezTo>
                  <a:pt x="10800" y="21539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2"/>
          <p:cNvSpPr/>
          <p:nvPr/>
        </p:nvSpPr>
        <p:spPr>
          <a:xfrm>
            <a:off x="4357800" y="5572080"/>
            <a:ext cx="20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=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3"/>
          <p:cNvSpPr/>
          <p:nvPr/>
        </p:nvSpPr>
        <p:spPr>
          <a:xfrm>
            <a:off x="2500200" y="557208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?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5"/>
          <p:cNvSpPr/>
          <p:nvPr/>
        </p:nvSpPr>
        <p:spPr>
          <a:xfrm>
            <a:off x="357120" y="35712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- 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16"/>
          <p:cNvSpPr/>
          <p:nvPr/>
        </p:nvSpPr>
        <p:spPr>
          <a:xfrm>
            <a:off x="642960" y="1143000"/>
            <a:ext cx="39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S 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5400" spc="-1" strike="noStrike">
                <a:solidFill>
                  <a:srgbClr val="ffc000"/>
                </a:solidFill>
                <a:latin typeface="Verdana"/>
              </a:rPr>
              <a:t>V 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5400" spc="-1" strike="noStrike">
                <a:solidFill>
                  <a:srgbClr val="00b050"/>
                </a:solidFill>
                <a:latin typeface="Verdan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C:\Documents and Settings\Пользователь\Рабочий стол\Мои рисунки\АНИМАЦИЯ4\jiv1311.gif"/>
          <p:cNvPicPr/>
          <p:nvPr/>
        </p:nvPicPr>
        <p:blipFill>
          <a:blip r:embed="rId1"/>
          <a:stretch/>
        </p:blipFill>
        <p:spPr>
          <a:xfrm rot="171600">
            <a:off x="821880" y="3259080"/>
            <a:ext cx="1847880" cy="15289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ая соединительная линия 19"/>
          <p:cNvSpPr/>
          <p:nvPr/>
        </p:nvSpPr>
        <p:spPr>
          <a:xfrm>
            <a:off x="1928880" y="4857840"/>
            <a:ext cx="5357880" cy="1440"/>
          </a:xfrm>
          <a:prstGeom prst="line">
            <a:avLst/>
          </a:prstGeom>
          <a:ln w="73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ая соединительная линия 22"/>
          <p:cNvSpPr/>
          <p:nvPr/>
        </p:nvSpPr>
        <p:spPr>
          <a:xfrm flipH="1">
            <a:off x="4570560" y="4645080"/>
            <a:ext cx="288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ая соединительная линия 24"/>
          <p:cNvSpPr/>
          <p:nvPr/>
        </p:nvSpPr>
        <p:spPr>
          <a:xfrm flipH="1">
            <a:off x="1928880" y="471492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ая соединительная линия 26"/>
          <p:cNvSpPr/>
          <p:nvPr/>
        </p:nvSpPr>
        <p:spPr>
          <a:xfrm flipH="1">
            <a:off x="7286760" y="4716360"/>
            <a:ext cx="14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428616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10b"/>
                </a:solidFill>
                <a:latin typeface="Lucida Sans Unicode"/>
              </a:rPr>
              <a:t>2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8"/>
          <p:cNvSpPr/>
          <p:nvPr/>
        </p:nvSpPr>
        <p:spPr>
          <a:xfrm>
            <a:off x="6786720" y="257184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30км</a:t>
            </a:r>
            <a:r>
              <a:rPr b="1" lang="en-US" sz="3200" spc="-1" strike="noStrike">
                <a:solidFill>
                  <a:srgbClr val="78310b"/>
                </a:solidFill>
                <a:latin typeface="Lucida Sans Unicode"/>
              </a:rPr>
              <a:t>/</a:t>
            </a: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60834 0.00787 E">
                                      <p:cBhvr>
                                        <p:cTn id="262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Левая фигурная скобка 6"/>
          <p:cNvSpPr/>
          <p:nvPr/>
        </p:nvSpPr>
        <p:spPr>
          <a:xfrm rot="16200000">
            <a:off x="4464720" y="2464200"/>
            <a:ext cx="357120" cy="52866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5286600"/>
              <a:gd name="textAreaBottom" fmla="*/ 5277600 h 528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2"/>
                </a:cubicBezTo>
                <a:lnTo>
                  <a:pt x="10800" y="10678"/>
                </a:lnTo>
                <a:cubicBezTo>
                  <a:pt x="10800" y="10739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2"/>
                </a:cubicBezTo>
                <a:lnTo>
                  <a:pt x="10800" y="21478"/>
                </a:lnTo>
                <a:cubicBezTo>
                  <a:pt x="10800" y="21539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2"/>
          <p:cNvSpPr/>
          <p:nvPr/>
        </p:nvSpPr>
        <p:spPr>
          <a:xfrm>
            <a:off x="4357800" y="5572080"/>
            <a:ext cx="20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60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5"/>
          <p:cNvSpPr/>
          <p:nvPr/>
        </p:nvSpPr>
        <p:spPr>
          <a:xfrm>
            <a:off x="357120" y="357120"/>
            <a:ext cx="80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Обратная 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6"/>
          <p:cNvSpPr/>
          <p:nvPr/>
        </p:nvSpPr>
        <p:spPr>
          <a:xfrm>
            <a:off x="642960" y="1143000"/>
            <a:ext cx="39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Verdana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5400" spc="-1" strike="noStrike">
                <a:solidFill>
                  <a:srgbClr val="ffc000"/>
                </a:solidFill>
                <a:latin typeface="Verdana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" descr="C:\Documents and Settings\Пользователь\Рабочий стол\Мои рисунки\АНИМАЦИЯ4\jiv1311.gif"/>
          <p:cNvPicPr/>
          <p:nvPr/>
        </p:nvPicPr>
        <p:blipFill>
          <a:blip r:embed="rId1"/>
          <a:stretch/>
        </p:blipFill>
        <p:spPr>
          <a:xfrm rot="171600">
            <a:off x="821880" y="3259080"/>
            <a:ext cx="1847880" cy="152892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ая соединительная линия 19"/>
          <p:cNvSpPr/>
          <p:nvPr/>
        </p:nvSpPr>
        <p:spPr>
          <a:xfrm>
            <a:off x="1928880" y="4857840"/>
            <a:ext cx="5357880" cy="1440"/>
          </a:xfrm>
          <a:prstGeom prst="line">
            <a:avLst/>
          </a:prstGeom>
          <a:ln w="73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ая соединительная линия 22"/>
          <p:cNvSpPr/>
          <p:nvPr/>
        </p:nvSpPr>
        <p:spPr>
          <a:xfrm flipH="1">
            <a:off x="4570560" y="4645080"/>
            <a:ext cx="288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24"/>
          <p:cNvSpPr/>
          <p:nvPr/>
        </p:nvSpPr>
        <p:spPr>
          <a:xfrm flipH="1">
            <a:off x="1928880" y="471492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26"/>
          <p:cNvSpPr/>
          <p:nvPr/>
        </p:nvSpPr>
        <p:spPr>
          <a:xfrm flipH="1">
            <a:off x="7286760" y="4716360"/>
            <a:ext cx="14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7"/>
          <p:cNvSpPr/>
          <p:nvPr/>
        </p:nvSpPr>
        <p:spPr>
          <a:xfrm>
            <a:off x="428616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10b"/>
                </a:solidFill>
                <a:latin typeface="Lucida Sans Unicode"/>
              </a:rPr>
              <a:t>?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8"/>
          <p:cNvSpPr/>
          <p:nvPr/>
        </p:nvSpPr>
        <p:spPr>
          <a:xfrm>
            <a:off x="6786720" y="257184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30км</a:t>
            </a:r>
            <a:r>
              <a:rPr b="1" lang="en-US" sz="3200" spc="-1" strike="noStrike">
                <a:solidFill>
                  <a:srgbClr val="78310b"/>
                </a:solidFill>
                <a:latin typeface="Lucida Sans Unicode"/>
              </a:rPr>
              <a:t>/</a:t>
            </a: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60834 0.00787 E">
                                      <p:cBhvr>
                                        <p:cTn id="286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Левая фигурная скобка 6"/>
          <p:cNvSpPr/>
          <p:nvPr/>
        </p:nvSpPr>
        <p:spPr>
          <a:xfrm rot="16200000">
            <a:off x="4464720" y="2464200"/>
            <a:ext cx="357120" cy="52866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5286600"/>
              <a:gd name="textAreaBottom" fmla="*/ 5277600 h 528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2"/>
                </a:cubicBezTo>
                <a:lnTo>
                  <a:pt x="10800" y="10678"/>
                </a:lnTo>
                <a:cubicBezTo>
                  <a:pt x="10800" y="10739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2"/>
                </a:cubicBezTo>
                <a:lnTo>
                  <a:pt x="10800" y="21478"/>
                </a:lnTo>
                <a:cubicBezTo>
                  <a:pt x="10800" y="21539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2"/>
          <p:cNvSpPr/>
          <p:nvPr/>
        </p:nvSpPr>
        <p:spPr>
          <a:xfrm>
            <a:off x="4357800" y="5572080"/>
            <a:ext cx="20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60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15"/>
          <p:cNvSpPr/>
          <p:nvPr/>
        </p:nvSpPr>
        <p:spPr>
          <a:xfrm>
            <a:off x="357120" y="357120"/>
            <a:ext cx="80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Обратная 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16"/>
          <p:cNvSpPr/>
          <p:nvPr/>
        </p:nvSpPr>
        <p:spPr>
          <a:xfrm>
            <a:off x="642960" y="1143000"/>
            <a:ext cx="39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Verdana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5400" spc="-1" strike="noStrike">
                <a:solidFill>
                  <a:srgbClr val="00b050"/>
                </a:solidFill>
                <a:latin typeface="Verdan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C:\Documents and Settings\Пользователь\Рабочий стол\Мои рисунки\АНИМАЦИЯ4\jiv1311.gif"/>
          <p:cNvPicPr/>
          <p:nvPr/>
        </p:nvPicPr>
        <p:blipFill>
          <a:blip r:embed="rId1"/>
          <a:stretch/>
        </p:blipFill>
        <p:spPr>
          <a:xfrm rot="171600">
            <a:off x="821880" y="3259080"/>
            <a:ext cx="1847880" cy="1528920"/>
          </a:xfrm>
          <a:prstGeom prst="rect">
            <a:avLst/>
          </a:prstGeom>
          <a:ln w="0">
            <a:noFill/>
          </a:ln>
        </p:spPr>
      </p:pic>
      <p:sp>
        <p:nvSpPr>
          <p:cNvPr id="494" name="Прямая соединительная линия 19"/>
          <p:cNvSpPr/>
          <p:nvPr/>
        </p:nvSpPr>
        <p:spPr>
          <a:xfrm>
            <a:off x="1928880" y="4857840"/>
            <a:ext cx="5357880" cy="1440"/>
          </a:xfrm>
          <a:prstGeom prst="line">
            <a:avLst/>
          </a:prstGeom>
          <a:ln w="73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2"/>
          <p:cNvSpPr/>
          <p:nvPr/>
        </p:nvSpPr>
        <p:spPr>
          <a:xfrm flipH="1">
            <a:off x="4570560" y="4645080"/>
            <a:ext cx="288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24"/>
          <p:cNvSpPr/>
          <p:nvPr/>
        </p:nvSpPr>
        <p:spPr>
          <a:xfrm flipH="1">
            <a:off x="1928880" y="471492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26"/>
          <p:cNvSpPr/>
          <p:nvPr/>
        </p:nvSpPr>
        <p:spPr>
          <a:xfrm flipH="1">
            <a:off x="7286760" y="4716360"/>
            <a:ext cx="14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7"/>
          <p:cNvSpPr/>
          <p:nvPr/>
        </p:nvSpPr>
        <p:spPr>
          <a:xfrm>
            <a:off x="428616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10b"/>
                </a:solidFill>
                <a:latin typeface="Lucida Sans Unicode"/>
              </a:rPr>
              <a:t>2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28"/>
          <p:cNvSpPr/>
          <p:nvPr/>
        </p:nvSpPr>
        <p:spPr>
          <a:xfrm>
            <a:off x="6786720" y="257184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?км</a:t>
            </a:r>
            <a:r>
              <a:rPr b="1" lang="en-US" sz="3200" spc="-1" strike="noStrike">
                <a:solidFill>
                  <a:srgbClr val="78310b"/>
                </a:solidFill>
                <a:latin typeface="Lucida Sans Unicode"/>
              </a:rPr>
              <a:t>/</a:t>
            </a: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C:\Documents and Settings\Пользователь\Рабочий стол\Мои рисунки\7224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43920" y="214200"/>
            <a:ext cx="8413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60834 0.00787 E">
                                      <p:cBhvr>
                                        <p:cTn id="310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Прямоугольник 2" descr=""/>
          <p:cNvPicPr/>
          <p:nvPr/>
        </p:nvPicPr>
        <p:blipFill>
          <a:blip r:embed="rId1"/>
          <a:stretch/>
        </p:blipFill>
        <p:spPr>
          <a:xfrm>
            <a:off x="993600" y="146160"/>
            <a:ext cx="7216920" cy="1139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Пользователь\Рабочий стол\Мои рисунки\2.9.jpg"/>
          <p:cNvPicPr/>
          <p:nvPr/>
        </p:nvPicPr>
        <p:blipFill>
          <a:blip r:embed="rId2"/>
          <a:stretch/>
        </p:blipFill>
        <p:spPr>
          <a:xfrm>
            <a:off x="884160" y="1189080"/>
            <a:ext cx="2395440" cy="1657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C:\Documents and Settings\Пользователь\Рабочий стол\Мои рисунки\2876-web.jpg"/>
          <p:cNvPicPr/>
          <p:nvPr/>
        </p:nvPicPr>
        <p:blipFill>
          <a:blip r:embed="rId3"/>
          <a:stretch/>
        </p:blipFill>
        <p:spPr>
          <a:xfrm>
            <a:off x="5241960" y="1189080"/>
            <a:ext cx="2328840" cy="1803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C:\Documents and Settings\Пользователь\Рабочий стол\Мои рисунки\strizh.jpg"/>
          <p:cNvPicPr/>
          <p:nvPr/>
        </p:nvPicPr>
        <p:blipFill>
          <a:blip r:embed="rId4"/>
          <a:stretch/>
        </p:blipFill>
        <p:spPr>
          <a:xfrm>
            <a:off x="1096920" y="3614760"/>
            <a:ext cx="2139840" cy="21398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C:\Documents and Settings\Пользователь\Рабочий стол\Мои рисунки\1080912534.jpg"/>
          <p:cNvPicPr/>
          <p:nvPr/>
        </p:nvPicPr>
        <p:blipFill>
          <a:blip r:embed="rId5"/>
          <a:stretch/>
        </p:blipFill>
        <p:spPr>
          <a:xfrm>
            <a:off x="5241960" y="3687840"/>
            <a:ext cx="2554200" cy="1974600"/>
          </a:xfrm>
          <a:prstGeom prst="rect">
            <a:avLst/>
          </a:prstGeom>
          <a:ln w="0">
            <a:noFill/>
          </a:ln>
        </p:spPr>
      </p:pic>
      <p:sp>
        <p:nvSpPr>
          <p:cNvPr id="506" name="TextBox 6"/>
          <p:cNvSpPr/>
          <p:nvPr/>
        </p:nvSpPr>
        <p:spPr>
          <a:xfrm>
            <a:off x="785880" y="28576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Lucida Sans Unicode"/>
              </a:rPr>
              <a:t>Рыба-ме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5286240" y="29289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Lucida Sans Unicode"/>
              </a:rPr>
              <a:t>Гепа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8"/>
          <p:cNvSpPr/>
          <p:nvPr/>
        </p:nvSpPr>
        <p:spPr>
          <a:xfrm>
            <a:off x="857160" y="557208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Lucida Sans Unicode"/>
              </a:rPr>
              <a:t>Иглохвостый стри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9"/>
          <p:cNvSpPr/>
          <p:nvPr/>
        </p:nvSpPr>
        <p:spPr>
          <a:xfrm>
            <a:off x="5286240" y="5715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Lucida Sans Unicode"/>
              </a:rPr>
              <a:t>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0" y="404640"/>
          <a:ext cx="9144000" cy="5570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120b3"/>
                          </a:solidFill>
                          <a:latin typeface="Verdana"/>
                        </a:rPr>
                        <a:t>3час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105 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240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120b3"/>
                          </a:solidFill>
                          <a:latin typeface="Verdana"/>
                        </a:rPr>
                        <a:t>2час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52bde0"/>
              </a:solidFill>
              <a:latin typeface="Lucida Sans Unicode"/>
            </a:endParaRPr>
          </a:p>
        </p:txBody>
      </p:sp>
      <p:pic>
        <p:nvPicPr>
          <p:cNvPr id="512" name="Picture 3" descr="C:\Documents and Settings\Пользователь\Рабочий стол\Мои рисунки\животные\214.gif"/>
          <p:cNvPicPr/>
          <p:nvPr/>
        </p:nvPicPr>
        <p:blipFill>
          <a:blip r:embed="rId1"/>
          <a:stretch/>
        </p:blipFill>
        <p:spPr>
          <a:xfrm>
            <a:off x="357120" y="2000160"/>
            <a:ext cx="161928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C:\Documents and Settings\Пользователь\Рабочий стол\Мои рисунки\анимация\09.gif"/>
          <p:cNvPicPr/>
          <p:nvPr/>
        </p:nvPicPr>
        <p:blipFill>
          <a:blip r:embed="rId2"/>
          <a:stretch/>
        </p:blipFill>
        <p:spPr>
          <a:xfrm>
            <a:off x="571680" y="3392640"/>
            <a:ext cx="1071360" cy="1060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C:\Documents and Settings\Пользователь\Рабочий стол\Мои рисунки\АНИМАЦИЯ4\jiv527.gif"/>
          <p:cNvPicPr/>
          <p:nvPr/>
        </p:nvPicPr>
        <p:blipFill>
          <a:blip r:embed="rId3"/>
          <a:stretch/>
        </p:blipFill>
        <p:spPr>
          <a:xfrm>
            <a:off x="428760" y="4719600"/>
            <a:ext cx="1500120" cy="12002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1"/>
          <p:cNvSpPr/>
          <p:nvPr/>
        </p:nvSpPr>
        <p:spPr>
          <a:xfrm>
            <a:off x="2286000" y="21430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35км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/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2"/>
          <p:cNvSpPr/>
          <p:nvPr/>
        </p:nvSpPr>
        <p:spPr>
          <a:xfrm>
            <a:off x="2357280" y="3571920"/>
            <a:ext cx="21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60км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/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2357280" y="47862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40км</a:t>
            </a:r>
            <a:r>
              <a:rPr b="1" lang="en-US" sz="3600" spc="-1" strike="noStrike">
                <a:solidFill>
                  <a:srgbClr val="c00000"/>
                </a:solidFill>
                <a:latin typeface="Verdana"/>
              </a:rPr>
              <a:t>/</a:t>
            </a: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4"/>
          <p:cNvSpPr/>
          <p:nvPr/>
        </p:nvSpPr>
        <p:spPr>
          <a:xfrm>
            <a:off x="2357280" y="6429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кор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5"/>
          <p:cNvSpPr/>
          <p:nvPr/>
        </p:nvSpPr>
        <p:spPr>
          <a:xfrm>
            <a:off x="4643280" y="57168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ремя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6"/>
          <p:cNvSpPr/>
          <p:nvPr/>
        </p:nvSpPr>
        <p:spPr>
          <a:xfrm flipH="1">
            <a:off x="6786000" y="642960"/>
            <a:ext cx="257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Расстоя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7"/>
          <p:cNvSpPr/>
          <p:nvPr/>
        </p:nvSpPr>
        <p:spPr>
          <a:xfrm>
            <a:off x="2857680" y="11430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8"/>
          <p:cNvSpPr/>
          <p:nvPr/>
        </p:nvSpPr>
        <p:spPr>
          <a:xfrm>
            <a:off x="5000760" y="107172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9"/>
          <p:cNvSpPr/>
          <p:nvPr/>
        </p:nvSpPr>
        <p:spPr>
          <a:xfrm>
            <a:off x="7215120" y="107172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C:\Documents and Settings\Пользователь\Рабочий стол\Мои рисунки\7224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1680" y="857160"/>
            <a:ext cx="769680" cy="981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46"/>
          <p:cNvSpPr/>
          <p:nvPr/>
        </p:nvSpPr>
        <p:spPr>
          <a:xfrm>
            <a:off x="4500720" y="350028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20b3"/>
                </a:solidFill>
                <a:latin typeface="Arial"/>
              </a:rPr>
              <a:t>4 ч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7"/>
          <p:cNvSpPr/>
          <p:nvPr/>
        </p:nvSpPr>
        <p:spPr>
          <a:xfrm>
            <a:off x="6804000" y="48690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Arial"/>
              </a:rPr>
              <a:t>80 к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9"/>
          <p:cNvSpPr/>
          <p:nvPr/>
        </p:nvSpPr>
        <p:spPr>
          <a:xfrm>
            <a:off x="2843280" y="206064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0"/>
          <p:cNvSpPr/>
          <p:nvPr/>
        </p:nvSpPr>
        <p:spPr>
          <a:xfrm>
            <a:off x="4859280" y="3357720"/>
            <a:ext cx="15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1"/>
          <p:cNvSpPr/>
          <p:nvPr/>
        </p:nvSpPr>
        <p:spPr>
          <a:xfrm>
            <a:off x="7093080" y="479736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18900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2126520" y="189000"/>
            <a:ext cx="67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Arial"/>
              </a:rPr>
              <a:t>Решение задач на дви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395280" y="227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505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340000" y="836640"/>
            <a:ext cx="60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Формировать умение решать задачи на дви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учить применять на практике умения, полученные в ходе изучения данной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1692360" y="3068640"/>
            <a:ext cx="68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2. Развивать внимание и оперативную пам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развивать логическое мышл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развивать математическую р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Развивать вычислительные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684360" y="5157720"/>
            <a:ext cx="921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3. Воспитывать умение слушать товарищ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добавлять, доказ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179280" y="40464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2340000" y="270828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4645080" y="494172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1763640" y="49417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596360" y="1268280"/>
            <a:ext cx="136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7020000" y="285264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771640" y="836640"/>
            <a:ext cx="10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826920" y="292428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7236000" y="5084640"/>
            <a:ext cx="12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4859280" y="62064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5076720" y="234936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0" y="57340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4356000" y="4221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5508720" y="5661000"/>
            <a:ext cx="36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7"/>
          <p:cNvSpPr/>
          <p:nvPr/>
        </p:nvSpPr>
        <p:spPr>
          <a:xfrm>
            <a:off x="5003640" y="4076640"/>
            <a:ext cx="3818160" cy="1081080"/>
          </a:xfrm>
          <a:prstGeom prst="horizontalScroll">
            <a:avLst>
              <a:gd name="adj" fmla="val 12500"/>
            </a:avLst>
          </a:prstGeom>
          <a:solidFill>
            <a:srgbClr val="ffff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м, см, дм, м,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2987640" y="3213000"/>
            <a:ext cx="53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9"/>
          <p:cNvSpPr/>
          <p:nvPr/>
        </p:nvSpPr>
        <p:spPr>
          <a:xfrm>
            <a:off x="2195640" y="5273640"/>
            <a:ext cx="4968720" cy="1584360"/>
          </a:xfrm>
          <a:prstGeom prst="horizontalScroll">
            <a:avLst>
              <a:gd name="adj" fmla="val 12500"/>
            </a:avLst>
          </a:prstGeom>
          <a:solidFill>
            <a:srgbClr val="00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, мин, ч, сутки, неде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яц, год, век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250920" y="3213000"/>
            <a:ext cx="554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Еди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ско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1"/>
          <p:cNvSpPr/>
          <p:nvPr/>
        </p:nvSpPr>
        <p:spPr>
          <a:xfrm>
            <a:off x="0" y="4149720"/>
            <a:ext cx="3672000" cy="1079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/с, м/мин, км/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м/мин,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6156360" y="3284640"/>
            <a:ext cx="2374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91b"/>
                </a:solidFill>
                <a:latin typeface="Arial"/>
              </a:rPr>
              <a:t>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91b"/>
                </a:solidFill>
                <a:latin typeface="Arial"/>
              </a:rPr>
              <a:t>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70469 -0.36528 E">
                                      <p:cBhvr>
                                        <p:cTn id="78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2291 L 0.20886 -0.66991 E">
                                      <p:cBhvr>
                                        <p:cTn id="82" dur="1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85185E-006 L -0.14167 -0.11528 E">
                                      <p:cBhvr>
                                        <p:cTn id="86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2.22222E-006 -0.56689 E">
                                      <p:cBhvr>
                                        <p:cTn id="94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004 -0.00139 L -0.13004 -0.33473 E">
                                      <p:cBhvr>
                                        <p:cTn id="101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00191 -0.57616 E">
                                      <p:cBhvr>
                                        <p:cTn id="10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2"/>
          <p:cNvSpPr/>
          <p:nvPr/>
        </p:nvSpPr>
        <p:spPr>
          <a:xfrm>
            <a:off x="285840" y="71424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Какие величины не используются в задачах на дви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28760" y="1785960"/>
          <a:ext cx="8143920" cy="1357200"/>
        </p:xfrm>
        <a:graphic>
          <a:graphicData uri="http://schemas.openxmlformats.org/drawingml/2006/table">
            <a:tbl>
              <a:tblPr/>
              <a:tblGrid>
                <a:gridCol w="865080"/>
                <a:gridCol w="1946160"/>
                <a:gridCol w="1152720"/>
                <a:gridCol w="1081080"/>
                <a:gridCol w="1081080"/>
                <a:gridCol w="2017800"/>
              </a:tblGrid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TextBox 7"/>
          <p:cNvSpPr/>
          <p:nvPr/>
        </p:nvSpPr>
        <p:spPr>
          <a:xfrm>
            <a:off x="357120" y="17859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1285920" y="17859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3286080" y="1785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4429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4"/>
          <p:cNvSpPr/>
          <p:nvPr/>
        </p:nvSpPr>
        <p:spPr>
          <a:xfrm>
            <a:off x="5572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6572160" y="1785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28760" y="3643200"/>
          <a:ext cx="8143920" cy="1285920"/>
        </p:xfrm>
        <a:graphic>
          <a:graphicData uri="http://schemas.openxmlformats.org/drawingml/2006/table">
            <a:tbl>
              <a:tblPr/>
              <a:tblGrid>
                <a:gridCol w="642960"/>
                <a:gridCol w="1071360"/>
                <a:gridCol w="1285920"/>
                <a:gridCol w="1143000"/>
                <a:gridCol w="714240"/>
                <a:gridCol w="928800"/>
                <a:gridCol w="785880"/>
                <a:gridCol w="157176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TextBox 17"/>
          <p:cNvSpPr/>
          <p:nvPr/>
        </p:nvSpPr>
        <p:spPr>
          <a:xfrm>
            <a:off x="42876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1071720" y="3643200"/>
            <a:ext cx="10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9"/>
          <p:cNvSpPr/>
          <p:nvPr/>
        </p:nvSpPr>
        <p:spPr>
          <a:xfrm>
            <a:off x="2143080" y="36432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5286240" y="36432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1"/>
          <p:cNvSpPr/>
          <p:nvPr/>
        </p:nvSpPr>
        <p:spPr>
          <a:xfrm>
            <a:off x="6215040" y="364320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2"/>
          <p:cNvSpPr/>
          <p:nvPr/>
        </p:nvSpPr>
        <p:spPr>
          <a:xfrm>
            <a:off x="464328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3"/>
          <p:cNvSpPr/>
          <p:nvPr/>
        </p:nvSpPr>
        <p:spPr>
          <a:xfrm>
            <a:off x="3429000" y="3643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4"/>
          <p:cNvSpPr/>
          <p:nvPr/>
        </p:nvSpPr>
        <p:spPr>
          <a:xfrm>
            <a:off x="7072200" y="364320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5"/>
          <p:cNvSpPr/>
          <p:nvPr/>
        </p:nvSpPr>
        <p:spPr>
          <a:xfrm>
            <a:off x="500040" y="52862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По какому признаку можно разделить данные величины на 3 групп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2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E4E9-B2E1-42FA-AC8E-AEAF6B7F0EA2}" type="slidenum">
              <a:rPr b="0" lang="ru-RU" sz="1000" spc="-1" strike="noStrike">
                <a:solidFill>
                  <a:srgbClr val="a3b4b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071720" y="428760"/>
          <a:ext cx="6858000" cy="496080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786040"/>
              </a:tblGrid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TextBox 2"/>
          <p:cNvSpPr/>
          <p:nvPr/>
        </p:nvSpPr>
        <p:spPr>
          <a:xfrm>
            <a:off x="1214280" y="500040"/>
            <a:ext cx="18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3143160" y="500040"/>
            <a:ext cx="20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5286240" y="50004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1143000" y="2571840"/>
            <a:ext cx="13572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6"/>
          <p:cNvSpPr/>
          <p:nvPr/>
        </p:nvSpPr>
        <p:spPr>
          <a:xfrm>
            <a:off x="1214280" y="3429000"/>
            <a:ext cx="121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7"/>
          <p:cNvSpPr/>
          <p:nvPr/>
        </p:nvSpPr>
        <p:spPr>
          <a:xfrm>
            <a:off x="3429000" y="257184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8"/>
          <p:cNvSpPr/>
          <p:nvPr/>
        </p:nvSpPr>
        <p:spPr>
          <a:xfrm>
            <a:off x="3429000" y="328608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0"/>
          <p:cNvSpPr/>
          <p:nvPr/>
        </p:nvSpPr>
        <p:spPr>
          <a:xfrm>
            <a:off x="1214280" y="1785960"/>
            <a:ext cx="13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1"/>
          <p:cNvSpPr/>
          <p:nvPr/>
        </p:nvSpPr>
        <p:spPr>
          <a:xfrm>
            <a:off x="1214280" y="2857680"/>
            <a:ext cx="192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2"/>
          <p:cNvSpPr/>
          <p:nvPr/>
        </p:nvSpPr>
        <p:spPr>
          <a:xfrm>
            <a:off x="3214800" y="178596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3214800" y="3286080"/>
            <a:ext cx="192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ед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4"/>
          <p:cNvSpPr/>
          <p:nvPr/>
        </p:nvSpPr>
        <p:spPr>
          <a:xfrm>
            <a:off x="5214960" y="178596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5"/>
          <p:cNvSpPr/>
          <p:nvPr/>
        </p:nvSpPr>
        <p:spPr>
          <a:xfrm>
            <a:off x="521496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6"/>
          <p:cNvSpPr/>
          <p:nvPr/>
        </p:nvSpPr>
        <p:spPr>
          <a:xfrm>
            <a:off x="1000080" y="571500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mbria"/>
              </a:rPr>
              <a:t>Дополните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1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EDB7-30CF-44BA-9945-EE79B4D820BA}" type="slidenum">
              <a:rPr b="0" lang="ru-RU" sz="1000" spc="-1" strike="noStrike">
                <a:solidFill>
                  <a:srgbClr val="a3b4b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Загнутый угол 2"/>
          <p:cNvSpPr/>
          <p:nvPr/>
        </p:nvSpPr>
        <p:spPr>
          <a:xfrm>
            <a:off x="2928960" y="2571840"/>
            <a:ext cx="3214800" cy="1500120"/>
          </a:xfrm>
          <a:prstGeom prst="foldedCorner">
            <a:avLst>
              <a:gd name="adj" fmla="val 16666"/>
            </a:avLst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ас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Загнутый угол 3"/>
          <p:cNvSpPr/>
          <p:nvPr/>
        </p:nvSpPr>
        <p:spPr>
          <a:xfrm>
            <a:off x="5500800" y="4857840"/>
            <a:ext cx="2928960" cy="142884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Загнутый угол 4"/>
          <p:cNvSpPr/>
          <p:nvPr/>
        </p:nvSpPr>
        <p:spPr>
          <a:xfrm>
            <a:off x="928800" y="4857840"/>
            <a:ext cx="3071880" cy="142884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428760" y="428760"/>
            <a:ext cx="8072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5160"/>
                </a:solidFill>
                <a:latin typeface="Lucida Sans Unicode"/>
              </a:rPr>
              <a:t>Как вы понимаете </a:t>
            </a: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эти</a:t>
            </a:r>
            <a:r>
              <a:rPr b="1" lang="ru-RU" sz="3600" spc="-1" strike="noStrike">
                <a:solidFill>
                  <a:srgbClr val="165160"/>
                </a:solidFill>
                <a:latin typeface="Lucida Sans Unicode"/>
              </a:rPr>
              <a:t> сл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Управляющая кнопка: далее 5">
            <a:hlinkClick r:id="rId2" action="ppaction://hlinksldjump"/>
          </p:cNvPr>
          <p:cNvSpPr/>
          <p:nvPr/>
        </p:nvSpPr>
        <p:spPr>
          <a:xfrm>
            <a:off x="8429760" y="600084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Схема 1" descr=""/>
          <p:cNvPicPr/>
          <p:nvPr/>
        </p:nvPicPr>
        <p:blipFill>
          <a:blip r:embed="rId1"/>
          <a:stretch/>
        </p:blipFill>
        <p:spPr>
          <a:xfrm>
            <a:off x="176040" y="493560"/>
            <a:ext cx="8577360" cy="6040440"/>
          </a:xfrm>
          <a:prstGeom prst="rect">
            <a:avLst/>
          </a:prstGeom>
          <a:ln w="0">
            <a:noFill/>
          </a:ln>
        </p:spPr>
      </p:pic>
      <p:sp>
        <p:nvSpPr>
          <p:cNvPr id="439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001000" y="6215040"/>
            <a:ext cx="857160" cy="642960"/>
          </a:xfrm>
          <a:custGeom>
            <a:avLst/>
            <a:gdLst>
              <a:gd name="textAreaLeft" fmla="*/ 41400 w 857160"/>
              <a:gd name="textAreaRight" fmla="*/ 815760 w 8571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89" y="7493"/>
                </a:moveTo>
                <a:lnTo>
                  <a:pt x="10897" y="7493"/>
                </a:lnTo>
                <a:lnTo>
                  <a:pt x="10897" y="12828"/>
                </a:lnTo>
                <a:cubicBezTo>
                  <a:pt x="10897" y="13751"/>
                  <a:pt x="11698" y="14482"/>
                  <a:pt x="12734" y="14482"/>
                </a:cubicBezTo>
                <a:lnTo>
                  <a:pt x="14396" y="14482"/>
                </a:lnTo>
                <a:cubicBezTo>
                  <a:pt x="15432" y="14482"/>
                  <a:pt x="16232" y="13751"/>
                  <a:pt x="16232" y="12828"/>
                </a:cubicBezTo>
                <a:lnTo>
                  <a:pt x="16232" y="7493"/>
                </a:lnTo>
                <a:lnTo>
                  <a:pt x="14396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0" y="7493"/>
                </a:lnTo>
                <a:lnTo>
                  <a:pt x="19740" y="12828"/>
                </a:lnTo>
                <a:cubicBezTo>
                  <a:pt x="19740" y="15596"/>
                  <a:pt x="17164" y="18155"/>
                  <a:pt x="14396" y="18155"/>
                </a:cubicBezTo>
                <a:lnTo>
                  <a:pt x="12734" y="18155"/>
                </a:lnTo>
                <a:cubicBezTo>
                  <a:pt x="9966" y="18155"/>
                  <a:pt x="7389" y="15596"/>
                  <a:pt x="7389" y="12828"/>
                </a:cubicBez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00040" y="3857760"/>
            <a:ext cx="8183520" cy="2327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виз урок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64960" indent="-264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Times New Roman"/>
                <a:ea typeface="Times New Roman"/>
              </a:rPr>
              <a:t>«Если вы хотите научиться плавать, то смело входите в воду, а если хотите научиться решать задачи, то решайте их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64960" indent="-26496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Times New Roman"/>
                <a:ea typeface="Times New Roman"/>
              </a:rPr>
              <a:t>Д.Пойа</a:t>
            </a:r>
            <a:r>
              <a:rPr b="0" lang="ru-RU" sz="2700" spc="-1" strike="noStrike">
                <a:solidFill>
                  <a:srgbClr val="000000"/>
                </a:solidFill>
                <a:latin typeface="Adventur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571680" y="714240"/>
            <a:ext cx="7786440" cy="228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fef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Lucida Sans Unicode"/>
              </a:rPr>
              <a:t>     </a:t>
            </a:r>
            <a:r>
              <a:rPr b="1" lang="ru-RU" sz="7200" spc="-1" strike="noStrike">
                <a:solidFill>
                  <a:srgbClr val="ff0000"/>
                </a:solidFill>
                <a:latin typeface="Lucida Sans Unicode"/>
              </a:rPr>
              <a:t>Задач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Lucida Sans Unicode"/>
              </a:rPr>
              <a:t>на движени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281160" y="-500040"/>
            <a:ext cx="9021600" cy="1560600"/>
          </a:xfrm>
          <a:prstGeom prst="rect">
            <a:avLst/>
          </a:prstGeom>
          <a:ln w="0">
            <a:noFill/>
          </a:ln>
        </p:spPr>
      </p:pic>
      <p:pic>
        <p:nvPicPr>
          <p:cNvPr id="443" name="Содержимое 6" descr="0000005596-preview.jpg"/>
          <p:cNvPicPr/>
          <p:nvPr/>
        </p:nvPicPr>
        <p:blipFill>
          <a:blip r:embed="rId2"/>
          <a:stretch/>
        </p:blipFill>
        <p:spPr>
          <a:xfrm>
            <a:off x="0" y="1214280"/>
            <a:ext cx="2335320" cy="1571760"/>
          </a:xfrm>
          <a:prstGeom prst="rect">
            <a:avLst/>
          </a:prstGeom>
          <a:ln w="0">
            <a:noFill/>
          </a:ln>
        </p:spPr>
      </p:pic>
      <p:pic>
        <p:nvPicPr>
          <p:cNvPr id="444" name="Содержимое 21" descr="iCAC59FF5.jpg"/>
          <p:cNvPicPr/>
          <p:nvPr/>
        </p:nvPicPr>
        <p:blipFill>
          <a:blip r:embed="rId3"/>
          <a:stretch/>
        </p:blipFill>
        <p:spPr>
          <a:xfrm>
            <a:off x="6929280" y="2714760"/>
            <a:ext cx="2214720" cy="1885680"/>
          </a:xfrm>
          <a:prstGeom prst="rect">
            <a:avLst/>
          </a:prstGeom>
          <a:ln w="0">
            <a:noFill/>
          </a:ln>
        </p:spPr>
      </p:pic>
      <p:sp>
        <p:nvSpPr>
          <p:cNvPr id="445" name="Номер слайда 1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2727-D256-40F0-9204-15E7794C355B}" type="slidenum">
              <a:rPr b="0" lang="ru-RU" sz="1000" spc="-1" strike="noStrike">
                <a:solidFill>
                  <a:srgbClr val="a3b4b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8" descr="35.gif"/>
          <p:cNvPicPr/>
          <p:nvPr/>
        </p:nvPicPr>
        <p:blipFill>
          <a:blip r:embed="rId4"/>
          <a:stretch/>
        </p:blipFill>
        <p:spPr>
          <a:xfrm>
            <a:off x="3571920" y="1357200"/>
            <a:ext cx="2643120" cy="11494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C:\Documents and Settings\Елена\Local Settings\Temporary Internet Files\Content.IE5\49UZ8XYF\MPj02012960000[1].jpg"/>
          <p:cNvPicPr/>
          <p:nvPr/>
        </p:nvPicPr>
        <p:blipFill>
          <a:blip r:embed="rId5"/>
          <a:stretch/>
        </p:blipFill>
        <p:spPr>
          <a:xfrm>
            <a:off x="428760" y="4643280"/>
            <a:ext cx="2757240" cy="1811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C:\Documents and Settings\Елена\Local Settings\Temporary Internet Files\Content.IE5\45YJGDEZ\MMj03004900000[1].gif"/>
          <p:cNvPicPr/>
          <p:nvPr/>
        </p:nvPicPr>
        <p:blipFill>
          <a:blip r:embed="rId6"/>
          <a:stretch/>
        </p:blipFill>
        <p:spPr>
          <a:xfrm>
            <a:off x="428760" y="3143160"/>
            <a:ext cx="2733480" cy="1357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C:\Documents and Settings\Елена\Local Settings\Temporary Internet Files\Content.IE5\49UZ8XYF\MPj04010800000[1].jpg"/>
          <p:cNvPicPr/>
          <p:nvPr/>
        </p:nvPicPr>
        <p:blipFill>
          <a:blip r:embed="rId7"/>
          <a:stretch/>
        </p:blipFill>
        <p:spPr>
          <a:xfrm>
            <a:off x="3429000" y="4714920"/>
            <a:ext cx="2486160" cy="16574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5"/>
          <p:cNvSpPr/>
          <p:nvPr/>
        </p:nvSpPr>
        <p:spPr>
          <a:xfrm>
            <a:off x="7000920" y="14288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30 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6"/>
          <p:cNvSpPr/>
          <p:nvPr/>
        </p:nvSpPr>
        <p:spPr>
          <a:xfrm>
            <a:off x="7000920" y="2214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50 к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7"/>
          <p:cNvSpPr/>
          <p:nvPr/>
        </p:nvSpPr>
        <p:spPr>
          <a:xfrm>
            <a:off x="7072200" y="314316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80 к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8"/>
          <p:cNvSpPr/>
          <p:nvPr/>
        </p:nvSpPr>
        <p:spPr>
          <a:xfrm>
            <a:off x="7072200" y="407196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5 к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9"/>
          <p:cNvSpPr/>
          <p:nvPr/>
        </p:nvSpPr>
        <p:spPr>
          <a:xfrm>
            <a:off x="7072200" y="49291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4 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2"/>
          <p:cNvSpPr/>
          <p:nvPr/>
        </p:nvSpPr>
        <p:spPr>
          <a:xfrm>
            <a:off x="7215120" y="5715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50 к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L -0.36336 0.4787 E">
                                      <p:cBhvr>
                                        <p:cTn id="219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55556E-006 L -0.66146 0.3676 E">
                                      <p:cBhvr>
                                        <p:cTn id="223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18519E-006 L -0.38594 -0.27315 E">
                                      <p:cBhvr>
                                        <p:cTn id="227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63004 -0.12615 E">
                                      <p:cBhvr>
                                        <p:cTn id="231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81481E-006 L -0.68524 -0.54606 E">
                                      <p:cBhvr>
                                        <p:cTn id="235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49 0.01111 L -0.41441 -0.20949 E">
                                      <p:cBhvr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07:38:11Z</dcterms:created>
  <dc:creator>Пользователь</dc:creator>
  <dc:description/>
  <dc:language>en-US</dc:language>
  <cp:lastModifiedBy>ЗамДиректора</cp:lastModifiedBy>
  <dcterms:modified xsi:type="dcterms:W3CDTF">2015-10-13T13:41:28Z</dcterms:modified>
  <cp:revision>75</cp:revision>
  <dc:subject/>
  <dc:title>Задачи на движение.</dc:title>
</cp:coreProperties>
</file>