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FA746-3A71-4B47-B975-54F5FA0E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83888-E61B-4A8A-AA3D-348E13FF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DA92E-A8BB-4BA9-B170-D6C8F0BA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8EF57-B225-437F-B0AA-9D6FB2F5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7DEB-3873-43C5-BA09-915D60FA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AA2F-867F-4868-9344-92ED299B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60D8-D912-4CDB-8292-0EC1A524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DD68-0618-4296-A35C-99F77347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C2A3-83FF-488B-9B2F-4CD472F0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4E4F-6DFE-4152-AAFA-826E61B7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9006-8B76-40EB-9146-B428D95D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EBA1A-D94C-4D5A-842E-B5090901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31CA-C16F-4E5D-9182-03840CB6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847A-6447-46EF-B5ED-818AF2E0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E9C6-525E-4B54-835C-B5CEDCF7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C9D5-F62D-41A0-ACFB-71B1C9F5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A613-572B-4870-9094-D1FB688A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67443-23F3-472F-89C6-D9A8BC13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F0EDE-60C5-45C1-9AE9-69E60CC8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94DBF-BC29-4CB5-AED1-10EA1E10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CCA5C-0D2C-435A-B6D9-1722E6C8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E825C-DC6F-434D-9D83-ED31DC82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EB3EF-383B-44CB-9A86-7FD7687B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AB7CC-1DC0-4366-AA07-D1E70639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FCC9-D8F2-41B9-A5EE-0078D47FF6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8BA0-CCCF-4816-8271-3447FCA170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39640" y="1557360"/>
            <a:ext cx="61182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ffffff"/>
                </a:solidFill>
                <a:latin typeface="Arial"/>
              </a:rPr>
              <a:t>Внедрение метапредметной технологии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818240"/>
            <a:ext cx="60199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на уроках математики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ект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 с авторским текстом: прочитать, понять , сформировать собственное мн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ветить на вопросы. По возможности нарисовать сх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ступление представителя от группы с результатом обсу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готовка вопросов оппонен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деляются основные противореч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улируются основные понятия век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езультате работы ученики приходят к понятию вектора путём анализа перехода арифметики к геометрическому анали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данном случае обучение связывает мыслительные средства с выработкой позиции у учащегося как у учё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ю необходимо самому отрефлексировать, объектировать в каком-то виде, а затем ещё продумать методическую схему передачи, т. е. выделить некоторую единицу содержания, а затем примерить уровень освоенности предыдущих способов и средств, которыми владеют дети по отношению к тому новому способу, который хочет передать им уч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предметы-новая образовательная форма, которая выстраивается поверх традиционных учебных предм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снове лежит мыследеятельностный тип интеграции, который предполагает, что дети, осуществляя образовательную работу на разном предметном материале, могут осваивать универсальные способы мышления, коммуникации и 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цессы интеграции могут иметь место как в рамках уже сложившейся системы – в этом случае они ведут к повышению уровня её целостности и организованности, так и при возникновении новой системы из ранее не связанных элеме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аемые темы по математике связаны с выполнением учащимися системы индивидуальных и групповых заданий по конструированию и моделированию процессов возникновения того или другого знания, учащиеся как бы переоткрывают открытия, некогда сделанные в исто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учителя начинается с анализа тематического планирования с использованием мыследеятельностных сред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анном анализе предусмотрены опорные средства, которые должны усвоить учащиеся в рамках изучения темы, типичные ошибки, типы диагностических работ и домашних зад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итель выделяет одну из ситуаций (учения-обучения) в виде сценария в задачной форме орган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этом учитель прежде всего задаёт вопрос себ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Как я организую работу, чтобы дети усвоили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а с уравнениями в начальной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ель рассматривает работу обычных весов. Детям предлагается разобраться с самим понятием этого приб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основному вопросу «Что такое уравнение в математике?» дети подводятся при помощи цепочки вопросов: Что такое весы? Где встречаются? Зачем необходимы? Как уравнять весы? Можно ли в математике применять весы для чисел?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жно, чтобы при отработке ключевого момента соблюдалась технология работы в задачной форме обучения: версии детей фиксировались, не отбрасывались, устраивалось взаимное обсуждение. Содержательные версии по возможности схематизиру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езультате ученик предметом своего осознанного отношения делает уже не понятие «уравнение», но сам способ своей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ение линейных уравнений, содержащих переменную в обеих част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роцессе работы после решения знакомых уравнений предлагается так называемое задание «ловушка», в результате решения которого происходит сбой. Предлагается серия вопросов, ответ на которые ученики дают в виде различных верс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Представим, что левая и правая части уравнения- это чашки весов». Что можно сделать с грузом, чтобы равновесие не нарушалос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нная ситуация рассматривается в виде схемы, а затем переносится на формулирование способа решения у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3:16:41Z</dcterms:created>
  <dc:creator>sysad</dc:creator>
  <dc:description/>
  <dc:language>en-US</dc:language>
  <cp:lastModifiedBy>sysad</cp:lastModifiedBy>
  <dcterms:modified xsi:type="dcterms:W3CDTF">2012-11-16T15:21:12Z</dcterms:modified>
  <cp:revision>3</cp:revision>
  <dc:subject/>
  <dc:title>Внедрение метапредметной технологии</dc:title>
</cp:coreProperties>
</file>