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E70C7-323A-4941-805E-4D780DA0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7EBE9-CFC3-4C58-9413-22E01EB6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B682-CF9A-48FA-A6A6-BED326BE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163B8-F2CD-4D32-BCD2-26F0F084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B44A-1A0F-45E8-BFBA-2F6FCACD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1569-B5E6-4941-B3DD-7CEFA4A9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C357-9584-4FA2-9696-5B641C1F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F24F-1057-4BC4-BE4B-DB0F5521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96A9-3A7F-42EC-B582-6F5F393C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9F8C-D0A7-410B-92E3-AF37FFB7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2F1E-99AC-4EB7-B832-C6B76D5A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52D81-8501-4FA2-BD50-89A6CFA0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E84C-C435-4935-8DF4-C9FE4040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DD2D-F022-454D-A70F-8D3F84C4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A2C4-8953-4A52-A76E-A3CB1340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DA4F-3004-4DBF-80DF-3A058AD3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759E-C6BA-4D83-9E5E-13F12B7C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A129-C7B1-4015-BCB1-DF366E79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9FC66-B51B-41F4-A370-2270A5A9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D9F3A-7F47-4D97-874A-8E8C495F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2CAE2-B88B-4D0C-AAB6-D6097FBC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34B1-7448-40D4-9CF7-ADF25D92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AF7F-4A45-48BA-99A6-28D1B1BC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44BD-30E5-4E94-A09C-D69ADD67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EB8A-4F5B-4DC0-8C7E-CCE9ABD617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CAEE-D30E-46EC-9581-0F0CAF5430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557360"/>
            <a:ext cx="61182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Внедрение метапредметной технологии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818240"/>
            <a:ext cx="60199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на уроках математики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к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с авторским текстом: прочитать, понять , сформировать собственное м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ить на вопросы. По возможности нарисовать сх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тупление представителя от группы с результатом обсу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ка вопросов оппоне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яются основные противореч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улируются основные понятия век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зультате работы ученики приходят к понятию вектора путём анализа перехода арифметики к геометрическому анали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данном случае обучение связывает мыслительные средства с выработкой позиции у учащегося как у учё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ю необходимо самому отрефлексировать, объектировать в каком-то виде, а затем ещё продумать методическую схему передачи, т. е. выделить некоторую единицу содержания, а затем примерить уровень освоенности предыдущих способов и средств, которыми владеют дети по отношению к тому новому способу, который хочет передать им уч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предметы-новая образовательная форма, которая выстраивается поверх традиционных учебных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снове лежит мыследеятельностный тип интеграции, который предполагает, что дети, осуществляя образовательную работу на разном предметном материале, могут осваивать универсальные способы мышления, коммуникации и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сы интеграции могут иметь место как в рамках уже сложившейся системы – в этом случае они ведут к повышению уровня её целостности и организованности, так и при возникновении новой системы из ранее не связанных эле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емые темы по математике связаны с выполнением учащимися системы индивидуальных и групповых заданий по конструированию и моделированию процессов возникновения того или другого знания, учащиеся как бы переоткрывают открытия, некогда сделанные в ис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учителя начинается с анализа тематического планирования с использованием мыследеятельностных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анном анализе предусмотрены опорные средства, которые должны усвоить учащиеся в рамках изучения темы, типичные ошибки, типы диагностических работ и домашних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 выделяет одну из ситуаций (учения-обучения) в виде сценария в задачной форме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этом учитель прежде всего задаёт вопрос себ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Как я организую работу, чтобы дети усвоили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с уравнениями в началь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 рассматривает работу обычных весов. Детям предлагается разобраться с самим понятием этого при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основному вопросу «Что такое уравнение в математике?» дети подводятся при помощи цепочки вопросов: Что такое весы? Где встречаются? Зачем необходимы? Как уравнять весы? Можно ли в математике применять весы для чисел?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жно, чтобы при отработке ключевого момента соблюдалась технология работы в задачной форме обучения: версии детей фиксировались, не отбрасывались, устраивалось взаимное обсуждение. Содержательные версии по возможности схематизиру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зультате ученик предметом своего осознанного отношения делает уже не понятие «уравнение», но сам способ своей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 линейных уравнений, содержащих переменную в обеих ча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оцессе работы после решения знакомых уравнений предлагается так называемое задание «ловушка», в результате решения которого происходит сбой. Предлагается серия вопросов, ответ на которые ученики дают в виде различных вер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редставим, что левая и правая части уравнения- это чашки весов». Что можно сделать с грузом, чтобы равновесие не нарушалос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ная ситуация рассматривается в виде схемы, а затем переносится на формулирование способа решения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3:16:41Z</dcterms:created>
  <dc:creator>sysad</dc:creator>
  <dc:description/>
  <dc:language>en-US</dc:language>
  <cp:lastModifiedBy>sysad</cp:lastModifiedBy>
  <dcterms:modified xsi:type="dcterms:W3CDTF">2012-11-16T15:21:12Z</dcterms:modified>
  <cp:revision>3</cp:revision>
  <dc:subject/>
  <dc:title>Внедрение метапредметной технологии</dc:title>
</cp:coreProperties>
</file>