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6.png" ContentType="image/png"/>
  <Override PartName="/ppt/media/image3.gif" ContentType="image/gif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31.jpeg" ContentType="image/jpeg"/>
  <Override PartName="/ppt/media/image35.png" ContentType="image/png"/>
  <Override PartName="/ppt/media/image42.gif" ContentType="image/gif"/>
  <Override PartName="/ppt/media/image45.png" ContentType="image/png"/>
  <Override PartName="/ppt/media/image10.png" ContentType="image/png"/>
  <Override PartName="/ppt/media/image27.jpeg" ContentType="image/jpeg"/>
  <Override PartName="/ppt/media/image20.gif" ContentType="image/gif"/>
  <Override PartName="/ppt/media/image18.gif" ContentType="image/gif"/>
  <Override PartName="/ppt/media/image44.png" ContentType="image/png"/>
  <Override PartName="/ppt/media/image13.jpeg" ContentType="image/jpeg"/>
  <Override PartName="/ppt/media/image36.png" ContentType="image/png"/>
  <Override PartName="/ppt/media/image37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5.gif" ContentType="image/gif"/>
  <Override PartName="/ppt/media/image6.gif" ContentType="image/gif"/>
  <Override PartName="/ppt/media/image41.gif" ContentType="image/gif"/>
  <Override PartName="/ppt/media/image34.png" ContentType="image/png"/>
  <Override PartName="/ppt/media/image12.jpeg" ContentType="image/jpeg"/>
  <Override PartName="/ppt/media/image8.wmf" ContentType="image/x-wmf"/>
  <Override PartName="/ppt/media/image40.png" ContentType="image/png"/>
  <Override PartName="/ppt/media/image38.wmf" ContentType="image/x-wmf"/>
  <Override PartName="/ppt/media/image11.png" ContentType="image/png"/>
  <Override PartName="/ppt/media/image9.png" ContentType="image/png"/>
  <Override PartName="/ppt/media/image39.png" ContentType="image/png"/>
  <Override PartName="/ppt/media/image4.gif" ContentType="image/gif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EC0D-B433-4FC8-9F77-2744E3B5FE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94F-9DB1-4144-A4C2-31899EFDB0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6660-7817-4C54-BFD9-F38DA38EA7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BFA-AC1B-49E8-A5CE-082E296D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3CD-444A-43DC-8DA1-6DEF4D98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DCB-FE7C-4F1D-99F7-67F967C5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6CD-6F10-4438-A9E9-A6F743DD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E18-D266-4EE2-9CA8-7CC54D0F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8EF7-5A4C-4700-8C8A-51DC2860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543-E251-4E4C-BD6D-D07DF08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6A2B-3EAD-476F-AF98-1D5A10C3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251-2486-4C1A-8651-241CE234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F30-61B8-4991-A322-87CFCCEF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6DB1-E1A6-4EC7-B2C5-E1B023D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A85-D2CC-45A8-8F2C-BF0C8A62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B28B-6706-479E-AD94-77EBD1E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E13-E0CB-4813-9682-26A6B20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DF6-92E2-4723-9E20-9A5E022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E158-E322-4499-931C-B5B97EB9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FDA-0D1E-46BB-8287-DB92ADD6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FDE-AF71-4B16-AE02-A2D884AE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615-9A50-473F-9422-5AEDA4F8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1B0-5CF2-4BC2-864A-B635963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E4B-A65C-450F-9583-CE1E7A4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A5A-CE6A-4DCD-8362-16CEA2CF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C0D-E322-478A-BD19-588A7A7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B4A-1A8A-41D3-95B2-BEF27A1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6A76-FA9A-46CA-AC1D-626BFEE6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F03-6CDE-4047-8F4B-4C02F7272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7;&#1072;&#1082;&#1086;&#1085;%20&#1089;&#1086;&#1093;&#1088;&#1072;&#1085;&#1077;&#1085;&#1080;&#1103;%20&#1101;&#1085;&#1077;&#1088;&#1075;&#1080;&#1080;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hyperlink" Target="http://img1.liveinternet.ru/images/attach/c/1/60/635/60635584_background.jpg" TargetMode="External"/><Relationship Id="rId4" Type="http://schemas.openxmlformats.org/officeDocument/2006/relationships/hyperlink" Target="http://www.goodclipart.ru/data/ramki_i_fon/BORDERS14/eb/BX1625.png" TargetMode="External"/><Relationship Id="rId5" Type="http://schemas.openxmlformats.org/officeDocument/2006/relationships/hyperlink" Target="http://intoclassics.net/_nw/175/49938722.jpg" TargetMode="External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440" y="2285640"/>
            <a:ext cx="73580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Arial"/>
              </a:rPr>
              <a:t>Урок физики по теме: </a:t>
            </a:r>
            <a:r>
              <a:rPr b="1" lang="en-US" sz="4400" spc="-1" strike="noStrike">
                <a:solidFill>
                  <a:srgbClr val="02c427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2c427"/>
                </a:solidFill>
                <a:latin typeface="Calibri"/>
              </a:rPr>
              <a:t>Закон сохранения энергии</a:t>
            </a:r>
            <a:r>
              <a:rPr b="1" lang="en-US" sz="4400" spc="-1" strike="noStrike">
                <a:solidFill>
                  <a:srgbClr val="02c427"/>
                </a:solidFill>
                <a:latin typeface="Arial"/>
              </a:rPr>
              <a:t> в механике»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08000" y="4714560"/>
            <a:ext cx="379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реподава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НПО РО ПУ №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жая С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Из истории закона</a:t>
            </a:r>
            <a:br>
              <a:rPr sz="4400"/>
            </a:b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01" name="Текст 2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2060640" cy="2590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51280" y="35002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4a7b"/>
                </a:solidFill>
                <a:latin typeface="Arial"/>
              </a:rPr>
              <a:t>Гельмгольц Герман Людвиг Фердинанд</a:t>
            </a:r>
            <a:br>
              <a:rPr sz="1800"/>
            </a:br>
            <a:r>
              <a:rPr b="1" lang="en-US" sz="1800" spc="-1" strike="noStrike">
                <a:solidFill>
                  <a:srgbClr val="604a7b"/>
                </a:solidFill>
                <a:latin typeface="Arial"/>
              </a:rPr>
              <a:t>(1821-18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516720" y="3213000"/>
            <a:ext cx="214308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59240" y="5734080"/>
            <a:ext cx="268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айер Юлиус Роб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(1814 – 18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1699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Томас Ю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(1773–1829 гг.)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93400" y="5949360"/>
            <a:ext cx="38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(1711–1765 гг.)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Thomas Young (scientist).jpg"/>
          <p:cNvPicPr/>
          <p:nvPr/>
        </p:nvPicPr>
        <p:blipFill>
          <a:blip r:embed="rId4"/>
          <a:stretch/>
        </p:blipFill>
        <p:spPr>
          <a:xfrm>
            <a:off x="611280" y="907920"/>
            <a:ext cx="204300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92360" y="3357720"/>
            <a:ext cx="2278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Arial"/>
              </a:rPr>
              <a:t>ИЗУЧЕНИЕ ЯВЛЕНИЙ ПРЕВРАЩЕНИЯ ОДНОГО ВИДА ЭНЕРГИИ В ДРУГОЙ ПРИВЕЛО К ОТКРЫТИЮ ОДНОГО ИЗ ОСНОВНЫХ ЗАКОНОВ ПРИРОДЫ –</a:t>
            </a:r>
            <a:r>
              <a:rPr b="1" lang="en-US" sz="2500" spc="-1" strike="noStrike">
                <a:solidFill>
                  <a:srgbClr val="604a7b"/>
                </a:solidFill>
                <a:latin typeface="Arial"/>
              </a:rPr>
              <a:t> </a:t>
            </a:r>
            <a:br>
              <a:rPr sz="2500"/>
            </a:b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ЗАКОНА СОХРАНЕНИЯ И ПРЕВРАЩЕНИЯ ЭНЕРГИИ</a:t>
            </a:r>
            <a:endParaRPr b="1" lang="en-US" sz="25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 ВСЕХ ЯВЛЕНИЯХ, ПРОИСХОДЯЩИХ В ПРИРОДЕ, ЭНЕРГИЯ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ВОЗНИКАЕТ И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СЧЕЗАЕТ, ОНА ТОЛЬКО ПРЕВРАЩАЕТСЯ ИЗ ОДНОГО ВИДА В ДРУГОЙ, ПРИ ЭТОМ ЕЁ ЗНАЧЕНИЕ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ttp://en-port.ucoz.ru/EnergyLaw.jpg"/>
          <p:cNvPicPr/>
          <p:nvPr/>
        </p:nvPicPr>
        <p:blipFill>
          <a:blip r:embed="rId2"/>
          <a:srcRect l="31908" t="82296" r="24224" b="-565"/>
          <a:stretch/>
        </p:blipFill>
        <p:spPr>
          <a:xfrm>
            <a:off x="3048120" y="5181480"/>
            <a:ext cx="3124080" cy="8524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Закон сохранения механической энергии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64304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умма кинетической и потенциальной энергии те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оставляющи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мкнуту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истему и взаимодействующих между собой силами тяготения и силами упругости,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тается неизмен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E = E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+ E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лной механической энер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083360" cy="10717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процессе движения системы всякое увеличение кинетической энергии системы должно сопровождаться соответствующим уменьшением её потенциальной энергии 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http://en-port.ucoz.ru/EnergyLaw.jpg"/>
          <p:cNvPicPr/>
          <p:nvPr/>
        </p:nvPicPr>
        <p:blipFill>
          <a:blip r:embed="rId2"/>
          <a:srcRect l="31908" t="82296" r="24224" b="-565"/>
          <a:stretch/>
        </p:blipFill>
        <p:spPr>
          <a:xfrm>
            <a:off x="1835280" y="274680"/>
            <a:ext cx="5257800" cy="1562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340000" y="549360"/>
            <a:ext cx="216000" cy="576000"/>
          </a:xfrm>
          <a:prstGeom prst="upArrow">
            <a:avLst>
              <a:gd name="adj1" fmla="val 50000"/>
              <a:gd name="adj2" fmla="val 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620640"/>
            <a:ext cx="142920" cy="504720"/>
          </a:xfrm>
          <a:prstGeom prst="downArrow">
            <a:avLst>
              <a:gd name="adj1" fmla="val 50000"/>
              <a:gd name="adj2" fmla="val 88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7" descr="spri"/>
          <p:cNvPicPr/>
          <p:nvPr/>
        </p:nvPicPr>
        <p:blipFill>
          <a:blip r:embed="rId3"/>
          <a:stretch/>
        </p:blipFill>
        <p:spPr>
          <a:xfrm>
            <a:off x="324000" y="260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Cannon"/>
          <p:cNvPicPr/>
          <p:nvPr/>
        </p:nvPicPr>
        <p:blipFill>
          <a:blip r:embed="rId4"/>
          <a:stretch/>
        </p:blipFill>
        <p:spPr>
          <a:xfrm>
            <a:off x="6443640" y="4815000"/>
            <a:ext cx="2378160" cy="178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FLOWER33"/>
          <p:cNvPicPr/>
          <p:nvPr/>
        </p:nvPicPr>
        <p:blipFill>
          <a:blip r:embed="rId5"/>
          <a:stretch/>
        </p:blipFill>
        <p:spPr>
          <a:xfrm>
            <a:off x="7074000" y="260280"/>
            <a:ext cx="1009440" cy="151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" descr="Использование потенциальной энергии"/>
          <p:cNvPicPr/>
          <p:nvPr/>
        </p:nvPicPr>
        <p:blipFill>
          <a:blip r:embed="rId6"/>
          <a:stretch/>
        </p:blipFill>
        <p:spPr>
          <a:xfrm>
            <a:off x="1044720" y="4581360"/>
            <a:ext cx="16808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Закон применим</a:t>
            </a:r>
            <a:r>
              <a:rPr b="0" lang="en-US" sz="4000" spc="-1" strike="noStrike">
                <a:solidFill>
                  <a:srgbClr val="604a7b"/>
                </a:solidFill>
                <a:latin typeface="Calibri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строномии (для расчета движения планет и звез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смонавтике (для расчета движения космических кораблей и спутник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ехнике (для расчета движения и работы различных машин и механизмов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химии, биологии, физ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D:\картинки, мои документы, Гришанова\картинки на V\Коллекция картинок (Microsoft)\j0284144.gif"/>
          <p:cNvPicPr/>
          <p:nvPr/>
        </p:nvPicPr>
        <p:blipFill>
          <a:blip r:embed="rId2"/>
          <a:stretch/>
        </p:blipFill>
        <p:spPr>
          <a:xfrm rot="786000">
            <a:off x="539280" y="476280"/>
            <a:ext cx="965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Решение задач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й равномерно через блок поднимает ведро с песком массой 15кг на высоту 20м. Определите энергию поднятого вед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мещении по стройплощадке мешков с цементом, рабочий воспользовался тележкой. Груз массой 200 кг он перемещал со скоростью 2 м\с. Рассчитайте кинетическую энергию тележ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оительной площадке произошел спор мастера и рабочего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нять груз обладающий энергией 625000Дж на высоту 20 метров. Рабочий предложил  отнести  в ручную по лестнице, мастер предложил поднять краном. Кто из них прав? (Вычисли массу груза, выразив массу из формулы потенциальной энерг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www.rutravi.ru/uploads/f1/s/23/31/image/304/562/medium_voprosyi_i_otvetyi.jpg"/>
          <p:cNvPicPr/>
          <p:nvPr/>
        </p:nvPicPr>
        <p:blipFill>
          <a:blip r:embed="rId2"/>
          <a:stretch/>
        </p:blipFill>
        <p:spPr>
          <a:xfrm>
            <a:off x="8028000" y="5229360"/>
            <a:ext cx="1403280" cy="136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rutravi.ru/uploads/f1/s/23/31/image/304/562/medium_voprosyi_i_otvetyi.jpg"/>
          <p:cNvPicPr/>
          <p:nvPr/>
        </p:nvPicPr>
        <p:blipFill>
          <a:blip r:embed="rId3"/>
          <a:stretch/>
        </p:blipFill>
        <p:spPr>
          <a:xfrm>
            <a:off x="611280" y="189000"/>
            <a:ext cx="14032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000Дж = 3к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00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2c427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ер прав, поднять груз массой   3125 кг   в ручную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Текст 2" descr="Советские плакаты по технике безопасности."/>
          <p:cNvPicPr/>
          <p:nvPr/>
        </p:nvPicPr>
        <p:blipFill>
          <a:blip r:embed="rId2"/>
          <a:stretch/>
        </p:blipFill>
        <p:spPr>
          <a:xfrm>
            <a:off x="0" y="0"/>
            <a:ext cx="3560760" cy="5040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59280" y="476280"/>
            <a:ext cx="34927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ирпич массой 2 кг свободно падает  в течение 2 с. Определить кинетическую энергию в середине па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124000" y="4076640"/>
            <a:ext cx="2737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Arial"/>
              </a:rPr>
              <a:t>Задача на закон </a:t>
            </a:r>
            <a:br>
              <a:rPr sz="4000"/>
            </a:br>
            <a:r>
              <a:rPr b="1" lang="en-US" sz="4000" spc="-1" strike="noStrike">
                <a:solidFill>
                  <a:srgbClr val="604a7b"/>
                </a:solidFill>
                <a:latin typeface="Arial"/>
              </a:rPr>
              <a:t>сохранения энергии</a:t>
            </a: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141720"/>
            <a:ext cx="40528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55640" y="1484280"/>
          <a:ext cx="7777080" cy="3084480"/>
        </p:xfrm>
        <a:graphic>
          <a:graphicData uri="http://schemas.openxmlformats.org/drawingml/2006/table">
            <a:tbl>
              <a:tblPr/>
              <a:tblGrid>
                <a:gridCol w="3024360"/>
                <a:gridCol w="47527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Кирпич массой 2 кг свободно падает  в течение 2 с. Определить кинетическую энергию в середине пад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шение: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м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        (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вина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закону сохранения энерги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h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+ mgh1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mgh - mg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mg(h –h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числим по формуле: Е</a:t>
                      </a:r>
                      <a:r>
                        <a:rPr b="0" i="1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2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24360" y="1989000"/>
                <a:ext cx="8636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rId2"/>
          </p:cNvPr>
          <p:cNvSpPr/>
          <p:nvPr/>
        </p:nvSpPr>
        <p:spPr>
          <a:xfrm>
            <a:off x="4003920" y="532800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Д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5013360"/>
            <a:ext cx="251964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1041 L 0.3092 -0.01041 E">
                                      <p:cBhvr>
                                        <p:cTn id="5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Примеры использования потенциальной и кинетической энергии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46" name="Picture 2" descr="E:\Мое\Физика\7 класс\Энергия. Виды энергии\800pxsrisailamdamwithga.jpg"/>
          <p:cNvPicPr/>
          <p:nvPr/>
        </p:nvPicPr>
        <p:blipFill>
          <a:blip r:embed="rId2"/>
          <a:stretch/>
        </p:blipFill>
        <p:spPr>
          <a:xfrm>
            <a:off x="324000" y="1916280"/>
            <a:ext cx="3203280" cy="29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740720" y="6308640"/>
            <a:ext cx="33804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E:\Мое\Физика\7 класс\Энергия. Виды энергии\7_130.gif"/>
          <p:cNvPicPr/>
          <p:nvPr/>
        </p:nvPicPr>
        <p:blipFill>
          <a:blip r:embed="rId3"/>
          <a:stretch/>
        </p:blipFill>
        <p:spPr>
          <a:xfrm>
            <a:off x="5651640" y="1773360"/>
            <a:ext cx="3097080" cy="2833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492360" y="3284640"/>
            <a:ext cx="2264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 дать понятие полной механической энергии, закона сохранения энергии, практическое применение закона сохранения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Эпиграф к у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D13730_"/>
          <p:cNvPicPr/>
          <p:nvPr/>
        </p:nvPicPr>
        <p:blipFill>
          <a:blip r:embed="rId2"/>
          <a:stretch/>
        </p:blipFill>
        <p:spPr>
          <a:xfrm>
            <a:off x="6084720" y="2997360"/>
            <a:ext cx="2514600" cy="306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360" y="3716280"/>
            <a:ext cx="674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0080"/>
                </a:solidFill>
                <a:latin typeface="Monotype Corsiva"/>
              </a:rPr>
              <a:t>Природа никогда не изменит </a:t>
            </a:r>
            <a:br>
              <a:rPr sz="3600"/>
            </a:br>
            <a:r>
              <a:rPr b="0" i="1" lang="en-US" sz="3600" spc="-1" strike="noStrike">
                <a:solidFill>
                  <a:srgbClr val="800080"/>
                </a:solidFill>
                <a:latin typeface="Monotype Corsiva"/>
              </a:rPr>
              <a:t>великим законам сохранения.</a:t>
            </a:r>
            <a:br>
              <a:rPr sz="3600"/>
            </a:b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Даниил Берну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51" name="Picture 2" descr="E:\Мое\Физика\7 класс\Энергия. Виды энергии\1267119462_12.jpg"/>
          <p:cNvPicPr/>
          <p:nvPr/>
        </p:nvPicPr>
        <p:blipFill>
          <a:blip r:embed="rId2"/>
          <a:stretch/>
        </p:blipFill>
        <p:spPr>
          <a:xfrm>
            <a:off x="611280" y="260280"/>
            <a:ext cx="3281400" cy="338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E:\Мое\Физика\7 класс\Энергия. Виды энергии\5d3c95ff.jpg"/>
          <p:cNvPicPr/>
          <p:nvPr/>
        </p:nvPicPr>
        <p:blipFill>
          <a:blip r:embed="rId3"/>
          <a:stretch/>
        </p:blipFill>
        <p:spPr>
          <a:xfrm>
            <a:off x="4716360" y="3357720"/>
            <a:ext cx="4067280" cy="2685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0" t="53190" r="0" b="3877"/>
          <a:stretch/>
        </p:blipFill>
        <p:spPr>
          <a:xfrm>
            <a:off x="3851280" y="47628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rcRect l="1925" t="2418" r="7700" b="31881"/>
          <a:stretch/>
        </p:blipFill>
        <p:spPr>
          <a:xfrm>
            <a:off x="395280" y="851040"/>
            <a:ext cx="80643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Примеры применения </a:t>
            </a:r>
            <a:br>
              <a:rPr sz="4400"/>
            </a:b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закона сохранения энергии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257" name="Picture 4" descr="http://en-port.ucoz.ru/EnergyLaw.jpg"/>
          <p:cNvPicPr/>
          <p:nvPr/>
        </p:nvPicPr>
        <p:blipFill>
          <a:blip r:embed="rId2"/>
          <a:stretch/>
        </p:blipFill>
        <p:spPr>
          <a:xfrm>
            <a:off x="304920" y="1752480"/>
            <a:ext cx="3821040" cy="25005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ая выноска 5"/>
          <p:cNvSpPr/>
          <p:nvPr/>
        </p:nvSpPr>
        <p:spPr>
          <a:xfrm>
            <a:off x="285840" y="4214880"/>
            <a:ext cx="4429080" cy="2143080"/>
          </a:xfrm>
          <a:prstGeom prst="wedgeRectCallout">
            <a:avLst>
              <a:gd name="adj1" fmla="val -25208"/>
              <a:gd name="adj2" fmla="val -76763"/>
            </a:avLst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енциальная энергия тела, поднятого над землей переходит в кинет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1390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1928880" y="1857240"/>
            <a:ext cx="1971720" cy="9241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4"/>
          <a:stretch/>
        </p:blipFill>
        <p:spPr>
          <a:xfrm>
            <a:off x="2214720" y="2857680"/>
            <a:ext cx="1504800" cy="533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>
            <a:off x="6215040" y="1857240"/>
            <a:ext cx="2662200" cy="25527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ая выноска 17"/>
          <p:cNvSpPr/>
          <p:nvPr/>
        </p:nvSpPr>
        <p:spPr>
          <a:xfrm>
            <a:off x="5072040" y="4214880"/>
            <a:ext cx="4071960" cy="2143080"/>
          </a:xfrm>
          <a:prstGeom prst="wedgeRectCallout">
            <a:avLst>
              <a:gd name="adj1" fmla="val 23055"/>
              <a:gd name="adj2" fmla="val -60842"/>
            </a:avLst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енциальная энергия деформированного тела переходит в кинет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6"/>
          <a:stretch/>
        </p:blipFill>
        <p:spPr>
          <a:xfrm>
            <a:off x="5357880" y="1857240"/>
            <a:ext cx="1704960" cy="8668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5357880" y="271476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6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8384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ВЫВОД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1676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ЭНЕРГИЯ НЕ МОЖЕТ ПОЯВИТЬСЯ У ТЕЛА, ЕСЛИ ОНО НЕ ПОЛУЧИЛО ЕЁ ОТ ДРУГОГО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ject 4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3581280" cy="1768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685800"/>
            <a:ext cx="75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ИСЛЕДУЯ ЯВЛЕНИЯ ПРИРОДЫ, УЧЕНЫЕ ВСЕГДА РУКОВОДСТВУЮТСЯ ЗАКОНОМ СОХРАНЕНИЯ И ПРЕВРАЩЕНИЯ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Закон сохранения и </a:t>
            </a:r>
            <a:br>
              <a:rPr sz="3600"/>
            </a:b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превращения механической энергии</a:t>
            </a:r>
            <a:endParaRPr b="1" lang="en-US" sz="36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643040"/>
            <a:ext cx="60530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ним из следствий закона сохранения и превращения энергии является утверждение 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возможности создания «вечного двигат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perpetuum mobil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 – машины, которая могла бы неопределенно долго совершать работу, не расходуя при этом энер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257560" cy="387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savepic.net/1876801.jpg"/>
          <p:cNvPicPr/>
          <p:nvPr/>
        </p:nvPicPr>
        <p:blipFill>
          <a:blip r:embed="rId3"/>
          <a:stretch/>
        </p:blipFill>
        <p:spPr>
          <a:xfrm rot="19915800">
            <a:off x="826920" y="4292640"/>
            <a:ext cx="1374840" cy="1655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763640" y="4581360"/>
            <a:ext cx="4572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на выб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Найти и описать одну из     моделей вечного двиг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Составить задачи практического содержания «ЗСЭ на стройк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3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920" y="64296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Искрятся гл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Смеется ду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И ум мой по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15968"/>
                </a:solidFill>
                <a:latin typeface="Arial"/>
              </a:rPr>
              <a:t>«К знаниям впере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3252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. Не весел я сегод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В тишине взгрустнулось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И о законах сохран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Все промчалось вдал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Вспоминая, все познания сво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И мир физики вновь пости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Я благодарен матушке судь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Что импульс есть и энергии не с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227640" y="282600"/>
            <a:ext cx="2305080" cy="2090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251460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g1.liveinternet.ru/images/attach/c/1/60/635/60635584_background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goodclipart.ru/data/ramki_i_fon/BORDERS14/eb/BX1625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ntoclassics.net/_nw/175/49938722.jpg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3" descr=""/>
          <p:cNvPicPr/>
          <p:nvPr/>
        </p:nvPicPr>
        <p:blipFill>
          <a:blip r:embed="rId6"/>
          <a:stretch/>
        </p:blipFill>
        <p:spPr>
          <a:xfrm>
            <a:off x="428760" y="328608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4" descr=""/>
          <p:cNvPicPr/>
          <p:nvPr/>
        </p:nvPicPr>
        <p:blipFill>
          <a:blip r:embed="rId7"/>
          <a:stretch/>
        </p:blipFill>
        <p:spPr>
          <a:xfrm>
            <a:off x="500040" y="1714680"/>
            <a:ext cx="7858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Кинетическая энергия- </a:t>
            </a:r>
            <a:br>
              <a:rPr sz="4800"/>
            </a:br>
            <a:r>
              <a:rPr b="0" lang="en-US" sz="4000" spc="-1" strike="noStrike">
                <a:solidFill>
                  <a:srgbClr val="cc0000"/>
                </a:solidFill>
                <a:latin typeface="Calibri"/>
              </a:rPr>
              <a:t>– это энергия тела приобретенная при движении.</a:t>
            </a:r>
            <a:br>
              <a:rPr sz="4000"/>
            </a:b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22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4508640"/>
            <a:ext cx="792000" cy="720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716280"/>
            <a:ext cx="719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4365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4365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211640" y="2565360"/>
                <a:ext cx="414036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8" name="Picture 12" descr="6"/>
          <p:cNvPicPr/>
          <p:nvPr/>
        </p:nvPicPr>
        <p:blipFill>
          <a:blip r:embed="rId2"/>
          <a:stretch/>
        </p:blipFill>
        <p:spPr>
          <a:xfrm>
            <a:off x="6516720" y="508464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7" descr="баба-яга"/>
          <p:cNvPicPr/>
          <p:nvPr/>
        </p:nvPicPr>
        <p:blipFill>
          <a:blip r:embed="rId3"/>
          <a:stretch/>
        </p:blipFill>
        <p:spPr>
          <a:xfrm>
            <a:off x="-181080" y="1844640"/>
            <a:ext cx="2895840" cy="10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86 -0.02359 L -0.55486 -0.02359 E">
                                      <p:cBhvr>
                                        <p:cTn id="1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04a7b"/>
                </a:solidFill>
                <a:latin typeface="Calibri"/>
              </a:rPr>
              <a:t>Потенциальная энергия- </a:t>
            </a:r>
            <a:br>
              <a:rPr sz="4400"/>
            </a:b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это энергия которой обладают предметы в состоянии покоя, при подъеме или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деформируемые тел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449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989000"/>
            <a:ext cx="863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0" idx="1"/>
            <a:endCxn id="110" idx="1"/>
          </p:cNvCxnSpPr>
          <p:nvPr/>
        </p:nvCxnSpPr>
        <p:spPr>
          <a:xfrm>
            <a:off x="761760" y="1333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826920" y="48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2916000" y="2349000"/>
            <a:ext cx="108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003480" y="341784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3645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0072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1636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3236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213000"/>
            <a:ext cx="57636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33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5940360" y="321300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1224000"/>
              <a:gd name="textAreaBottom" fmla="*/ 1128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2800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284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3573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16000" y="5084640"/>
                <a:ext cx="360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q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4394160"/>
                <a:ext cx="280836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5" name="Picture 40" descr="купидон"/>
          <p:cNvPicPr/>
          <p:nvPr/>
        </p:nvPicPr>
        <p:blipFill>
          <a:blip r:embed="rId2"/>
          <a:stretch/>
        </p:blipFill>
        <p:spPr>
          <a:xfrm rot="1740000">
            <a:off x="2916000" y="4941360"/>
            <a:ext cx="276840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4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0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7" descr="D:\картинки, мои документы, Гришанова\картинки на V\Коллекция картинок (Microsoft)\j0284144.gif"/>
          <p:cNvPicPr/>
          <p:nvPr/>
        </p:nvPicPr>
        <p:blipFill>
          <a:blip r:embed="rId2"/>
          <a:stretch/>
        </p:blipFill>
        <p:spPr>
          <a:xfrm rot="786000">
            <a:off x="0" y="2060280"/>
            <a:ext cx="9288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042920" y="27082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6200" y="258444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85880" y="2428920"/>
            <a:ext cx="3816360" cy="19227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тенциальная энерги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– это энергия которой обладают предметы в состоянии покоя  и при под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859280" y="191628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932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105520" y="2438280"/>
            <a:ext cx="3457440" cy="1557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Кинетическая энерги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– это энергия тела приобретенная при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5564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187280" y="3524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87280" y="54936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19280" y="189000"/>
            <a:ext cx="84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СУЩЕСТВУЕТ ДВА ВИДА МЕХАНИЧЕСКОЙ ЭНЕРГИИ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КИНЕТИЧЕСКАЯ И ПОТЕНЦИАЛЬНАЯ, КОТОРЫЕ МОГУТ ПРЕВРАЩАТЬСЯ ДРУГ В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D:\картинки, мои документы, Гришанова\картинки на V\Коллекция картинок (Microsoft)\j0188537.wmf"/>
          <p:cNvPicPr/>
          <p:nvPr/>
        </p:nvPicPr>
        <p:blipFill>
          <a:blip r:embed="rId3"/>
          <a:stretch/>
        </p:blipFill>
        <p:spPr>
          <a:xfrm>
            <a:off x="900000" y="4508640"/>
            <a:ext cx="1440000" cy="183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Вы видите катящийся шар и разлетающиеся от его удара кегли, вращающиеся лопасти вентилятора и создаваемый ими поток воздуха. Все эти тела движутся. Следовательно, обладают кинетической энергией."/>
          <p:cNvPicPr/>
          <p:nvPr/>
        </p:nvPicPr>
        <p:blipFill>
          <a:blip r:embed="rId4"/>
          <a:stretch/>
        </p:blipFill>
        <p:spPr>
          <a:xfrm>
            <a:off x="3132000" y="4437000"/>
            <a:ext cx="3143520" cy="2131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По отношению к дороге пень неподвижен. Однако по отношению к велосипедисту пень движется - стремительно приближается. Поэтому с точки зрения спортсмена пень обладает кинетической энергией. Она проявится в случае столкновения - велосипед будет сломан."/>
          <p:cNvPicPr/>
          <p:nvPr/>
        </p:nvPicPr>
        <p:blipFill>
          <a:blip r:embed="rId5"/>
          <a:stretch/>
        </p:blipFill>
        <p:spPr>
          <a:xfrm>
            <a:off x="6643800" y="4754520"/>
            <a:ext cx="2104920" cy="16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Тест игра “Верю – не верю”</a:t>
            </a:r>
            <a:br>
              <a:rPr sz="3200"/>
            </a:b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(Ответы на вопросы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: “да”, “нет” )</a:t>
            </a:r>
            <a:endParaRPr b="1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653000"/>
            <a:ext cx="450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87280" y="1557360"/>
          <a:ext cx="7102440" cy="4410000"/>
        </p:xfrm>
        <a:graphic>
          <a:graphicData uri="http://schemas.openxmlformats.org/drawingml/2006/table">
            <a:tbl>
              <a:tblPr/>
              <a:tblGrid>
                <a:gridCol w="3529080"/>
                <a:gridCol w="357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тенциальная энергия мяча в конце падения максималь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м больше скорость тела, тем больше его кинетическ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 полете стрелы вверх кинетическая энергия увеличивается, а потенциальная энергия уменьша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тянутая пружин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дает  потенциальной энерг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ижущееся тело обладает кинетической энергией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енциальная энергия пружины тем  больше, чем меньше ее деформ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ем выше тело поднято над Землей, тем больше его потенциальн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яч бросили вверх. В верхней точке у него будет максимальная кинетическая энерг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падающего камня кинетическая энергия увеличивается, а потенциальная энергия уменьша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ло,  поднятое над поверхностью земли, обладает потенциальной энергией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3414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433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Эталон ответа</a:t>
            </a:r>
            <a:endParaRPr b="1" lang="en-US" sz="4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63640" y="1484280"/>
          <a:ext cx="5010120" cy="4089600"/>
        </p:xfrm>
        <a:graphic>
          <a:graphicData uri="http://schemas.openxmlformats.org/drawingml/2006/table">
            <a:tbl>
              <a:tblPr/>
              <a:tblGrid>
                <a:gridCol w="2376720"/>
                <a:gridCol w="2633400"/>
              </a:tblGrid>
              <a:tr h="99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Игра: “Заблудившиеся величины”. Определить соответствие между величинами и единицами измерение.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71640" y="1413000"/>
          <a:ext cx="2890440" cy="2191680"/>
        </p:xfrm>
        <a:graphic>
          <a:graphicData uri="http://schemas.openxmlformats.org/drawingml/2006/table">
            <a:tbl>
              <a:tblPr/>
              <a:tblGrid>
                <a:gridCol w="1766160"/>
                <a:gridCol w="11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корени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364000" y="1413000"/>
          <a:ext cx="2876400" cy="2185560"/>
        </p:xfrm>
        <a:graphic>
          <a:graphicData uri="http://schemas.openxmlformats.org/drawingml/2006/table">
            <a:tbl>
              <a:tblPr/>
              <a:tblGrid>
                <a:gridCol w="1780920"/>
                <a:gridCol w="109548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линен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56000" y="3933720"/>
          <a:ext cx="4037760" cy="2187360"/>
        </p:xfrm>
        <a:graphic>
          <a:graphicData uri="http://schemas.openxmlformats.org/drawingml/2006/table">
            <a:tbl>
              <a:tblPr/>
              <a:tblGrid>
                <a:gridCol w="2466720"/>
                <a:gridCol w="15710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Эталон ответа “Заблудившиеся величины”.</a:t>
            </a:r>
            <a:r>
              <a:rPr b="1" lang="en-US" sz="24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71640" y="1413000"/>
          <a:ext cx="2890440" cy="2191680"/>
        </p:xfrm>
        <a:graphic>
          <a:graphicData uri="http://schemas.openxmlformats.org/drawingml/2006/table">
            <a:tbl>
              <a:tblPr/>
              <a:tblGrid>
                <a:gridCol w="1766160"/>
                <a:gridCol w="11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корени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364000" y="1413000"/>
          <a:ext cx="2876400" cy="2185560"/>
        </p:xfrm>
        <a:graphic>
          <a:graphicData uri="http://schemas.openxmlformats.org/drawingml/2006/table">
            <a:tbl>
              <a:tblPr/>
              <a:tblGrid>
                <a:gridCol w="1780920"/>
                <a:gridCol w="109548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о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линен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556000" y="3933720"/>
          <a:ext cx="4038480" cy="2293920"/>
        </p:xfrm>
        <a:graphic>
          <a:graphicData uri="http://schemas.openxmlformats.org/drawingml/2006/table">
            <a:tbl>
              <a:tblPr/>
              <a:tblGrid>
                <a:gridCol w="2466720"/>
                <a:gridCol w="157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ью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2411280" y="206028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55600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700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637000"/>
            <a:ext cx="360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411280" y="2565000"/>
            <a:ext cx="648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4149720"/>
            <a:ext cx="1008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27640" y="407628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5013360"/>
            <a:ext cx="143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5084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00720" y="4581000"/>
            <a:ext cx="8632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1700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1989000"/>
            <a:ext cx="5745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948360" y="2204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20000" y="1628640"/>
            <a:ext cx="2887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256536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46:14Z</dcterms:created>
  <dc:creator>Comp</dc:creator>
  <dc:description/>
  <dc:language>en-US</dc:language>
  <cp:lastModifiedBy>Admin</cp:lastModifiedBy>
  <dcterms:modified xsi:type="dcterms:W3CDTF">2014-11-20T20:10:00Z</dcterms:modified>
  <cp:revision>13</cp:revision>
  <dc:subject/>
  <dc:title>Слайд 1</dc:title>
</cp:coreProperties>
</file>