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6DCD-9CA0-45C3-8454-37FC6FEAD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5C3-6608-433F-AB1F-55D24D4FB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CEF-3F59-481B-AFB1-49B0AD83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BC6-2332-4E12-BB0B-4A46FEC5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E6F-580A-4F18-BBBF-8E3A08E2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BAC-B2D7-4ECE-BD79-15BDEAFC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7D3-B0E1-47A6-BFB2-B701FE5F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5987-C301-408E-A2A5-AFB88D2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653B-CC34-4899-B205-CD09B31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0F5-A1E0-49D3-B99D-629D7A89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4E3C-369C-48CF-AD26-09B8DE49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E7B-398D-4F0E-ABEB-FB9357DA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F4B3-8EDD-4DAE-9B1D-ADA0731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52C-5E5C-4E96-AE91-43269C5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2EC4-4408-41B5-83B7-5353EE0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0819-9AD8-4450-A6AF-392E0E1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006-8754-4995-A878-1826C41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C13-91C0-4062-A09B-D19E2420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7A5-694C-44A8-BC5E-0054BC3C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9FAC-E3BB-473F-AD44-5B49A761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7D03-BE55-4E50-925B-CFEDAC21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CEE4-8B0F-4D2D-9220-42FC961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7763-2A42-4E87-B441-304603F7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AFB7-A768-4E40-B066-8015F2B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161-26A7-4FBE-AA76-3F9D815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10F2-80F9-4F14-8A0E-F6F6429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F2AF-153B-4205-8726-2E57B5C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7BCA-6137-4CC2-8428-99F861D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17D5-150B-4114-BB98-C5E9533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3150-3123-488B-99E8-98DFD7B8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0106-5865-4EDD-9EA2-ADE9A970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6E93-8698-4270-A784-BE8956E8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0B6F-B31E-4BD6-B1CF-DFAE9D5D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C452-85AF-447C-BEBD-08C9402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3A24-DAA4-4A57-A73B-39642ED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1E4-5805-4572-AD01-61882D6C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6C7C-CBCD-4D6B-BB82-27F0BA9A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8C77-5F01-4605-AE53-5EE6BD7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AF0F-69BE-4B0D-A4DF-BB9BC9E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E0C2-6EAF-4496-B984-E588CC2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8262-779E-40C5-A5DF-3B20ED4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5592-02CD-4808-B9A4-97F4CB5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4663-9734-40ED-B418-A542831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DBC0-9C5B-4597-A5E9-B2CBA915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0044-2396-49B8-B052-E5D53D6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D88-5C26-4540-8FDC-9B7CB17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AE8-AD26-4DAE-914B-94B70F1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94D-79E5-4669-A919-7E7622D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BAE-D5FF-4136-B180-01B77DF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4A9-2095-4B22-96AB-3949CAA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B759-5B72-42C2-B4FC-69A4999376A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FA5-C48E-4B1C-BC24-A69476A8B9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06FA-146E-4B97-A831-EE17C247268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179-E341-41EA-A2B6-40A8E5BFB9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1125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сихологические советы родителям при подготовке старшеклассников к экзаменам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D:\temp\Тома\Тома Стефани\здоровье учителя и ученика\7.jpg"/>
          <p:cNvPicPr/>
          <p:nvPr/>
        </p:nvPicPr>
        <p:blipFill>
          <a:blip r:embed="rId1"/>
          <a:stretch/>
        </p:blipFill>
        <p:spPr>
          <a:xfrm>
            <a:off x="826920" y="3549600"/>
            <a:ext cx="28814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дбадривайте детей, хвалите их за то , что они делают хорош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Контролируйте режим подготовки ребёнка к экзаменам, не допускайте перегруз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 д. стимулируют работу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кануне экзамена обеспечьте ребёнку полноценный отдых, он должен отдохнуть и как следует выс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критикуете ребёнка после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Arial"/>
              </a:rPr>
              <a:t>Посоветуйте детям во время экзамена обратить внимание на следующе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1900" spc="-1" strike="noStrike" u="sng">
                <a:solidFill>
                  <a:srgbClr val="0099ff"/>
                </a:solidFill>
                <a:uFillTx/>
                <a:latin typeface="Arial"/>
              </a:rPr>
              <a:t>И помнит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самое главное- это снизить напряжение и тревожность ребенка и обеспечить подходящие условия для занят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eadbd"/>
                    </a:gs>
                  </a:gsLst>
                  <a:lin ang="6474000"/>
                </a:gradFill>
                <a:latin typeface="Monotype Corsiva"/>
              </a:rPr>
              <a:t>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eadbd"/>
                  </a:gs>
                </a:gsLst>
                <a:lin ang="6474000"/>
              </a:gradFill>
              <a:latin typeface="Monotype Corsiva"/>
              <a:ea typeface="Monotype Corsiv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725480" cy="2067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 rot="20488200">
            <a:off x="999000" y="18572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Что такое стресс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9900"/>
                </a:solidFill>
                <a:uFillTx/>
                <a:latin typeface="Arial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физиологическая реакция организма, выражающаяся в состоянии напряжения, подавленности, с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32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ИЗИОЛОГИЧЕСКИ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иление кожной сып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головные бо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ошн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«медвежья болезнь» (диаре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ышечное напряж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глубление и учащение дых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чащённый пуль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ерепады артериального дав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ЭМОЦИОНАЛЬНЫ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чувство общего недомог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стеря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ани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тр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неувер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рево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одавл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здражи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b812f"/>
                </a:solidFill>
                <a:latin typeface="Arial"/>
              </a:rPr>
              <a:t>КОГНИТИВНЫЕ (ИНТЕЛЛЕКТУАЛЬНЫЕ) СИМПТОМ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еприятные воспоминания о провалах на экзаменах в прошлом (своих или чуж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кошмарные сновид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ухудшение памя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снижение способности к концентрации внимания, рассеян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b812f"/>
                </a:solidFill>
                <a:latin typeface="Arial"/>
              </a:rPr>
              <a:t>ПОВЕДЕНЧЕСКИЕ СИМПТОМЫ:</a:t>
            </a: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стремление заниматься любым другим делом, лишь бы не готовиться к экзамен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избегание любых напоминаний об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меньшение эффективности в учёбе в экзаменационный период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вовлечение других людей в тревожные разговоры о предстоящих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величение употребления кофеина и алкогол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с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аппет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Стрессоустойчив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temp\Тома\Тома Стефани\ЕГЭ 2\9.gif"/>
          <p:cNvPicPr/>
          <p:nvPr/>
        </p:nvPicPr>
        <p:blipFill>
          <a:blip r:embed="rId1"/>
          <a:stretch/>
        </p:blipFill>
        <p:spPr>
          <a:xfrm>
            <a:off x="7020000" y="5013360"/>
            <a:ext cx="163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Экзаменационный стрес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Причи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интенсивная умственная дея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грузка на одни и те же мышцы и органы из-за длительного сиден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рушение режима сна и отдых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егативные переж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D:\temp\Тома\Тома Стефани\здоровье учителя и ученика\6.jpg"/>
          <p:cNvPicPr/>
          <p:nvPr/>
        </p:nvPicPr>
        <p:blipFill>
          <a:blip r:embed="rId1"/>
          <a:stretch/>
        </p:blipFill>
        <p:spPr>
          <a:xfrm>
            <a:off x="6443640" y="4437000"/>
            <a:ext cx="21528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нушайте ребёнку мысль, что количество баллов не является совершенным измерением его возмо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dc:language>en-US</dc:language>
  <cp:lastModifiedBy>123</cp:lastModifiedBy>
  <dcterms:modified xsi:type="dcterms:W3CDTF">2013-10-27T16:23:31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