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46FE-172E-4E2C-B946-3407DA4AEA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B126-ABE6-4A0D-968A-BA7956889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385-7D1D-4E2A-A3EF-7D670EC9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DCD-64B1-4F73-AB35-949D7E29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54F-8143-43F4-81A6-EEBD037B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61B-F006-4ADB-A2FA-C5688EDD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0770-3FA8-47C8-8847-2FE01761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DD9E-6043-4367-A6A9-8E59728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165-CC00-4E8F-9CC3-742F332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083-F0D5-4FF1-A2B3-443E5CB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694D-8B52-45C8-A98F-508CCCBE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2DA2-C619-48E7-942B-25DC0688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86BA-6D97-49D8-B5A2-B4D9462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C58-2F3A-4D5A-AA39-C4C51BD4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A993-129B-4297-BC05-1042571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7F95-C00D-4A7D-B1E8-1CA8189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66C-FD14-44F7-9EDC-3EE09EC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E8F9-5B07-4444-BB68-F7F5E0F0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754C-9E35-40BE-99B0-8F8ABC29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48FB-4618-44E7-BF03-730331B0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CA76-9B3C-44BE-955A-595D7780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5BA3-E852-4590-B388-DFB3479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F45C-71AD-4A32-88A7-4212999A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817B-A380-475D-B817-1720BCA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AC7-3D4A-4432-BECC-C5472F0D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801D-33C2-4700-8DB9-9C337E80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657F-8746-4411-8BCD-81B67DE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0F28-0440-4E91-9EA2-CC778ED1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A061-6072-4E81-8830-6701DBA1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156D-3C63-4EAF-BFE0-D3ACB9A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D0E0-F8FB-47E7-9CCD-F1E25F4E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A097-3858-4DC4-B8E8-4C517251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C2F8-715F-4741-8D0B-0C9565F7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27A7-CCFC-4E41-813F-306BEF90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1E96-C1F4-4D3E-AE83-6EC317E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D2A-E7C5-4F17-9AFB-EF0E643B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A38B-0DC5-4F4F-939D-D8B1160E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898B-B360-4DE6-815C-30B726DA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5EF56-9713-479A-9522-A97F98C6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B2E9-D66D-4980-9D0C-8B32A5A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CC91-C63F-454C-AF84-F463374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BD68-D137-4424-8717-FE2DE00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44B1-08A9-479C-87A2-4D3F8D48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7203-D515-47FB-A78D-6F315EDE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3D8D-CB9C-47EC-A78A-3E9A64A9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D08-5978-4913-84D2-1E0E11F8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7E5-834B-4A2E-B28F-11857D3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E0C-091E-4620-9FF2-87175B2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F27-0B79-4B7E-B33B-C1A4220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31D-B3F4-42A0-8703-F4A3D5A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2339-A2BC-4247-9A16-C0A3514E7F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52FB-7510-4514-BD7F-E35920E689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1136-DD5E-455D-94C6-62401827CE7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C109-F75E-482E-8F45-3447E33C2E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468360" y="1125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сихологические советы родителям при подготовке старшеклассников к экзаменам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D:\temp\Тома\Тома Стефани\здоровье учителя и ученика\7.jpg"/>
          <p:cNvPicPr/>
          <p:nvPr/>
        </p:nvPicPr>
        <p:blipFill>
          <a:blip r:embed="rId1"/>
          <a:stretch/>
        </p:blipFill>
        <p:spPr>
          <a:xfrm>
            <a:off x="826920" y="3549600"/>
            <a:ext cx="2881440" cy="228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дбадривайте детей, хвалите их за то , что они делают хорош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вышайте их уверенность в себе, так как чем больше ребенок боится неудачи, тем более вероятности допущения ошиб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Контролируйте режим подготовки ребёнка к экзаменам, не допускайте перегруз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 д. стимулируют работу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кануне экзамена обеспечьте ребёнку полноценный отдых, он должен отдохнуть и как следует высп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критикуете ребёнка после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Arial"/>
              </a:rPr>
              <a:t>Посоветуйте детям во время экзамена обратить внимание на следующе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ru-RU" sz="1900" spc="-1" strike="noStrike" u="sng">
                <a:solidFill>
                  <a:srgbClr val="0099ff"/>
                </a:solidFill>
                <a:uFillTx/>
                <a:latin typeface="Arial"/>
              </a:rPr>
              <a:t>И помнит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самое главное- это снизить напряжение и тревожность ребенка и обеспечить подходящие условия для занят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eadbd"/>
                    </a:gs>
                  </a:gsLst>
                  <a:lin ang="6474000"/>
                </a:gradFill>
                <a:latin typeface="Monotype Corsiva"/>
              </a:rPr>
              <a:t>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eadbd"/>
                  </a:gs>
                </a:gsLst>
                <a:lin ang="6474000"/>
              </a:gradFill>
              <a:latin typeface="Monotype Corsiva"/>
              <a:ea typeface="Monotype Corsiv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7020000" y="3933720"/>
            <a:ext cx="1725480" cy="2067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 rot="20488200">
            <a:off x="999000" y="185724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Что такое стресс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9900"/>
                </a:solidFill>
                <a:uFillTx/>
                <a:latin typeface="Arial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физиологическая реакция организма, выражающаяся в состоянии напряжения, подавленности, с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32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ФИЗИОЛОГИЧЕСКИ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силение кожной сып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головные бо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ошн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«медвежья болезнь» (диаре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ышечное напряж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глубление и учащение дых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чащённый пуль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ерепады артериального давл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ЭМОЦИОНАЛЬНЫ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чувство общего недомог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стеря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ани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тр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неувер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ревог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депресс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одавл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здражи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b812f"/>
                </a:solidFill>
                <a:latin typeface="Arial"/>
              </a:rPr>
              <a:t>КОГНИТИВНЫЕ (ИНТЕЛЛЕКТУАЛЬНЫЕ) СИМПТОМЫ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неприятные воспоминания о провалах на экзаменах в прошлом (своих или чуж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кошмарные сновид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ухудшение памя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снижение способности к концентрации внимания, рассеян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b812f"/>
                </a:solidFill>
                <a:latin typeface="Arial"/>
              </a:rPr>
              <a:t>ПОВЕДЕНЧЕСКИЕ СИМПТОМЫ:</a:t>
            </a:r>
            <a:r>
              <a:rPr b="0" lang="ru-RU" sz="21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стремление заниматься любым другим делом, лишь бы не готовиться к экзамен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избегание любых напоминаний об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меньшение эффективности в учёбе в экзаменационный период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вовлечение других людей в тревожные разговоры о предстоящих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величение употребления кофеина и алкогол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с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аппет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Стрессоустойчив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temp\Тома\Тома Стефани\ЕГЭ 2\9.gif"/>
          <p:cNvPicPr/>
          <p:nvPr/>
        </p:nvPicPr>
        <p:blipFill>
          <a:blip r:embed="rId1"/>
          <a:stretch/>
        </p:blipFill>
        <p:spPr>
          <a:xfrm>
            <a:off x="7020000" y="5013360"/>
            <a:ext cx="16351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Экзаменационный стрес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Причи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интенсивная умственная дея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грузка на одни и те же мышцы и органы из-за длительного сиден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рушение режима сна и отдых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егативные переж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D:\temp\Тома\Тома Стефани\здоровье учителя и ученика\6.jpg"/>
          <p:cNvPicPr/>
          <p:nvPr/>
        </p:nvPicPr>
        <p:blipFill>
          <a:blip r:embed="rId1"/>
          <a:stretch/>
        </p:blipFill>
        <p:spPr>
          <a:xfrm>
            <a:off x="6443640" y="4437000"/>
            <a:ext cx="21528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нушайте ребёнку мысль, что количество баллов не является совершенным измерением его возмо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dc:language>en-US</dc:language>
  <cp:lastModifiedBy>123</cp:lastModifiedBy>
  <dcterms:modified xsi:type="dcterms:W3CDTF">2013-10-27T16:23:31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