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CC34-3D13-4A99-AD3B-CB3FA74A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EFD-FED4-448D-9E4C-8C27077E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AFE-DEDC-4E2C-A8EF-DA07C6BF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F5A4-068F-4182-B5AE-3FC5D2D8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9B54-606A-4414-ABF4-62293BED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1D5A-2C59-4F93-935B-D25917F7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CFF3-2232-4006-A9ED-94B928CF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A2E3-469E-425C-97E4-6EBF2E46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CEFA-BA75-4A06-B74C-B567DF63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F9A1-32FC-47D0-8F81-3BD3F1E6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D14F-5B95-4FA8-B31F-7A30C906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117-FA73-46CE-A020-145AC99C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F47C-8D5D-4AF0-93C7-A3D189A2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17DE-85CA-48CD-93E7-D41F25A2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034C-19A7-4EC4-8C2E-12CFC75C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1673-AE72-474F-B811-47A77DE8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9E4B-BC31-4D7A-ADFF-A59584C2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B56-18C4-475C-BCDE-ED19FBA0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7AC-80B6-4971-A108-CC5E2F25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893-DA30-4B86-BA18-1D762B16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EDB-6CAA-4FA3-B7FD-4469431E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187-7DD9-4F92-99AA-82589B5D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623-29C7-48C0-8660-2D4AD324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7D5-B7C4-4703-89CE-F087E600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2EE8-9448-4E90-BB24-5B1E42015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9F99-1DE7-441B-AEBD-2E18E2070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10"/>
          <p:cNvSpPr txBox="1"/>
          <p:nvPr/>
        </p:nvSpPr>
        <p:spPr>
          <a:xfrm>
            <a:off x="611280" y="333360"/>
            <a:ext cx="461016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зопас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е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м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9" name="Picture 11" descr="679"/>
          <p:cNvPicPr/>
          <p:nvPr/>
        </p:nvPicPr>
        <p:blipFill>
          <a:blip r:embed="rId1"/>
          <a:stretch/>
        </p:blipFill>
        <p:spPr>
          <a:xfrm>
            <a:off x="5148360" y="2492280"/>
            <a:ext cx="3200400" cy="37054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1000080" y="4929120"/>
            <a:ext cx="3429000" cy="1500120"/>
          </a:xfrm>
          <a:prstGeom prst="rect">
            <a:avLst/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873"/>
                </a:solidFill>
                <a:latin typeface="Decorlz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873"/>
                </a:solidFill>
                <a:latin typeface="Decorlz"/>
              </a:rPr>
              <a:t>Воспитатель </a:t>
            </a:r>
            <a:r>
              <a:rPr b="0" lang="ru-RU" sz="1800" spc="-1" strike="noStrike">
                <a:solidFill>
                  <a:srgbClr val="004873"/>
                </a:solidFill>
                <a:latin typeface="Arial Black"/>
              </a:rPr>
              <a:t>МДОАУ</a:t>
            </a:r>
            <a:r>
              <a:rPr b="0" lang="ru-RU" sz="1800" spc="-1" strike="noStrike">
                <a:solidFill>
                  <a:srgbClr val="004873"/>
                </a:solidFill>
                <a:latin typeface="Decorlz"/>
              </a:rPr>
              <a:t> «</a:t>
            </a:r>
            <a:r>
              <a:rPr b="0" lang="ru-RU" sz="1800" spc="-1" strike="noStrike">
                <a:solidFill>
                  <a:srgbClr val="004873"/>
                </a:solidFill>
                <a:latin typeface="Arial Black"/>
              </a:rPr>
              <a:t>Д</a:t>
            </a:r>
            <a:r>
              <a:rPr b="0" lang="ru-RU" sz="1800" spc="-1" strike="noStrike">
                <a:solidFill>
                  <a:srgbClr val="004873"/>
                </a:solidFill>
                <a:latin typeface="Decorlz"/>
              </a:rPr>
              <a:t>етский сад </a:t>
            </a:r>
            <a:r>
              <a:rPr b="0" lang="ru-RU" sz="1800" spc="-1" strike="noStrike">
                <a:solidFill>
                  <a:srgbClr val="004873"/>
                </a:solidFill>
                <a:latin typeface="Arial Black"/>
              </a:rPr>
              <a:t>№ 15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873"/>
                </a:solidFill>
                <a:latin typeface="Decorlz"/>
              </a:rPr>
              <a:t>первой кв. катего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873"/>
                </a:solidFill>
                <a:latin typeface="Arial Black"/>
              </a:rPr>
              <a:t>Т</a:t>
            </a:r>
            <a:r>
              <a:rPr b="0" lang="ru-RU" sz="1800" spc="-1" strike="noStrike">
                <a:solidFill>
                  <a:srgbClr val="004873"/>
                </a:solidFill>
                <a:latin typeface="Decorlz"/>
              </a:rPr>
              <a:t>ычинина </a:t>
            </a:r>
            <a:r>
              <a:rPr b="0" lang="ru-RU" sz="1800" spc="-1" strike="noStrike">
                <a:solidFill>
                  <a:srgbClr val="004873"/>
                </a:solidFill>
                <a:latin typeface="Arial Black"/>
              </a:rPr>
              <a:t>А.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259092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ерь ванной комнаты постоянно должна быть закры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6"/>
          <p:cNvSpPr txBox="1"/>
          <p:nvPr/>
        </p:nvSpPr>
        <p:spPr>
          <a:xfrm>
            <a:off x="2050920" y="333360"/>
            <a:ext cx="4826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8" name="Объект 5" descr="http://f.mypage.ru/60275ce610ea4ed6decb8752e0bc6093_d4ac72617245a2b9a534939df1e37023.jpg"/>
          <p:cNvPicPr/>
          <p:nvPr/>
        </p:nvPicPr>
        <p:blipFill>
          <a:blip r:embed="rId1"/>
          <a:stretch/>
        </p:blipFill>
        <p:spPr>
          <a:xfrm>
            <a:off x="4211640" y="1557360"/>
            <a:ext cx="47530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1" lang="ru-RU" sz="7200" spc="-1" strike="noStrike">
                <a:solidFill>
                  <a:srgbClr val="ff0000"/>
                </a:solidFill>
                <a:latin typeface="Arial Black"/>
              </a:rPr>
              <a:t>ВНИМАНИЕ</a:t>
            </a:r>
            <a:endParaRPr b="1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эти опасные предметы должны лежать в недоступном для детей 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" descr="005"/>
          <p:cNvPicPr/>
          <p:nvPr/>
        </p:nvPicPr>
        <p:blipFill>
          <a:blip r:embed="rId1"/>
          <a:stretch/>
        </p:blipFill>
        <p:spPr>
          <a:xfrm>
            <a:off x="5076720" y="1905120"/>
            <a:ext cx="340524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26560" y="333360"/>
            <a:ext cx="80074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хранять жизнь детей - это просто проявлять здравый смысл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чень важно, чтобы Вы на шаг опережали ребёнка, тогда Вы сумеете предвидеть, что он может сделать, - ещё до того, как он это сделае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ите, что Ваш малыш взрослеет и забот, ответственности за его жизнь и здоровье с каждым днём прибавляетс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гите ребёнку удовлетворить его познавательный интерес к окружающему миру, создав все необходимые условия безопасной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1341360"/>
            <a:ext cx="3157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кажите ребенку, почему нельзя баловаться со спичками, свечами, зажигалками, петардами и бенгальскими огнями. Не играй с этими предметами, это может привести к пожар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009"/>
          <p:cNvPicPr/>
          <p:nvPr/>
        </p:nvPicPr>
        <p:blipFill>
          <a:blip r:embed="rId1"/>
          <a:stretch/>
        </p:blipFill>
        <p:spPr>
          <a:xfrm>
            <a:off x="3708360" y="1341360"/>
            <a:ext cx="505944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308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да вставляйте блокираторы в электророзетки во избежание засунуть отвёртку, шпильку, пальчик в одну из дырочек, какие он видит в ст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008"/>
          <p:cNvPicPr/>
          <p:nvPr/>
        </p:nvPicPr>
        <p:blipFill>
          <a:blip r:embed="rId1"/>
          <a:stretch/>
        </p:blipFill>
        <p:spPr>
          <a:xfrm>
            <a:off x="3635280" y="981000"/>
            <a:ext cx="5148360" cy="51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39272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ясните ребенку, почему ничего нельзя вставлять в розетку. Обратите внимание ребенка на то, что ни в  коем случае нельзя дотрагиваться до розетки мокрыми руками. Нельзя вставлять в розетку посторонние предмет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001"/>
          <p:cNvPicPr/>
          <p:nvPr/>
        </p:nvPicPr>
        <p:blipFill>
          <a:blip r:embed="rId1"/>
          <a:stretch/>
        </p:blipFill>
        <p:spPr>
          <a:xfrm>
            <a:off x="4356000" y="1052640"/>
            <a:ext cx="447516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3927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да надёжно запирайте лекарства и всё, что может оказаться ядовитым для ребё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04"/>
          <p:cNvPicPr/>
          <p:nvPr/>
        </p:nvPicPr>
        <p:blipFill>
          <a:blip r:embed="rId1"/>
          <a:stretch/>
        </p:blipFill>
        <p:spPr>
          <a:xfrm>
            <a:off x="4284720" y="765000"/>
            <a:ext cx="4079880" cy="53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836280"/>
            <a:ext cx="3086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ясните ребенку, почему нельзя открывать дверь незнакомым людям. Поиграйте с ним в игру «Дзинь! Кто за дверью?», перечисляя своих близких и знакомых и выясняя вместе с ребенком, кому он может открывать дверь, а кому нет.. Не открывай дверь незнакомым людя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006"/>
          <p:cNvPicPr/>
          <p:nvPr/>
        </p:nvPicPr>
        <p:blipFill>
          <a:blip r:embed="rId1"/>
          <a:stretch/>
        </p:blipFill>
        <p:spPr>
          <a:xfrm>
            <a:off x="3851280" y="692280"/>
            <a:ext cx="504180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39272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ясните ребенку, что забираться на подоконник, высовываться из окна, преклоняться через перила балкона очень опасно. Можно не бояться высоты, но можно упасть и сильно поран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мни, играть на высоте опа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003"/>
          <p:cNvPicPr/>
          <p:nvPr/>
        </p:nvPicPr>
        <p:blipFill>
          <a:blip r:embed="rId1"/>
          <a:stretch/>
        </p:blipFill>
        <p:spPr>
          <a:xfrm>
            <a:off x="4788000" y="836640"/>
            <a:ext cx="35668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4214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жите ребенку предметы в вашей квартире, которые могут быть горячими. Будь осторожен с этими предметами, они очень горячие – можно обжеч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ясните ребенку, почему нельзя самостоятельно крутить рычажки и нажимать на кнопочки на плите и других приборах. Запомни, эти предметы тоже могут обжеч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6082_big"/>
          <p:cNvPicPr/>
          <p:nvPr/>
        </p:nvPicPr>
        <p:blipFill>
          <a:blip r:embed="rId1"/>
          <a:stretch/>
        </p:blipFill>
        <p:spPr>
          <a:xfrm>
            <a:off x="4708440" y="765000"/>
            <a:ext cx="39672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0:16:58Z</dcterms:created>
  <dc:creator>Наталья</dc:creator>
  <dc:description/>
  <dc:language>en-US</dc:language>
  <cp:lastModifiedBy>Марина</cp:lastModifiedBy>
  <dcterms:modified xsi:type="dcterms:W3CDTF">2015-08-20T02:51:45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