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392-C497-4E8F-8672-FE9FE55A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86D-EF5B-4B93-882E-62489086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B40-26F8-4F24-BC7B-27195C1D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753-ACB9-4996-B461-728F260D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550F-0420-4BA3-A541-62AB9143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F7B9-BB03-439B-8B49-DA374D6D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6D37-0852-42EC-9CE5-31AF98E9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844D-7C94-4EAF-B3E1-1F019D2F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4B0C-8463-469D-9B8C-6BCCFB87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CAB8-0AD3-4815-ADA1-86EE1EB2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0A0B-AE94-4CC8-8B96-44F2F370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46C-55CE-4C95-89D4-D18B81A0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9034-F1B6-442D-9AF5-E2ACB13B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2785-C96B-44A7-A0E7-64ED4597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241D-D457-4854-B2DC-E4480F6C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1281-9B70-4F61-8781-3A15CCB5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3996-1640-4557-938C-29A46AF3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DB5-5640-4B30-9A6F-9BE0874D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B508-78AB-4C36-AE3A-A411A5FF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8A7-84E7-4100-B810-355E5131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B47-BEC7-4609-9F58-43E0A3CD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F887-94C2-41A2-B53F-4FC3EAAA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BEC-7599-49BE-AC58-D399BA30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01C-C89F-4C40-A559-52F08BD2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3001-C4F6-487A-A356-96A61636C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A71F-60F7-40AB-8A28-CEE87110DE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10"/>
          <p:cNvSpPr txBox="1"/>
          <p:nvPr/>
        </p:nvSpPr>
        <p:spPr>
          <a:xfrm>
            <a:off x="611280" y="333360"/>
            <a:ext cx="461016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езопас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е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м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9" name="Picture 11" descr="679"/>
          <p:cNvPicPr/>
          <p:nvPr/>
        </p:nvPicPr>
        <p:blipFill>
          <a:blip r:embed="rId1"/>
          <a:stretch/>
        </p:blipFill>
        <p:spPr>
          <a:xfrm>
            <a:off x="5148360" y="2492280"/>
            <a:ext cx="3200400" cy="37054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1000080" y="4929120"/>
            <a:ext cx="3429000" cy="150012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873"/>
                </a:solidFill>
                <a:latin typeface="Decorlz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873"/>
                </a:solidFill>
                <a:latin typeface="Decorlz"/>
              </a:rPr>
              <a:t>Воспитатель </a:t>
            </a:r>
            <a:r>
              <a:rPr b="0" lang="ru-RU" sz="1800" spc="-1" strike="noStrike">
                <a:solidFill>
                  <a:srgbClr val="004873"/>
                </a:solidFill>
                <a:latin typeface="Arial Black"/>
              </a:rPr>
              <a:t>МДОАУ</a:t>
            </a:r>
            <a:r>
              <a:rPr b="0" lang="ru-RU" sz="1800" spc="-1" strike="noStrike">
                <a:solidFill>
                  <a:srgbClr val="004873"/>
                </a:solidFill>
                <a:latin typeface="Decorlz"/>
              </a:rPr>
              <a:t> «</a:t>
            </a:r>
            <a:r>
              <a:rPr b="0" lang="ru-RU" sz="1800" spc="-1" strike="noStrike">
                <a:solidFill>
                  <a:srgbClr val="004873"/>
                </a:solidFill>
                <a:latin typeface="Arial Black"/>
              </a:rPr>
              <a:t>Д</a:t>
            </a:r>
            <a:r>
              <a:rPr b="0" lang="ru-RU" sz="1800" spc="-1" strike="noStrike">
                <a:solidFill>
                  <a:srgbClr val="004873"/>
                </a:solidFill>
                <a:latin typeface="Decorlz"/>
              </a:rPr>
              <a:t>етский сад </a:t>
            </a:r>
            <a:r>
              <a:rPr b="0" lang="ru-RU" sz="1800" spc="-1" strike="noStrike">
                <a:solidFill>
                  <a:srgbClr val="004873"/>
                </a:solidFill>
                <a:latin typeface="Arial Black"/>
              </a:rPr>
              <a:t>№ 15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873"/>
                </a:solidFill>
                <a:latin typeface="Decorlz"/>
              </a:rPr>
              <a:t>первой кв. категор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873"/>
                </a:solidFill>
                <a:latin typeface="Arial Black"/>
              </a:rPr>
              <a:t>Т</a:t>
            </a:r>
            <a:r>
              <a:rPr b="0" lang="ru-RU" sz="1800" spc="-1" strike="noStrike">
                <a:solidFill>
                  <a:srgbClr val="004873"/>
                </a:solidFill>
                <a:latin typeface="Decorlz"/>
              </a:rPr>
              <a:t>ычинина </a:t>
            </a:r>
            <a:r>
              <a:rPr b="0" lang="ru-RU" sz="1800" spc="-1" strike="noStrike">
                <a:solidFill>
                  <a:srgbClr val="004873"/>
                </a:solidFill>
                <a:latin typeface="Arial Black"/>
              </a:rPr>
              <a:t>А.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280" y="1557360"/>
            <a:ext cx="259092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ерь ванной комнаты постоянно должна быть закры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6"/>
          <p:cNvSpPr txBox="1"/>
          <p:nvPr/>
        </p:nvSpPr>
        <p:spPr>
          <a:xfrm>
            <a:off x="2050920" y="333360"/>
            <a:ext cx="4826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8" name="Объект 5" descr="http://f.mypage.ru/60275ce610ea4ed6decb8752e0bc6093_d4ac72617245a2b9a534939df1e37023.jpg"/>
          <p:cNvPicPr/>
          <p:nvPr/>
        </p:nvPicPr>
        <p:blipFill>
          <a:blip r:embed="rId1"/>
          <a:stretch/>
        </p:blipFill>
        <p:spPr>
          <a:xfrm>
            <a:off x="4211640" y="1557360"/>
            <a:ext cx="47530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1" lang="ru-RU" sz="7200" spc="-1" strike="noStrike">
                <a:solidFill>
                  <a:srgbClr val="ff0000"/>
                </a:solidFill>
                <a:latin typeface="Arial Black"/>
              </a:rPr>
              <a:t>ВНИМАНИЕ</a:t>
            </a:r>
            <a:endParaRPr b="1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эти опасные предметы должны лежать в недоступном для детей 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5" descr="005"/>
          <p:cNvPicPr/>
          <p:nvPr/>
        </p:nvPicPr>
        <p:blipFill>
          <a:blip r:embed="rId1"/>
          <a:stretch/>
        </p:blipFill>
        <p:spPr>
          <a:xfrm>
            <a:off x="5076720" y="1905120"/>
            <a:ext cx="3405240" cy="39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26560" y="333360"/>
            <a:ext cx="80074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хранять жизнь детей - это просто проявлять здравый смысл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чень важно, чтобы Вы на шаг опережали ребёнка, тогда Вы сумеете предвидеть, что он может сделать, - ещё до того, как он это сделае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ите, что Ваш малыш взрослеет и забот, ответственности за его жизнь и здоровье с каждым днём прибавляетс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огите ребёнку удовлетворить его познавательный интерес к окружающему миру, создав все необходимые условия безопасной жизне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280" y="1341360"/>
            <a:ext cx="3157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кажите ребенку, почему нельзя баловаться со спичками, свечами, зажигалками, петардами и бенгальскими огнями. Не играй с этими предметами, это может привести к пожар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009"/>
          <p:cNvPicPr/>
          <p:nvPr/>
        </p:nvPicPr>
        <p:blipFill>
          <a:blip r:embed="rId1"/>
          <a:stretch/>
        </p:blipFill>
        <p:spPr>
          <a:xfrm>
            <a:off x="3708360" y="1341360"/>
            <a:ext cx="505944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308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да вставляйте блокираторы в электророзетки во избежание засунуть отвёртку, шпильку, пальчик в одну из дырочек, какие он видит в сте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008"/>
          <p:cNvPicPr/>
          <p:nvPr/>
        </p:nvPicPr>
        <p:blipFill>
          <a:blip r:embed="rId1"/>
          <a:stretch/>
        </p:blipFill>
        <p:spPr>
          <a:xfrm>
            <a:off x="3635280" y="981000"/>
            <a:ext cx="5148360" cy="51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39272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ясните ребенку, почему ничего нельзя вставлять в розетку. Обратите внимание ребенка на то, что ни в  коем случае нельзя дотрагиваться до розетки мокрыми руками. Нельзя вставлять в розетку посторонние предмет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001"/>
          <p:cNvPicPr/>
          <p:nvPr/>
        </p:nvPicPr>
        <p:blipFill>
          <a:blip r:embed="rId1"/>
          <a:stretch/>
        </p:blipFill>
        <p:spPr>
          <a:xfrm>
            <a:off x="4356000" y="1052640"/>
            <a:ext cx="447516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560" y="907560"/>
            <a:ext cx="3927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да надёжно запирайте лекарства и всё, что может оказаться ядовитым для ребё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004"/>
          <p:cNvPicPr/>
          <p:nvPr/>
        </p:nvPicPr>
        <p:blipFill>
          <a:blip r:embed="rId1"/>
          <a:stretch/>
        </p:blipFill>
        <p:spPr>
          <a:xfrm>
            <a:off x="4284720" y="765000"/>
            <a:ext cx="4079880" cy="53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836280"/>
            <a:ext cx="3086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ясните ребенку, почему нельзя открывать дверь незнакомым людям. Поиграйте с ним в игру «Дзинь! Кто за дверью?», перечисляя своих близких и знакомых и выясняя вместе с ребенком, кому он может открывать дверь, а кому нет.. Не открывай дверь незнакомым людя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006"/>
          <p:cNvPicPr/>
          <p:nvPr/>
        </p:nvPicPr>
        <p:blipFill>
          <a:blip r:embed="rId1"/>
          <a:stretch/>
        </p:blipFill>
        <p:spPr>
          <a:xfrm>
            <a:off x="3851280" y="692280"/>
            <a:ext cx="5041800" cy="52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39272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ясните ребенку, что забираться на подоконник, высовываться из окна, преклоняться через перила балкона очень опасно. Можно не бояться высоты, но можно упасть и сильно поран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мни, играть на высоте опа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003"/>
          <p:cNvPicPr/>
          <p:nvPr/>
        </p:nvPicPr>
        <p:blipFill>
          <a:blip r:embed="rId1"/>
          <a:stretch/>
        </p:blipFill>
        <p:spPr>
          <a:xfrm>
            <a:off x="4788000" y="836640"/>
            <a:ext cx="35668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4214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жите ребенку предметы в вашей квартире, которые могут быть горячими. Будь осторожен с этими предметами, они очень горячие – можно обжеч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ясните ребенку, почему нельзя самостоятельно крутить рычажки и нажимать на кнопочки на плите и других приборах. Запомни, эти предметы тоже могут обжеч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6082_big"/>
          <p:cNvPicPr/>
          <p:nvPr/>
        </p:nvPicPr>
        <p:blipFill>
          <a:blip r:embed="rId1"/>
          <a:stretch/>
        </p:blipFill>
        <p:spPr>
          <a:xfrm>
            <a:off x="4708440" y="765000"/>
            <a:ext cx="39672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0:16:58Z</dcterms:created>
  <dc:creator>Наталья</dc:creator>
  <dc:description/>
  <dc:language>en-US</dc:language>
  <cp:lastModifiedBy>Марина</cp:lastModifiedBy>
  <dcterms:modified xsi:type="dcterms:W3CDTF">2015-08-20T02:51:45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