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2.png" ContentType="image/png"/>
  <Override PartName="/ppt/media/image11.jpeg" ContentType="image/jpeg"/>
  <Override PartName="/ppt/media/image9.png" ContentType="image/png"/>
  <Override PartName="/ppt/media/image8.jpeg" ContentType="image/jpeg"/>
  <Override PartName="/ppt/media/image10.jpeg" ContentType="image/jpeg"/>
  <Override PartName="/ppt/media/image7.jpeg" ContentType="image/jpeg"/>
  <Override PartName="/ppt/media/image6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3.png" ContentType="image/png"/>
  <Override PartName="/ppt/media/CAMERA.WAV" ContentType="audio/x-wav"/>
  <Override PartName="/ppt/media/image1.wmf" ContentType="image/x-wmf"/>
  <Override PartName="/ppt/media/image2.wmf" ContentType="image/x-wmf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9F1F1-2F9C-4947-B9F2-AA9CAD5DFD7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0B309-295A-42A2-8845-37745EAE6D1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B32C-152E-4C58-8C5A-6ECE4ACA7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1147-E0E9-4902-9784-68CE95B22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8F8F-717F-4FA4-BF78-2782A5757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6307-3D62-4DD1-A760-29BD44643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BDC8-30BC-41B9-B81A-E9B3A4C69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64B7-5581-49D5-AAA7-C76588B19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EEFC-36E3-4FC7-9168-A7F629C00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8D58-FBDE-429D-A539-CE49E527F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B4EA-1C57-44C9-9985-C08E4AD78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6CD7-8D4C-438D-8593-BB5A325D6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17D3-528D-4F2B-8F95-76A213F94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3A3D-22F3-4F7B-8A52-0ECB0A99D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950F4-72C4-4147-8CF3-B03CB3ED1A9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50000">
              <a:srgbClr val="6699ff"/>
            </a:gs>
            <a:gs pos="100000">
              <a:srgbClr val="2f47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615960" y="365040"/>
          <a:ext cx="5614920" cy="856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5960" y="365040"/>
                    <a:ext cx="5614920" cy="856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380880" y="228600"/>
            <a:ext cx="6172200" cy="82404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лавным героем Отечественной войны 1812 года был Русский Солдат. Именно он вынес на своих плечах все тяготы небывалой до тех пор войны, выстоял и победил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2"/>
          <a:stretch/>
        </p:blipFill>
        <p:spPr>
          <a:xfrm>
            <a:off x="1066680" y="2362320"/>
            <a:ext cx="4924440" cy="376236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3"/>
          <p:cNvSpPr/>
          <p:nvPr/>
        </p:nvSpPr>
        <p:spPr>
          <a:xfrm>
            <a:off x="1828800" y="6324480"/>
            <a:ext cx="33526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от смерклось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ыли все готовы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аутра бой затеять новы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 до конца стоять.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от затрещали барабаны —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 отступили басурманы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огда считать мы стали раны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оварищей считать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6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6700"/>
                            </p:stCondLst>
                            <p:childTnLst>
                              <p:par>
                                <p:cTn id="1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7200"/>
                            </p:stCondLst>
                            <p:childTnLst>
                              <p:par>
                                <p:cTn id="191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3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8700"/>
                            </p:stCondLst>
                            <p:childTnLst>
                              <p:par>
                                <p:cTn id="195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7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200"/>
                            </p:stCondLst>
                            <p:childTnLst>
                              <p:par>
                                <p:cTn id="199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1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2200"/>
                            </p:stCondLst>
                            <p:childTnLst>
                              <p:par>
                                <p:cTn id="203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5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4700"/>
                            </p:stCondLst>
                            <p:childTnLst>
                              <p:par>
                                <p:cTn id="207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9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6700"/>
                            </p:stCondLst>
                            <p:childTnLst>
                              <p:par>
                                <p:cTn id="211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3" dur="5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8700"/>
                            </p:stCondLst>
                            <p:childTnLst>
                              <p:par>
                                <p:cTn id="215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7" dur="5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31700"/>
                            </p:stCondLst>
                            <p:childTnLst>
                              <p:par>
                                <p:cTn id="219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1" dur="5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380880" y="5257800"/>
            <a:ext cx="6096240" cy="20142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астница войны 1812 года. Надежда Дурова вызывала у современников удивление и восхищение. Она родилась в военной семье, с детства научилась великолепно владеть не только конем, но и оружием. Переодевшись в мундир, она несколько лет служила на военной службе в качестве офицера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4" descr="Дурова - первая женщина-офицер в России"/>
          <p:cNvPicPr/>
          <p:nvPr/>
        </p:nvPicPr>
        <p:blipFill>
          <a:blip r:embed="rId2"/>
          <a:stretch/>
        </p:blipFill>
        <p:spPr>
          <a:xfrm>
            <a:off x="1066680" y="838080"/>
            <a:ext cx="4800600" cy="29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60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304920" y="228600"/>
            <a:ext cx="6248160" cy="1371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cap="rnd" w="15876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ородинское поле - священное место русской доблести и славы. За пятнадцать часов Бородинского сражения русская армия убедительно показала всему миру, на что способен русский народ, отстаивающий свою независимост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5" descr="image013"/>
          <p:cNvPicPr/>
          <p:nvPr/>
        </p:nvPicPr>
        <p:blipFill>
          <a:blip r:embed="rId2"/>
          <a:stretch/>
        </p:blipFill>
        <p:spPr>
          <a:xfrm>
            <a:off x="2209680" y="2819520"/>
            <a:ext cx="1981440" cy="25239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1026"/>
          <p:cNvSpPr/>
          <p:nvPr/>
        </p:nvSpPr>
        <p:spPr>
          <a:xfrm>
            <a:off x="231120" y="6245280"/>
            <a:ext cx="4083840" cy="265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, были люди в наше время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гучее, лихое плем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гатыри — не вы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охая им досталась доля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многие вернулись с поля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гда б на то не божья воля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отдали б Москвы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18" presetSubtype="6">
                                  <p:stCondLst>
                                    <p:cond delay="500"/>
                                  </p:stCondLst>
                                  <p:iterate type="wd">
                                    <p:tmAbs val="60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4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9500"/>
                            </p:stCondLst>
                            <p:childTnLst>
                              <p:par>
                                <p:cTn id="246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533520" y="0"/>
          <a:ext cx="5829120" cy="915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0"/>
                    <a:ext cx="5829120" cy="915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228600" y="457200"/>
            <a:ext cx="3276720" cy="2133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Скажи-ка, дядя, ведь недаром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осква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палённая пожаром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ранцузу отдана?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едь были ж схватки боевые?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а, говорят, ещё какие!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даром помнит вся Россия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 день Бородина!»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28600" y="2743200"/>
            <a:ext cx="3276720" cy="2311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а, были люди в наше время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 то, что нынешнее племя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огатыри — не вы!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лохая им досталась доля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многие вернулись с поля.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 будь на то господня воля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 отдали б Москвы!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1" descr="image013"/>
          <p:cNvPicPr/>
          <p:nvPr/>
        </p:nvPicPr>
        <p:blipFill>
          <a:blip r:embed="rId1"/>
          <a:stretch/>
        </p:blipFill>
        <p:spPr>
          <a:xfrm>
            <a:off x="3657600" y="990720"/>
            <a:ext cx="2870280" cy="36576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3"/>
          <p:cNvSpPr/>
          <p:nvPr/>
        </p:nvSpPr>
        <p:spPr>
          <a:xfrm>
            <a:off x="3276720" y="6705720"/>
            <a:ext cx="3276360" cy="22096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ы долго молча отступали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осадно было, боя ждали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орчали старики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Что ж мы? на зимние квартиры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 смеют что ли командиры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Чужие изорвать мундир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 русские штыки?»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0" descr="image004"/>
          <p:cNvPicPr/>
          <p:nvPr/>
        </p:nvPicPr>
        <p:blipFill>
          <a:blip r:embed="rId2"/>
          <a:stretch/>
        </p:blipFill>
        <p:spPr>
          <a:xfrm>
            <a:off x="685800" y="6629400"/>
            <a:ext cx="1870200" cy="2286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0"/>
          <p:cNvSpPr/>
          <p:nvPr/>
        </p:nvSpPr>
        <p:spPr>
          <a:xfrm>
            <a:off x="304920" y="5257800"/>
            <a:ext cx="6400800" cy="96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2 июня 1812 года Наполеон напал на Россию без официального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ъявления войны. Он считал, что разгром России откроет ему путь к мировому господству. Русские войска начали отход, избегая крупных сражений с превосходящими силами враг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1.5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800"/>
                            </p:stCondLst>
                            <p:childTnLst>
                              <p:par>
                                <p:cTn id="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5800"/>
                            </p:stCondLst>
                            <p:childTnLst>
                              <p:par>
                                <p:cTn id="29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8300"/>
                            </p:stCondLst>
                            <p:childTnLst>
                              <p:par>
                                <p:cTn id="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533520" y="4495680"/>
            <a:ext cx="601956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Times New Roman"/>
              </a:rPr>
              <a:t>Имя Михаила Илларионовича Голенищева-Кутузова неотделимо от истории Отечественной войны 1812 года. Именно в этот период великий русский полководец полностью проявил себя как стратег, как государственный деятель, возглавивший народную войну против иноземных захватчиков.</a:t>
            </a: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1" descr=""/>
          <p:cNvPicPr/>
          <p:nvPr/>
        </p:nvPicPr>
        <p:blipFill>
          <a:blip r:embed="rId2"/>
          <a:stretch/>
        </p:blipFill>
        <p:spPr>
          <a:xfrm>
            <a:off x="762120" y="609480"/>
            <a:ext cx="563868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457200" y="3505320"/>
            <a:ext cx="58294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ихаил Илларионович Кутузов</a:t>
            </a:r>
            <a:br>
              <a:rPr sz="44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оенная деятельность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утузова началась в 1765 году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 1770 года он участвовал в походах против турок в армии фельдмаршала Румянцева. 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ессмертен подвиг Кутузова и Отечественной войне 1812 года, о которой Пушкин писал: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.. Когда народной веры глас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оззвал к святой твоей седине: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Иди, спасай». Ты встал - и спас..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1" descr="image005"/>
          <p:cNvPicPr/>
          <p:nvPr/>
        </p:nvPicPr>
        <p:blipFill>
          <a:blip r:embed="rId2"/>
          <a:stretch/>
        </p:blipFill>
        <p:spPr>
          <a:xfrm>
            <a:off x="4343400" y="228600"/>
            <a:ext cx="22654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4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1523880" y="3962520"/>
            <a:ext cx="37339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 вот нашли большое поле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Есть разгуляться где на воле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строили редут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 наших ушки на макушке!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Чуть утро осветило пушк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 леса синие верхушки 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ранцузы тут как ту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бил заряд я в пушку туго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 думал: угощу я друга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стой-ка, брат, мусью!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Что тут хитрить, пожалуй к бою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ж мы пойдём ломить стеною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ж постоим мы голово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 родину свою!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0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5638680" cy="37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" dur="3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600"/>
                            </p:stCondLst>
                            <p:childTnLst>
                              <p:par>
                                <p:cTn id="74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6" dur="3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44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3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8600"/>
                            </p:stCondLst>
                            <p:childTnLst>
                              <p:par>
                                <p:cTn id="82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4" dur="3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700"/>
                            </p:stCondLst>
                            <p:childTnLst>
                              <p:par>
                                <p:cTn id="86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8" dur="3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2200"/>
                            </p:stCondLst>
                            <p:childTnLst>
                              <p:par>
                                <p:cTn id="90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" dur="3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3700"/>
                            </p:stCondLst>
                            <p:childTnLst>
                              <p:par>
                                <p:cTn id="94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6" dur="3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200"/>
                            </p:stCondLst>
                            <p:childTnLst>
                              <p:par>
                                <p:cTn id="98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0" dur="30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7300"/>
                            </p:stCondLst>
                            <p:childTnLst>
                              <p:par>
                                <p:cTn id="102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" dur="300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9400"/>
                            </p:stCondLst>
                            <p:childTnLst>
                              <p:par>
                                <p:cTn id="106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8" dur="300"/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1500"/>
                            </p:stCondLst>
                            <p:childTnLst>
                              <p:par>
                                <p:cTn id="110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2" dur="300"/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3900"/>
                            </p:stCondLst>
                            <p:childTnLst>
                              <p:par>
                                <p:cTn id="114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6" dur="300"/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6000"/>
                            </p:stCondLst>
                            <p:childTnLst>
                              <p:par>
                                <p:cTn id="118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0" dur="300"/>
                                        <p:tgtEl>
                                          <p:spTgt spid="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7200"/>
                            </p:stCondLst>
                            <p:childTnLst>
                              <p:par>
                                <p:cTn id="122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4" dur="300"/>
                                        <p:tgtEl>
                                          <p:spTgt spid="6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d76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533520" y="457200"/>
            <a:ext cx="5829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тр Иванович Багратион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0" descr="image007"/>
          <p:cNvPicPr/>
          <p:nvPr/>
        </p:nvPicPr>
        <p:blipFill>
          <a:blip r:embed="rId1"/>
          <a:stretch/>
        </p:blipFill>
        <p:spPr>
          <a:xfrm>
            <a:off x="533520" y="1143000"/>
            <a:ext cx="3417840" cy="441972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1"/>
          <p:cNvSpPr/>
          <p:nvPr/>
        </p:nvSpPr>
        <p:spPr>
          <a:xfrm>
            <a:off x="533520" y="5715000"/>
            <a:ext cx="60958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114800" y="1066680"/>
            <a:ext cx="24764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"Багратион - лучший генерал русской армии", - говорил Наполеон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7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4000"/>
                            </p:stCondLst>
                            <p:childTnLst>
                              <p:par>
                                <p:cTn id="1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4500"/>
                            </p:stCondLst>
                            <p:childTnLst>
                              <p:par>
                                <p:cTn id="138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457200" y="2286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. Цветаева. Генералам 1812 год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2"/>
          <a:stretch/>
        </p:blipFill>
        <p:spPr>
          <a:xfrm>
            <a:off x="457200" y="1066680"/>
            <a:ext cx="3809880" cy="31370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3"/>
          <a:stretch/>
        </p:blipFill>
        <p:spPr>
          <a:xfrm>
            <a:off x="457200" y="5257800"/>
            <a:ext cx="3886200" cy="244152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5"/>
          <p:cNvSpPr/>
          <p:nvPr/>
        </p:nvSpPr>
        <p:spPr>
          <a:xfrm>
            <a:off x="4038480" y="762120"/>
            <a:ext cx="2667240" cy="72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ы, чьи широкие шинели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поминали паруса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Чьи шпоры весело звенели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 голоса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 чьи глаза, как бриллианты,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 сердце вырезали след, -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чаровательные франты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инувших лет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дним ожесточеньем воли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ы брали сердце и скалу, -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Цари на каждом бранном поле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 на балу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……………………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одной невероятной скачке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ы прожили свой краткий век,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 ваши кудри, ваши бачки..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асыпал снег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" dur="3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700"/>
                            </p:stCondLst>
                            <p:childTnLst>
                              <p:par>
                                <p:cTn id="1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1700"/>
                            </p:stCondLst>
                            <p:childTnLst>
                              <p:par>
                                <p:cTn id="1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723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5238720" cy="340056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3"/>
          <p:cNvSpPr/>
          <p:nvPr/>
        </p:nvSpPr>
        <p:spPr>
          <a:xfrm>
            <a:off x="1828800" y="3962520"/>
            <a:ext cx="33526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1"/>
          <p:cNvSpPr/>
          <p:nvPr/>
        </p:nvSpPr>
        <p:spPr>
          <a:xfrm>
            <a:off x="1752480" y="3962520"/>
            <a:ext cx="32767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у ж был денёк!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квозь дым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летуч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Французы двинулись, как тучи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 всё на наш редут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ланы с пёстрыми значками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рагуны с конскими хвостами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се промелькнули перед нами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се побывали тут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ам не видать таких сражений!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осились знамёна, как тени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дыму огонь блестел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вучал булат, картечь визжала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ука бойцов колоть устала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 ядрам пролетать мешал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ора кровавых те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7T09:55:48Z</dcterms:created>
  <dc:creator>Н.В. Туркина</dc:creator>
  <dc:description/>
  <dc:language>en-US</dc:language>
  <cp:lastModifiedBy>МАРСИК</cp:lastModifiedBy>
  <dcterms:modified xsi:type="dcterms:W3CDTF">2015-10-14T20:02:56Z</dcterms:modified>
  <cp:revision>50</cp:revision>
  <dc:subject>Дидактический материал по русскому языку</dc:subject>
  <dc:title>Дипломная работа</dc:title>
</cp:coreProperties>
</file>