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CAMERA.WAV" ContentType="audio/x-wav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2FAC-2AA0-4805-AFCC-20F5188B36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9F1F-631A-4BDA-8C59-9869245938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141-9181-4C21-A8DF-81DB8439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5D8-2E79-430C-A42F-567ED56C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A3A-DF3F-40DD-98FD-CD7267FE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DE5-2C21-4FEA-844A-E5C06BCB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51A-EC29-4B8A-B225-6FD1DED0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DB8-503B-4F73-AC80-E5D12A0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E3D-23F6-4A6F-9DEB-C4441E1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259-F60E-441F-847D-3983F82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9AC-05F4-4C9F-A5FF-D42A1529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873-6FAE-4E39-B55F-9949D8AD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A3D-F8A6-4293-A194-F93D11E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4A1-FD02-4051-9FB2-C84E113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D916-0CB5-45FA-A36D-92C80E6BB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50000">
              <a:srgbClr val="6699ff"/>
            </a:gs>
            <a:gs pos="100000">
              <a:srgbClr val="2f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15960" y="365040"/>
          <a:ext cx="5614920" cy="856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365040"/>
                    <a:ext cx="5614920" cy="85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228600"/>
            <a:ext cx="6172200" cy="824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авным героем Отечественной войны 1812 года был Русский Солдат. Именно он вынес на своих плечах все тяготы небывалой до тех пор войны, выстоял и победи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92444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828800" y="6324480"/>
            <a:ext cx="3352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т смерклос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ыли все гото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утра бой затеять нов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до конца стоять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т затрещали барабаны 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отступили басурма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гда считать мы стали ран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варищей счита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67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200"/>
                            </p:stCondLst>
                            <p:childTnLst>
                              <p:par>
                                <p:cTn id="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70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20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220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4700"/>
                            </p:stCondLst>
                            <p:childTnLst>
                              <p:par>
                                <p:cTn id="2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700"/>
                            </p:stCondLst>
                            <p:childTnLst>
                              <p:par>
                                <p:cTn id="2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1700"/>
                            </p:stCondLst>
                            <p:childTnLst>
                              <p:par>
                                <p:cTn id="2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80880" y="5257800"/>
            <a:ext cx="6096240" cy="2014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ца войны 1812 года. Надежда Дурова вызывала у современников удивление и восхищение. Она родилась в военной семье, с детства научилась великолепно владеть не только конем, но и оружием. Переодевшись в мундир, она несколько лет служила на военной службе в качестве офицер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Дурова - первая женщина-офицер в России"/>
          <p:cNvPicPr/>
          <p:nvPr/>
        </p:nvPicPr>
        <p:blipFill>
          <a:blip r:embed="rId2"/>
          <a:stretch/>
        </p:blipFill>
        <p:spPr>
          <a:xfrm>
            <a:off x="1066680" y="838080"/>
            <a:ext cx="480060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228600"/>
            <a:ext cx="624816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rnd" w="1587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родинское поле - священное место русской доблести и славы. За пятнадцать часов Бородинского сражения русская армия убедительно показала всему миру, на что способен русский народ, отстаивающий свою неза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image013"/>
          <p:cNvPicPr/>
          <p:nvPr/>
        </p:nvPicPr>
        <p:blipFill>
          <a:blip r:embed="rId2"/>
          <a:stretch/>
        </p:blipFill>
        <p:spPr>
          <a:xfrm>
            <a:off x="2209680" y="2819520"/>
            <a:ext cx="1981440" cy="2523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026"/>
          <p:cNvSpPr/>
          <p:nvPr/>
        </p:nvSpPr>
        <p:spPr>
          <a:xfrm>
            <a:off x="231120" y="6245280"/>
            <a:ext cx="408384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, были люди в наше врем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чее, лихое плем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гатыри — не в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ая им досталась дол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ногие вернулись с по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б на то не божья вол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тдали б Москвы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3520" y="0"/>
          <a:ext cx="5829120" cy="915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5829120" cy="91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28600" y="457200"/>
            <a:ext cx="327672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кажи-ка, дядя, ведь недаром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скв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алённая пожаро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нцузу отдана?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дь были ж схватки боевые?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, говорят, ещё какие!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даром помнит вся Росс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 день Бородина!»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28600" y="2743200"/>
            <a:ext cx="3276720" cy="2311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, были люди в наше врем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то, что нынешнее плем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гатыри — не вы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хая им досталась дол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ногие вернулись с поля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будь на то господня во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дали б Москвы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image013"/>
          <p:cNvPicPr/>
          <p:nvPr/>
        </p:nvPicPr>
        <p:blipFill>
          <a:blip r:embed="rId1"/>
          <a:stretch/>
        </p:blipFill>
        <p:spPr>
          <a:xfrm>
            <a:off x="3657600" y="990720"/>
            <a:ext cx="287028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276720" y="6705720"/>
            <a:ext cx="3276360" cy="2209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 долго молча отступал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адно было, боя ждал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рчали старик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то ж мы? на зимние квартиры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смеют что ли команди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ужие изорвать мунди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русские штыки?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0" descr="image004"/>
          <p:cNvPicPr/>
          <p:nvPr/>
        </p:nvPicPr>
        <p:blipFill>
          <a:blip r:embed="rId2"/>
          <a:stretch/>
        </p:blipFill>
        <p:spPr>
          <a:xfrm>
            <a:off x="685800" y="6629400"/>
            <a:ext cx="18702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0"/>
          <p:cNvSpPr/>
          <p:nvPr/>
        </p:nvSpPr>
        <p:spPr>
          <a:xfrm>
            <a:off x="304920" y="5257800"/>
            <a:ext cx="6400800" cy="96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 июня 1812 года Наполеон напал на Россию без официальног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вления войны. Он считал, что разгром России откроет ему путь к мировому господству. Русские войска начали отход, избегая крупных сражений с превосходящими силами враг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1.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8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8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83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3520" y="4495680"/>
            <a:ext cx="60195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Имя Михаила Илларионовича Голенищева-Кутузова неотделимо от истории Отечественной войны 1812 года. Именно в этот период великий русский полководец полностью проявил себя как стратег, как государственный деятель, возглавивший народную войну против иноземных захватчиков.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56386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3505320"/>
            <a:ext cx="5829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Илларионович Кутузов</a:t>
            </a:r>
            <a:br>
              <a:rPr sz="44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енная дея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тузова началась в 1765 году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1770 года он участвовал в походах против турок в армии фельдмаршала Румянцева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смертен подвиг Кутузова и Отечественной войне 1812 года, о которой Пушкин писа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Когда народной веры гл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звал к святой твоей седине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Иди, спасай». Ты встал - и спас..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" descr="image005"/>
          <p:cNvPicPr/>
          <p:nvPr/>
        </p:nvPicPr>
        <p:blipFill>
          <a:blip r:embed="rId2"/>
          <a:stretch/>
        </p:blipFill>
        <p:spPr>
          <a:xfrm>
            <a:off x="4343400" y="228600"/>
            <a:ext cx="2265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3962520"/>
            <a:ext cx="3733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от нашли большое поле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ть разгуляться где на воле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роили реду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наших ушки на макушке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ть утро осветило пуш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леса синие верхушки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ранцузы тут как т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бил заряд я в пушку ту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думал: угощу я друг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ой-ка, брат, мусью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тут хитрить, пожалуй к бою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 мы пойдём ломить стено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 постоим мы голов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родину свою!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0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56386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3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60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3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4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3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0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3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3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2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3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7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3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2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3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730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3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94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3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3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900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3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3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7200"/>
                            </p:stCondLst>
                            <p:childTnLst>
                              <p:par>
                                <p:cTn id="1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3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533520" y="457200"/>
            <a:ext cx="582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р Иванович Багратион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0" descr="image007"/>
          <p:cNvPicPr/>
          <p:nvPr/>
        </p:nvPicPr>
        <p:blipFill>
          <a:blip r:embed="rId1"/>
          <a:stretch/>
        </p:blipFill>
        <p:spPr>
          <a:xfrm>
            <a:off x="533520" y="1143000"/>
            <a:ext cx="341784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533520" y="5715000"/>
            <a:ext cx="6095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114800" y="1066680"/>
            <a:ext cx="2476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"Багратион - лучший генерал русской армии", - говорил Наполео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5720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. Цветаева. Генералам 1812 год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3809880" cy="313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457200" y="5257800"/>
            <a:ext cx="3886200" cy="2441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038480" y="762120"/>
            <a:ext cx="2667240" cy="72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, чьи широкие шине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оминали пару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ьи шпоры весело звене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голос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чьи глаза, как бриллианты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сердце вырезали след,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чаровательные франты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увших лет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дним ожесточеньем вол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 брали сердце и скалу, -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ари на каждом бранном пол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а бал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……………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дной невероятной скачк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 прожили свой краткий век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ваши кудри, ваши бачки..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сыпал снег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7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17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72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5238720" cy="3400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828800" y="3962520"/>
            <a:ext cx="335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752480" y="39625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у ж был денёк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возь ды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ту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ранцузы двинулись, как туч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всё на наш реду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аны с пёстрыми значк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агуны с конскими хвост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промелькнули перед н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побывали ту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м не видать таких сражений!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ились знамёна, как тен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ыму огонь блестел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вучал булат, картечь визжал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а бойцов колоть устал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ядрам пролетать меш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ра кровавых т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55:48Z</dcterms:created>
  <dc:creator>Н.В. Туркина</dc:creator>
  <dc:description/>
  <dc:language>en-US</dc:language>
  <cp:lastModifiedBy>МАРСИК</cp:lastModifiedBy>
  <dcterms:modified xsi:type="dcterms:W3CDTF">2015-10-14T20:02:56Z</dcterms:modified>
  <cp:revision>50</cp:revision>
  <dc:subject>Дидактический материал по русскому языку</dc:subject>
  <dc:title>Дипломная работа</dc:title>
</cp:coreProperties>
</file>